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10540-7A87-4E5C-A62A-172A069A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27180-865C-4719-9B05-40BBAFE7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8840A-857D-4BE2-8973-69BEE368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59ACD-7C30-4045-996E-58FF81F1B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7C0C-156C-4537-B7AC-8FA31E4CC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3FD1-B98B-4543-9782-74DBEA1B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8012-FBC7-4765-BCD6-6987BC56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E4B0-623E-4370-880C-B120694C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7908-C77C-4596-9D1D-4B0A8E75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8793-B3AA-4BF6-B50D-F90525A5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6E0D-33C5-4D1D-BB35-A88B7E62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811F7-D9AF-48EB-BCC1-BEE9B0D8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49CF-3AEE-4C62-8F6B-D4480B22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2604-2AC3-4371-88CA-1F6F0536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E8B3-10F0-49D3-ABAF-ACD13412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C607-DC55-4B85-BF36-752DC775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850E-67AE-4811-986F-59874DCB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4C86E-3688-4D56-95F5-B6DE59F2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7E8E9-0105-4DAF-92EA-CACDCFB2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87C45-964C-4D95-867C-B6F8D26B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2DD7C-5BCA-44E0-A287-E6C7E4BA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996FA-6C58-4820-A43C-601E5F37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6A7C4-1A28-4908-8460-198CE98E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725F5-9815-45D5-B8D1-E1A17FBD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6339-A3C0-437F-9548-2EE5530E4A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B700-C6A2-4929-97A3-8D30637523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Совместная деятельность 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«Награда от Кудряшкина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9152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Старшая группа № 10 «Ромашка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МАДОУ «Детский сад № 86» «Колокольчик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г.Березники, Пермский кра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                          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Воспитатель: И.В. Павло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Выполняют задания из конвертов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74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66"/>
                </a:solidFill>
                <a:uFillTx/>
                <a:latin typeface="Garamond"/>
              </a:rPr>
              <a:t>2 конверт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а) Дополнить цифровой ряд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б) Сложить рисунок по расчлененному образц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780000" y="692280"/>
            <a:ext cx="4105080" cy="2700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284720" y="3500280"/>
            <a:ext cx="4211640" cy="31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3640" y="764640"/>
            <a:ext cx="3384360" cy="57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Garamond"/>
              </a:rPr>
              <a:t>Пара заканчивает выполня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Garamond"/>
              </a:rPr>
              <a:t>задание Кудряшкина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Garamond"/>
              </a:rPr>
              <a:t>производит взаимоконтроль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Garamond"/>
              </a:rPr>
              <a:t>после чего получает о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Garamond"/>
              </a:rPr>
              <a:t>воспитателя третий конверт,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Garamond"/>
              </a:rPr>
              <a:t>котором фотография, 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Garamond"/>
              </a:rPr>
              <a:t>которой изображено мес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Garamond"/>
              </a:rPr>
              <a:t>нахождения награды (медале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Garamond"/>
              </a:rPr>
              <a:t>для пары) от Кудряшкин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067280" y="105264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932360" y="3860640"/>
            <a:ext cx="37450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Анализ совместной деятельности проходит во время получения третьего конверта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222120"/>
            <a:ext cx="8697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89647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Педагогические задач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66"/>
                </a:solidFill>
                <a:latin typeface="Garamond"/>
              </a:rPr>
              <a:t>Уточнить, как дети: оперируют цифрами и числами в пределах 10, используют счетные навыки, устанавливает количественные отношения в пределах известных чисел; составляет картинку по расчлененному образцу; дорисовывают картинку из предложенной геометрической фигуры; способны договариваться с партнерами по взаимодействию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Интеграция образовательных областей: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-Познание (математика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-Художественное творчество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-Коммуникац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Практическая задача для детей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66"/>
                </a:solidFill>
                <a:latin typeface="Garamond"/>
              </a:rPr>
              <a:t>Выполнить задания по математике, чтобы получить награду от Кудряшки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Процесс совместной деятельност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(совместно-индивидуальная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объединение в пары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1. Постановка задачи принятие ее всеми участниками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5013000"/>
            <a:ext cx="84358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Обследуем посылку с заинтересовавшимися детьми. Читаем адрес. Вскрываем посылку, достаем письмо и медаль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9280" y="1825560"/>
            <a:ext cx="4187880" cy="3141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0" y="1341360"/>
            <a:ext cx="41036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Garamond"/>
              </a:rPr>
              <a:t>Читаем письмо с предложением от Кудряшкина выполнить его задания и получить  за это медали. 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4819680" cy="3614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067280" y="2924280"/>
            <a:ext cx="485928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91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Текст письма от Кудряшкина: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83628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Garamond"/>
              </a:rPr>
              <a:t>Здравствуйте, мои друзья! Весь год вы отлично трудились: считали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Garamond"/>
              </a:rPr>
              <a:t>выкладывали картинки из частей, дорисовывали геометрические фигур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Garamond"/>
              </a:rPr>
              <a:t>решил вас наградить и приготовил вот такие медали для тех, кто сможе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Garamond"/>
              </a:rPr>
              <a:t>справиться с моими заданиям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Garamond"/>
              </a:rPr>
              <a:t>Кто хочет попробовать свои силы и получить медали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Garamond"/>
              </a:rPr>
              <a:t>Тогда возьмите чудесный мешочек и достаньте из него каждый по 1 фишк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Garamond"/>
              </a:rPr>
              <a:t>А теперь найдите тот стол, на котором красная карточка с таким же количеством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Garamond"/>
              </a:rPr>
              <a:t>квадратов, которое обозначает цифра на вашей фишк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Garamond"/>
              </a:rPr>
              <a:t>На каждом столе по 2 конверта с заданиями. Вам нужно договориться о том, из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Garamond"/>
              </a:rPr>
              <a:t>какого конверта задание будет выполнять каждый в вашей паре. Когда в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Garamond"/>
              </a:rPr>
              <a:t>договоритесь, задание нужно выполнить, затем, проверить его друг у друга. И только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Garamond"/>
              </a:rPr>
              <a:t>тогда, когда пара выполнит все задания, она получит 3 конверт. В нем и буде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Garamond"/>
              </a:rPr>
              <a:t>указано  секретное место, где спрятаны медали для пар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Garamond"/>
              </a:rPr>
              <a:t>Удачи вам, друзья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Garamond"/>
              </a:rPr>
              <a:t>Ваш Кудряшкин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Объединение в пары происходит по принципу случайного совпадения цифр на фишках (1-1, 2-2 и т.д.)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5113440" cy="3835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140360" y="2924280"/>
            <a:ext cx="471636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Собственно совместная деятельность в парах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Дети договариваются о том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из какого конверта задан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каждый из партнеров буде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выполня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859280" y="1989000"/>
            <a:ext cx="4033800" cy="3025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9640" y="3429000"/>
            <a:ext cx="424836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5113440" cy="3835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284720" y="3141720"/>
            <a:ext cx="468612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Выполняют задания из конвертов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31780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66"/>
                </a:solidFill>
                <a:uFillTx/>
                <a:latin typeface="Garamond"/>
              </a:rPr>
              <a:t>1 конверт:</a:t>
            </a: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а) Соотнести количество с цифро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б) Дорисовать геометрическую фигуру до картин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03640" y="1125360"/>
            <a:ext cx="3384360" cy="2538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076720" y="3807000"/>
            <a:ext cx="385128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6T15:41:16Z</dcterms:created>
  <dc:creator>Кирилл</dc:creator>
  <dc:description/>
  <dc:language>en-US</dc:language>
  <cp:lastModifiedBy>Кирилл</cp:lastModifiedBy>
  <dcterms:modified xsi:type="dcterms:W3CDTF">2016-01-25T16:21:35Z</dcterms:modified>
  <cp:revision>4</cp:revision>
  <dc:subject/>
  <dc:title>Слайд 1</dc:title>
</cp:coreProperties>
</file>