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AB91A7-40DD-4902-ACC4-AF63A23CD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B30B08-1B0C-4450-8EBD-46E3DED9D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20EFB9-7E6A-4744-BED4-413EA5D71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2E8DE5-D189-4271-B116-0CCA6D27C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9D6BD-DF3A-476E-BED7-BF09F6370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01B91-7A8C-4A70-A264-621118474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3D59D-B6EB-48BA-9E64-0C7A3329E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4A7AC-D4C6-4CB5-98DB-2E93C3CE1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D94DE-98C4-405A-8FFE-170FB16E8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E1BF2-3033-4400-8C86-5862286AA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329CF-FAA5-4078-8A9B-DD0D750BC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076ADD-5C2C-4619-919B-E90285FF0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261B5-C1DC-4A2C-8290-B4AE2591F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2D3D7-E90C-48B7-BD14-AC7E579CC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01100-0CBB-4A59-9C62-270532A6B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2901E-4139-4F0C-93AC-908E836D3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56139-353D-43A0-988E-BED1836F2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B6FCEF-1A37-4C16-816E-57C9F37D1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223A14-35AD-4C47-922A-7D7BB02C4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439F03-955C-4FB3-ABDF-B05C409BC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1EDE6E-80FD-48E1-9117-761E8230E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5AEAB8-9E8D-4EF4-96B4-7C994D440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D4FB1F-E189-4952-B2F0-572D4F792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37CCFF-898F-4C9F-9A05-BE5F5DF62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9B8F9-EBE9-4041-830C-D6183FD2B37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A8403-5EE8-4887-ACF8-2D5EE4934C3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95280" y="274680"/>
            <a:ext cx="8291520" cy="24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Garamond"/>
              </a:rPr>
              <a:t>Совместная деятельность </a:t>
            </a:r>
            <a:br>
              <a:rPr sz="4400"/>
            </a:br>
            <a:r>
              <a:rPr b="1" lang="ru-RU" sz="4400" spc="-1" strike="noStrike">
                <a:solidFill>
                  <a:srgbClr val="ffcc00"/>
                </a:solidFill>
                <a:latin typeface="Garamond"/>
              </a:rPr>
              <a:t>«Награда от Кудряшкина»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95280" y="2997000"/>
            <a:ext cx="8291520" cy="31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Garamond"/>
              </a:rPr>
              <a:t>Старшая группа № 10 «Ромашка»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Garamond"/>
              </a:rPr>
              <a:t>МАДОУ «Детский сад № 86» «Колокольчик»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Garamond"/>
              </a:rPr>
              <a:t>г.Березники, Пермский край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Garamond"/>
              </a:rPr>
              <a:t>                           </a:t>
            </a:r>
            <a:r>
              <a:rPr b="0" lang="en-US" sz="3200" spc="-1" strike="noStrike">
                <a:solidFill>
                  <a:srgbClr val="ffcc00"/>
                </a:solidFill>
                <a:latin typeface="Garamond"/>
              </a:rPr>
              <a:t>Воспитатель: И.В. Павлов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Garamond"/>
              </a:rPr>
              <a:t>Выполняют задания из конвертов: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26748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66"/>
                </a:solidFill>
                <a:uFillTx/>
                <a:latin typeface="Garamond"/>
              </a:rPr>
              <a:t>2 конверт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66"/>
                </a:solidFill>
                <a:latin typeface="Garamond"/>
              </a:rPr>
              <a:t>а) Дополнить цифровой ряд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Garamond"/>
              </a:rPr>
              <a:t>б) Сложить рисунок по расчлененному образцу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3780000" y="692280"/>
            <a:ext cx="4105080" cy="270036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4284720" y="3500280"/>
            <a:ext cx="4211640" cy="315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323640" y="764640"/>
            <a:ext cx="3384360" cy="578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Garamond"/>
              </a:rPr>
              <a:t>Пара заканчивает выполнять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Garamond"/>
              </a:rPr>
              <a:t>задание Кудряшкина,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Garamond"/>
              </a:rPr>
              <a:t>производит взаимоконтроль,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Garamond"/>
              </a:rPr>
              <a:t>после чего получает от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Garamond"/>
              </a:rPr>
              <a:t>воспитателя третий конверт, в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Garamond"/>
              </a:rPr>
              <a:t>котором фотография, н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Garamond"/>
              </a:rPr>
              <a:t>которой изображено место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Garamond"/>
              </a:rPr>
              <a:t>нахождения награды (медалей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Garamond"/>
              </a:rPr>
              <a:t>для пары) от Кудряшкина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4067280" y="1052640"/>
            <a:ext cx="3671640" cy="275436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4932360" y="3860640"/>
            <a:ext cx="3745080" cy="28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95280" y="1267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Garamond"/>
              </a:rPr>
              <a:t>Анализ совместной деятельности проходит во время получения третьего конверта.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222120"/>
            <a:ext cx="86979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260280"/>
            <a:ext cx="8964720" cy="63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cc00"/>
                </a:solidFill>
                <a:uFillTx/>
                <a:latin typeface="Times New Roman"/>
              </a:rPr>
              <a:t>Педагогические задачи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ru-RU" sz="2400" spc="-1" strike="noStrike">
                <a:solidFill>
                  <a:srgbClr val="ffff66"/>
                </a:solidFill>
                <a:latin typeface="Garamond"/>
              </a:rPr>
              <a:t>Уточнить, как дети: оперируют цифрами и числами в пределах 10, используют счетные навыки, устанавливает количественные отношения в пределах известных чисел; составляет картинку по расчлененному образцу; дорисовывают картинку из предложенной геометрической фигуры; способны договариваться с партнерами по взаимодействию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cc00"/>
                </a:solidFill>
                <a:uFillTx/>
                <a:latin typeface="Times New Roman"/>
              </a:rPr>
              <a:t>Интеграция образовательных областей:</a:t>
            </a:r>
            <a:r>
              <a:rPr b="0" lang="ru-RU" sz="2400" spc="-1" strike="noStrike" u="sng">
                <a:solidFill>
                  <a:srgbClr val="ffffcc"/>
                </a:solidFill>
                <a:uFillTx/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Times New Roman"/>
              </a:rPr>
              <a:t>-Познание (математика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Times New Roman"/>
              </a:rPr>
              <a:t>-Художественное творчество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Times New Roman"/>
              </a:rPr>
              <a:t>-Коммуникация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cc00"/>
                </a:solidFill>
                <a:uFillTx/>
                <a:latin typeface="Times New Roman"/>
              </a:rPr>
              <a:t>Практическая задача для детей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cc00"/>
                </a:solidFill>
                <a:uFillTx/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66"/>
                </a:solidFill>
                <a:latin typeface="Garamond"/>
              </a:rPr>
              <a:t>Выполнить задания по математике, чтобы получить награду от Кудряшкина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cc00"/>
                </a:solidFill>
                <a:uFillTx/>
                <a:latin typeface="Times New Roman"/>
              </a:rPr>
              <a:t>Процесс совместной деятельности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Times New Roman"/>
              </a:rPr>
              <a:t>(совместно-индивидуальная,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Times New Roman"/>
              </a:rPr>
              <a:t>объединение в пары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1. Постановка задачи принятие ее всеми участниками: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50560" y="5013000"/>
            <a:ext cx="843588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66"/>
                </a:solidFill>
                <a:latin typeface="Garamond"/>
              </a:rPr>
              <a:t>Обследуем посылку с заинтересовавшимися детьми. Читаем адрес. Вскрываем посылку, достаем письмо и медаль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79280" y="1825560"/>
            <a:ext cx="4187880" cy="31417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4572000" y="1341360"/>
            <a:ext cx="4103640" cy="30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Garamond"/>
              </a:rPr>
              <a:t>Читаем письмо с предложением от Кудряшкина выполнить его задания и получить  за это медали. </a:t>
            </a:r>
            <a:br>
              <a:rPr sz="2800"/>
            </a:b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1125360"/>
            <a:ext cx="4819680" cy="36147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067280" y="2924280"/>
            <a:ext cx="4859280" cy="36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91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Garamond"/>
              </a:rPr>
              <a:t>Текст письма от Кудряшкина:</a:t>
            </a:r>
            <a:br>
              <a:rPr sz="3200"/>
            </a:b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24000" y="692280"/>
            <a:ext cx="8362800" cy="59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66"/>
                </a:solidFill>
                <a:latin typeface="Garamond"/>
              </a:rPr>
              <a:t>Здравствуйте, мои друзья! Весь год вы отлично трудились: считали,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66"/>
                </a:solidFill>
                <a:latin typeface="Garamond"/>
              </a:rPr>
              <a:t>выкладывали картинки из частей, дорисовывали геометрические фигуры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66"/>
                </a:solidFill>
                <a:latin typeface="Garamond"/>
              </a:rPr>
              <a:t>решил вас наградить и приготовил вот такие медали для тех, кто сможет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66"/>
                </a:solidFill>
                <a:latin typeface="Garamond"/>
              </a:rPr>
              <a:t>справиться с моими заданиями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66"/>
                </a:solidFill>
                <a:latin typeface="Garamond"/>
              </a:rPr>
              <a:t>Кто хочет попробовать свои силы и получить медали?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66"/>
                </a:solidFill>
                <a:latin typeface="Garamond"/>
              </a:rPr>
              <a:t>Тогда возьмите чудесный мешочек и достаньте из него каждый по 1 фишке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66"/>
                </a:solidFill>
                <a:latin typeface="Garamond"/>
              </a:rPr>
              <a:t>А теперь найдите тот стол, на котором красная карточка с таким же количеством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66"/>
                </a:solidFill>
                <a:latin typeface="Garamond"/>
              </a:rPr>
              <a:t>квадратов, которое обозначает цифра на вашей фишке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66"/>
                </a:solidFill>
                <a:latin typeface="Garamond"/>
              </a:rPr>
              <a:t>На каждом столе по 2 конверта с заданиями. Вам нужно договориться о том, из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66"/>
                </a:solidFill>
                <a:latin typeface="Garamond"/>
              </a:rPr>
              <a:t>какого конверта задание будет выполнять каждый в вашей паре. Когда вы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66"/>
                </a:solidFill>
                <a:latin typeface="Garamond"/>
              </a:rPr>
              <a:t>договоритесь, задание нужно выполнить, затем, проверить его друг у друга. И только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66"/>
                </a:solidFill>
                <a:latin typeface="Garamond"/>
              </a:rPr>
              <a:t>тогда, когда пара выполнит все задания, она получит 3 конверт. В нем и будет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66"/>
                </a:solidFill>
                <a:latin typeface="Garamond"/>
              </a:rPr>
              <a:t>указано  секретное место, где спрятаны медали для пары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66"/>
                </a:solidFill>
                <a:latin typeface="Garamond"/>
              </a:rPr>
              <a:t>Удачи вам, друзья!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66"/>
                </a:solidFill>
                <a:latin typeface="Garamond"/>
              </a:rPr>
              <a:t>Ваш Кудряшкин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Объединение в пары происходит по принципу случайного совпадения цифр на фишках (1-1, 2-2 и т.д.).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79280" y="1628640"/>
            <a:ext cx="5113440" cy="383544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4140360" y="2924280"/>
            <a:ext cx="4716360" cy="35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Собственно совместная деятельность в парах.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43520" cy="19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Garamond"/>
              </a:rPr>
              <a:t>Дети договариваются о том,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Garamond"/>
              </a:rPr>
              <a:t>из какого конверта задание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Garamond"/>
              </a:rPr>
              <a:t>каждый из партнеров будет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Garamond"/>
              </a:rPr>
              <a:t>выполнять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4859280" y="1989000"/>
            <a:ext cx="4033800" cy="30258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539640" y="3429000"/>
            <a:ext cx="4248360" cy="31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79280" y="620640"/>
            <a:ext cx="5113440" cy="383544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4284720" y="3141720"/>
            <a:ext cx="4686120" cy="35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Garamond"/>
              </a:rPr>
              <a:t>Выполняют задания из конвертов: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317808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66"/>
                </a:solidFill>
                <a:uFillTx/>
                <a:latin typeface="Garamond"/>
              </a:rPr>
              <a:t>1 конверт:</a:t>
            </a:r>
            <a:r>
              <a:rPr b="0" lang="en-US" sz="2800" spc="-1" strike="noStrike">
                <a:solidFill>
                  <a:srgbClr val="ffff66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Garamond"/>
              </a:rPr>
              <a:t>а) Соотнести количество с цифрой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Garamond"/>
              </a:rPr>
              <a:t>б) Дорисовать геометрическую фигуру до картинки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203640" y="1125360"/>
            <a:ext cx="3384360" cy="25387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5076720" y="3807000"/>
            <a:ext cx="3851280" cy="28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6-26T15:41:16Z</dcterms:created>
  <dc:creator>Кирилл</dc:creator>
  <dc:description/>
  <dc:language>en-US</dc:language>
  <cp:lastModifiedBy>Кирилл</cp:lastModifiedBy>
  <dcterms:modified xsi:type="dcterms:W3CDTF">2016-01-25T16:21:35Z</dcterms:modified>
  <cp:revision>4</cp:revision>
  <dc:subject/>
  <dc:title>Слайд 1</dc:title>
</cp:coreProperties>
</file>