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30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10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3.jpeg" ContentType="image/jpeg"/>
  <Override PartName="/ppt/media/image37.png" ContentType="image/pn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42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89D-5AEB-4420-9ED0-0EE1B0C5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EF8-CC84-48D4-8179-6A496AD2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3C9-7006-4818-BFE3-0635C01F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380-628E-47BE-8337-A198AF3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29D-658D-48AA-814B-A72A6604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43E7-15A3-48DD-91FA-205F187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13CD-FFA4-47D1-96A2-E5753D1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E17-0BD4-47BF-ABC3-527A833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D386-A0F7-4C3F-B57A-5483F2A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091-FCA9-4EDD-BD0F-82EE4B7D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689E-F71E-42CC-A933-89DC26D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3C3-A226-4072-BE2D-6A14235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517-1EE2-46A0-B4D2-B15E5CE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585-2D83-45C2-BBAF-AB8516F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E32-ADB9-4849-A754-8C280AF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B031-6C46-4E82-A372-B5B27DF9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7F25-61BF-47B5-A0F2-51DDB496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C488-D4CB-4C2A-BF11-AFE0A6AA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DDB5-DC0D-49E4-B149-A1609D0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56D2-7F4E-4BB2-8E49-AFABB5D2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9CB1-1540-47C5-ADE3-DEB7C6DE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C0CE-DC32-462A-A809-63464B4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09C-19AB-4044-899E-13EFC88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3B95-550D-40AE-BF10-FC48C95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BACC-6050-479B-B86A-7E60ED7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09FB-98B5-40E0-A66C-BDC91D2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1D92-5EBB-420E-A5FD-391CD1B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56DB-2094-4803-858C-7E37DCC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A835-88B2-4D16-93AC-4589BA3B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6E5A-4782-497A-AE28-B9556FCA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4FBE-9F77-4BB2-B932-351E7CF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6FB0-82E4-4E84-AF48-891BFB6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A7D3-DBB9-4F72-8448-D3020F93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A03-6B07-4908-9C4F-E99A729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BF53-C0C9-498F-95F5-9EF47D9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1BB6A-7C4F-4B96-BC11-4B0F1E6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2634-CC97-4BC3-A071-9C408124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05AC-0C5E-4E1E-B383-2C15D30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50F9-5C22-46AF-ADD9-71CC158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08D4-2AF7-41B5-A038-13AB36D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6C89-AE13-4661-A14B-936F0F59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5844-41F3-416A-B342-54F5EF01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88C3-7106-4602-8EA6-3A6834B2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DFC6-7723-4444-9094-80749A9E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D58-178C-44DB-B463-117AD86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4FC7-5443-4737-BC1B-398A680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C3DD-4EB8-4380-8DDB-01C37DC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4456-F563-433D-B3DB-8AF3266E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2CE9-AB68-4D2E-8088-F17FB24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2983-9540-493D-9724-849DA1C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4B9D-2E29-4B69-A304-84F814D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3689A-28DF-4F83-8437-03305C49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CAFB-66DC-4220-8FD5-8ADF582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8E97-5AE4-4202-923F-45DD734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B205-B6FD-48C5-88C0-F14F15FE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B50-86A0-4375-99E1-0EC7097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76AF-56F6-440F-B011-AE01F509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FF1-483D-4516-8C55-8CD30B6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F0F-9976-471A-B68D-D03396A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BB9-8DD6-4543-82DF-8DC9CE0F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D050-1867-4B91-A2FC-9FC169A03D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ED3A-61A1-43EB-B697-9B634572D4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397-D38E-4C22-888E-3585CB5F49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4343-3C9B-42A2-947D-81856F27EA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C17-DB67-446C-8469-48E45AA40F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htukaturu.com/device-beacons-2.html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143080"/>
            <a:ext cx="742932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1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i="1" lang="ru-RU" sz="41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Поле строительных чудес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928760" y="5000400"/>
            <a:ext cx="3357720" cy="50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Мастер производственного 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етренко Ирина Владимиров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571680" y="42876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Государственное област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45f07"/>
                </a:solidFill>
                <a:uFillTx/>
                <a:latin typeface="Times New Roman"/>
                <a:ea typeface="Times New Roman"/>
              </a:rPr>
              <a:t>«Липецкий индустриально-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класс 09 050"/>
          <p:cNvPicPr/>
          <p:nvPr/>
        </p:nvPicPr>
        <p:blipFill>
          <a:blip r:embed="rId1"/>
          <a:srcRect l="0" t="35070" r="0" b="-2014"/>
          <a:stretch/>
        </p:blipFill>
        <p:spPr>
          <a:xfrm>
            <a:off x="642960" y="3786120"/>
            <a:ext cx="37861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143680" y="3214800"/>
          <a:ext cx="3460680" cy="3650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14960" y="4214880"/>
          <a:ext cx="3460680" cy="36648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5214960" y="52862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4786200" y="4929120"/>
            <a:ext cx="418464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элемент здания, предназначенный для  сообщения между этаж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4714920" y="3929040"/>
            <a:ext cx="4219560" cy="8398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бочих, выполняющих комплекс операций, которые составляют в сумме простой строительный проце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1"/>
          <p:cNvSpPr/>
          <p:nvPr/>
        </p:nvSpPr>
        <p:spPr>
          <a:xfrm>
            <a:off x="4643280" y="3000240"/>
            <a:ext cx="439596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улучшенной штукату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971640" y="115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Рамка 7"/>
          <p:cNvSpPr/>
          <p:nvPr/>
        </p:nvSpPr>
        <p:spPr>
          <a:xfrm>
            <a:off x="6429240" y="142920"/>
            <a:ext cx="257184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72040" y="214308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Box 36"/>
          <p:cNvSpPr/>
          <p:nvPr/>
        </p:nvSpPr>
        <p:spPr>
          <a:xfrm>
            <a:off x="6429240" y="14292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9"/>
          <p:cNvSpPr/>
          <p:nvPr/>
        </p:nvSpPr>
        <p:spPr>
          <a:xfrm>
            <a:off x="4714920" y="1857240"/>
            <a:ext cx="4305240" cy="928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способления использующиеся для работы на высоте внутри помещ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28760" y="1428840"/>
          <a:ext cx="3473280" cy="5778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577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возняки, высок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Прямоугольник 52"/>
          <p:cNvSpPr/>
          <p:nvPr/>
        </p:nvSpPr>
        <p:spPr>
          <a:xfrm>
            <a:off x="357120" y="1071720"/>
            <a:ext cx="4643640" cy="7855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чиной появления пузырей и морщин на склеенных поверхностях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072040" y="5929200"/>
          <a:ext cx="3473640" cy="63972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63972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ококачественная штукату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Прямоугольник 70"/>
          <p:cNvSpPr/>
          <p:nvPr/>
        </p:nvSpPr>
        <p:spPr>
          <a:xfrm>
            <a:off x="4721400" y="5786280"/>
            <a:ext cx="420840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амая точная и наиболее чистая выполняемая штукатурка наз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9"/>
          <p:cNvSpPr/>
          <p:nvPr/>
        </p:nvSpPr>
        <p:spPr>
          <a:xfrm>
            <a:off x="357120" y="1143000"/>
            <a:ext cx="464364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0"/>
          <p:cNvSpPr/>
          <p:nvPr/>
        </p:nvSpPr>
        <p:spPr>
          <a:xfrm>
            <a:off x="0" y="21430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1"/>
          <p:cNvSpPr/>
          <p:nvPr/>
        </p:nvSpPr>
        <p:spPr>
          <a:xfrm>
            <a:off x="0" y="23572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2"/>
          <p:cNvSpPr/>
          <p:nvPr/>
        </p:nvSpPr>
        <p:spPr>
          <a:xfrm>
            <a:off x="0" y="27147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5"/>
          <p:cNvSpPr/>
          <p:nvPr/>
        </p:nvSpPr>
        <p:spPr>
          <a:xfrm>
            <a:off x="142920" y="335772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6"/>
          <p:cNvSpPr/>
          <p:nvPr/>
        </p:nvSpPr>
        <p:spPr>
          <a:xfrm>
            <a:off x="0" y="392904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2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363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285840" y="214200"/>
            <a:ext cx="2071440" cy="2073240"/>
          </a:xfrm>
          <a:prstGeom prst="rect">
            <a:avLst/>
          </a:prstGeom>
          <a:ln w="0">
            <a:noFill/>
          </a:ln>
        </p:spPr>
      </p:pic>
      <p:sp>
        <p:nvSpPr>
          <p:cNvPr id="364" name="Скругленная прямоугольная выноска 12"/>
          <p:cNvSpPr/>
          <p:nvPr/>
        </p:nvSpPr>
        <p:spPr>
          <a:xfrm>
            <a:off x="2484360" y="260280"/>
            <a:ext cx="194472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строительных 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5651640" y="907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502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6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3286080" y="1111320"/>
            <a:ext cx="5357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 строитель очень важная. Каждый мужчина должен уметь забить гвоздь, отремонтировать сломанную мебель. Первобытные люди умели делать орудия труда из камня. Также в качестве инструментов они использовали и другие природные материалы – дерево и кости животных, которые расширили возможности человека в сооружении жилищ. Стать «мастером своего дела» может каждый. Для этого надо долго и упорно учиться, приобретать навыки строительного де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868400" y="2746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Рамка 7"/>
          <p:cNvSpPr/>
          <p:nvPr/>
        </p:nvSpPr>
        <p:spPr>
          <a:xfrm>
            <a:off x="5929200" y="285840"/>
            <a:ext cx="2928960" cy="51732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6193440" y="35712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0" y="1285920"/>
            <a:ext cx="321480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071880" y="2000160"/>
          <a:ext cx="2584440" cy="1079640"/>
        </p:xfrm>
        <a:graphic>
          <a:graphicData uri="http://schemas.openxmlformats.org/drawingml/2006/table">
            <a:tbl>
              <a:tblPr/>
              <a:tblGrid>
                <a:gridCol w="517320"/>
                <a:gridCol w="516240"/>
                <a:gridCol w="517320"/>
                <a:gridCol w="515880"/>
                <a:gridCol w="517680"/>
              </a:tblGrid>
              <a:tr h="1079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sp>
        <p:nvSpPr>
          <p:cNvPr id="374" name="Рамка 12"/>
          <p:cNvSpPr/>
          <p:nvPr/>
        </p:nvSpPr>
        <p:spPr>
          <a:xfrm>
            <a:off x="6143760" y="285840"/>
            <a:ext cx="2643120" cy="428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1444680" y="33480"/>
            <a:ext cx="31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6258240" y="35712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109440" y="1141560"/>
            <a:ext cx="87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малярного состава, который служит  защитным покрытием, пропиткой, основой для натуральных и масляных кра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5"/>
          <p:cNvSpPr/>
          <p:nvPr/>
        </p:nvSpPr>
        <p:spPr>
          <a:xfrm>
            <a:off x="3143160" y="2071800"/>
            <a:ext cx="36036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6"/>
          <p:cNvSpPr/>
          <p:nvPr/>
        </p:nvSpPr>
        <p:spPr>
          <a:xfrm>
            <a:off x="364320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7"/>
          <p:cNvSpPr/>
          <p:nvPr/>
        </p:nvSpPr>
        <p:spPr>
          <a:xfrm>
            <a:off x="4143240" y="2071800"/>
            <a:ext cx="43344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471492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5214960" y="2071800"/>
            <a:ext cx="360360" cy="931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000803_1073_5446_vnvv"/>
          <p:cNvPicPr/>
          <p:nvPr/>
        </p:nvPicPr>
        <p:blipFill>
          <a:blip r:embed="rId1"/>
          <a:stretch/>
        </p:blipFill>
        <p:spPr>
          <a:xfrm>
            <a:off x="1042920" y="3357720"/>
            <a:ext cx="734544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143680" y="3214800"/>
          <a:ext cx="3460680" cy="3650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214960" y="4214880"/>
          <a:ext cx="3460680" cy="36648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214960" y="52862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87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3"/>
          <p:cNvSpPr/>
          <p:nvPr/>
        </p:nvSpPr>
        <p:spPr>
          <a:xfrm>
            <a:off x="4786200" y="4929120"/>
            <a:ext cx="418464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элемент здания, предназначенный для  сообщения между этаж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8"/>
          <p:cNvSpPr/>
          <p:nvPr/>
        </p:nvSpPr>
        <p:spPr>
          <a:xfrm>
            <a:off x="4714920" y="3929040"/>
            <a:ext cx="4219560" cy="8398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бочих, выполняющих комплекс операций, которые составляют в сумме простой строительный проце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4643280" y="3000240"/>
            <a:ext cx="439596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улучшенной штукату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4"/>
          <p:cNvSpPr/>
          <p:nvPr/>
        </p:nvSpPr>
        <p:spPr>
          <a:xfrm>
            <a:off x="357120" y="2142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Рамка 7"/>
          <p:cNvSpPr/>
          <p:nvPr/>
        </p:nvSpPr>
        <p:spPr>
          <a:xfrm>
            <a:off x="6215040" y="285840"/>
            <a:ext cx="2786040" cy="374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072040" y="214308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Box 36"/>
          <p:cNvSpPr/>
          <p:nvPr/>
        </p:nvSpPr>
        <p:spPr>
          <a:xfrm>
            <a:off x="6193440" y="28584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9"/>
          <p:cNvSpPr/>
          <p:nvPr/>
        </p:nvSpPr>
        <p:spPr>
          <a:xfrm>
            <a:off x="4714920" y="1857240"/>
            <a:ext cx="4305240" cy="928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способления использующиеся для работы на высоте внутри помещ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28760" y="1428840"/>
          <a:ext cx="3473280" cy="5778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577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возняки, высок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Прямоугольник 52"/>
          <p:cNvSpPr/>
          <p:nvPr/>
        </p:nvSpPr>
        <p:spPr>
          <a:xfrm>
            <a:off x="357120" y="1071720"/>
            <a:ext cx="4643640" cy="7855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чиной появления пузырей и морщин на склеенных поверхностях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072040" y="5929200"/>
          <a:ext cx="3473640" cy="63972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63972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ококачественная штукату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Прямоугольник 70"/>
          <p:cNvSpPr/>
          <p:nvPr/>
        </p:nvSpPr>
        <p:spPr>
          <a:xfrm>
            <a:off x="4721400" y="5786280"/>
            <a:ext cx="4208400" cy="7146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амая точная и наиболее чистая выполняемая штукатурка наз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9"/>
          <p:cNvSpPr/>
          <p:nvPr/>
        </p:nvSpPr>
        <p:spPr>
          <a:xfrm>
            <a:off x="357120" y="1143000"/>
            <a:ext cx="464364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0"/>
          <p:cNvSpPr/>
          <p:nvPr/>
        </p:nvSpPr>
        <p:spPr>
          <a:xfrm>
            <a:off x="0" y="21430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1"/>
          <p:cNvSpPr/>
          <p:nvPr/>
        </p:nvSpPr>
        <p:spPr>
          <a:xfrm>
            <a:off x="0" y="2357280"/>
            <a:ext cx="464328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0" y="27147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5"/>
          <p:cNvSpPr/>
          <p:nvPr/>
        </p:nvSpPr>
        <p:spPr>
          <a:xfrm>
            <a:off x="142920" y="335772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6"/>
          <p:cNvSpPr/>
          <p:nvPr/>
        </p:nvSpPr>
        <p:spPr>
          <a:xfrm>
            <a:off x="0" y="4005360"/>
            <a:ext cx="46432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0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411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Строительных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4932360" y="692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25026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000803_1070_9330_vnvv"/>
          <p:cNvPicPr/>
          <p:nvPr/>
        </p:nvPicPr>
        <p:blipFill>
          <a:blip r:embed="rId1"/>
          <a:stretch/>
        </p:blipFill>
        <p:spPr>
          <a:xfrm>
            <a:off x="0" y="1079640"/>
            <a:ext cx="9180360" cy="577836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7"/>
          <p:cNvGrpSpPr/>
          <p:nvPr/>
        </p:nvGrpSpPr>
        <p:grpSpPr>
          <a:xfrm>
            <a:off x="1987560" y="2743200"/>
            <a:ext cx="878040" cy="1530360"/>
            <a:chOff x="1987560" y="2743200"/>
            <a:chExt cx="878040" cy="1530360"/>
          </a:xfrm>
        </p:grpSpPr>
        <p:pic>
          <p:nvPicPr>
            <p:cNvPr id="416" name="Rectangle 7" descr=""/>
            <p:cNvPicPr/>
            <p:nvPr/>
          </p:nvPicPr>
          <p:blipFill>
            <a:blip r:embed="rId2"/>
            <a:stretch/>
          </p:blipFill>
          <p:spPr>
            <a:xfrm>
              <a:off x="198756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07180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Rectangle 7"/>
          <p:cNvGrpSpPr/>
          <p:nvPr/>
        </p:nvGrpSpPr>
        <p:grpSpPr>
          <a:xfrm>
            <a:off x="3560760" y="2743200"/>
            <a:ext cx="878040" cy="1530360"/>
            <a:chOff x="3560760" y="2743200"/>
            <a:chExt cx="878040" cy="1530360"/>
          </a:xfrm>
        </p:grpSpPr>
        <p:pic>
          <p:nvPicPr>
            <p:cNvPr id="419" name="Rectangle 7" descr=""/>
            <p:cNvPicPr/>
            <p:nvPr/>
          </p:nvPicPr>
          <p:blipFill>
            <a:blip r:embed="rId3"/>
            <a:stretch/>
          </p:blipFill>
          <p:spPr>
            <a:xfrm>
              <a:off x="356076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64320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1189080" y="2743200"/>
            <a:ext cx="901800" cy="1530360"/>
            <a:chOff x="1189080" y="2743200"/>
            <a:chExt cx="901800" cy="153036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1189080" y="2743200"/>
              <a:ext cx="9018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28592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Rectangle 7"/>
          <p:cNvGrpSpPr/>
          <p:nvPr/>
        </p:nvGrpSpPr>
        <p:grpSpPr>
          <a:xfrm>
            <a:off x="2773440" y="2743200"/>
            <a:ext cx="877680" cy="1530360"/>
            <a:chOff x="2773440" y="2743200"/>
            <a:chExt cx="877680" cy="1530360"/>
          </a:xfrm>
        </p:grpSpPr>
        <p:pic>
          <p:nvPicPr>
            <p:cNvPr id="425" name="Rectangle 7" descr=""/>
            <p:cNvPicPr/>
            <p:nvPr/>
          </p:nvPicPr>
          <p:blipFill>
            <a:blip r:embed="rId5"/>
            <a:stretch/>
          </p:blipFill>
          <p:spPr>
            <a:xfrm>
              <a:off x="277344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85768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Rectangle 7"/>
          <p:cNvGrpSpPr/>
          <p:nvPr/>
        </p:nvGrpSpPr>
        <p:grpSpPr>
          <a:xfrm>
            <a:off x="5200560" y="2743200"/>
            <a:ext cx="876240" cy="1530360"/>
            <a:chOff x="5200560" y="2743200"/>
            <a:chExt cx="876240" cy="1530360"/>
          </a:xfrm>
        </p:grpSpPr>
        <p:pic>
          <p:nvPicPr>
            <p:cNvPr id="428" name="Rectangle 7" descr=""/>
            <p:cNvPicPr/>
            <p:nvPr/>
          </p:nvPicPr>
          <p:blipFill>
            <a:blip r:embed="rId6"/>
            <a:stretch/>
          </p:blipFill>
          <p:spPr>
            <a:xfrm>
              <a:off x="5200560" y="2743200"/>
              <a:ext cx="876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28624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Box 20"/>
          <p:cNvSpPr/>
          <p:nvPr/>
        </p:nvSpPr>
        <p:spPr>
          <a:xfrm>
            <a:off x="9537840" y="987480"/>
            <a:ext cx="18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9802440" y="3780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7"/>
          <p:cNvSpPr/>
          <p:nvPr/>
        </p:nvSpPr>
        <p:spPr>
          <a:xfrm>
            <a:off x="3168720" y="739620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8"/>
          <p:cNvSpPr/>
          <p:nvPr/>
        </p:nvSpPr>
        <p:spPr>
          <a:xfrm>
            <a:off x="4065480" y="73580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7643880" y="73580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Прямоугольник 1"/>
          <p:cNvGrpSpPr/>
          <p:nvPr/>
        </p:nvGrpSpPr>
        <p:grpSpPr>
          <a:xfrm>
            <a:off x="122400" y="792000"/>
            <a:ext cx="8820000" cy="2080080"/>
            <a:chOff x="122400" y="792000"/>
            <a:chExt cx="8820000" cy="2080080"/>
          </a:xfrm>
        </p:grpSpPr>
        <p:pic>
          <p:nvPicPr>
            <p:cNvPr id="436" name="Прямоугольник 1" descr=""/>
            <p:cNvPicPr/>
            <p:nvPr/>
          </p:nvPicPr>
          <p:blipFill>
            <a:blip r:embed="rId7"/>
            <a:stretch/>
          </p:blipFill>
          <p:spPr>
            <a:xfrm>
              <a:off x="122400" y="792000"/>
              <a:ext cx="88200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428760" y="1071720"/>
              <a:ext cx="82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Пастообразный или порошковый материал, применяемый для выравнивания поверхностей.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Рамка 31"/>
          <p:cNvSpPr/>
          <p:nvPr/>
        </p:nvSpPr>
        <p:spPr>
          <a:xfrm>
            <a:off x="5929200" y="428760"/>
            <a:ext cx="2928960" cy="28548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428760" y="150840"/>
            <a:ext cx="65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инальн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5"/>
          <p:cNvSpPr/>
          <p:nvPr/>
        </p:nvSpPr>
        <p:spPr>
          <a:xfrm>
            <a:off x="6121800" y="42876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Rectangle 7"/>
          <p:cNvGrpSpPr/>
          <p:nvPr/>
        </p:nvGrpSpPr>
        <p:grpSpPr>
          <a:xfrm>
            <a:off x="4346640" y="2743200"/>
            <a:ext cx="877680" cy="1530360"/>
            <a:chOff x="4346640" y="2743200"/>
            <a:chExt cx="877680" cy="1530360"/>
          </a:xfrm>
        </p:grpSpPr>
        <p:pic>
          <p:nvPicPr>
            <p:cNvPr id="442" name="Rectangle 7" descr=""/>
            <p:cNvPicPr/>
            <p:nvPr/>
          </p:nvPicPr>
          <p:blipFill>
            <a:blip r:embed="rId8"/>
            <a:stretch/>
          </p:blipFill>
          <p:spPr>
            <a:xfrm>
              <a:off x="434664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42908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Rectangle 7"/>
          <p:cNvGrpSpPr/>
          <p:nvPr/>
        </p:nvGrpSpPr>
        <p:grpSpPr>
          <a:xfrm>
            <a:off x="6059520" y="2743200"/>
            <a:ext cx="877680" cy="1530360"/>
            <a:chOff x="6059520" y="2743200"/>
            <a:chExt cx="877680" cy="1530360"/>
          </a:xfrm>
        </p:grpSpPr>
        <p:pic>
          <p:nvPicPr>
            <p:cNvPr id="445" name="Rectangle 7" descr=""/>
            <p:cNvPicPr/>
            <p:nvPr/>
          </p:nvPicPr>
          <p:blipFill>
            <a:blip r:embed="rId9"/>
            <a:stretch/>
          </p:blipFill>
          <p:spPr>
            <a:xfrm>
              <a:off x="6059520" y="2743200"/>
              <a:ext cx="87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14376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Rectangle 7"/>
          <p:cNvGrpSpPr/>
          <p:nvPr/>
        </p:nvGrpSpPr>
        <p:grpSpPr>
          <a:xfrm>
            <a:off x="6913440" y="2743200"/>
            <a:ext cx="882720" cy="1530360"/>
            <a:chOff x="6913440" y="2743200"/>
            <a:chExt cx="882720" cy="1530360"/>
          </a:xfrm>
        </p:grpSpPr>
        <p:pic>
          <p:nvPicPr>
            <p:cNvPr id="448" name="Rectangle 7" descr=""/>
            <p:cNvPicPr/>
            <p:nvPr/>
          </p:nvPicPr>
          <p:blipFill>
            <a:blip r:embed="rId10"/>
            <a:stretch/>
          </p:blipFill>
          <p:spPr>
            <a:xfrm>
              <a:off x="6913440" y="2743200"/>
              <a:ext cx="8827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000920" y="2786040"/>
              <a:ext cx="714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Rectangle 7"/>
          <p:cNvGrpSpPr/>
          <p:nvPr/>
        </p:nvGrpSpPr>
        <p:grpSpPr>
          <a:xfrm>
            <a:off x="7772400" y="2743200"/>
            <a:ext cx="878040" cy="1530360"/>
            <a:chOff x="7772400" y="2743200"/>
            <a:chExt cx="878040" cy="1530360"/>
          </a:xfrm>
        </p:grpSpPr>
        <p:pic>
          <p:nvPicPr>
            <p:cNvPr id="451" name="Rectangle 7" descr=""/>
            <p:cNvPicPr/>
            <p:nvPr/>
          </p:nvPicPr>
          <p:blipFill>
            <a:blip r:embed="rId11"/>
            <a:stretch/>
          </p:blipFill>
          <p:spPr>
            <a:xfrm>
              <a:off x="7772400" y="2743200"/>
              <a:ext cx="87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858080" y="2786040"/>
              <a:ext cx="7146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Прямоугольник 32" descr=""/>
          <p:cNvPicPr/>
          <p:nvPr/>
        </p:nvPicPr>
        <p:blipFill>
          <a:blip r:embed="rId12"/>
          <a:stretch/>
        </p:blipFill>
        <p:spPr>
          <a:xfrm>
            <a:off x="125568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33" descr=""/>
          <p:cNvPicPr/>
          <p:nvPr/>
        </p:nvPicPr>
        <p:blipFill>
          <a:blip r:embed="rId13"/>
          <a:stretch/>
        </p:blipFill>
        <p:spPr>
          <a:xfrm>
            <a:off x="2041560" y="2968560"/>
            <a:ext cx="714240" cy="121932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34" descr=""/>
          <p:cNvPicPr/>
          <p:nvPr/>
        </p:nvPicPr>
        <p:blipFill>
          <a:blip r:embed="rId14"/>
          <a:stretch/>
        </p:blipFill>
        <p:spPr>
          <a:xfrm>
            <a:off x="2828880" y="304164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35" descr=""/>
          <p:cNvPicPr/>
          <p:nvPr/>
        </p:nvPicPr>
        <p:blipFill>
          <a:blip r:embed="rId15"/>
          <a:stretch/>
        </p:blipFill>
        <p:spPr>
          <a:xfrm>
            <a:off x="36147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6" descr=""/>
          <p:cNvPicPr/>
          <p:nvPr/>
        </p:nvPicPr>
        <p:blipFill>
          <a:blip r:embed="rId16"/>
          <a:stretch/>
        </p:blipFill>
        <p:spPr>
          <a:xfrm>
            <a:off x="4400640" y="2968560"/>
            <a:ext cx="714240" cy="12193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7" descr=""/>
          <p:cNvPicPr/>
          <p:nvPr/>
        </p:nvPicPr>
        <p:blipFill>
          <a:blip r:embed="rId17"/>
          <a:stretch/>
        </p:blipFill>
        <p:spPr>
          <a:xfrm>
            <a:off x="52545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8" descr=""/>
          <p:cNvPicPr/>
          <p:nvPr/>
        </p:nvPicPr>
        <p:blipFill>
          <a:blip r:embed="rId18"/>
          <a:stretch/>
        </p:blipFill>
        <p:spPr>
          <a:xfrm>
            <a:off x="611496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9" descr=""/>
          <p:cNvPicPr/>
          <p:nvPr/>
        </p:nvPicPr>
        <p:blipFill>
          <a:blip r:embed="rId19"/>
          <a:stretch/>
        </p:blipFill>
        <p:spPr>
          <a:xfrm>
            <a:off x="7040520" y="2968560"/>
            <a:ext cx="712800" cy="12193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40" descr=""/>
          <p:cNvPicPr/>
          <p:nvPr/>
        </p:nvPicPr>
        <p:blipFill>
          <a:blip r:embed="rId20"/>
          <a:stretch/>
        </p:blipFill>
        <p:spPr>
          <a:xfrm>
            <a:off x="7900920" y="2968560"/>
            <a:ext cx="71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0.04 C 0.0625 0.11353 0.11181 0.18729 0.12084 0.01365 C 0.13021 -0.15976 0.03125 -0.86104 0.06893 -1.00161 C 0.10608 -1.14219 0.31545 -0.88231 0.34584 -0.83052 C 0.37639 -0.77849 0.28316 -0.71283 0.25139 -0.68994 C 0.21962 -0.66566 0.18681 -0.67768 0.15382 -0.68994 E">
                                      <p:cBhvr>
                                        <p:cTn id="35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3676 C 0.01163 0.14428 0.02361 0.25202 -0.07466 0.29965 C -0.17275 0.34751 -0.44914 0.39931 -0.58785 0.32208 C -0.72622 0.24485 -0.85191 -0.08254 -0.90434 -0.16254 E">
                                      <p:cBhvr>
                                        <p:cTn id="403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5 0.08787 C 0.09636 0.12093 0.15538 0.15422 0.13837 0.02567 C 0.12361 -0.10289 -0.02552 -0.563 -0.05781 -0.67907 E">
                                      <p:cBhvr>
                                        <p:cTn id="40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73988E-006 L -0.09774 -0.67768 E">
                                      <p:cBhvr>
                                        <p:cTn id="41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1258920" y="141300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   3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а           4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     5 бал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        6 бал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           7 балл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заставка полечудес.mp3" descr=""/>
          <p:cNvPicPr/>
          <p:nvPr/>
        </p:nvPicPr>
        <p:blipFill>
          <a:blip r:embed="rId1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64" name="Группа 3"/>
          <p:cNvGrpSpPr/>
          <p:nvPr/>
        </p:nvGrpSpPr>
        <p:grpSpPr>
          <a:xfrm>
            <a:off x="-36360" y="27000"/>
            <a:ext cx="9162720" cy="6858000"/>
            <a:chOff x="-36360" y="27000"/>
            <a:chExt cx="9162720" cy="6858000"/>
          </a:xfrm>
        </p:grpSpPr>
        <p:pic>
          <p:nvPicPr>
            <p:cNvPr id="465" name="Picture 2" descr="http://smallgames.ws/uploads/posts/2009-06/1244181374_smallgames.ws_pole1.jpg"/>
            <p:cNvPicPr/>
            <p:nvPr/>
          </p:nvPicPr>
          <p:blipFill>
            <a:blip r:embed="rId2"/>
            <a:srcRect l="0" t="6368" r="0" b="0"/>
            <a:stretch/>
          </p:blipFill>
          <p:spPr>
            <a:xfrm>
              <a:off x="-36360" y="27000"/>
              <a:ext cx="9162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Прямоугольник 5"/>
            <p:cNvSpPr/>
            <p:nvPr/>
          </p:nvSpPr>
          <p:spPr>
            <a:xfrm>
              <a:off x="0" y="5424480"/>
              <a:ext cx="9109080" cy="1079280"/>
            </a:xfrm>
            <a:prstGeom prst="rect">
              <a:avLst/>
            </a:prstGeom>
            <a:solidFill>
              <a:srgbClr val="baad8d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WordArt 8"/>
            <p:cNvSpPr txBox="1"/>
            <p:nvPr/>
          </p:nvSpPr>
          <p:spPr>
            <a:xfrm>
              <a:off x="432720" y="5568480"/>
              <a:ext cx="813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Segoe Script"/>
                </a:rPr>
                <a:t>ПОЛЕ СТРОИТЕЛЬНЫХ ЧУДЕС</a:t>
              </a:r>
              <a:endPara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  <a:ea typeface="Segoe Script"/>
              </a:endParaRPr>
            </a:p>
          </p:txBody>
        </p:sp>
        <p:pic>
          <p:nvPicPr>
            <p:cNvPr id="468" name="Picture 9" descr="http://lohmatik.ru/Lohmatik/Found/g9.gif"/>
            <p:cNvPicPr/>
            <p:nvPr/>
          </p:nvPicPr>
          <p:blipFill>
            <a:blip r:embed="rId3"/>
            <a:stretch/>
          </p:blipFill>
          <p:spPr>
            <a:xfrm>
              <a:off x="288360" y="187920"/>
              <a:ext cx="201600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Скругленная прямоугольная выноска 12"/>
            <p:cNvSpPr/>
            <p:nvPr/>
          </p:nvSpPr>
          <p:spPr>
            <a:xfrm>
              <a:off x="2449440" y="239400"/>
              <a:ext cx="1871640" cy="9666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Добро пожаловать на Поле  Строительных  Чудес 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1"/>
            <p:cNvSpPr/>
            <p:nvPr/>
          </p:nvSpPr>
          <p:spPr>
            <a:xfrm>
              <a:off x="4968360" y="815040"/>
              <a:ext cx="27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упер иг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5026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Рамка 5"/>
          <p:cNvSpPr/>
          <p:nvPr/>
        </p:nvSpPr>
        <p:spPr>
          <a:xfrm>
            <a:off x="5572080" y="357120"/>
            <a:ext cx="292896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4"/>
          <p:cNvSpPr/>
          <p:nvPr/>
        </p:nvSpPr>
        <p:spPr>
          <a:xfrm>
            <a:off x="1511280" y="150840"/>
            <a:ext cx="40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ер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468360" y="11444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обходимо знать каждому работнику, прежде чем приступить к раб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9" descr="000803_1053_0925_vnvv"/>
          <p:cNvPicPr/>
          <p:nvPr/>
        </p:nvPicPr>
        <p:blipFill>
          <a:blip r:embed="rId1"/>
          <a:stretch/>
        </p:blipFill>
        <p:spPr>
          <a:xfrm>
            <a:off x="0" y="2924280"/>
            <a:ext cx="923436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5" name=""/>
          <p:cNvGraphicFramePr/>
          <p:nvPr/>
        </p:nvGraphicFramePr>
        <p:xfrm>
          <a:off x="360360" y="2133720"/>
          <a:ext cx="4935600" cy="10713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6320"/>
                <a:gridCol w="743040"/>
                <a:gridCol w="666720"/>
                <a:gridCol w="70488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pic>
        <p:nvPicPr>
          <p:cNvPr id="476" name="Прямоугольник 9" descr=""/>
          <p:cNvPicPr/>
          <p:nvPr/>
        </p:nvPicPr>
        <p:blipFill>
          <a:blip r:embed="rId2"/>
          <a:stretch/>
        </p:blipFill>
        <p:spPr>
          <a:xfrm>
            <a:off x="328680" y="2041560"/>
            <a:ext cx="787320" cy="121932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10" descr=""/>
          <p:cNvPicPr/>
          <p:nvPr/>
        </p:nvPicPr>
        <p:blipFill>
          <a:blip r:embed="rId3"/>
          <a:stretch/>
        </p:blipFill>
        <p:spPr>
          <a:xfrm>
            <a:off x="1109520" y="2041560"/>
            <a:ext cx="719280" cy="12193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1"/>
          <p:cNvSpPr/>
          <p:nvPr/>
        </p:nvSpPr>
        <p:spPr>
          <a:xfrm>
            <a:off x="1857240" y="2071800"/>
            <a:ext cx="64800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2"/>
          <p:cNvSpPr/>
          <p:nvPr/>
        </p:nvSpPr>
        <p:spPr>
          <a:xfrm>
            <a:off x="2500200" y="2071800"/>
            <a:ext cx="70344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3"/>
          <p:cNvSpPr/>
          <p:nvPr/>
        </p:nvSpPr>
        <p:spPr>
          <a:xfrm>
            <a:off x="3143160" y="207180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4"/>
          <p:cNvSpPr/>
          <p:nvPr/>
        </p:nvSpPr>
        <p:spPr>
          <a:xfrm>
            <a:off x="4572000" y="2071800"/>
            <a:ext cx="7383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15"/>
          <p:cNvSpPr/>
          <p:nvPr/>
        </p:nvSpPr>
        <p:spPr>
          <a:xfrm>
            <a:off x="3857760" y="2071800"/>
            <a:ext cx="720720" cy="1152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3357720"/>
          <a:ext cx="8459640" cy="10713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4880"/>
                <a:gridCol w="744480"/>
                <a:gridCol w="664920"/>
                <a:gridCol w="706680"/>
                <a:gridCol w="704880"/>
                <a:gridCol w="704880"/>
                <a:gridCol w="704520"/>
                <a:gridCol w="704880"/>
                <a:gridCol w="70488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sp>
        <p:nvSpPr>
          <p:cNvPr id="484" name="Прямоугольник 27"/>
          <p:cNvSpPr/>
          <p:nvPr/>
        </p:nvSpPr>
        <p:spPr>
          <a:xfrm>
            <a:off x="4643280" y="3286080"/>
            <a:ext cx="7383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Прямоугольник 17" descr=""/>
          <p:cNvPicPr/>
          <p:nvPr/>
        </p:nvPicPr>
        <p:blipFill>
          <a:blip r:embed="rId4"/>
          <a:stretch/>
        </p:blipFill>
        <p:spPr>
          <a:xfrm>
            <a:off x="396720" y="3255840"/>
            <a:ext cx="7257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18" descr=""/>
          <p:cNvPicPr/>
          <p:nvPr/>
        </p:nvPicPr>
        <p:blipFill>
          <a:blip r:embed="rId5"/>
          <a:stretch/>
        </p:blipFill>
        <p:spPr>
          <a:xfrm>
            <a:off x="1109520" y="3255840"/>
            <a:ext cx="719280" cy="121932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19"/>
          <p:cNvSpPr/>
          <p:nvPr/>
        </p:nvSpPr>
        <p:spPr>
          <a:xfrm>
            <a:off x="1857240" y="3286080"/>
            <a:ext cx="64800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0"/>
          <p:cNvSpPr/>
          <p:nvPr/>
        </p:nvSpPr>
        <p:spPr>
          <a:xfrm>
            <a:off x="5357880" y="3286080"/>
            <a:ext cx="64764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1"/>
          <p:cNvSpPr/>
          <p:nvPr/>
        </p:nvSpPr>
        <p:spPr>
          <a:xfrm>
            <a:off x="6072120" y="3286080"/>
            <a:ext cx="75240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2"/>
          <p:cNvSpPr/>
          <p:nvPr/>
        </p:nvSpPr>
        <p:spPr>
          <a:xfrm>
            <a:off x="6786720" y="3286080"/>
            <a:ext cx="69516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23"/>
          <p:cNvSpPr/>
          <p:nvPr/>
        </p:nvSpPr>
        <p:spPr>
          <a:xfrm>
            <a:off x="8215200" y="328608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4"/>
          <p:cNvSpPr/>
          <p:nvPr/>
        </p:nvSpPr>
        <p:spPr>
          <a:xfrm>
            <a:off x="7500960" y="3286080"/>
            <a:ext cx="72072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5"/>
          <p:cNvSpPr/>
          <p:nvPr/>
        </p:nvSpPr>
        <p:spPr>
          <a:xfrm>
            <a:off x="2500200" y="3286080"/>
            <a:ext cx="70344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6"/>
          <p:cNvSpPr/>
          <p:nvPr/>
        </p:nvSpPr>
        <p:spPr>
          <a:xfrm>
            <a:off x="3143160" y="3286080"/>
            <a:ext cx="719280" cy="1174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8"/>
          <p:cNvSpPr/>
          <p:nvPr/>
        </p:nvSpPr>
        <p:spPr>
          <a:xfrm>
            <a:off x="3929040" y="3286080"/>
            <a:ext cx="720720" cy="1152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0"/>
          <p:cNvSpPr/>
          <p:nvPr/>
        </p:nvSpPr>
        <p:spPr>
          <a:xfrm>
            <a:off x="5715000" y="357120"/>
            <a:ext cx="25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E:\24.01.18 своя мгра\фото кл час поле чудес Ирина Владимировна\SDC14083.JPG"/>
          <p:cNvPicPr/>
          <p:nvPr/>
        </p:nvPicPr>
        <p:blipFill>
          <a:blip r:embed="rId1"/>
          <a:stretch/>
        </p:blipFill>
        <p:spPr>
          <a:xfrm>
            <a:off x="500040" y="4357800"/>
            <a:ext cx="2428920" cy="19288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          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ru-RU" sz="5900" spc="-1" strike="noStrike" u="sng">
                <a:solidFill>
                  <a:srgbClr val="ff8d3e"/>
                </a:solidFill>
                <a:uFillTx/>
                <a:latin typeface="Verdana"/>
              </a:rPr>
              <a:t>Фотоотчет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9" name="Picture 4" descr="E:\24.01.18 своя мгра\фото кл час поле чудес Ирина Владимировна\SDC14087.JPG"/>
          <p:cNvPicPr/>
          <p:nvPr/>
        </p:nvPicPr>
        <p:blipFill>
          <a:blip r:embed="rId2"/>
          <a:stretch/>
        </p:blipFill>
        <p:spPr>
          <a:xfrm>
            <a:off x="6072120" y="150012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E:\24.01.18 своя мгра\фото кл час поле чудес Ирина Владимировна\SDC14102.JPG"/>
          <p:cNvPicPr/>
          <p:nvPr/>
        </p:nvPicPr>
        <p:blipFill>
          <a:blip r:embed="rId3"/>
          <a:stretch/>
        </p:blipFill>
        <p:spPr>
          <a:xfrm>
            <a:off x="3214800" y="15717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24.01.18 своя мгра\фото кл час поле чудес Ирина Владимировна\SDC14097.JPG"/>
          <p:cNvPicPr/>
          <p:nvPr/>
        </p:nvPicPr>
        <p:blipFill>
          <a:blip r:embed="rId4"/>
          <a:srcRect l="16581" t="0" r="12981" b="22657"/>
          <a:stretch/>
        </p:blipFill>
        <p:spPr>
          <a:xfrm>
            <a:off x="3143160" y="4143240"/>
            <a:ext cx="2928960" cy="2000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E:\24.01.18 своя мгра\фото кл час поле чудес Ирина Владимировна\SDC14096.JPG"/>
          <p:cNvPicPr/>
          <p:nvPr/>
        </p:nvPicPr>
        <p:blipFill>
          <a:blip r:embed="rId5"/>
          <a:stretch/>
        </p:blipFill>
        <p:spPr>
          <a:xfrm>
            <a:off x="6215040" y="4071960"/>
            <a:ext cx="2406600" cy="2000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E:\24.01.18 своя мгра\фото кл час поле чудес Ирина Владимировна\SDC14090.JPG"/>
          <p:cNvPicPr/>
          <p:nvPr/>
        </p:nvPicPr>
        <p:blipFill>
          <a:blip r:embed="rId6"/>
          <a:stretch/>
        </p:blipFill>
        <p:spPr>
          <a:xfrm>
            <a:off x="500040" y="2071800"/>
            <a:ext cx="2500200" cy="1857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класс 09 050"/>
          <p:cNvPicPr/>
          <p:nvPr/>
        </p:nvPicPr>
        <p:blipFill>
          <a:blip r:embed="rId7"/>
          <a:srcRect l="0" t="33031" r="0" b="2014"/>
          <a:stretch/>
        </p:blipFill>
        <p:spPr>
          <a:xfrm>
            <a:off x="571680" y="1000080"/>
            <a:ext cx="13269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smallgames.ws/uploads/posts/2009-06/1244181374_smallgames.ws_pole1.jpg"/>
          <p:cNvPicPr/>
          <p:nvPr/>
        </p:nvPicPr>
        <p:blipFill>
          <a:blip r:embed="rId2"/>
          <a:srcRect l="0" t="6368" r="0" b="0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227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228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 Строительных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690520" y="907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заставка полечудес.mp3" descr=""/>
          <p:cNvPicPr/>
          <p:nvPr/>
        </p:nvPicPr>
        <p:blipFill>
          <a:blip r:embed="rId4"/>
          <a:stretch/>
        </p:blipFill>
        <p:spPr>
          <a:xfrm>
            <a:off x="-8287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2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"/>
          <p:cNvSpPr/>
          <p:nvPr/>
        </p:nvSpPr>
        <p:spPr>
          <a:xfrm>
            <a:off x="250920" y="12682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ус, Г.Г. Штукатурные работы [Текст] : учебник для НПО /  Г.Г. Черноус. – М.: Академия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ажин, Н.Н. Штукатурные работы высокой сложности [Текст] : учебник для НПО / Н.Н. Завражин. – М.: Академия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лев, А.А. Отделочные строительные работы [Текст] : учебник для НПО / А.А. Ивлев, А.А. Кольгин, М. Скок. – М.: Академия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http://www.shtukaturu.com/device-beacons-2.htm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stroitelstvo-new.ru/shtukaturka/oshtukaturivanie_5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ллю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forum-history.ru/showthread.php?t=2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yarwin.ru/news/pole_chudes/2009-11-01-1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talkers.ru/showthread.php?s=8ab50da711533416aaa208540d589322&amp;p=1041242&amp;mode=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1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434880" y="2357280"/>
            <a:ext cx="2994120" cy="35323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"/>
          <p:cNvSpPr/>
          <p:nvPr/>
        </p:nvSpPr>
        <p:spPr>
          <a:xfrm>
            <a:off x="3851280" y="1663560"/>
            <a:ext cx="5040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 - одна из древнейших профессий: со времён первобытной общины человек строил кров, чтобы защититься от стихийных бедствий, палящего солнца либо пронизывающего в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о истории: на территории нашей родины найдены остатки жилища, сооружённого 25 тысяч лет назад, основанного на каркасе из черепов мамонтов, челюстей и берцовых костей разных животных. Самые ранние каменные постройки, а также развалины гигантских стен из кирпича обнаружены на юге Африки, они строились 57 тысяч лет наз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1763640" y="47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Рамка 7"/>
          <p:cNvSpPr/>
          <p:nvPr/>
        </p:nvSpPr>
        <p:spPr>
          <a:xfrm>
            <a:off x="6000840" y="428760"/>
            <a:ext cx="2806560" cy="42840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5594400" y="428760"/>
            <a:ext cx="29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8365a"/>
                </a:solidFill>
                <a:latin typeface="Arno Pro Smbd SmText"/>
                <a:ea typeface="Adobe Ming Std L"/>
              </a:rPr>
              <a:t>         </a:t>
            </a: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000803_1070_9361_vnvv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546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611280" y="1494000"/>
          <a:ext cx="7866000" cy="1071360"/>
        </p:xfrm>
        <a:graphic>
          <a:graphicData uri="http://schemas.openxmlformats.org/drawingml/2006/table">
            <a:tbl>
              <a:tblPr/>
              <a:tblGrid>
                <a:gridCol w="982440"/>
                <a:gridCol w="984240"/>
                <a:gridCol w="982800"/>
                <a:gridCol w="984240"/>
                <a:gridCol w="982800"/>
                <a:gridCol w="982440"/>
                <a:gridCol w="984240"/>
                <a:gridCol w="982800"/>
              </a:tblGrid>
              <a:tr h="107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  <p:pic>
        <p:nvPicPr>
          <p:cNvPr id="240" name="Прямоугольник 1" descr=""/>
          <p:cNvPicPr/>
          <p:nvPr/>
        </p:nvPicPr>
        <p:blipFill>
          <a:blip r:embed="rId2"/>
          <a:stretch/>
        </p:blipFill>
        <p:spPr>
          <a:xfrm>
            <a:off x="493560" y="1530360"/>
            <a:ext cx="1017720" cy="10904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1566720" y="1530360"/>
            <a:ext cx="944640" cy="10904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7"/>
          <p:cNvSpPr/>
          <p:nvPr/>
        </p:nvSpPr>
        <p:spPr>
          <a:xfrm>
            <a:off x="2627280" y="1514520"/>
            <a:ext cx="811080" cy="97776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635280" y="1557360"/>
            <a:ext cx="86544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4659480" y="1557360"/>
            <a:ext cx="77616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5643720" y="1571760"/>
            <a:ext cx="792000" cy="93636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7572240" y="1557360"/>
            <a:ext cx="816120" cy="9349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0"/>
          <p:cNvSpPr/>
          <p:nvPr/>
        </p:nvSpPr>
        <p:spPr>
          <a:xfrm>
            <a:off x="6572160" y="1500120"/>
            <a:ext cx="787320" cy="936720"/>
          </a:xfrm>
          <a:prstGeom prst="rect">
            <a:avLst/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Рамка 12"/>
          <p:cNvSpPr/>
          <p:nvPr/>
        </p:nvSpPr>
        <p:spPr>
          <a:xfrm>
            <a:off x="5929200" y="571680"/>
            <a:ext cx="2786040" cy="35712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071880" y="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-214200" y="858960"/>
            <a:ext cx="91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ий вертикальный выступ на поверхности стены – имеет базу, капиталь, иногда каннелю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5920200" y="57168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468360" y="1149480"/>
          <a:ext cx="3473280" cy="3650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03040" y="177336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0440" y="256536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те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12760" y="3068640"/>
          <a:ext cx="3473280" cy="3668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84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12760" y="3541680"/>
          <a:ext cx="3473280" cy="36828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8280">
                <a:tc>
                  <a:txBody>
                    <a:bodyPr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ый со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68360" y="4869000"/>
          <a:ext cx="3473280" cy="36648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ая кел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62080" y="6184800"/>
          <a:ext cx="3473280" cy="36540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 цв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142920" y="4643280"/>
            <a:ext cx="4929120" cy="8636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тального полотна, черенка с коленом, деревянной ручки, насаженной на чер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142920" y="6143760"/>
            <a:ext cx="4929120" cy="5173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цвета относятся к хроматическ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7"/>
          <p:cNvSpPr/>
          <p:nvPr/>
        </p:nvSpPr>
        <p:spPr>
          <a:xfrm>
            <a:off x="142920" y="3429000"/>
            <a:ext cx="4929120" cy="5619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или алюминиевый щит с ручкой в сере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9"/>
          <p:cNvSpPr/>
          <p:nvPr/>
        </p:nvSpPr>
        <p:spPr>
          <a:xfrm>
            <a:off x="142920" y="928800"/>
            <a:ext cx="4956120" cy="6858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ьные опоры, обычно круглого сечения с капителью, базой, пьедест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142920" y="1643040"/>
            <a:ext cx="4922640" cy="86220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большая и маленькая, она предназначена для смачивания водой, мытья инстр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142920" y="2500200"/>
            <a:ext cx="4929120" cy="4366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разравнивают и нама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5"/>
          <p:cNvSpPr/>
          <p:nvPr/>
        </p:nvSpPr>
        <p:spPr>
          <a:xfrm>
            <a:off x="142920" y="3000240"/>
            <a:ext cx="4929120" cy="4334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ю трут, и ей шин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971640" y="115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со зрител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мка 7"/>
          <p:cNvSpPr/>
          <p:nvPr/>
        </p:nvSpPr>
        <p:spPr>
          <a:xfrm>
            <a:off x="6215040" y="196920"/>
            <a:ext cx="2714760" cy="37476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6429240" y="21420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з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41"/>
          <p:cNvSpPr/>
          <p:nvPr/>
        </p:nvSpPr>
        <p:spPr>
          <a:xfrm>
            <a:off x="5357880" y="928800"/>
            <a:ext cx="3786120" cy="86184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47680" y="4218120"/>
          <a:ext cx="3473280" cy="365040"/>
        </p:xfrm>
        <a:graphic>
          <a:graphicData uri="http://schemas.openxmlformats.org/drawingml/2006/table">
            <a:tbl>
              <a:tblPr/>
              <a:tblGrid>
                <a:gridCol w="34732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укатурный ков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Прямоугольник 52"/>
          <p:cNvSpPr/>
          <p:nvPr/>
        </p:nvSpPr>
        <p:spPr>
          <a:xfrm>
            <a:off x="142920" y="4000680"/>
            <a:ext cx="4929120" cy="60948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 состоит из чашки, черенка, деревянной ручки и крючка, с помощью которого вешают на борт я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5656320"/>
          <a:ext cx="3473640" cy="365040"/>
        </p:xfrm>
        <a:graphic>
          <a:graphicData uri="http://schemas.openxmlformats.org/drawingml/2006/table">
            <a:tbl>
              <a:tblPr/>
              <a:tblGrid>
                <a:gridCol w="34736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58"/>
          <p:cNvSpPr/>
          <p:nvPr/>
        </p:nvSpPr>
        <p:spPr>
          <a:xfrm>
            <a:off x="142920" y="5572080"/>
            <a:ext cx="4929120" cy="504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о бывает деревянное и металлическое, двух, трех метр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6"/>
          <p:cNvSpPr/>
          <p:nvPr/>
        </p:nvSpPr>
        <p:spPr>
          <a:xfrm>
            <a:off x="5072040" y="342900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8"/>
          <p:cNvSpPr/>
          <p:nvPr/>
        </p:nvSpPr>
        <p:spPr>
          <a:xfrm>
            <a:off x="4929120" y="2571840"/>
            <a:ext cx="421488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1"/>
          <p:cNvSpPr/>
          <p:nvPr/>
        </p:nvSpPr>
        <p:spPr>
          <a:xfrm>
            <a:off x="5143680" y="2214720"/>
            <a:ext cx="4000320" cy="93636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2"/>
          <p:cNvSpPr/>
          <p:nvPr/>
        </p:nvSpPr>
        <p:spPr>
          <a:xfrm>
            <a:off x="5072040" y="178596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4"/>
          <p:cNvSpPr/>
          <p:nvPr/>
        </p:nvSpPr>
        <p:spPr>
          <a:xfrm>
            <a:off x="5435640" y="1197000"/>
            <a:ext cx="38577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5"/>
          <p:cNvSpPr/>
          <p:nvPr/>
        </p:nvSpPr>
        <p:spPr>
          <a:xfrm>
            <a:off x="5072040" y="4214880"/>
            <a:ext cx="4071960" cy="936720"/>
          </a:xfrm>
          <a:prstGeom prst="rect">
            <a:avLst/>
          </a:prstGeom>
          <a:solidFill>
            <a:srgbClr val="f07f0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smallgames.ws/uploads/posts/2009-06/1244181374_smallgames.ws_pole1.jpg"/>
          <p:cNvPicPr/>
          <p:nvPr/>
        </p:nvPicPr>
        <p:blipFill>
          <a:blip r:embed="rId1"/>
          <a:srcRect l="0" t="6368" r="0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5"/>
          <p:cNvSpPr/>
          <p:nvPr/>
        </p:nvSpPr>
        <p:spPr>
          <a:xfrm>
            <a:off x="34920" y="5445000"/>
            <a:ext cx="9109080" cy="1079640"/>
          </a:xfrm>
          <a:prstGeom prst="rect">
            <a:avLst/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заставка полечудес.mp3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8"/>
          <p:cNvSpPr txBox="1"/>
          <p:nvPr/>
        </p:nvSpPr>
        <p:spPr>
          <a:xfrm>
            <a:off x="468360" y="558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egoe Script"/>
              </a:rPr>
              <a:t>ПОЛЕ СТРОИТЕЛЬНЫХ ЧУДЕС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  <p:pic>
        <p:nvPicPr>
          <p:cNvPr id="286" name="Picture 9" descr="http://lohmatik.ru/Lohmatik/Found/g9.gif"/>
          <p:cNvPicPr/>
          <p:nvPr/>
        </p:nvPicPr>
        <p:blipFill>
          <a:blip r:embed="rId3"/>
          <a:stretch/>
        </p:blipFill>
        <p:spPr>
          <a:xfrm>
            <a:off x="324000" y="209520"/>
            <a:ext cx="2016000" cy="2139840"/>
          </a:xfrm>
          <a:prstGeom prst="rect">
            <a:avLst/>
          </a:prstGeom>
          <a:ln w="0">
            <a:noFill/>
          </a:ln>
        </p:spPr>
      </p:pic>
      <p:sp>
        <p:nvSpPr>
          <p:cNvPr id="287" name="Скругленная прямоугольная выноска 12"/>
          <p:cNvSpPr/>
          <p:nvPr/>
        </p:nvSpPr>
        <p:spPr>
          <a:xfrm>
            <a:off x="2484360" y="260280"/>
            <a:ext cx="1871640" cy="96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ро пожаловать на Поле Чудес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5734080" y="907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5026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" name="AutoShape 6"/>
          <p:cNvCxnSpPr/>
          <p:nvPr/>
        </p:nvCxnSpPr>
        <p:spPr>
          <a:xfrm flipH="1" flipV="1">
            <a:off x="1428480" y="42854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Прямоугольник 6"/>
          <p:cNvSpPr/>
          <p:nvPr/>
        </p:nvSpPr>
        <p:spPr>
          <a:xfrm>
            <a:off x="357120" y="857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http://lohmatik.ru/Lohmatik/Found/g9.gif"/>
          <p:cNvPicPr/>
          <p:nvPr/>
        </p:nvPicPr>
        <p:blipFill>
          <a:blip r:embed="rId1"/>
          <a:stretch/>
        </p:blipFill>
        <p:spPr>
          <a:xfrm>
            <a:off x="131760" y="2000160"/>
            <a:ext cx="3297240" cy="38894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4"/>
          <p:cNvSpPr/>
          <p:nvPr/>
        </p:nvSpPr>
        <p:spPr>
          <a:xfrm>
            <a:off x="1763640" y="47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Рамка 7"/>
          <p:cNvSpPr/>
          <p:nvPr/>
        </p:nvSpPr>
        <p:spPr>
          <a:xfrm>
            <a:off x="5643720" y="357120"/>
            <a:ext cx="3071520" cy="21456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5929200" y="285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"/>
          <p:cNvSpPr/>
          <p:nvPr/>
        </p:nvSpPr>
        <p:spPr>
          <a:xfrm>
            <a:off x="3708360" y="1197000"/>
            <a:ext cx="532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 строитель очень важная. Каждый мужчина должен уметь забить гвоздь, отремонтировать сломанную мебель. Первобытные люди умели делать орудия труда из камня. Также в качестве инструментов они использовали и другие природные материалы – дерево и кости животных, которые расширили возможности человека в сооружении жилищ. Стать «мастером своего дела» может каждый. Для этого надо долго и упорно учиться, приобретать навыки строительного де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7"/>
          <p:cNvGrpSpPr/>
          <p:nvPr/>
        </p:nvGrpSpPr>
        <p:grpSpPr>
          <a:xfrm>
            <a:off x="2023920" y="1384200"/>
            <a:ext cx="1305000" cy="1530360"/>
            <a:chOff x="2023920" y="1384200"/>
            <a:chExt cx="1305000" cy="1530360"/>
          </a:xfrm>
        </p:grpSpPr>
        <p:pic>
          <p:nvPicPr>
            <p:cNvPr id="297" name="Rectangle 7" descr=""/>
            <p:cNvPicPr/>
            <p:nvPr/>
          </p:nvPicPr>
          <p:blipFill>
            <a:blip r:embed="rId1"/>
            <a:stretch/>
          </p:blipFill>
          <p:spPr>
            <a:xfrm>
              <a:off x="2023920" y="1384200"/>
              <a:ext cx="13050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28600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7"/>
          <p:cNvGrpSpPr/>
          <p:nvPr/>
        </p:nvGrpSpPr>
        <p:grpSpPr>
          <a:xfrm>
            <a:off x="3346560" y="1384200"/>
            <a:ext cx="1238040" cy="1530360"/>
            <a:chOff x="3346560" y="1384200"/>
            <a:chExt cx="1238040" cy="1530360"/>
          </a:xfrm>
        </p:grpSpPr>
        <p:pic>
          <p:nvPicPr>
            <p:cNvPr id="300" name="Rectangle 7" descr=""/>
            <p:cNvPicPr/>
            <p:nvPr/>
          </p:nvPicPr>
          <p:blipFill>
            <a:blip r:embed="rId2"/>
            <a:stretch/>
          </p:blipFill>
          <p:spPr>
            <a:xfrm>
              <a:off x="3346560" y="1384200"/>
              <a:ext cx="1238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57192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Rectangle 7"/>
          <p:cNvGrpSpPr/>
          <p:nvPr/>
        </p:nvGrpSpPr>
        <p:grpSpPr>
          <a:xfrm>
            <a:off x="4309920" y="1444680"/>
            <a:ext cx="1305000" cy="1523880"/>
            <a:chOff x="4309920" y="1444680"/>
            <a:chExt cx="1305000" cy="1523880"/>
          </a:xfrm>
        </p:grpSpPr>
        <p:pic>
          <p:nvPicPr>
            <p:cNvPr id="303" name="Rectangle 7" descr=""/>
            <p:cNvPicPr/>
            <p:nvPr/>
          </p:nvPicPr>
          <p:blipFill>
            <a:blip r:embed="rId3"/>
            <a:stretch/>
          </p:blipFill>
          <p:spPr>
            <a:xfrm>
              <a:off x="4309920" y="1444680"/>
              <a:ext cx="1305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572000" y="148428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Rectangle 7"/>
          <p:cNvGrpSpPr/>
          <p:nvPr/>
        </p:nvGrpSpPr>
        <p:grpSpPr>
          <a:xfrm>
            <a:off x="5473800" y="1444680"/>
            <a:ext cx="1268280" cy="1523880"/>
            <a:chOff x="5473800" y="1444680"/>
            <a:chExt cx="1268280" cy="1523880"/>
          </a:xfrm>
        </p:grpSpPr>
        <p:pic>
          <p:nvPicPr>
            <p:cNvPr id="306" name="Rectangle 7" descr=""/>
            <p:cNvPicPr/>
            <p:nvPr/>
          </p:nvPicPr>
          <p:blipFill>
            <a:blip r:embed="rId4"/>
            <a:stretch/>
          </p:blipFill>
          <p:spPr>
            <a:xfrm>
              <a:off x="5473800" y="1444680"/>
              <a:ext cx="12682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715000" y="148428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Rectangle 7"/>
          <p:cNvGrpSpPr/>
          <p:nvPr/>
        </p:nvGrpSpPr>
        <p:grpSpPr>
          <a:xfrm>
            <a:off x="6486480" y="1457280"/>
            <a:ext cx="1243080" cy="1530360"/>
            <a:chOff x="6486480" y="1457280"/>
            <a:chExt cx="1243080" cy="1530360"/>
          </a:xfrm>
        </p:grpSpPr>
        <p:pic>
          <p:nvPicPr>
            <p:cNvPr id="309" name="Rectangle 7" descr=""/>
            <p:cNvPicPr/>
            <p:nvPr/>
          </p:nvPicPr>
          <p:blipFill>
            <a:blip r:embed="rId5"/>
            <a:stretch/>
          </p:blipFill>
          <p:spPr>
            <a:xfrm>
              <a:off x="6486480" y="1457280"/>
              <a:ext cx="1243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71508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Рамка 13"/>
          <p:cNvSpPr/>
          <p:nvPr/>
        </p:nvSpPr>
        <p:spPr>
          <a:xfrm>
            <a:off x="5572080" y="500040"/>
            <a:ext cx="2928960" cy="285840"/>
          </a:xfrm>
          <a:prstGeom prst="pie">
            <a:avLst/>
          </a:prstGeom>
          <a:solidFill>
            <a:srgbClr val="ffff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444680" y="-19080"/>
            <a:ext cx="31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57120" y="2925720"/>
            <a:ext cx="84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ние какой краски совпадает с названием умерших в древнем Египте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5572080" y="50004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no Pro Smbd SmText"/>
                <a:ea typeface="Adobe Ming Std L"/>
              </a:rPr>
              <a:t>Поле строительных чуд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Rectangle 7"/>
          <p:cNvGrpSpPr/>
          <p:nvPr/>
        </p:nvGrpSpPr>
        <p:grpSpPr>
          <a:xfrm>
            <a:off x="4565520" y="1457280"/>
            <a:ext cx="944640" cy="1530360"/>
            <a:chOff x="4565520" y="1457280"/>
            <a:chExt cx="944640" cy="1530360"/>
          </a:xfrm>
        </p:grpSpPr>
        <p:pic>
          <p:nvPicPr>
            <p:cNvPr id="316" name="Rectangle 7" descr=""/>
            <p:cNvPicPr/>
            <p:nvPr/>
          </p:nvPicPr>
          <p:blipFill>
            <a:blip r:embed="rId6"/>
            <a:stretch/>
          </p:blipFill>
          <p:spPr>
            <a:xfrm>
              <a:off x="4565520" y="1457280"/>
              <a:ext cx="9446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64328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7"/>
          <p:cNvGrpSpPr/>
          <p:nvPr/>
        </p:nvGrpSpPr>
        <p:grpSpPr>
          <a:xfrm>
            <a:off x="2133720" y="1384200"/>
            <a:ext cx="944280" cy="1530360"/>
            <a:chOff x="2133720" y="1384200"/>
            <a:chExt cx="944280" cy="1530360"/>
          </a:xfrm>
        </p:grpSpPr>
        <p:pic>
          <p:nvPicPr>
            <p:cNvPr id="319" name="Rectangle 7" descr=""/>
            <p:cNvPicPr/>
            <p:nvPr/>
          </p:nvPicPr>
          <p:blipFill>
            <a:blip r:embed="rId7"/>
            <a:stretch/>
          </p:blipFill>
          <p:spPr>
            <a:xfrm>
              <a:off x="2133720" y="1384200"/>
              <a:ext cx="944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214720" y="1428840"/>
              <a:ext cx="78552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Rectangle 7"/>
          <p:cNvGrpSpPr/>
          <p:nvPr/>
        </p:nvGrpSpPr>
        <p:grpSpPr>
          <a:xfrm>
            <a:off x="3492360" y="1384200"/>
            <a:ext cx="946440" cy="1530360"/>
            <a:chOff x="3492360" y="1384200"/>
            <a:chExt cx="946440" cy="1530360"/>
          </a:xfrm>
        </p:grpSpPr>
        <p:pic>
          <p:nvPicPr>
            <p:cNvPr id="322" name="Rectangle 7" descr=""/>
            <p:cNvPicPr/>
            <p:nvPr/>
          </p:nvPicPr>
          <p:blipFill>
            <a:blip r:embed="rId8"/>
            <a:stretch/>
          </p:blipFill>
          <p:spPr>
            <a:xfrm>
              <a:off x="3492360" y="1384200"/>
              <a:ext cx="946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57192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Rectangle 7"/>
          <p:cNvGrpSpPr/>
          <p:nvPr/>
        </p:nvGrpSpPr>
        <p:grpSpPr>
          <a:xfrm>
            <a:off x="5638680" y="1457280"/>
            <a:ext cx="938160" cy="1530360"/>
            <a:chOff x="5638680" y="1457280"/>
            <a:chExt cx="938160" cy="1530360"/>
          </a:xfrm>
        </p:grpSpPr>
        <p:pic>
          <p:nvPicPr>
            <p:cNvPr id="325" name="Rectangle 7" descr=""/>
            <p:cNvPicPr/>
            <p:nvPr/>
          </p:nvPicPr>
          <p:blipFill>
            <a:blip r:embed="rId9"/>
            <a:stretch/>
          </p:blipFill>
          <p:spPr>
            <a:xfrm>
              <a:off x="5638680" y="1457280"/>
              <a:ext cx="938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715000" y="150012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ectangle 7"/>
          <p:cNvGrpSpPr/>
          <p:nvPr/>
        </p:nvGrpSpPr>
        <p:grpSpPr>
          <a:xfrm>
            <a:off x="6638760" y="1384200"/>
            <a:ext cx="938520" cy="1530360"/>
            <a:chOff x="6638760" y="1384200"/>
            <a:chExt cx="938520" cy="1530360"/>
          </a:xfrm>
        </p:grpSpPr>
        <p:pic>
          <p:nvPicPr>
            <p:cNvPr id="328" name="Rectangle 7" descr=""/>
            <p:cNvPicPr/>
            <p:nvPr/>
          </p:nvPicPr>
          <p:blipFill>
            <a:blip r:embed="rId10"/>
            <a:stretch/>
          </p:blipFill>
          <p:spPr>
            <a:xfrm>
              <a:off x="6638760" y="1384200"/>
              <a:ext cx="938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715080" y="1428840"/>
              <a:ext cx="7858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4" descr="https://img-fotki.yandex.ru/get/16116/29330465.226/0_e450f_f05dd9b4_XXXL.jpg"/>
          <p:cNvPicPr/>
          <p:nvPr/>
        </p:nvPicPr>
        <p:blipFill>
          <a:blip r:embed="rId11"/>
          <a:stretch/>
        </p:blipFill>
        <p:spPr>
          <a:xfrm>
            <a:off x="755640" y="3573360"/>
            <a:ext cx="3240000" cy="255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s://img-fotki.yandex.ru/get/16116/29330465.226/0_e450f_f05dd9b4_XXXL.jpg"/>
          <p:cNvPicPr/>
          <p:nvPr/>
        </p:nvPicPr>
        <p:blipFill>
          <a:blip r:embed="rId12"/>
          <a:stretch/>
        </p:blipFill>
        <p:spPr>
          <a:xfrm>
            <a:off x="5219640" y="3645000"/>
            <a:ext cx="3240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53964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ка из настоящих мумий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179280" y="3716280"/>
            <a:ext cx="878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Краска «Коричневая мумия» впервые  была сделана из египетских мумий кошки и человека – их измельчали и смешивали с белой смолой и миррой. 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Это был «мясистый» цвет, но из-за органических компонентов был нестойким. 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Поскольку он содержал аммиак и частицы жира, вероятно, еще и влиял на другие цвета. Его популярностью ушла в 19 веке, когда его состав стал известен художникам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</a:t>
            </a: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Художник Эдвард Бёрн-Джонс торжественно похоронил свой тюбик Коричневой мумии в саду, когда узнал его истинное происхожде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Жена художника-прерафаэлита Эдварда Бёрн-Джонса вспоминала такую историю. Однажды в воскресный день к ним на обед зашел Лоуренс Альма-Тадема с семьей.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Два художника долго обсуждали краски, которыми они пользовались, и Альма-Тадема упомянул, что собирается зайти в мастерскую своего поставщика красок, чтобы взглянуть на египетскую мумию, прежде, чем из нее сделают краску.</a:t>
            </a:r>
            <a:br>
              <a:rPr sz="1400"/>
            </a:br>
            <a:r>
              <a:rPr b="1" lang="ru-RU" sz="14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Бёрн-Джонс не мог поверить, что краска делается из настоящих мумий, он полагал, что это название дано лишь из-за совпадения оттенка коричневого цвета.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https://img-fotki.yandex.ru/get/16142/29330465.226/0_e4510_d3032a51_XXXL.jpg"/>
          <p:cNvPicPr/>
          <p:nvPr/>
        </p:nvPicPr>
        <p:blipFill>
          <a:blip r:embed="rId1"/>
          <a:stretch/>
        </p:blipFill>
        <p:spPr>
          <a:xfrm>
            <a:off x="5651640" y="1125360"/>
            <a:ext cx="3155760" cy="2590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https://img-fotki.yandex.ru/get/16116/29330465.226/0_e450f_f05dd9b4_XXXL.jpg"/>
          <p:cNvPicPr/>
          <p:nvPr/>
        </p:nvPicPr>
        <p:blipFill>
          <a:blip r:embed="rId2"/>
          <a:stretch/>
        </p:blipFill>
        <p:spPr>
          <a:xfrm>
            <a:off x="468360" y="1125360"/>
            <a:ext cx="32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админ</cp:lastModifiedBy>
  <dcterms:modified xsi:type="dcterms:W3CDTF">2003-01-01T03:20:35Z</dcterms:modified>
  <cp:revision>377</cp:revision>
  <dc:subject/>
  <dc:title>Поле чудес</dc:title>
</cp:coreProperties>
</file>