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7D978-4A44-4E5A-B574-CECA27FDA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795B4-2018-484A-B3E9-39121CB4D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C600E-DED2-45CA-B8E8-C5D12953B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8A84C-CC7E-4A1E-96B1-656DB50EC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F6E7E-8BB6-4ECC-A09B-FBACD4C70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48B1B-C60C-41A6-80F8-CE02FA155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0D968-3F66-42AE-97D6-EDD526CBB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02462-539B-45B3-9822-FD4F95F2E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2D6F4-D650-4E3B-B688-D6CAF4615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40D60-00AF-4EC7-A4B8-510F161F1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17283-00C3-4CF2-82B0-ECCA6AB3C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03956-76FD-496B-A295-C9421312A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679C2-DF1E-4DA3-A4D4-FD4EB94FA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F2BAA-193F-4FFB-9162-52531E136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1BC94-CEC1-41BD-B680-1F9A80483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69D5E-7B43-42C6-9BE8-A03D376F3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626D4-955F-4CC3-83E9-F69A0EB34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B541E-50AA-44B0-B729-F058E6DDB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04532-40A2-4A57-A08C-2021A8A2F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333CA-9771-4C4C-8C94-88CF6713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DF128-3147-4A69-A5AA-AE5E58798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50DE-C34D-4804-B5FA-02266F798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28DD8-252A-4B51-90B0-C432ED5FA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DF29-05A0-4585-A3A9-649257A98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8C88-A494-4FA8-B968-487D5CCBFE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DB0B-11F0-4B31-9A2A-1350F077FD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26920" y="1557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Звезды Паралимпиады: кто принес медали российской сборной</a:t>
            </a:r>
            <a:br>
              <a:rPr sz="4800"/>
            </a:br>
            <a:endParaRPr b="0" lang="en-US" sz="4800" spc="-1" strike="noStrike">
              <a:solidFill>
                <a:srgbClr val="ccecff"/>
              </a:solidFill>
              <a:latin typeface="Arial"/>
            </a:endParaRPr>
          </a:p>
        </p:txBody>
      </p:sp>
      <p:sp>
        <p:nvSpPr>
          <p:cNvPr id="212" name="PlaceHolder 2"/>
          <p:cNvSpPr>
            <a:spLocks noGrp="1"/>
          </p:cNvSpPr>
          <p:nvPr>
            <p:ph type="subTitle"/>
          </p:nvPr>
        </p:nvSpPr>
        <p:spPr>
          <a:xfrm>
            <a:off x="324000" y="3213000"/>
            <a:ext cx="8488080" cy="3121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борная России захватила лидерство на домашних Паралимпийских играх в Сочи. В первые восемь дней соревнований хозяева Паралимпиады завоевали 80 медалей, в том числе 30 наград высшей пробы. Подробнее о том, кто их завоевал, - в нашей галерее. </a:t>
            </a:r>
            <a:endParaRPr b="0" lang="en-US" sz="2800" spc="-1" strike="noStrike">
              <a:solidFill>
                <a:srgbClr val="ffffff"/>
              </a:solidFill>
              <a:latin typeface="Arial"/>
            </a:endParaRPr>
          </a:p>
        </p:txBody>
      </p:sp>
    </p:spTree>
  </p:cSld>
  <p:transition advTm="15000">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ушан Миннегулов</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лыжной гонке на 20 км стоя; золото в открытой эстафете; серебро в лыжном спринте на 1 км свободным стиле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1-летний уроженец районного поселка Богатые Сабы Республики Татарстан уже участвовал в Паралимпийских играх. Он выступал в 2010 году в Ванкувере, но выше 5-го места не поднималс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 детства увлекался спортом, в результате несчастного случая потерял часть кисти руки в 13 лет. Занимается лыжными гонками и биатлоном.</a:t>
            </a:r>
            <a:endParaRPr b="0" lang="en-US" sz="1600" spc="-1" strike="noStrike">
              <a:solidFill>
                <a:srgbClr val="ffffff"/>
              </a:solidFill>
              <a:latin typeface="Arial"/>
            </a:endParaRPr>
          </a:p>
        </p:txBody>
      </p:sp>
      <p:pic>
        <p:nvPicPr>
          <p:cNvPr id="239" name="" descr=""/>
          <p:cNvPicPr/>
          <p:nvPr/>
        </p:nvPicPr>
        <p:blipFill>
          <a:blip r:embed="rId1"/>
          <a:stretch/>
        </p:blipFill>
        <p:spPr>
          <a:xfrm>
            <a:off x="457200" y="1628640"/>
            <a:ext cx="4038480" cy="3816360"/>
          </a:xfrm>
          <a:prstGeom prst="rect">
            <a:avLst/>
          </a:prstGeom>
          <a:ln w="0">
            <a:noFill/>
          </a:ln>
        </p:spPr>
      </p:pic>
    </p:spTree>
  </p:cSld>
  <p:transition advTm="26000">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оман Петушков</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биатлоне (гонка на 7,5 км сидя); золото в биатлоне на дистанции 12,5 км сидя; золото в биатлоне на 15 км сидя; золото в лыжной гонке на 15 км сидя; золото в лыжном спринте на дистанции 1 км сидя; золото в открытой эстафете.</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 детства увлекался каратэ, дзюдо и горными лыжами, но 2006 году в результате ДТП потерял обе ноги. Вдохновленный успехами российских паралимпийцев на Играх в Турине решил заняться биатлоном и лыжами. Уже через четыре года в Ванкувере завоевал серебряную и бронзовую медали.</a:t>
            </a:r>
            <a:endParaRPr b="0" lang="en-US" sz="1600" spc="-1" strike="noStrike">
              <a:solidFill>
                <a:srgbClr val="ffffff"/>
              </a:solidFill>
              <a:latin typeface="Arial"/>
            </a:endParaRPr>
          </a:p>
        </p:txBody>
      </p:sp>
      <p:pic>
        <p:nvPicPr>
          <p:cNvPr id="242" name="" descr=""/>
          <p:cNvPicPr/>
          <p:nvPr/>
        </p:nvPicPr>
        <p:blipFill>
          <a:blip r:embed="rId1"/>
          <a:stretch/>
        </p:blipFill>
        <p:spPr>
          <a:xfrm>
            <a:off x="468360" y="2060640"/>
            <a:ext cx="4038480" cy="3384360"/>
          </a:xfrm>
          <a:prstGeom prst="rect">
            <a:avLst/>
          </a:prstGeom>
          <a:ln w="0">
            <a:noFill/>
          </a:ln>
        </p:spPr>
      </p:pic>
    </p:spTree>
  </p:cSld>
  <p:transition advTm="33000">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Елена Ремизова</a:t>
            </a:r>
            <a:endParaRPr b="0" lang="en-US" sz="24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аграда в Сочи: </a:t>
            </a:r>
            <a:r>
              <a:rPr b="0" lang="en-US" sz="1800" spc="-1" strike="noStrike">
                <a:solidFill>
                  <a:srgbClr val="ffffff"/>
                </a:solidFill>
                <a:latin typeface="Arial"/>
              </a:rPr>
              <a:t>золото в лыжной гонке на 15 км для спортсменов с нарушением зрения; золото в смешанной эстафете; золото в лыжной гонке на 5 км. серебро в лыжном спринте свободным стилем на 1 км.</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Елена родилась в Курганской области, воспитывалась Ольховском детском доме. С детства занимается спортом, по образованию - преподаватель адаптивной физической культуры для детей с отклонением в состоянии здоровья.</a:t>
            </a:r>
            <a:endParaRPr b="0" lang="en-US" sz="1800" spc="-1" strike="noStrike">
              <a:solidFill>
                <a:srgbClr val="ffffff"/>
              </a:solidFill>
              <a:latin typeface="Arial"/>
            </a:endParaRPr>
          </a:p>
        </p:txBody>
      </p:sp>
      <p:pic>
        <p:nvPicPr>
          <p:cNvPr id="245" name="" descr=""/>
          <p:cNvPicPr/>
          <p:nvPr/>
        </p:nvPicPr>
        <p:blipFill>
          <a:blip r:embed="rId1"/>
          <a:stretch/>
        </p:blipFill>
        <p:spPr>
          <a:xfrm>
            <a:off x="468360" y="1700280"/>
            <a:ext cx="4038480" cy="3468600"/>
          </a:xfrm>
          <a:prstGeom prst="rect">
            <a:avLst/>
          </a:prstGeom>
          <a:ln w="0">
            <a:noFill/>
          </a:ln>
        </p:spPr>
      </p:pic>
    </p:spTree>
  </p:cSld>
  <p:transition advTm="25000">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ей Бугаев</a:t>
            </a:r>
            <a:endParaRPr b="0" lang="en-US" sz="2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золото в слаломе стоя (горные лыжи); золото в суперкомбинации; серебро в скоростном спуске стоя; серебро в гигантском слаломе, стоя; бронза в супергиганте стоя.</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асноярский спортсмен Алексей Бугаев - один из самых юных участников Паралимпиады. 16-летний горнолыжник в первый же год выступлений на взрослом уровне выиграл Кубок мира среди спортсменов с нарушениями опорно-двигательного аппарата.</a:t>
            </a:r>
            <a:endParaRPr b="0" lang="en-US" sz="1800" spc="-1" strike="noStrike">
              <a:solidFill>
                <a:srgbClr val="ffffff"/>
              </a:solidFill>
              <a:latin typeface="Arial"/>
            </a:endParaRPr>
          </a:p>
        </p:txBody>
      </p:sp>
      <p:pic>
        <p:nvPicPr>
          <p:cNvPr id="248" name="" descr=""/>
          <p:cNvPicPr/>
          <p:nvPr/>
        </p:nvPicPr>
        <p:blipFill>
          <a:blip r:embed="rId1"/>
          <a:stretch/>
        </p:blipFill>
        <p:spPr>
          <a:xfrm>
            <a:off x="457200" y="2276640"/>
            <a:ext cx="4038480" cy="3384360"/>
          </a:xfrm>
          <a:prstGeom prst="rect">
            <a:avLst/>
          </a:prstGeom>
          <a:ln w="0">
            <a:noFill/>
          </a:ln>
        </p:spPr>
      </p:pic>
    </p:spTree>
  </p:cSld>
  <p:transition advTm="27000">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андра Францева</a:t>
            </a:r>
            <a:endParaRPr b="0" lang="en-US" sz="24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града в Сочи: </a:t>
            </a:r>
            <a:r>
              <a:rPr b="0" lang="ru-RU" sz="1400" spc="-1" strike="noStrike">
                <a:solidFill>
                  <a:srgbClr val="ffffff"/>
                </a:solidFill>
                <a:latin typeface="Arial"/>
              </a:rPr>
              <a:t>золото в слаломе в категории слабовидящих (горные лыжи); бронза в скоростном спуске; серебро в супергиганте.</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Александра Францева родилась в 1987 году в Камчатском крае. Она является чемпионкой России по горнолыжному спорту, призером этапов Кубка Европы. В 2010 году принимала участие в Паралимпийских играх в Ванкувере.</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2009 году Францева стала абсолютной чемпионкой России, завоевав пять первых мест.</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2013 году на финальном этапе Кубка Мира IPC 2013 по горнолыжному спорту выиграла золото в скоростных дисциплинах и завоевала звание абсолютной победительницы Кубка Мира в своей категории.</a:t>
            </a:r>
            <a:endParaRPr b="0" lang="en-US" sz="1400" spc="-1" strike="noStrike">
              <a:solidFill>
                <a:srgbClr val="ffffff"/>
              </a:solidFill>
              <a:latin typeface="Arial"/>
            </a:endParaRPr>
          </a:p>
        </p:txBody>
      </p:sp>
      <p:pic>
        <p:nvPicPr>
          <p:cNvPr id="251" name="" descr=""/>
          <p:cNvPicPr/>
          <p:nvPr/>
        </p:nvPicPr>
        <p:blipFill>
          <a:blip r:embed="rId1"/>
          <a:stretch/>
        </p:blipFill>
        <p:spPr>
          <a:xfrm>
            <a:off x="468360" y="1989000"/>
            <a:ext cx="4038480" cy="3456000"/>
          </a:xfrm>
          <a:prstGeom prst="rect">
            <a:avLst/>
          </a:prstGeom>
          <a:ln w="0">
            <a:noFill/>
          </a:ln>
        </p:spPr>
      </p:pic>
    </p:spTree>
  </p:cSld>
  <p:transition advTm="42000">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Светлана Коновалов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Награда в Сочи: </a:t>
            </a:r>
            <a:r>
              <a:rPr b="0" lang="en-US" sz="1600" spc="-1" strike="noStrike">
                <a:solidFill>
                  <a:srgbClr val="ffffff"/>
                </a:solidFill>
                <a:latin typeface="Arial"/>
              </a:rPr>
              <a:t>золото в биатлонной гонке на 12,5 км сидя; золото в смешанной эстафете; серебро в биатлоне (спринтерская гонка на 6 км сидя); бронза в лыжных гонках - 12 км сид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одилась в Шиловском районе Рязанской области. Она является неоднократным триумфатором и призером международных соревнований по лыжным гонкам и биатлону среди спортсменов с поражением опорно-двигательного аппарата.</a:t>
            </a:r>
            <a:endParaRPr b="0" lang="en-US" sz="1600" spc="-1" strike="noStrike">
              <a:solidFill>
                <a:srgbClr val="ffffff"/>
              </a:solidFill>
              <a:latin typeface="Arial"/>
            </a:endParaRPr>
          </a:p>
        </p:txBody>
      </p:sp>
      <p:pic>
        <p:nvPicPr>
          <p:cNvPr id="254" name="" descr=""/>
          <p:cNvPicPr/>
          <p:nvPr/>
        </p:nvPicPr>
        <p:blipFill>
          <a:blip r:embed="rId1"/>
          <a:stretch/>
        </p:blipFill>
        <p:spPr>
          <a:xfrm>
            <a:off x="457200" y="1844640"/>
            <a:ext cx="4038480" cy="3362400"/>
          </a:xfrm>
          <a:prstGeom prst="rect">
            <a:avLst/>
          </a:prstGeom>
          <a:ln w="0">
            <a:noFill/>
          </a:ln>
        </p:spPr>
      </p:pic>
    </p:spTree>
  </p:cSld>
  <p:transition advTm="25000">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Григорий Мурыгин</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открытой эстафете; серебро в лыжном спринте на дистанции 1 км сидя; серебро в биатлоне на дистанции 15 км сидя; бронза в биатлонной гонке на дистанции 12,5 км сид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1995 году в селе Суя Усть-Ишимского района Омской области. В 16 лет попал под поезд и потерял обе ноги. После этого случайно познакомился с тренером Еленой Савченко, под началом которой занялся легкой атлетикой. Затем увлекся зимними видами спорта и в 17 лет стал победителем этапа Кубка мира по биатлону, победив в гонке на 15 км.</a:t>
            </a:r>
            <a:endParaRPr b="0" lang="en-US" sz="1600" spc="-1" strike="noStrike">
              <a:solidFill>
                <a:srgbClr val="ffffff"/>
              </a:solidFill>
              <a:latin typeface="Arial"/>
            </a:endParaRPr>
          </a:p>
        </p:txBody>
      </p:sp>
      <p:pic>
        <p:nvPicPr>
          <p:cNvPr id="257" name="" descr=""/>
          <p:cNvPicPr/>
          <p:nvPr/>
        </p:nvPicPr>
        <p:blipFill>
          <a:blip r:embed="rId1"/>
          <a:stretch/>
        </p:blipFill>
        <p:spPr>
          <a:xfrm>
            <a:off x="457200" y="1844640"/>
            <a:ext cx="4038480" cy="3363840"/>
          </a:xfrm>
          <a:prstGeom prst="rect">
            <a:avLst/>
          </a:prstGeom>
          <a:ln w="0">
            <a:noFill/>
          </a:ln>
        </p:spPr>
      </p:pic>
    </p:spTree>
  </p:cSld>
  <p:transition advTm="30000">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Николай Полухин</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града в Сочи: </a:t>
            </a:r>
            <a:r>
              <a:rPr b="0" lang="ru-RU" sz="1400" spc="-1" strike="noStrike">
                <a:solidFill>
                  <a:srgbClr val="ffffff"/>
                </a:solidFill>
                <a:latin typeface="Arial"/>
              </a:rPr>
              <a:t>золото в биатлонной гонке на 15 км среди спортсменов с нарушением зрения; золото в смешанной эстафете; серебро в мужской спринтерской биатлонной гонке; серебро в биатлонной гонке на 12,5 км.</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одился в деревне Голышманово Тюменской области. Его зрение пострадало в результате несчастного случая, когда Николаю было 11 лет. С детства занимался спортом, долгое время работал тренером. Старается регулярно навещать своих учеников и в соревновательный период.</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лухин - многократный победитель, серебряный и бронзовый призер этапов Кубка мира; многократный чемпион мир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 Паралимпиаде в Ванкувере завоевал шесть медалей в биатлоне и лыжных гонках, в том числе одну золотую.</a:t>
            </a:r>
            <a:endParaRPr b="0" lang="en-US" sz="1400" spc="-1" strike="noStrike">
              <a:solidFill>
                <a:srgbClr val="ffffff"/>
              </a:solidFill>
              <a:latin typeface="Arial"/>
            </a:endParaRPr>
          </a:p>
        </p:txBody>
      </p:sp>
      <p:pic>
        <p:nvPicPr>
          <p:cNvPr id="260" name="" descr=""/>
          <p:cNvPicPr/>
          <p:nvPr/>
        </p:nvPicPr>
        <p:blipFill>
          <a:blip r:embed="rId1"/>
          <a:stretch/>
        </p:blipFill>
        <p:spPr>
          <a:xfrm>
            <a:off x="457200" y="1844640"/>
            <a:ext cx="4038480" cy="3600360"/>
          </a:xfrm>
          <a:prstGeom prst="rect">
            <a:avLst/>
          </a:prstGeom>
          <a:ln w="0">
            <a:noFill/>
          </a:ln>
        </p:spPr>
      </p:pic>
    </p:spTree>
  </p:cSld>
  <p:transition advTm="42000">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борная по керлингу</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града в Сочи: </a:t>
            </a:r>
            <a:r>
              <a:rPr b="0" lang="ru-RU" sz="2400" spc="-1" strike="noStrike">
                <a:solidFill>
                  <a:srgbClr val="ffffff"/>
                </a:solidFill>
                <a:latin typeface="Arial"/>
              </a:rPr>
              <a:t>серебро в турнире по керлингу.</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Призерами Игр в Сочи стали:</a:t>
            </a:r>
            <a:r>
              <a:rPr b="0" lang="ru-RU" sz="2400" spc="-1" strike="noStrike">
                <a:solidFill>
                  <a:srgbClr val="ffffff"/>
                </a:solidFill>
                <a:latin typeface="Arial"/>
              </a:rPr>
              <a:t> Светлана Пахомова, Марат Романов, Оксана Слесаренко, Андрей Смирнов, Александр Шевченко.</a:t>
            </a:r>
            <a:endParaRPr b="0" lang="en-US" sz="2400" spc="-1" strike="noStrike">
              <a:solidFill>
                <a:srgbClr val="ffffff"/>
              </a:solidFill>
              <a:latin typeface="Arial"/>
            </a:endParaRPr>
          </a:p>
        </p:txBody>
      </p:sp>
      <p:pic>
        <p:nvPicPr>
          <p:cNvPr id="263" name="" descr=""/>
          <p:cNvPicPr/>
          <p:nvPr/>
        </p:nvPicPr>
        <p:blipFill>
          <a:blip r:embed="rId1"/>
          <a:stretch/>
        </p:blipFill>
        <p:spPr>
          <a:xfrm>
            <a:off x="468360" y="1989000"/>
            <a:ext cx="4038480" cy="3600720"/>
          </a:xfrm>
          <a:prstGeom prst="rect">
            <a:avLst/>
          </a:prstGeom>
          <a:ln w="0">
            <a:noFill/>
          </a:ln>
        </p:spPr>
      </p:pic>
    </p:spTree>
  </p:cSld>
  <p:transition advTm="16000">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Ирек Зарипов</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серебро в лыжной гонке на 15 км сид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Стерлитамаке в 1983 году. В 17 лишился обеих ног в результате ДТП. Стал четырехкратным паралимпийским чемпионом Ванкувера, завоевав золото в лыжных гонках и биатлоне.</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 2010 года занимает пост первого вице-президента Федерации физкультуры и спорта инвалидов России с поражением опорно-двигательного аппарата.</a:t>
            </a:r>
            <a:br>
              <a:rPr sz="1600"/>
            </a:br>
            <a:br>
              <a:rPr sz="1600"/>
            </a:br>
            <a:r>
              <a:rPr b="0" lang="ru-RU" sz="1600" spc="-1" strike="noStrike">
                <a:solidFill>
                  <a:srgbClr val="ffffff"/>
                </a:solidFill>
                <a:latin typeface="Arial"/>
              </a:rPr>
              <a:t> </a:t>
            </a:r>
            <a:endParaRPr b="0" lang="en-US" sz="1600" spc="-1" strike="noStrike">
              <a:solidFill>
                <a:srgbClr val="ffffff"/>
              </a:solidFill>
              <a:latin typeface="Arial"/>
            </a:endParaRPr>
          </a:p>
        </p:txBody>
      </p:sp>
      <p:pic>
        <p:nvPicPr>
          <p:cNvPr id="266" name="" descr=""/>
          <p:cNvPicPr/>
          <p:nvPr/>
        </p:nvPicPr>
        <p:blipFill>
          <a:blip r:embed="rId1"/>
          <a:stretch/>
        </p:blipFill>
        <p:spPr>
          <a:xfrm>
            <a:off x="539640" y="1700280"/>
            <a:ext cx="4038840" cy="2979720"/>
          </a:xfrm>
          <a:prstGeom prst="rect">
            <a:avLst/>
          </a:prstGeom>
          <a:ln w="0">
            <a:noFill/>
          </a:ln>
        </p:spPr>
      </p:pic>
    </p:spTree>
  </p:cSld>
  <p:transition advTm="24000">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PlaceHolder 2"/>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Edwardian Script ITC"/>
              </a:rPr>
              <a:t>Александр Проньков</a:t>
            </a:r>
            <a:endParaRPr b="0" lang="en-US" sz="2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золото в лыжной гонке на 10 км свободным стилем стоя.</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одился в 1997 году в селе Козловка Пензенской области.</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нимается плаванием и легкой атлетикой, а после знакомства с тренером паралимпийской сборной по лыжным гонкам и биатлону Ириной Громовой, занялся зимними видами спорта.</a:t>
            </a:r>
            <a:endParaRPr b="0" lang="en-US" sz="1800" spc="-1" strike="noStrike">
              <a:solidFill>
                <a:srgbClr val="ffffff"/>
              </a:solidFill>
              <a:latin typeface="Arial"/>
            </a:endParaRPr>
          </a:p>
        </p:txBody>
      </p:sp>
      <p:pic>
        <p:nvPicPr>
          <p:cNvPr id="215" name="" descr=""/>
          <p:cNvPicPr/>
          <p:nvPr/>
        </p:nvPicPr>
        <p:blipFill>
          <a:blip r:embed="rId1"/>
          <a:stretch/>
        </p:blipFill>
        <p:spPr>
          <a:xfrm>
            <a:off x="457200" y="1989000"/>
            <a:ext cx="4038480" cy="3816360"/>
          </a:xfrm>
          <a:prstGeom prst="rect">
            <a:avLst/>
          </a:prstGeom>
          <a:ln w="0">
            <a:noFill/>
          </a:ln>
        </p:spPr>
      </p:pic>
    </p:spTree>
  </p:cSld>
  <p:transition advTm="26000">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ладимир Кононов</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серебро в лыжной гонке на 10 км свободным стилем стоя.</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одился в поселке Черемушки Можгинского района Республики Удмуртия. В результате несчастного случая лишился кистей рук и пальцев ног. Занимается футболом и легкой атлетикой, но лучшие результаты показывал именно в лыжах, поэтому решил сосредоточиться на этом виде.</a:t>
            </a:r>
            <a:br>
              <a:rPr sz="1800"/>
            </a:b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69" name="" descr=""/>
          <p:cNvPicPr/>
          <p:nvPr/>
        </p:nvPicPr>
        <p:blipFill>
          <a:blip r:embed="rId1"/>
          <a:stretch/>
        </p:blipFill>
        <p:spPr>
          <a:xfrm>
            <a:off x="457200" y="1773360"/>
            <a:ext cx="4038480" cy="3389040"/>
          </a:xfrm>
          <a:prstGeom prst="rect">
            <a:avLst/>
          </a:prstGeom>
          <a:ln w="0">
            <a:noFill/>
          </a:ln>
        </p:spPr>
      </p:pic>
    </p:spTree>
  </p:cSld>
  <p:transition advTm="21000">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борная по следж-хоккею</a:t>
            </a:r>
            <a:endParaRPr b="0" lang="en-US" sz="2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серебро в турнире по следж-хоккею.</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оставе Российской сборной призерами Игр стали: Михаил Иванов, Владимир Каманцев, Алексей Лысов, Максим Андриянов, Василий Варлаков, Владимир Литвиненко, Вадим Селюкин, Иван Кузнецов, Дмитрий Лисов, Константин Шихов, Руслан Тучин, Алексей Амосов, Илья Попов, Андрей Двинянинов, Евгений Петров, Николай Терентьев, Илья Волков.</a:t>
            </a:r>
            <a:endParaRPr b="0" lang="en-US" sz="1800" spc="-1" strike="noStrike">
              <a:solidFill>
                <a:srgbClr val="ffffff"/>
              </a:solidFill>
              <a:latin typeface="Arial"/>
            </a:endParaRPr>
          </a:p>
        </p:txBody>
      </p:sp>
      <p:pic>
        <p:nvPicPr>
          <p:cNvPr id="272" name="" descr=""/>
          <p:cNvPicPr/>
          <p:nvPr/>
        </p:nvPicPr>
        <p:blipFill>
          <a:blip r:embed="rId1"/>
          <a:stretch/>
        </p:blipFill>
        <p:spPr>
          <a:xfrm>
            <a:off x="457200" y="2060640"/>
            <a:ext cx="4038480" cy="2889360"/>
          </a:xfrm>
          <a:prstGeom prst="rect">
            <a:avLst/>
          </a:prstGeom>
          <a:ln w="0">
            <a:noFill/>
          </a:ln>
        </p:spPr>
      </p:pic>
    </p:spTree>
  </p:cSld>
  <p:transition advTm="29000">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Юлия Будалеев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серебро в биатлонной гонке на 6 км среди спортсменов с нарушением зрения; серебро в биатлонной гонке на 10 км; бронза в лыжной гонке на 5 к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ась в Тобольске, в детстве занималась хореографией и легкой атлетикой.</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Является победительницей и неоднократным призером этапов Кубка мира;</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воевала четыре серебряные и две бронзовые награды на чемпионате мира 2013 г. в Соллефтео.</a:t>
            </a:r>
            <a:endParaRPr b="0" lang="en-US" sz="1600" spc="-1" strike="noStrike">
              <a:solidFill>
                <a:srgbClr val="ffffff"/>
              </a:solidFill>
              <a:latin typeface="Arial"/>
            </a:endParaRPr>
          </a:p>
        </p:txBody>
      </p:sp>
      <p:pic>
        <p:nvPicPr>
          <p:cNvPr id="275" name="" descr=""/>
          <p:cNvPicPr/>
          <p:nvPr/>
        </p:nvPicPr>
        <p:blipFill>
          <a:blip r:embed="rId1"/>
          <a:stretch/>
        </p:blipFill>
        <p:spPr>
          <a:xfrm>
            <a:off x="457200" y="1989000"/>
            <a:ext cx="4038480" cy="3132360"/>
          </a:xfrm>
          <a:prstGeom prst="rect">
            <a:avLst/>
          </a:prstGeom>
          <a:ln w="0">
            <a:noFill/>
          </a:ln>
        </p:spPr>
      </p:pic>
    </p:spTree>
  </p:cSld>
  <p:transition advTm="30000">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ей Быченок</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града в Сочи: </a:t>
            </a:r>
            <a:r>
              <a:rPr b="0" lang="ru-RU" sz="2400" spc="-1" strike="noStrike">
                <a:solidFill>
                  <a:srgbClr val="ffffff"/>
                </a:solidFill>
                <a:latin typeface="Arial"/>
              </a:rPr>
              <a:t>серебро в биатлонной гонке на дистанции 12,5 км сидя.</a:t>
            </a:r>
            <a:endParaRPr b="0" lang="en-US" sz="2400" spc="-1" strike="noStrike">
              <a:solidFill>
                <a:srgbClr val="ffffff"/>
              </a:solidFill>
              <a:latin typeface="Arial"/>
            </a:endParaRPr>
          </a:p>
        </p:txBody>
      </p:sp>
      <p:pic>
        <p:nvPicPr>
          <p:cNvPr id="278" name="" descr=""/>
          <p:cNvPicPr/>
          <p:nvPr/>
        </p:nvPicPr>
        <p:blipFill>
          <a:blip r:embed="rId1"/>
          <a:stretch/>
        </p:blipFill>
        <p:spPr>
          <a:xfrm>
            <a:off x="468360" y="1628640"/>
            <a:ext cx="4038480" cy="3219480"/>
          </a:xfrm>
          <a:prstGeom prst="rect">
            <a:avLst/>
          </a:prstGeom>
          <a:ln w="0">
            <a:noFill/>
          </a:ln>
        </p:spPr>
      </p:pic>
    </p:spTree>
  </p:cSld>
  <p:transition advTm="13000">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Инга Медведев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серебро в скоростном спуске стоя на соревнованиях по горнолыжному спорту; серебро в слаломе сто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1 лет попала под машину, в результате чего потеряла ногу. Решила заниматься экстремальными видами спорта. Во время одной из тренировок обогнала здорового спортсмена-мужчину и окончательно решила связать жизнь с профессиональным спорто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5-летняя Инга Медведева впервые приняла участие в Паралимпиаде еще в Нагано в 1998 году.</a:t>
            </a:r>
            <a:endParaRPr b="0" lang="en-US" sz="1600" spc="-1" strike="noStrike">
              <a:solidFill>
                <a:srgbClr val="ffffff"/>
              </a:solidFill>
              <a:latin typeface="Arial"/>
            </a:endParaRPr>
          </a:p>
        </p:txBody>
      </p:sp>
      <p:pic>
        <p:nvPicPr>
          <p:cNvPr id="281" name="" descr=""/>
          <p:cNvPicPr/>
          <p:nvPr/>
        </p:nvPicPr>
        <p:blipFill>
          <a:blip r:embed="rId1"/>
          <a:stretch/>
        </p:blipFill>
        <p:spPr>
          <a:xfrm>
            <a:off x="457200" y="1916280"/>
            <a:ext cx="4038480" cy="3292200"/>
          </a:xfrm>
          <a:prstGeom prst="rect">
            <a:avLst/>
          </a:prstGeom>
          <a:ln w="0">
            <a:noFill/>
          </a:ln>
        </p:spPr>
      </p:pic>
    </p:spTree>
  </p:cSld>
  <p:transition advTm="30000">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танислав Чохлаев</a:t>
            </a:r>
            <a:endParaRPr b="0" lang="en-US" sz="2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града в Сочи: </a:t>
            </a:r>
            <a:r>
              <a:rPr b="0" lang="ru-RU" sz="1400" spc="-1" strike="noStrike">
                <a:solidFill>
                  <a:srgbClr val="ffffff"/>
                </a:solidFill>
                <a:latin typeface="Arial"/>
              </a:rPr>
              <a:t>серебро в лыжной гонке на 20 км среди спортсменов с нарушением зрения; серебро в лажной гонке на 10 км свободным стилем; бронза в биатлонной гонке на 15 км.</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одился в 1989 году в селе Серга Кунгурского района (Пермский край).</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терял зрение в детстве в результате несчастного случая. Занимался легкой атлетикой, но затем сделал выбор в пользу лыжного спорт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вляется призером чемпионата мира по лыжным гонкам и биатлону спорта слепых, победителем этапов Кубка мира, призером чемпионата России.</a:t>
            </a:r>
            <a:endParaRPr b="0" lang="en-US" sz="1400" spc="-1" strike="noStrike">
              <a:solidFill>
                <a:srgbClr val="ffffff"/>
              </a:solidFill>
              <a:latin typeface="Arial"/>
            </a:endParaRPr>
          </a:p>
        </p:txBody>
      </p:sp>
      <p:pic>
        <p:nvPicPr>
          <p:cNvPr id="284" name="" descr=""/>
          <p:cNvPicPr/>
          <p:nvPr/>
        </p:nvPicPr>
        <p:blipFill>
          <a:blip r:embed="rId1"/>
          <a:stretch/>
        </p:blipFill>
        <p:spPr>
          <a:xfrm>
            <a:off x="468360" y="2205000"/>
            <a:ext cx="4038480" cy="3025800"/>
          </a:xfrm>
          <a:prstGeom prst="rect">
            <a:avLst/>
          </a:prstGeom>
          <a:ln w="0">
            <a:noFill/>
          </a:ln>
        </p:spPr>
      </p:pic>
    </p:spTree>
  </p:cSld>
  <p:transition advTm="31000">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андр Давидович</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бронза в лыжной гонке на 15 км сидя; бронза в биатлоне на дистанции 15 км сид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Александр Давидович </a:t>
            </a:r>
            <a:r>
              <a:rPr b="0" lang="ru-RU" sz="1600" spc="-1" strike="noStrike">
                <a:solidFill>
                  <a:srgbClr val="ffffff"/>
                </a:solidFill>
                <a:latin typeface="Arial"/>
              </a:rPr>
              <a:t>родился в Могливской области (Белорусси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дставляя Белоруссию, принимал участие в Паралимпийских играх 2006 и 2010 гг., но тогда остался без медалей.</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2011 году переехал в Россию, живет и тренируется в Башкортостане. Одним из лучших друзей называет Ирека Зарипова.</a:t>
            </a:r>
            <a:endParaRPr b="0" lang="en-US" sz="1600" spc="-1" strike="noStrike">
              <a:solidFill>
                <a:srgbClr val="ffffff"/>
              </a:solidFill>
              <a:latin typeface="Arial"/>
            </a:endParaRPr>
          </a:p>
        </p:txBody>
      </p:sp>
      <p:pic>
        <p:nvPicPr>
          <p:cNvPr id="287" name="" descr=""/>
          <p:cNvPicPr/>
          <p:nvPr/>
        </p:nvPicPr>
        <p:blipFill>
          <a:blip r:embed="rId1"/>
          <a:stretch/>
        </p:blipFill>
        <p:spPr>
          <a:xfrm>
            <a:off x="457200" y="1700280"/>
            <a:ext cx="4038480" cy="3498840"/>
          </a:xfrm>
          <a:prstGeom prst="rect">
            <a:avLst/>
          </a:prstGeom>
          <a:ln w="0">
            <a:noFill/>
          </a:ln>
        </p:spPr>
      </p:pic>
    </p:spTree>
  </p:cSld>
  <p:transition advTm="27000">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арта Зайнуллин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града в Сочи: </a:t>
            </a:r>
            <a:r>
              <a:rPr b="0" lang="ru-RU" sz="1800" spc="-1" strike="noStrike">
                <a:solidFill>
                  <a:srgbClr val="ffffff"/>
                </a:solidFill>
                <a:latin typeface="Arial"/>
              </a:rPr>
              <a:t>бронза в лыжном спринте на 1 км сидя.</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одилась в Нижнекамске в 1990 году. В детстве занималась дзюдо.Когда Марте был 15 лет, у нее обнаружили рак кости и врачи были вынуждены ампутировать ногу.</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 восстановления девушка решила заняться лыжными видами спорта. В 2013 году завоевала серебро и бронзу на чемпионате мира в Швеции.</a:t>
            </a:r>
            <a:endParaRPr b="0" lang="en-US" sz="1800" spc="-1" strike="noStrike">
              <a:solidFill>
                <a:srgbClr val="ffffff"/>
              </a:solidFill>
              <a:latin typeface="Arial"/>
            </a:endParaRPr>
          </a:p>
        </p:txBody>
      </p:sp>
      <p:pic>
        <p:nvPicPr>
          <p:cNvPr id="290" name="" descr=""/>
          <p:cNvPicPr/>
          <p:nvPr/>
        </p:nvPicPr>
        <p:blipFill>
          <a:blip r:embed="rId1"/>
          <a:stretch/>
        </p:blipFill>
        <p:spPr>
          <a:xfrm>
            <a:off x="457200" y="1916280"/>
            <a:ext cx="4038480" cy="3292200"/>
          </a:xfrm>
          <a:prstGeom prst="rect">
            <a:avLst/>
          </a:prstGeom>
          <a:ln w="0">
            <a:noFill/>
          </a:ln>
        </p:spPr>
      </p:pic>
    </p:spTree>
  </p:cSld>
  <p:transition advTm="25000">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ксандр Алябьев</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града в Сочи:</a:t>
            </a:r>
            <a:r>
              <a:rPr b="0" lang="ru-RU" sz="2800" spc="-1" strike="noStrike">
                <a:solidFill>
                  <a:srgbClr val="ffffff"/>
                </a:solidFill>
                <a:latin typeface="Arial"/>
              </a:rPr>
              <a:t> бронза в слаломе стоя.</a:t>
            </a:r>
            <a:endParaRPr b="0" lang="en-US" sz="2800" spc="-1" strike="noStrike">
              <a:solidFill>
                <a:srgbClr val="ffffff"/>
              </a:solidFill>
              <a:latin typeface="Arial"/>
            </a:endParaRPr>
          </a:p>
        </p:txBody>
      </p:sp>
      <p:pic>
        <p:nvPicPr>
          <p:cNvPr id="293" name="" descr=""/>
          <p:cNvPicPr/>
          <p:nvPr/>
        </p:nvPicPr>
        <p:blipFill>
          <a:blip r:embed="rId1"/>
          <a:stretch/>
        </p:blipFill>
        <p:spPr>
          <a:xfrm>
            <a:off x="457200" y="1844640"/>
            <a:ext cx="4038480" cy="3363840"/>
          </a:xfrm>
          <a:prstGeom prst="rect">
            <a:avLst/>
          </a:prstGeom>
          <a:ln w="0">
            <a:noFill/>
          </a:ln>
        </p:spPr>
      </p:pic>
    </p:spTree>
  </p:cSld>
  <p:transition advTm="7000">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Олег Пономарев</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бронза в лыжном спринте на 1 км среди спортсменов с нарушением зрени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Перми в 1992 году. Олег родился родился слабовидящим, и восстановить зрение так и не удалось.</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5 лет у Пономарева скончалась мать, а сам Олег занялся лыжным спортом. Закончил школу и в настоящее время является студентом колледжа физкультуры и спорта.</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очи выступает с лидером Андреем Романовым.</a:t>
            </a:r>
            <a:endParaRPr b="0" lang="en-US" sz="1600" spc="-1" strike="noStrike">
              <a:solidFill>
                <a:srgbClr val="ffffff"/>
              </a:solidFill>
              <a:latin typeface="Arial"/>
            </a:endParaRPr>
          </a:p>
        </p:txBody>
      </p:sp>
      <p:pic>
        <p:nvPicPr>
          <p:cNvPr id="296" name="" descr=""/>
          <p:cNvPicPr/>
          <p:nvPr/>
        </p:nvPicPr>
        <p:blipFill>
          <a:blip r:embed="rId1"/>
          <a:stretch/>
        </p:blipFill>
        <p:spPr>
          <a:xfrm>
            <a:off x="457200" y="1700280"/>
            <a:ext cx="4038480" cy="3508200"/>
          </a:xfrm>
          <a:prstGeom prst="rect">
            <a:avLst/>
          </a:prstGeom>
          <a:ln w="0">
            <a:noFill/>
          </a:ln>
        </p:spPr>
      </p:pic>
    </p:spTree>
  </p:cSld>
  <p:transition advTm="27000">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Азат Карачурин</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биатлонной гонке на 12,5 км стоя; бронза в мужском биатлонном спринте на 7,5 км сто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18-летний спортсмен из Башкортостана с детства занимается лыжными видами спорта. С детства страдает поражение ОДА.</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ще учась в 9 классе, Азат стал призером взрослого чемпионата России по лыжным гонкам. В 16 лет завоевал серебряную медаль на чемпионате мира по биатлону и лыжным гонкам в Ханты-Мансийске.</a:t>
            </a:r>
            <a:endParaRPr b="0" lang="en-US" sz="1600" spc="-1" strike="noStrike">
              <a:solidFill>
                <a:srgbClr val="ffffff"/>
              </a:solidFill>
              <a:latin typeface="Arial"/>
            </a:endParaRPr>
          </a:p>
        </p:txBody>
      </p:sp>
      <p:pic>
        <p:nvPicPr>
          <p:cNvPr id="218" name="" descr=""/>
          <p:cNvPicPr/>
          <p:nvPr/>
        </p:nvPicPr>
        <p:blipFill>
          <a:blip r:embed="rId1"/>
          <a:stretch/>
        </p:blipFill>
        <p:spPr>
          <a:xfrm>
            <a:off x="457200" y="1628640"/>
            <a:ext cx="4038480" cy="4321440"/>
          </a:xfrm>
          <a:prstGeom prst="rect">
            <a:avLst/>
          </a:prstGeom>
          <a:ln w="0">
            <a:noFill/>
          </a:ln>
        </p:spPr>
      </p:pic>
    </p:spTree>
  </p:cSld>
  <p:transition advTm="25000">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Наталья Братюк</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бронза медаль в биатлонной гонке на 10 км стоя; в биатлонной гонке на 12,5 км сто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ась в 1997 году в Городе Новодвинске (Архангельская область). Является чемпионкой России по биатлону 2012 года, серебряным призером чемпионата России по лыжным гонкам и обладательницей бронзы в соревнованиях по биатлону 2013 года. Также в 2013 году Наталья стала победительницей этапа Кубка мир. В общем зачете лыжного Кубка мира по лыжам заняла третье место.</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99" name="" descr=""/>
          <p:cNvPicPr/>
          <p:nvPr/>
        </p:nvPicPr>
        <p:blipFill>
          <a:blip r:embed="rId1"/>
          <a:stretch/>
        </p:blipFill>
        <p:spPr>
          <a:xfrm>
            <a:off x="457200" y="1844640"/>
            <a:ext cx="4038480" cy="3363840"/>
          </a:xfrm>
          <a:prstGeom prst="rect">
            <a:avLst/>
          </a:prstGeom>
          <a:ln w="0">
            <a:noFill/>
          </a:ln>
        </p:spPr>
      </p:pic>
    </p:spTree>
  </p:cSld>
  <p:transition advTm="30000">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Кирилл Михайлов</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лыжном спринте на 1 км стоя; бронза в биатлонной гонке на 15 к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1983 году в деревне Кайраково Мишкинского района (Башкортостан). С детства занимался лыжным спортом, в 16 лет попал в аварию, катаясь на мотоцикле. Кирилл получил тяжелую травму ноги, лечение которой заняло четыре года.</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н вернулся в спорт и вскоре вошел в паралимпийскую сборную страны. Завоевал золото и бронзу на Играх в Турине, выиграл три золотые и одну серебряную медали в Ванкувере.</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21" name="" descr=""/>
          <p:cNvPicPr/>
          <p:nvPr/>
        </p:nvPicPr>
        <p:blipFill>
          <a:blip r:embed="rId1"/>
          <a:stretch/>
        </p:blipFill>
        <p:spPr>
          <a:xfrm>
            <a:off x="539640" y="1700280"/>
            <a:ext cx="4038840" cy="3960720"/>
          </a:xfrm>
          <a:prstGeom prst="rect">
            <a:avLst/>
          </a:prstGeom>
          <a:ln w="0">
            <a:noFill/>
          </a:ln>
        </p:spPr>
      </p:pic>
    </p:spTree>
  </p:cSld>
  <p:transition advTm="33000">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лена Кауфман</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града в Сочи: </a:t>
            </a:r>
            <a:r>
              <a:rPr b="0" lang="ru-RU" sz="1400" spc="-1" strike="noStrike">
                <a:solidFill>
                  <a:srgbClr val="ffffff"/>
                </a:solidFill>
                <a:latin typeface="Arial"/>
              </a:rPr>
              <a:t>золото в биатлонном спринте на 6 км стоя; золото в биатлонной гонке на 10 км стоя; золото в смешанной эстафете; серебро в биатлонной гонке на 12,5 км стоя; бронза в лыжном спринте на 1 км свободным стилем.</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одилась в 1987 году в спортивной семье: отец Алены занимался греблей, а мать – лыжными гонкам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вляется многократным призером международных и российских соревнований по лыжным гонкам, биатлону и паратриатлону.</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 Паралимпиаде в Турине завоевала золото, в Ванкувере выиграла бронзовую медаль. В Сочи выступает в биатлоне и лыжных гонках.</a:t>
            </a:r>
            <a:endParaRPr b="0" lang="en-US" sz="1400" spc="-1" strike="noStrike">
              <a:solidFill>
                <a:srgbClr val="ffffff"/>
              </a:solidFill>
              <a:latin typeface="Arial"/>
            </a:endParaRPr>
          </a:p>
        </p:txBody>
      </p:sp>
      <p:pic>
        <p:nvPicPr>
          <p:cNvPr id="224" name="" descr=""/>
          <p:cNvPicPr/>
          <p:nvPr/>
        </p:nvPicPr>
        <p:blipFill>
          <a:blip r:embed="rId1"/>
          <a:stretch/>
        </p:blipFill>
        <p:spPr>
          <a:xfrm>
            <a:off x="468360" y="1989000"/>
            <a:ext cx="4038480" cy="3435480"/>
          </a:xfrm>
          <a:prstGeom prst="rect">
            <a:avLst/>
          </a:prstGeom>
          <a:ln w="0">
            <a:noFill/>
          </a:ln>
        </p:spPr>
      </p:pic>
    </p:spTree>
  </p:cSld>
  <p:transition advTm="33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алерий Редкозубов</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слаломе среди спортсменов с нарушениями зрения; золото в суперкомбинации; бронза в гигантском слаломе.</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ся в 1972 году в городе Гуково Ростовской области, с 10 лет живет в Норильске. С детства занимался горнолыжным спорто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сле службы в армии работал на руднике, где серьезно повредил зрение. Возобновил занятия горными лыжами и вошел в состав сборной России.</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Является двукратным чемпионом России, призером Кубков Европы.</a:t>
            </a:r>
            <a:endParaRPr b="0" lang="en-US" sz="1600" spc="-1" strike="noStrike">
              <a:solidFill>
                <a:srgbClr val="ffffff"/>
              </a:solidFill>
              <a:latin typeface="Arial"/>
            </a:endParaRPr>
          </a:p>
        </p:txBody>
      </p:sp>
      <p:pic>
        <p:nvPicPr>
          <p:cNvPr id="227" name="" descr=""/>
          <p:cNvPicPr/>
          <p:nvPr/>
        </p:nvPicPr>
        <p:blipFill>
          <a:blip r:embed="rId1"/>
          <a:stretch/>
        </p:blipFill>
        <p:spPr>
          <a:xfrm>
            <a:off x="468360" y="1989000"/>
            <a:ext cx="4038480" cy="3411720"/>
          </a:xfrm>
          <a:prstGeom prst="rect">
            <a:avLst/>
          </a:prstGeom>
          <a:ln w="0">
            <a:noFill/>
          </a:ln>
        </p:spPr>
      </p:pic>
    </p:spTree>
  </p:cSld>
  <p:transition advTm="29000">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ладислав Лекомцев</a:t>
            </a:r>
            <a:endParaRPr b="0" lang="en-US" sz="2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Arial"/>
              </a:rPr>
              <a:t>Награда в Сочи:</a:t>
            </a:r>
            <a:r>
              <a:rPr b="1" lang="ru-RU" sz="1400" spc="-1" strike="noStrike">
                <a:solidFill>
                  <a:srgbClr val="ffffff"/>
                </a:solidFill>
                <a:latin typeface="Arial"/>
              </a:rPr>
              <a:t> </a:t>
            </a:r>
            <a:r>
              <a:rPr b="0" lang="ru-RU" sz="1400" spc="-1" strike="noStrike">
                <a:solidFill>
                  <a:srgbClr val="ffffff"/>
                </a:solidFill>
                <a:latin typeface="Arial"/>
              </a:rPr>
              <a:t>золото в мужском биатлонном спринте на 7,5 км стоя; золото в открытой эстафете; бронза в лыжной гонке на 20 км стоя; бронза в лыжном спринте на 1 км свободным стилем; бронза в лыжной гонке на 10 км свободным стилем.</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одился в Удмуртии в 1994 году. Является чемпионом мира по биатлону (спринтерская гонка классическим стилем) и двукратным чемпионом мира по лыжным гонкам (10 км классическим стилем и в эстафете).</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терял руку в детстве в результате несчастного случая. Живет и тренируется в родной республике, является студентом Удмуртского государственного университета.</a:t>
            </a:r>
            <a:endParaRPr b="0" lang="en-US" sz="1400" spc="-1" strike="noStrike">
              <a:solidFill>
                <a:srgbClr val="ffffff"/>
              </a:solidFill>
              <a:latin typeface="Arial"/>
            </a:endParaRPr>
          </a:p>
        </p:txBody>
      </p:sp>
      <p:pic>
        <p:nvPicPr>
          <p:cNvPr id="230" name="" descr=""/>
          <p:cNvPicPr/>
          <p:nvPr/>
        </p:nvPicPr>
        <p:blipFill>
          <a:blip r:embed="rId1"/>
          <a:stretch/>
        </p:blipFill>
        <p:spPr>
          <a:xfrm>
            <a:off x="457200" y="1916280"/>
            <a:ext cx="4038480" cy="4033800"/>
          </a:xfrm>
          <a:prstGeom prst="rect">
            <a:avLst/>
          </a:prstGeom>
          <a:ln w="0">
            <a:noFill/>
          </a:ln>
        </p:spPr>
      </p:pic>
    </p:spTree>
  </p:cSld>
  <p:transition advTm="32000">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ихалина Лысов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биатлонной гонке на 6 км среди спортсменок с нарушением зрения; золото в биатлонной гонке на 10 км; золото в лыжном спринте свободным стилем на 1 км; серебро в лыжной гонке на 15 км; серебро в биатлонной гонке на 12,5 км; серебро в лыжной гонке на 5 км</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ась в Нижнем Тагиле, в спорт пришла благодаря сестре.</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2010 году в Ванкувере завоевала сразу пять медалей, в том числе одну золотую - в лыжной эстафете. Также в ее активе два серебра в индивидуальных лыжных гонках и две бронзовые награды в биатлоне.</a:t>
            </a:r>
            <a:endParaRPr b="0" lang="en-US" sz="1600" spc="-1" strike="noStrike">
              <a:solidFill>
                <a:srgbClr val="ffffff"/>
              </a:solidFill>
              <a:latin typeface="Arial"/>
            </a:endParaRPr>
          </a:p>
        </p:txBody>
      </p:sp>
      <p:pic>
        <p:nvPicPr>
          <p:cNvPr id="233" name="" descr=""/>
          <p:cNvPicPr/>
          <p:nvPr/>
        </p:nvPicPr>
        <p:blipFill>
          <a:blip r:embed="rId1"/>
          <a:stretch/>
        </p:blipFill>
        <p:spPr>
          <a:xfrm>
            <a:off x="468360" y="1773360"/>
            <a:ext cx="4038480" cy="3816360"/>
          </a:xfrm>
          <a:prstGeom prst="rect">
            <a:avLst/>
          </a:prstGeom>
          <a:ln w="0">
            <a:noFill/>
          </a:ln>
        </p:spPr>
      </p:pic>
    </p:spTree>
  </p:cSld>
  <p:transition advTm="32000">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нна Миленина</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града в Сочи: </a:t>
            </a:r>
            <a:r>
              <a:rPr b="0" lang="ru-RU" sz="1600" spc="-1" strike="noStrike">
                <a:solidFill>
                  <a:srgbClr val="ffffff"/>
                </a:solidFill>
                <a:latin typeface="Arial"/>
              </a:rPr>
              <a:t>золото в лыжном спринте на 1 км свободным стилем; золото в лыжной гонке на 5 км свободным стилем стоя; серебро в женском биатлонном спринте на 6 км стоя; бронза в лыжной гонке на 15 км стоя.</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дилась в городе Краснотурьинске Свердловской области. Ее супруг - бронзовый призер Олимпиады-2008 в волейболе сидя Виктор Миленин.</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ще под девичьей фамилией Бурмистрова Анна завоевала на Паралимпиадах 2006 и 2010 гг. восемь медалей различного достоинства в лыжных гонках и биатлоне. Стала чемпионкой Турина и двукратной чемпионкой Ванкувера.</a:t>
            </a:r>
            <a:endParaRPr b="0" lang="en-US" sz="1600" spc="-1" strike="noStrike">
              <a:solidFill>
                <a:srgbClr val="ffffff"/>
              </a:solidFill>
              <a:latin typeface="Arial"/>
            </a:endParaRPr>
          </a:p>
        </p:txBody>
      </p:sp>
      <p:pic>
        <p:nvPicPr>
          <p:cNvPr id="236" name="" descr=""/>
          <p:cNvPicPr/>
          <p:nvPr/>
        </p:nvPicPr>
        <p:blipFill>
          <a:blip r:embed="rId1"/>
          <a:stretch/>
        </p:blipFill>
        <p:spPr>
          <a:xfrm>
            <a:off x="457200" y="1989000"/>
            <a:ext cx="4038480" cy="3816360"/>
          </a:xfrm>
          <a:prstGeom prst="rect">
            <a:avLst/>
          </a:prstGeom>
          <a:ln w="0">
            <a:noFill/>
          </a:ln>
        </p:spPr>
      </p:pic>
    </p:spTree>
  </p:cSld>
  <p:transition advTm="37000">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6T13:15:25Z</dcterms:created>
  <dc:creator>Максим</dc:creator>
  <dc:description/>
  <dc:language>en-US</dc:language>
  <cp:lastModifiedBy>Максим</cp:lastModifiedBy>
  <dcterms:modified xsi:type="dcterms:W3CDTF">2014-03-17T04:01:41Z</dcterms:modified>
  <cp:revision>3</cp:revision>
  <dc:subject/>
  <dc:title>Звезды Паралимпиады: кто принес медали российской сборной </dc:title>
</cp:coreProperties>
</file>