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79976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3D9-B127-4C75-B390-6B2ED132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918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79280" y="4164840"/>
            <a:ext cx="918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62E-7B57-42D7-B374-0F2BCB8F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7928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8412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0FE-DF28-4EC4-8F45-AFC8F379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83920" y="167940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288200" y="167940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79280" y="416484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83920" y="416484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288200" y="416484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43D-311B-414F-8508-181F685B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B612-70E1-4BD3-BA87-9CF09E2A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79280" y="1679400"/>
            <a:ext cx="9181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4F47-1568-45A8-AE09-85FC9B17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918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A0D3-67FC-420D-9EC5-126C1603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080D-90A5-4F50-A65B-83AF8756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A54A-54E0-4B86-BCED-14C02328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79280" y="291960"/>
            <a:ext cx="91818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03FF-D35B-4FBB-8633-3170F821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7928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F2AE-A8F7-4BBA-93A5-4D335C5B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79280" y="1679400"/>
            <a:ext cx="9181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1EE-B778-42D4-82A1-F5F03408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8412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C1B3-B7C3-41F6-9A73-AA309CF3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79280" y="4164840"/>
            <a:ext cx="918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C915-6FEB-42AB-8CF0-E16182CF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918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79280" y="4164840"/>
            <a:ext cx="918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C032-6540-4DEA-A3C6-A782523A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7928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78412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75AF-86CD-4A83-B708-374F8C25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83920" y="167940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288200" y="167940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79280" y="416484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183920" y="416484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288200" y="4164840"/>
            <a:ext cx="295632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31A1-D72B-4278-9285-53989F90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918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388-5FD7-4087-8148-C476C345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E65-8188-4EB2-B95D-FF8D08B1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48C-AA2B-4E62-9CE8-C2246AA5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79280" y="291960"/>
            <a:ext cx="91818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F74-57B3-437C-9B73-7AD2B48C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7928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D31-8184-4939-8FE9-041A6F48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84120" y="416484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D79-A4D4-4AB1-96C2-D63AFF36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7928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84120" y="1679400"/>
            <a:ext cx="448056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79280" y="4164840"/>
            <a:ext cx="918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6FF-AA02-4194-AF84-3114E1AE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260720" cy="5121000"/>
            <a:chOff x="0" y="0"/>
            <a:chExt cx="10260720" cy="5121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19640" cy="5121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49640" y="1488600"/>
              <a:ext cx="9811080" cy="191160"/>
              <a:chOff x="449640" y="1488600"/>
              <a:chExt cx="9811080" cy="19116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8100720" y="1488600"/>
                <a:ext cx="2160000" cy="1911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449640" y="1568520"/>
                <a:ext cx="98110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47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79280" y="1679400"/>
            <a:ext cx="918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079640" y="6564240"/>
            <a:ext cx="234144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960720" y="6561000"/>
            <a:ext cx="351000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10000" y="6561000"/>
            <a:ext cx="22510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4B77-2133-4B2D-AE13-76269B93112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5121360"/>
            <a:ext cx="720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10351080" cy="6239880"/>
            <a:chOff x="0" y="0"/>
            <a:chExt cx="10351080" cy="623988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2070000" cy="5120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680280"/>
              <a:ext cx="10351080" cy="2559600"/>
              <a:chOff x="0" y="3680280"/>
              <a:chExt cx="10351080" cy="25596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1170000" y="3680280"/>
                <a:ext cx="9181080" cy="2559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226160" y="3920040"/>
                <a:ext cx="9034920" cy="22449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5120280"/>
                <a:ext cx="117000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749880" y="560160"/>
              <a:ext cx="9541440" cy="319320"/>
              <a:chOff x="749880" y="560160"/>
              <a:chExt cx="9541440" cy="3193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7410600" y="560160"/>
                <a:ext cx="2880720" cy="319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749880" y="719640"/>
                <a:ext cx="954144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47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79280" y="1679400"/>
            <a:ext cx="918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1077480" y="6564240"/>
            <a:ext cx="22510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962160" y="6561000"/>
            <a:ext cx="34210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010000" y="6561000"/>
            <a:ext cx="22510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02BB-C800-41B7-AE11-D515CA845DAE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2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3" Type="http://schemas.openxmlformats.org/officeDocument/2006/relationships/slide" Target="slide16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2;&#1080;&#1088;&#1086;&#1074;&#1072;&#1103;%20&#1074;&#1086;&#1081;&#1085;&#1072;.ppt#5. &#1053;&#1072;&#1095;&#1072;&#1083;&#1086; &#1087;&#1077;&#1088;&#1074;&#1086;&#1081; &#1084;&#1080;&#1088;&#1086;&#1074;&#1086;&#1081; &#1074;&#1086;&#1081;&#1085;&#1099;" TargetMode="External"/><Relationship Id="rId2" Type="http://schemas.openxmlformats.org/officeDocument/2006/relationships/hyperlink" Target="file:///&#1052;&#1080;&#1088;&#1086;&#1074;&#1072;&#1103;%20&#1074;&#1086;&#1081;&#1085;&#1072;.ppt#5. &#1053;&#1072;&#1095;&#1072;&#1083;&#1086; &#1087;&#1077;&#1088;&#1074;&#1086;&#1081; &#1084;&#1080;&#1088;&#1086;&#1074;&#1086;&#1081; &#1074;&#1086;&#1081;&#1085;&#1099;" TargetMode="External"/><Relationship Id="rId3" Type="http://schemas.openxmlformats.org/officeDocument/2006/relationships/hyperlink" Target="file:///&#1052;&#1080;&#1088;&#1086;&#1074;&#1072;&#1103;%20&#1074;&#1086;&#1081;&#1085;&#1072;.ppt#9. &#1055;&#1088;&#1077;&#1079;&#1077;&#1085;&#1090;&#1072;&#1094;&#1080;&#1103; PowerPoint" TargetMode="External"/><Relationship Id="rId4" Type="http://schemas.openxmlformats.org/officeDocument/2006/relationships/hyperlink" Target="file:///&#1052;&#1080;&#1088;&#1086;&#1074;&#1072;&#1103;%20&#1074;&#1086;&#1081;&#1085;&#1072;.ppt#9. &#1055;&#1088;&#1077;&#1079;&#1077;&#1085;&#1090;&#1072;&#1094;&#1080;&#1103; PowerPoint" TargetMode="External"/><Relationship Id="rId5" Type="http://schemas.openxmlformats.org/officeDocument/2006/relationships/hyperlink" Target="file:///&#1052;&#1080;&#1088;&#1086;&#1074;&#1072;&#1103;%20&#1074;&#1086;&#1081;&#1085;&#1072;.ppt#9. &#1055;&#1088;&#1077;&#1079;&#1077;&#1085;&#1090;&#1072;&#1094;&#1080;&#1103; PowerPoint" TargetMode="External"/><Relationship Id="rId6" Type="http://schemas.openxmlformats.org/officeDocument/2006/relationships/hyperlink" Target="file:///&#1052;&#1080;&#1088;&#1086;&#1074;&#1072;&#1103;%20&#1074;&#1086;&#1081;&#1085;&#1072;.ppt#9. &#1055;&#1088;&#1077;&#1079;&#1077;&#1085;&#1090;&#1072;&#1094;&#1080;&#1103; PowerPoint" TargetMode="Externa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I%20&#1052;&#1080;&#1088;&#1086;&#1074;&#1072;&#1103;%20&#1074;&#1086;&#1081;&#1085;&#1072;.ppt#9. &#1055;&#1086;&#1085;&#1103;&#1090;&#1080;&#1103;" TargetMode="External"/><Relationship Id="rId2" Type="http://schemas.openxmlformats.org/officeDocument/2006/relationships/hyperlink" Target="file:///&#1052;&#1080;&#1088;&#1086;&#1074;&#1072;&#1103;%20&#1074;&#1086;&#1081;&#1085;&#1072;.ppt#16. &#1055;&#1086;&#1085;&#1103;&#1090;&#1080;&#1103;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2;&#1080;&#1088;&#1086;&#1074;&#1072;&#1103;%20&#1074;&#1086;&#1081;&#1085;&#1072;.ppt#16. &#1055;&#1086;&#1085;&#1103;&#1090;&#1080;&#1103;" TargetMode="External"/><Relationship Id="rId2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2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3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4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5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6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7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2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3" Type="http://schemas.openxmlformats.org/officeDocument/2006/relationships/hyperlink" Target="file:///&#1052;&#1080;&#1088;&#1086;&#1074;&#1072;&#1103;%20&#1074;&#1086;&#1081;&#1085;&#1072;.ppt#18. &#1055;&#1088;&#1077;&#1079;&#1077;&#1085;&#1090;&#1072;&#1094;&#1080;&#1103; PowerPoin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2" Type="http://schemas.openxmlformats.org/officeDocument/2006/relationships/hyperlink" Target="file:///&#1052;&#1080;&#1088;&#1086;&#1074;&#1072;&#1103;%20&#1074;&#1086;&#1081;&#1085;&#1072;.ppt#17. &#1055;&#1088;&#1077;&#1079;&#1077;&#1085;&#1090;&#1072;&#1094;&#1080;&#1103; PowerPoin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360" y="287280"/>
            <a:ext cx="9721800" cy="217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700" spc="-1" strike="noStrike">
                <a:solidFill>
                  <a:srgbClr val="330033"/>
                </a:solidFill>
                <a:latin typeface="Times New Roman"/>
              </a:rPr>
              <a:t>Первая мировая война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Результаты и последствия войны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990720" y="2133720"/>
            <a:ext cx="5181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Verdana"/>
                <a:hlinkClick r:id="rId1" action="ppaction://hlinksldjump"/>
              </a:rPr>
              <a:t>Компьенское перемир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90720" y="2819520"/>
            <a:ext cx="4800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Verdana"/>
                <a:hlinkClick r:id="rId2" action="ppaction://hlinksldjump"/>
              </a:rPr>
              <a:t>2.Брестск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990720" y="3505320"/>
            <a:ext cx="6095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Verdana"/>
                <a:hlinkClick r:id="rId3" action="ppaction://hlinksldjump"/>
              </a:rPr>
              <a:t>3.Версаль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100" spc="-1" strike="noStrike">
                <a:solidFill>
                  <a:srgbClr val="330033"/>
                </a:solidFill>
                <a:latin typeface="Times New Roman"/>
              </a:rPr>
              <a:t>Компьенское перемирие</a:t>
            </a: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4191120"/>
            <a:ext cx="10134720" cy="9144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Возвращение всех немецких войск в пределы Герм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362320" y="15238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ловия Компьенского перемир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80880" y="2057400"/>
            <a:ext cx="10420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Немедленный вывод германских войск с западных оккупированных территорий и левого берега Ре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380880" y="2743200"/>
            <a:ext cx="96775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Немедленная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 action="ppaction://hlinksldjump"/>
              </a:rPr>
              <a:t>репатриация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без взаимности всех военнопл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80880" y="3276720"/>
            <a:ext cx="95252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Уступка германской армией следующего военного материала: 5тысяч пушек, 25тысяч пулемётов, 3тысячи миномётов и 1700 аэро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75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75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ru-RU" sz="4500" spc="-1" strike="noStrike">
                <a:solidFill>
                  <a:srgbClr val="330033"/>
                </a:solidFill>
                <a:latin typeface="Times New Roman"/>
              </a:rPr>
              <a:t>Брестский мир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9651960" cy="453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аз России от территорий Эстонии, Лат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ADD4"/>
          <p:cNvPicPr/>
          <p:nvPr/>
        </p:nvPicPr>
        <p:blipFill>
          <a:blip r:embed="rId1"/>
          <a:stretch/>
        </p:blipFill>
        <p:spPr>
          <a:xfrm>
            <a:off x="2057400" y="3809880"/>
            <a:ext cx="6095880" cy="32403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457200" y="1905120"/>
            <a:ext cx="9601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 российских войск из Финляндии, Укра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57200" y="2362320"/>
            <a:ext cx="9601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Возвращение Турци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епостей Карс, Ардаган, Бату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57200" y="2819520"/>
            <a:ext cx="792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мобилизация русской армии и ф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457200" y="3276720"/>
            <a:ext cx="784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Verdana"/>
                <a:hlinkClick r:id="rId2" action="ppaction://hlinksldjump"/>
              </a:rPr>
              <a:t>Контрибуци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6млрд. ма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75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425"/>
                            </p:stCondLst>
                            <p:childTnLst>
                              <p:par>
                                <p:cTn id="6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925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425"/>
                            </p:stCondLst>
                            <p:childTnLst>
                              <p:par>
                                <p:cTn id="6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4925"/>
                            </p:stCondLst>
                            <p:childTnLst>
                              <p:par>
                                <p:cTn id="6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425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79280" y="291600"/>
            <a:ext cx="9181800" cy="776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Версальский мирный договор</a:t>
            </a:r>
            <a:r>
              <a:rPr b="0" lang="ru-RU" sz="21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28600" y="1066680"/>
            <a:ext cx="105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ловия догово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28600" y="3200400"/>
            <a:ext cx="1036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Наложение на Германию военных ограничений – запрещалось иметь подводный флот, крупные надводные корабли, танковые соединения, военную и морскую авиацию, максимальная численность армии определялась в 100 тысяч человек. Всеобщая повинность отменяла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28600" y="1752480"/>
            <a:ext cx="1028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ермания теряла 1/8 часть своей территории и все свои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3" action="ppaction://hlinksldjump"/>
              </a:rPr>
              <a:t>колонии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28600" y="2286000"/>
            <a:ext cx="98298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Германия должна была выплатить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4" action="ppaction://hlinksldjump"/>
              </a:rPr>
              <a:t>репарации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общей суммой 132млрд.золотых марок(52% - Франции, 22% - Великобритании, 10% - Италии, 8% - Бельгии)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228600" y="4495680"/>
            <a:ext cx="105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милитаризация Рейнской зоны. Оккупация Рейнской зоны войсками союзников сроком на 15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28600" y="5257800"/>
            <a:ext cx="10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ермания признавалась виновницей развязывания мировой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6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0" y="228600"/>
            <a:ext cx="109728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Тройственный союз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военно-политический союз, сложившийся в 1879г. союзом между Германией и Австро-Венгрией. В 1882г. к нему присоединилась Италия. Договор предусматривал совместные действия держав в случае нападения четвертой держа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0" y="2133720"/>
            <a:ext cx="10515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3"/>
              </a:rPr>
              <a:t>Компьенское перемирие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4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глашение об окончании боевых действий и признании поражения Германии в первой миров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2743200"/>
            <a:ext cx="10801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5"/>
              </a:rPr>
              <a:t>Брестский мир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6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подписанный 3 марта 1918г. сепаратный мирный договор между Россией и Герман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0" y="1447920"/>
            <a:ext cx="10801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7" action="ppaction://hlinksldjump"/>
              </a:rPr>
              <a:t>Брусиловский прорыв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8" action="ppaction://hlinksldjump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успешное наступление русских войск под командованием генерала А.А.Брусилоа, начавшееся 5 июня 191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0" y="3429000"/>
            <a:ext cx="108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епаратный мир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мир, заключенный государством отдельно от своих союзников, продолжающих вой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0" y="5105520"/>
            <a:ext cx="1080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лан Шлиффен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план ведения войны в Европе, разработанный начальником прусской армии Альфредом фон Шлиффеном в начале ХХ в. Основная цель плана – избежать войны на два фронта: с запада и вост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0" y="4191120"/>
            <a:ext cx="108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зиционная войн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характеризовалась отсутствием манёвров войск, стабильной линией фронта. Главную роль играет артилле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0" y="632448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0" y="624852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парации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возмещение материального ущерба государством, совершившим нападение, государству, подвергшемуся напад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282600"/>
            <a:ext cx="1080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ражение на Сомме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первое крупное успешное наступление англо -французских войск, начавшееся осенью 1916г. Означало переход стратегической инициативы странам Антанты. В этой битве впервые были использованы та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0" y="1523880"/>
            <a:ext cx="108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итва на Марне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одна из первых крупных битв первой мировой войны, развернувшаяся на западном фронте на территории Франции в конце августа – начале сентября 1914г. Сражение привело к провалу плана германского наступления и обусловило затяжной характер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0" y="2819520"/>
            <a:ext cx="1059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ерденская мясорубк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кровопролитная битва у крепости Верден во Франции, начавшаяся 21 февраля 1916г. Сражение длилось около полугода и получило своё название в связи с тяжелейшими потерями с обеих сторон(было убито и ранено около миллиона челове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4038480"/>
            <a:ext cx="108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ерсальский мирный договор 1919г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итоговый документ Парижской мирной конференции, завершивший первую мировую вой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4952880"/>
            <a:ext cx="108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юльский кризис 1914г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международный кризис, вызванный убийством 28 июня 1914г. австрийского наследника эрцгерцога Франца Фердинанда в Сара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500" spc="-1" strike="noStrike">
                <a:solidFill>
                  <a:srgbClr val="330033"/>
                </a:solidFill>
                <a:latin typeface="Times New Roman"/>
              </a:rPr>
              <a:t>Основные характеристики Первой мировой войны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23640"/>
            <a:ext cx="10261440" cy="3762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 fontScale="99000"/>
          </a:bodyPr>
          <a:p>
            <a:pPr marL="67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должительность – 1554 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1676520"/>
            <a:ext cx="1057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исло стран-участниц – 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2133720"/>
            <a:ext cx="1080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остав коалиций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глия, Франция, Россия, США и ещё 30 стран (Португалия, Сиам, Либерия, 14 латиноамериканских государств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ния, Австро-Венгия, Турция, Болгария(четверной союз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3352680"/>
            <a:ext cx="899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исло нейтральных государств – 1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0" y="3809880"/>
            <a:ext cx="108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исло государств, на территории которых проходили военные действия – 1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4648320"/>
            <a:ext cx="1043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исленность населения стран-участниц войны – 50  млн.челов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5181480"/>
            <a:ext cx="990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исленность мобилизованных – 74 млн. челов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0" y="57913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исленность погибших – 10 млн. челов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7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2952720" y="360360"/>
            <a:ext cx="4464000" cy="1800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Балканы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чаг международной напряж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H="1">
            <a:off x="2952720" y="1728720"/>
            <a:ext cx="503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16000" y="2664000"/>
            <a:ext cx="4392360" cy="237636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76360" y="2879640"/>
            <a:ext cx="388764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08-19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Боснийский кризис», вызванный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аннексией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встро-Венгрией Боснии и Герцеговины при поддержке Герм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5905440" y="2521080"/>
            <a:ext cx="4464000" cy="22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6048360" y="1871640"/>
            <a:ext cx="792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624720" y="2879640"/>
            <a:ext cx="302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2-1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алканские войны. Угроза общеевропейского конфли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3"/>
          <p:cNvSpPr/>
          <p:nvPr/>
        </p:nvSpPr>
        <p:spPr>
          <a:xfrm>
            <a:off x="3097080" y="4824360"/>
            <a:ext cx="4105440" cy="23767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3384720" y="5329080"/>
            <a:ext cx="34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рьба европейских стран за турецкое наследство и влияние на политику на       Балк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1368360" y="4896000"/>
            <a:ext cx="1584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 flipH="1">
            <a:off x="6840360" y="4824360"/>
            <a:ext cx="1368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431640" y="360360"/>
            <a:ext cx="1513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33"/>
                </a:solidFill>
                <a:uFillTx/>
                <a:latin typeface="Verdana"/>
                <a:hlinkClick r:id="rId3" action="ppaction://hlinksldjump"/>
              </a:rPr>
              <a:t>Пр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300"/>
                            </p:stCondLst>
                            <p:childTnLst>
                              <p:par>
                                <p:cTn id="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25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75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75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25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75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625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825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10032840" cy="1066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Times New Roman"/>
              </a:rPr>
              <a:t>Начало первой мировой войны</a:t>
            </a:r>
            <a:endParaRPr b="0" lang="en-US" sz="3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76360" y="1297080"/>
            <a:ext cx="129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Ант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7056360" y="1297080"/>
            <a:ext cx="2320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Тройственный сою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6480000" y="1944720"/>
            <a:ext cx="87660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8353440" y="1944720"/>
            <a:ext cx="914400" cy="546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5"/>
          <a:stretch/>
        </p:blipFill>
        <p:spPr>
          <a:xfrm>
            <a:off x="0" y="2016000"/>
            <a:ext cx="863640" cy="571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6"/>
          <a:stretch/>
        </p:blipFill>
        <p:spPr>
          <a:xfrm>
            <a:off x="1728720" y="2016000"/>
            <a:ext cx="889200" cy="58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7"/>
          <a:stretch/>
        </p:blipFill>
        <p:spPr>
          <a:xfrm>
            <a:off x="863640" y="2592360"/>
            <a:ext cx="87624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8"/>
          <a:stretch/>
        </p:blipFill>
        <p:spPr>
          <a:xfrm>
            <a:off x="7416720" y="2521080"/>
            <a:ext cx="863640" cy="576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3"/>
          <p:cNvSpPr/>
          <p:nvPr/>
        </p:nvSpPr>
        <p:spPr>
          <a:xfrm>
            <a:off x="3168720" y="1800360"/>
            <a:ext cx="2735280" cy="100800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313080" y="2087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087640" y="2952720"/>
            <a:ext cx="460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бийство в Сараево наследника австрийского прест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5 июня 191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0" y="4267080"/>
            <a:ext cx="9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0 июля (23 июля) Австро-Венгрия предъявила ультиматум Серб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3240000" y="1224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4-19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720720" y="316872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ра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0" y="26640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1800360" y="266400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г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6264360" y="2592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р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7416720" y="3168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т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8353440" y="259236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стро-Венг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0" y="4648320"/>
            <a:ext cx="97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3 июля (26 июля) Сербия приняла большую часть треб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0"/>
          <p:cNvSpPr/>
          <p:nvPr/>
        </p:nvSpPr>
        <p:spPr>
          <a:xfrm>
            <a:off x="0" y="5029200"/>
            <a:ext cx="10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5 июля (28 июля) Австро-Венгрия объявила войну Серб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0" y="5410080"/>
            <a:ext cx="104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июля (1 августа) Германия объявила России вой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0" y="5867280"/>
            <a:ext cx="104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1 июля (3 августа) Германия объявила Франции вой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0" y="6248520"/>
            <a:ext cx="9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2 июля (4августа) В войну вступила 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0" y="66294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6 июля (8 августа) Австро-Венгрия объявила войну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360" y="791640"/>
            <a:ext cx="3672000" cy="644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Франц Фердинанд и София</a:t>
            </a:r>
            <a:r>
              <a:rPr b="0" lang="ru-RU" sz="43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400360" y="6048000"/>
            <a:ext cx="4514760" cy="8636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аврило Принцип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150px-Франц_Фердинанд_и_София"/>
          <p:cNvPicPr/>
          <p:nvPr/>
        </p:nvPicPr>
        <p:blipFill>
          <a:blip r:embed="rId1"/>
          <a:stretch/>
        </p:blipFill>
        <p:spPr>
          <a:xfrm>
            <a:off x="0" y="1368360"/>
            <a:ext cx="3457440" cy="540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150px-Gavrila_Princip"/>
          <p:cNvPicPr/>
          <p:nvPr/>
        </p:nvPicPr>
        <p:blipFill>
          <a:blip r:embed="rId2"/>
          <a:stretch/>
        </p:blipFill>
        <p:spPr>
          <a:xfrm>
            <a:off x="7201080" y="0"/>
            <a:ext cx="3163680" cy="5832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31640" y="5545080"/>
            <a:ext cx="4515120" cy="892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b">
            <a:normAutofit/>
          </a:bodyPr>
          <a:p>
            <a:pPr marL="385920" indent="-38592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Цели воюющих держав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431640" y="1512720"/>
            <a:ext cx="865440" cy="574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3097080" y="1512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крушить Францию и Росс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2"/>
          <a:stretch/>
        </p:blipFill>
        <p:spPr>
          <a:xfrm>
            <a:off x="431640" y="2521080"/>
            <a:ext cx="936720" cy="574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79200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"/>
          <p:cNvPicPr/>
          <p:nvPr/>
        </p:nvPicPr>
        <p:blipFill>
          <a:blip r:embed="rId4"/>
          <a:stretch/>
        </p:blipFill>
        <p:spPr>
          <a:xfrm>
            <a:off x="457200" y="5181480"/>
            <a:ext cx="863640" cy="50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"/>
          <p:cNvPicPr/>
          <p:nvPr/>
        </p:nvPicPr>
        <p:blipFill>
          <a:blip r:embed="rId5"/>
          <a:stretch/>
        </p:blipFill>
        <p:spPr>
          <a:xfrm>
            <a:off x="457200" y="6324480"/>
            <a:ext cx="792000" cy="480960"/>
          </a:xfrm>
          <a:prstGeom prst="rect">
            <a:avLst/>
          </a:prstGeom>
          <a:ln w="0">
            <a:noFill/>
          </a:ln>
        </p:spPr>
      </p:pic>
      <p:sp>
        <p:nvSpPr>
          <p:cNvPr id="158" name="Line 39"/>
          <p:cNvSpPr/>
          <p:nvPr/>
        </p:nvSpPr>
        <p:spPr>
          <a:xfrm flipV="1">
            <a:off x="1447920" y="1676160"/>
            <a:ext cx="167616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3097080" y="1800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соединить к себе прибалтийские и польские земли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371600" y="1828800"/>
            <a:ext cx="1652760" cy="18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2952720" y="2448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хватить Французские колонии в Афр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7"/>
          <p:cNvSpPr/>
          <p:nvPr/>
        </p:nvSpPr>
        <p:spPr>
          <a:xfrm>
            <a:off x="1371600" y="1828800"/>
            <a:ext cx="1581120" cy="69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8"/>
          <p:cNvSpPr/>
          <p:nvPr/>
        </p:nvSpPr>
        <p:spPr>
          <a:xfrm>
            <a:off x="2952720" y="2808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сноваться на Ближнем Востоке и в Ту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9"/>
          <p:cNvSpPr/>
          <p:nvPr/>
        </p:nvSpPr>
        <p:spPr>
          <a:xfrm>
            <a:off x="1371600" y="1828800"/>
            <a:ext cx="1581120" cy="1050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0"/>
          <p:cNvSpPr/>
          <p:nvPr/>
        </p:nvSpPr>
        <p:spPr>
          <a:xfrm>
            <a:off x="2952720" y="3240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чинить себе Балканские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1"/>
          <p:cNvSpPr/>
          <p:nvPr/>
        </p:nvSpPr>
        <p:spPr>
          <a:xfrm>
            <a:off x="1371600" y="2819520"/>
            <a:ext cx="1581120" cy="565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2952720" y="38163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хватить проливы Босфор и Дардане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1295280" y="3809880"/>
            <a:ext cx="1657440" cy="1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4"/>
          <p:cNvSpPr/>
          <p:nvPr/>
        </p:nvSpPr>
        <p:spPr>
          <a:xfrm>
            <a:off x="2952720" y="43210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твердить своё господство на Балк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5"/>
          <p:cNvSpPr/>
          <p:nvPr/>
        </p:nvSpPr>
        <p:spPr>
          <a:xfrm>
            <a:off x="1295280" y="3809880"/>
            <a:ext cx="172908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6"/>
          <p:cNvSpPr/>
          <p:nvPr/>
        </p:nvSpPr>
        <p:spPr>
          <a:xfrm>
            <a:off x="2952720" y="4824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ссоединить все польские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7"/>
          <p:cNvSpPr/>
          <p:nvPr/>
        </p:nvSpPr>
        <p:spPr>
          <a:xfrm>
            <a:off x="1368360" y="3887640"/>
            <a:ext cx="1584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8"/>
          <p:cNvSpPr/>
          <p:nvPr/>
        </p:nvSpPr>
        <p:spPr>
          <a:xfrm>
            <a:off x="2952720" y="561672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ановить германскую экспанс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9"/>
          <p:cNvSpPr/>
          <p:nvPr/>
        </p:nvSpPr>
        <p:spPr>
          <a:xfrm>
            <a:off x="1295280" y="3809880"/>
            <a:ext cx="1584360" cy="187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1"/>
          <p:cNvSpPr/>
          <p:nvPr/>
        </p:nvSpPr>
        <p:spPr>
          <a:xfrm>
            <a:off x="1371600" y="5410080"/>
            <a:ext cx="158112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2"/>
          <p:cNvSpPr/>
          <p:nvPr/>
        </p:nvSpPr>
        <p:spPr>
          <a:xfrm>
            <a:off x="2952720" y="612144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звращение Эльзиса, Лотарингии и захват Са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3"/>
          <p:cNvSpPr/>
          <p:nvPr/>
        </p:nvSpPr>
        <p:spPr>
          <a:xfrm>
            <a:off x="1295280" y="6553080"/>
            <a:ext cx="1657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4"/>
          <p:cNvSpPr/>
          <p:nvPr/>
        </p:nvSpPr>
        <p:spPr>
          <a:xfrm>
            <a:off x="2952720" y="655308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здел турецких террито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6"/>
          <p:cNvSpPr/>
          <p:nvPr/>
        </p:nvSpPr>
        <p:spPr>
          <a:xfrm>
            <a:off x="1371600" y="5410080"/>
            <a:ext cx="158112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7"/>
          <p:cNvSpPr/>
          <p:nvPr/>
        </p:nvSpPr>
        <p:spPr>
          <a:xfrm flipV="1">
            <a:off x="1295280" y="576108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8"/>
          <p:cNvSpPr/>
          <p:nvPr/>
        </p:nvSpPr>
        <p:spPr>
          <a:xfrm flipV="1">
            <a:off x="1295280" y="6264360"/>
            <a:ext cx="165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500"/>
                            </p:stCondLst>
                            <p:childTnLst>
                              <p:par>
                                <p:cTn id="3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500"/>
                            </p:stCondLst>
                            <p:childTnLst>
                              <p:par>
                                <p:cTn id="3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9721800" cy="7747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Основные боевые действия и события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160720" y="12970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6224400" y="129708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сточ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24480" y="12970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0" y="2016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2160720" y="1871640"/>
            <a:ext cx="35542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торжение Германии  в Бельгию, Францию по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«плану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3"/>
              </a:rPr>
              <a:t> Шлиффена»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77080" y="187164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ступление русских войск в Восточной Пруссии и Гал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55080" y="28796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ент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2160720" y="2808360"/>
            <a:ext cx="3240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4"/>
              </a:rPr>
              <a:t>Битва на Марне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5"/>
              </a:rPr>
              <a:t>.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6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ход германских войск до реки Э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5943600" y="2819520"/>
            <a:ext cx="40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ступление русских войск из    Восточной Пру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126720" y="388764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ец 191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2160720" y="3887640"/>
            <a:ext cx="35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ход от маневренной к позиционн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2160720" y="4608360"/>
            <a:ext cx="381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вое применение германским командованием боевых отравляющих веществ (хлор) в районе г.Ип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0" y="4608360"/>
            <a:ext cx="20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прель-Май 191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6019920" y="4648320"/>
            <a:ext cx="42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рыв германскими войсками    фронта в Галиции. Отступление    русских вой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55080" y="619272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ент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012000" y="5943600"/>
            <a:ext cx="4789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абилизация фронта.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7"/>
              </a:rPr>
              <a:t>Позиционная вой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2"/>
          <p:cNvSpPr/>
          <p:nvPr/>
        </p:nvSpPr>
        <p:spPr>
          <a:xfrm>
            <a:off x="4343400" y="762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4 –1915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3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8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3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75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575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075"/>
                            </p:stCondLst>
                            <p:childTnLst>
                              <p:par>
                                <p:cTn id="4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75"/>
                            </p:stCondLst>
                            <p:childTnLst>
                              <p:par>
                                <p:cTn id="4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8074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8575"/>
                            </p:stCondLst>
                            <p:childTnLst>
                              <p:par>
                                <p:cTn id="4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075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575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75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575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1075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1575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9280" y="291960"/>
            <a:ext cx="9181800" cy="12002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7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360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рт 19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133720" y="304920"/>
            <a:ext cx="3241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Верденское сражение.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Ютландский морской 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2520" y="11523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юнь-авгу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6095880" y="1143000"/>
            <a:ext cx="433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Брусиловский проры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мецко-австрийского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0" y="1944720"/>
            <a:ext cx="19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юль-авгу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2133720" y="1981080"/>
            <a:ext cx="316836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гло-французское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3"/>
              </a:rPr>
              <a:t>наступление на Сомме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первое применение та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35720" y="32400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ец 19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2133720" y="3200400"/>
            <a:ext cx="339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ход Германии к стратегической обороне. План Гинден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2480" y="4537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прель 19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2087640" y="4464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удачное наступление французов под Арра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6019920" y="44956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ота Милюкова об участии России в войне до победного ко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83160" y="5400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юль-Ос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2133720" y="5410080"/>
            <a:ext cx="37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глийские войска пытаются прорвать фронт Германии в р-не Ип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5943600" y="5410080"/>
            <a:ext cx="38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хват германскими войсками Риги, оккупация части Прибал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4419720" y="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6 –1917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825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325"/>
                            </p:stCondLst>
                            <p:childTnLst>
                              <p:par>
                                <p:cTn id="5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825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325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75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575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1075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4952880" y="3808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мирие между Советской Россией и Герман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2200" y="3603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ка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14120" y="122400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8г., з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4968720" y="1152360"/>
            <a:ext cx="47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купация Бессарабии Румын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0" y="1944720"/>
            <a:ext cx="19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рт-ию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728720" y="1944720"/>
            <a:ext cx="34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ступление войск Германии на парижском направлении, использование войск, переброшенных с Восточного фронта(Аррас, Марн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0" y="43927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ентябрь-но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1655640" y="4392720"/>
            <a:ext cx="381636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ее наступление войск Антанты. Поражение стран Четверного союз.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Компьенское перемир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029200" y="1981080"/>
            <a:ext cx="533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Брестский мир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жду Германией и Росс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4114800" y="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91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8:33:39Z</dcterms:created>
  <dc:creator>Ученик_</dc:creator>
  <dc:description/>
  <dc:language>en-US</dc:language>
  <cp:lastModifiedBy>Школа</cp:lastModifiedBy>
  <dcterms:modified xsi:type="dcterms:W3CDTF">2018-03-30T12:20:47Z</dcterms:modified>
  <cp:revision>58</cp:revision>
  <dc:subject/>
  <dc:title>Слайд 1</dc:title>
</cp:coreProperties>
</file>