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79976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CCE-57FD-47EE-B419-DB42C98D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43D-E1BD-4BEE-B41E-4DD74922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E05-B437-4793-BF43-EAB1BC93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8392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8820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7928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8392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28820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780-7980-40A7-A2BE-189C3C3D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C45-A214-4AF1-A288-ED5672A1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83CB-8A13-4DFF-A0B6-C227165F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A059-9E41-44F4-96BB-32B96CF2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CF8-4D26-41CD-8591-9D26042A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C0B-A117-4E01-B50C-1D45E36D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79280" y="291960"/>
            <a:ext cx="91818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6E0-A053-4014-9531-5AF4AF9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87C-7998-4C31-ACA7-14F978A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CB2-F84E-46EF-A212-7895BBD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F1FA-54EE-4BC8-BA38-2EB7874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94CE-32C6-4131-9656-28C615B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BBEC-9C56-4860-8D40-D61E09B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4EEC-5768-45BF-82D3-2A98820C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8392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28820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7928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8392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28820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193-08D4-4916-A78B-C0F759E8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F9B-C75F-44A7-B6CE-2F9B56FD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171-278D-42F3-AF75-1640E85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F5B-AF6F-433B-A6A8-18E252C8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79280" y="291960"/>
            <a:ext cx="91818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4DA-5D54-43A0-8272-5F9958F7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CB0-4F7A-4747-9643-A5F65FE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616-7D22-4447-82EF-E0CF23B8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6FB-D4C8-4D1E-B710-6E648E00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260720" cy="5121000"/>
            <a:chOff x="0" y="0"/>
            <a:chExt cx="10260720" cy="5121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19640" cy="5121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49640" y="1488600"/>
              <a:ext cx="9811080" cy="191160"/>
              <a:chOff x="449640" y="1488600"/>
              <a:chExt cx="9811080" cy="191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8100720" y="1488600"/>
                <a:ext cx="2160000" cy="191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449640" y="1568520"/>
                <a:ext cx="98110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47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79640" y="6564240"/>
            <a:ext cx="234144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960720" y="6561000"/>
            <a:ext cx="351000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10000" y="656100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D72-1702-4114-B1EC-12763B091B2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5121360"/>
            <a:ext cx="720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10351080" cy="6239880"/>
            <a:chOff x="0" y="0"/>
            <a:chExt cx="10351080" cy="623988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2070000" cy="512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680280"/>
              <a:ext cx="10351080" cy="2559600"/>
              <a:chOff x="0" y="3680280"/>
              <a:chExt cx="10351080" cy="2559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1170000" y="3680280"/>
                <a:ext cx="9181080" cy="2559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226160" y="3920040"/>
                <a:ext cx="9034920" cy="2244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5120280"/>
                <a:ext cx="11700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749880" y="560160"/>
              <a:ext cx="9541440" cy="319320"/>
              <a:chOff x="749880" y="560160"/>
              <a:chExt cx="9541440" cy="3193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7410600" y="560160"/>
                <a:ext cx="2880720" cy="319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749880" y="719640"/>
                <a:ext cx="954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47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1077480" y="656424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962160" y="6561000"/>
            <a:ext cx="34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010000" y="656100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A0A-F17E-4F0F-9049-B142E84687B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5. &#1053;&#1072;&#1095;&#1072;&#1083;&#1086; &#1087;&#1077;&#1088;&#1074;&#1086;&#1081; &#1084;&#1080;&#1088;&#1086;&#1074;&#1086;&#1081; &#1074;&#1086;&#1081;&#1085;&#1099;" TargetMode="External"/><Relationship Id="rId2" Type="http://schemas.openxmlformats.org/officeDocument/2006/relationships/hyperlink" Target="file:///&#1052;&#1080;&#1088;&#1086;&#1074;&#1072;&#1103;%20&#1074;&#1086;&#1081;&#1085;&#1072;.ppt#5. &#1053;&#1072;&#1095;&#1072;&#1083;&#1086; &#1087;&#1077;&#1088;&#1074;&#1086;&#1081; &#1084;&#1080;&#1088;&#1086;&#1074;&#1086;&#1081; &#1074;&#1086;&#1081;&#1085;&#1099;" TargetMode="External"/><Relationship Id="rId3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4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5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6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I%20&#1052;&#1080;&#1088;&#1086;&#1074;&#1072;&#1103;%20&#1074;&#1086;&#1081;&#1085;&#1072;.ppt#9. &#1055;&#1086;&#1085;&#1103;&#1090;&#1080;&#1103;" TargetMode="External"/><Relationship Id="rId2" Type="http://schemas.openxmlformats.org/officeDocument/2006/relationships/hyperlink" Target="file:///&#1052;&#1080;&#1088;&#1086;&#1074;&#1072;&#1103;%20&#1074;&#1086;&#1081;&#1085;&#1072;.ppt#16. &#1055;&#1086;&#1085;&#1103;&#1090;&#1080;&#1103;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6. &#1055;&#1086;&#1085;&#1103;&#1090;&#1080;&#1103;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4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5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6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7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9721800" cy="217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Первая мировая война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Результаты и последствия войн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90720" y="21337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1" action="ppaction://hlinksldjump"/>
              </a:rPr>
              <a:t>Компьенское перемир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90720" y="2819520"/>
            <a:ext cx="480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2" action="ppaction://hlinksldjump"/>
              </a:rPr>
              <a:t>2.Брестск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90720" y="3505320"/>
            <a:ext cx="6095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3.Версаль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100" spc="-1" strike="noStrike">
                <a:solidFill>
                  <a:srgbClr val="330033"/>
                </a:solidFill>
                <a:latin typeface="Times New Roman"/>
              </a:rPr>
              <a:t>Компьенское перемир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10134720" cy="9144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Возвращение всех немецких войск в пределы Герм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362320" y="1523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ловия Компьенского переми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80880" y="2057400"/>
            <a:ext cx="1042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медленный вывод германских войск с западных оккупированных территорий и левого берега Р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80880" y="2743200"/>
            <a:ext cx="96775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Немедленная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 action="ppaction://hlinksldjump"/>
              </a:rPr>
              <a:t>репатриац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без взаимности всех военнопл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80880" y="3276720"/>
            <a:ext cx="9525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ступка германской армией следующего военного материала: 5тысяч пушек, 25тысяч пулемётов, 3тысячи миномётов и 1700 аэро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75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75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4500" spc="-1" strike="noStrike">
                <a:solidFill>
                  <a:srgbClr val="330033"/>
                </a:solidFill>
                <a:latin typeface="Times New Roman"/>
              </a:rPr>
              <a:t>Брестский мир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9651960" cy="453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аз России от территорий Эстонии, Ла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ADD4"/>
          <p:cNvPicPr/>
          <p:nvPr/>
        </p:nvPicPr>
        <p:blipFill>
          <a:blip r:embed="rId1"/>
          <a:stretch/>
        </p:blipFill>
        <p:spPr>
          <a:xfrm>
            <a:off x="2057400" y="3809880"/>
            <a:ext cx="6095880" cy="3240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57200" y="1905120"/>
            <a:ext cx="9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 российских войск из Финляндии, 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57200" y="2362320"/>
            <a:ext cx="9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озвращение Турци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постей Карс, Ардаган, Бат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57200" y="2819520"/>
            <a:ext cx="792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обилизация русской армии и ф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57200" y="3276720"/>
            <a:ext cx="784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Verdana"/>
                <a:hlinkClick r:id="rId2" action="ppaction://hlinksldjump"/>
              </a:rPr>
              <a:t>Контрибу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6млрд. м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75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425"/>
                            </p:stCondLst>
                            <p:childTnLst>
                              <p:par>
                                <p:cTn id="6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925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425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925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425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9280" y="291600"/>
            <a:ext cx="9181800" cy="776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Версальский мирный договор</a:t>
            </a:r>
            <a:r>
              <a:rPr b="0" lang="ru-RU" sz="21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28600" y="1066680"/>
            <a:ext cx="105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догов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3200400"/>
            <a:ext cx="10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Наложение на Германию военных ограничений – запрещалось иметь подводный флот, крупные надводные корабли, танковые соединения, военную и морскую авиацию, максимальная численность армии определялась в 100 тысяч человек. Всеобщая повинность отменяла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" y="1752480"/>
            <a:ext cx="10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рмания теряла 1/8 часть своей территории и все свои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колон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8600" y="2286000"/>
            <a:ext cx="9829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Германия должна была выплатить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 action="ppaction://hlinksldjump"/>
              </a:rPr>
              <a:t>репарац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бщей суммой 132млрд.золотых марок(52% - Франции, 22% - Великобритании, 10% - Италии, 8% - Бельгии)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28600" y="4495680"/>
            <a:ext cx="105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илитаризация Рейнской зоны. Оккупация Рейнской зоны войсками союзников сроком на 1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28600" y="525780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рмания признавалась виновницей развязывания миров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228600"/>
            <a:ext cx="10972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Тройственный союз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военно-политический союз, сложившийся в 1879г. союзом между Германией и Австро-Венгрией. В 1882г. к нему присоединилась Италия. Договор предусматривал совместные действия держав в случае нападения четвертой держ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2133720"/>
            <a:ext cx="10515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Компьенское перемирие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шение об окончании боевых действий и признании поражения Германии в первой миров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2743200"/>
            <a:ext cx="1080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Брестский мир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подписанный 3 марта 1918г. сепаратный мирный договор между Россией и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0" y="1447920"/>
            <a:ext cx="1080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7" action="ppaction://hlinksldjump"/>
              </a:rPr>
              <a:t>Брусиловский прорыв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8" action="ppaction://hlinksldjump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успешное наступление русских войск под командованием генерала А.А.Брусилоа, начавшееся 5 июня 19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0" y="342900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паратный мир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мир, заключенный государством отдельно от своих союзников, продолжающих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0" y="5105520"/>
            <a:ext cx="108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 Шлиффе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план ведения войны в Европе, разработанный начальником прусской армии Альфредом фон Шлиффеном в начале ХХ в. Основная цель плана – избежать войны на два фронта: с запада и вос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0" y="419112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зиционная вой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характеризовалась отсутствием манёвров войск, стабильной линией фронта. Главную роль играет артилл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0" y="63244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0" y="624852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парац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возмещение материального ущерба государством, совершившим нападение, государству, подвергшемуся напа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82600"/>
            <a:ext cx="108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ажение на Сом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первое крупное успешное наступление англо -французских войск, начавшееся осенью 1916г. Означало переход стратегической инициативы странам Антанты. В этой битве впервые были использованы т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1523880"/>
            <a:ext cx="108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итва на Марн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одна из первых крупных битв первой мировой войны, развернувшаяся на западном фронте на территории Франции в конце августа – начале сентября 1914г. Сражение привело к провалу плана германского наступления и обусловило затяжной характер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0" y="2819520"/>
            <a:ext cx="105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рденская мясоруб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кровопролитная битва у крепости Верден во Франции, начавшаяся 21 февраля 1916г. Сражение длилось около полугода и получило своё название в связи с тяжелейшими потерями с обеих сторон(было убито и ранено около миллиона челов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403848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рсальский мирный договор 1919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итоговый документ Парижской мирной конференции, завершивший первую мировую вой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495288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ский кризис 1914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международный кризис, вызванный убийством 28 июня 1914г. австрийского наследника эрцгерцога Франца Фердинанда в Сара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500" spc="-1" strike="noStrike">
                <a:solidFill>
                  <a:srgbClr val="330033"/>
                </a:solidFill>
                <a:latin typeface="Times New Roman"/>
              </a:rPr>
              <a:t>Основные характеристики Первой мировой войны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23640"/>
            <a:ext cx="10261440" cy="3762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99000"/>
          </a:bodyPr>
          <a:p>
            <a:pPr marL="67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олжительность – 1554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676520"/>
            <a:ext cx="105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стран-участниц – 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133720"/>
            <a:ext cx="1080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остав коалиций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глия, Франция, Россия, США и ещё 30 стран (Португалия, Сиам, Либерия, 14 латиноамериканских государств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ния, Австро-Венгия, Турция, Болгария(четверной союз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352680"/>
            <a:ext cx="899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нейтральных государств – 1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3809880"/>
            <a:ext cx="108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государств, на территории которых проходили военные действия – 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4648320"/>
            <a:ext cx="1043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населения стран-участниц войны – 50  млн.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5181480"/>
            <a:ext cx="990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мобилизованных – 74 млн. 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погибших – 10 млн. 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2952720" y="360360"/>
            <a:ext cx="4464000" cy="180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Балканы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чаг международной напря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>
            <a:off x="2952720" y="1728720"/>
            <a:ext cx="503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16000" y="2664000"/>
            <a:ext cx="4392360" cy="23763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76360" y="2879640"/>
            <a:ext cx="38876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08-1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Боснийский кризис», вызванный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аннексией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стро-Венгрией Боснии и Герцеговины при поддержке Герм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5905440" y="2521080"/>
            <a:ext cx="4464000" cy="22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6048360" y="1871640"/>
            <a:ext cx="792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624720" y="2879640"/>
            <a:ext cx="302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2-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лканские войны. Угроза общеевропейского конфли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3097080" y="4824360"/>
            <a:ext cx="4105440" cy="23767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384720" y="5329080"/>
            <a:ext cx="34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рьба европейских стран за турецкое наследство и влияние на политику на      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1368360" y="4896000"/>
            <a:ext cx="158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H="1">
            <a:off x="6840360" y="4824360"/>
            <a:ext cx="1368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431640" y="360360"/>
            <a:ext cx="151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3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25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75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75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25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75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25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10032840" cy="1066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Times New Roman"/>
              </a:rPr>
              <a:t>Начало первой мировой войны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76360" y="129708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Ан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056360" y="1297080"/>
            <a:ext cx="2320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Тройственный 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6480000" y="1944720"/>
            <a:ext cx="87660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8353440" y="1944720"/>
            <a:ext cx="914400" cy="54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0" y="2016000"/>
            <a:ext cx="863640" cy="571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6"/>
          <a:stretch/>
        </p:blipFill>
        <p:spPr>
          <a:xfrm>
            <a:off x="1728720" y="2016000"/>
            <a:ext cx="88920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7"/>
          <a:stretch/>
        </p:blipFill>
        <p:spPr>
          <a:xfrm>
            <a:off x="863640" y="2592360"/>
            <a:ext cx="87624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8"/>
          <a:stretch/>
        </p:blipFill>
        <p:spPr>
          <a:xfrm>
            <a:off x="7416720" y="2521080"/>
            <a:ext cx="863640" cy="576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/>
          <p:cNvSpPr/>
          <p:nvPr/>
        </p:nvSpPr>
        <p:spPr>
          <a:xfrm>
            <a:off x="3168720" y="1800360"/>
            <a:ext cx="2735280" cy="100800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313080" y="2087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087640" y="2952720"/>
            <a:ext cx="46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бийство в Сараево наследника австрийского пре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5 июня 19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0" y="4267080"/>
            <a:ext cx="9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июля (23 июля) Австро-Венгрия предъявила ультиматум Серб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0" y="1224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-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720720" y="3168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0" y="2664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1800360" y="26640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г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6264360" y="2592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7416720" y="3168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т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8353440" y="259236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стро-Венг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0" y="4648320"/>
            <a:ext cx="97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3 июля (26 июля) Сербия приняла большую часть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0" y="5029200"/>
            <a:ext cx="10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5 июля (28 июля) Австро-Венгрия объявила войну Серб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0" y="5410080"/>
            <a:ext cx="104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июля (1 августа) Германия объявила России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867280"/>
            <a:ext cx="104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1 июля (3 августа) Германия объявила Франции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0" y="6248520"/>
            <a:ext cx="9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2 июля (4августа) В войну вступила 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0" y="66294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6 июля (8 августа) Австро-Венгрия объявила войну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360" y="791640"/>
            <a:ext cx="3672000" cy="644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Франц Фердинанд и София</a:t>
            </a:r>
            <a:r>
              <a:rPr b="0" lang="ru-RU" sz="43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00360" y="6048000"/>
            <a:ext cx="4514760" cy="8636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аврило Принци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150px-Франц_Фердинанд_и_София"/>
          <p:cNvPicPr/>
          <p:nvPr/>
        </p:nvPicPr>
        <p:blipFill>
          <a:blip r:embed="rId1"/>
          <a:stretch/>
        </p:blipFill>
        <p:spPr>
          <a:xfrm>
            <a:off x="0" y="1368360"/>
            <a:ext cx="3457440" cy="540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150px-Gavrila_Princip"/>
          <p:cNvPicPr/>
          <p:nvPr/>
        </p:nvPicPr>
        <p:blipFill>
          <a:blip r:embed="rId2"/>
          <a:stretch/>
        </p:blipFill>
        <p:spPr>
          <a:xfrm>
            <a:off x="7201080" y="0"/>
            <a:ext cx="3163680" cy="583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31640" y="5545080"/>
            <a:ext cx="4515120" cy="892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/>
          </a:bodyPr>
          <a:p>
            <a:pPr marL="385920" indent="-38592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Цели воюющих держав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31640" y="1512720"/>
            <a:ext cx="865440" cy="574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3097080" y="1512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крушить Францию и Ро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2"/>
          <a:stretch/>
        </p:blipFill>
        <p:spPr>
          <a:xfrm>
            <a:off x="431640" y="2521080"/>
            <a:ext cx="936720" cy="57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863640" cy="50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5"/>
          <a:stretch/>
        </p:blipFill>
        <p:spPr>
          <a:xfrm>
            <a:off x="457200" y="6324480"/>
            <a:ext cx="792000" cy="4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39"/>
          <p:cNvSpPr/>
          <p:nvPr/>
        </p:nvSpPr>
        <p:spPr>
          <a:xfrm flipV="1">
            <a:off x="1447920" y="1676160"/>
            <a:ext cx="16761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3097080" y="1800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соединить к себе прибалтийские и польские земли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371600" y="1828800"/>
            <a:ext cx="1652760" cy="18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952720" y="2448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ить Французские колонии в Аф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1371600" y="1828800"/>
            <a:ext cx="1581120" cy="69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2952720" y="2808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сноваться на Ближнем Востоке и в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1371600" y="1828800"/>
            <a:ext cx="1581120" cy="1050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2952720" y="3240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чинить себе Балканские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1"/>
          <p:cNvSpPr/>
          <p:nvPr/>
        </p:nvSpPr>
        <p:spPr>
          <a:xfrm>
            <a:off x="1371600" y="2819520"/>
            <a:ext cx="158112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2952720" y="3816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ить проливы Босфор и Дардане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1295280" y="3809880"/>
            <a:ext cx="165744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4"/>
          <p:cNvSpPr/>
          <p:nvPr/>
        </p:nvSpPr>
        <p:spPr>
          <a:xfrm>
            <a:off x="2952720" y="43210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вердить своё господство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1295280" y="3809880"/>
            <a:ext cx="172908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6"/>
          <p:cNvSpPr/>
          <p:nvPr/>
        </p:nvSpPr>
        <p:spPr>
          <a:xfrm>
            <a:off x="2952720" y="4824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соединить все польские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>
            <a:off x="1368360" y="3887640"/>
            <a:ext cx="1584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2952720" y="5616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новить германскую экспан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9"/>
          <p:cNvSpPr/>
          <p:nvPr/>
        </p:nvSpPr>
        <p:spPr>
          <a:xfrm>
            <a:off x="1295280" y="3809880"/>
            <a:ext cx="1584360" cy="18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1"/>
          <p:cNvSpPr/>
          <p:nvPr/>
        </p:nvSpPr>
        <p:spPr>
          <a:xfrm>
            <a:off x="1371600" y="5410080"/>
            <a:ext cx="158112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2"/>
          <p:cNvSpPr/>
          <p:nvPr/>
        </p:nvSpPr>
        <p:spPr>
          <a:xfrm>
            <a:off x="2952720" y="61214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вращение Эльзиса, Лотарингии и захват Са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3"/>
          <p:cNvSpPr/>
          <p:nvPr/>
        </p:nvSpPr>
        <p:spPr>
          <a:xfrm>
            <a:off x="1295280" y="6553080"/>
            <a:ext cx="165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4"/>
          <p:cNvSpPr/>
          <p:nvPr/>
        </p:nvSpPr>
        <p:spPr>
          <a:xfrm>
            <a:off x="2952720" y="6553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здел турецк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6"/>
          <p:cNvSpPr/>
          <p:nvPr/>
        </p:nvSpPr>
        <p:spPr>
          <a:xfrm>
            <a:off x="1371600" y="5410080"/>
            <a:ext cx="158112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7"/>
          <p:cNvSpPr/>
          <p:nvPr/>
        </p:nvSpPr>
        <p:spPr>
          <a:xfrm flipV="1">
            <a:off x="1295280" y="576108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8"/>
          <p:cNvSpPr/>
          <p:nvPr/>
        </p:nvSpPr>
        <p:spPr>
          <a:xfrm flipV="1">
            <a:off x="1295280" y="6264360"/>
            <a:ext cx="165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9721800" cy="774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Основные боевые действия и события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160720" y="1297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24400" y="12970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точ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4480" y="1297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0" y="2016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2160720" y="1871640"/>
            <a:ext cx="3554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торжение Германии  в Бельгию, Францию по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«плану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 Шлиффена»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77080" y="1871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ступление русских войск в Восточной Пруссии и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5080" y="28796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2160720" y="2808360"/>
            <a:ext cx="3240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Битва на Марне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ход германских войск до реки Э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943600" y="281952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ступление русских войск из    Восточной Пру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26720" y="38876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ец 19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160720" y="3887640"/>
            <a:ext cx="35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от маневренной к позицио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160720" y="4608360"/>
            <a:ext cx="381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вое применение германским командованием боевых отравляющих веществ (хлор) в районе г.И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0" y="460836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ель-Май 19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019920" y="4648320"/>
            <a:ext cx="42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рыв германскими войсками    фронта в Галиции. Отступление    русс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55080" y="619272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012000" y="5943600"/>
            <a:ext cx="4789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билизация фронта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7"/>
              </a:rPr>
              <a:t>Позицио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4343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 –1915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3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3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75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75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75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75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74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575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075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575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75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575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75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575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60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рт 19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133720" y="304920"/>
            <a:ext cx="3241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Верденское сражение.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тландский морской 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2520" y="11523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нь-авг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6095880" y="1143000"/>
            <a:ext cx="433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Брусиловский проры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мецко-австрийского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194472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-авг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133720" y="1981080"/>
            <a:ext cx="3168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о-французское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наступление на Сом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первое применение 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35720" y="32400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ец 19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133720" y="3200400"/>
            <a:ext cx="339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Германии к стратегической обороне. План Гинден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2480" y="4537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ель 19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087640" y="4464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удачное наступление французов под Арра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6019920" y="44956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та Милюкова об участии России в войне до победног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83160" y="5400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-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133720" y="5410080"/>
            <a:ext cx="37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йские войска пытаются прорвать фронт Германии в р-не И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943600" y="5410080"/>
            <a:ext cx="38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 германскими войсками Риги, оккупация части Прибал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6 –1917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825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325"/>
                            </p:stCondLst>
                            <p:childTnLst>
                              <p:par>
                                <p:cTn id="5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825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325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75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75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075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952880" y="3808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мирие между Советской Россией и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2200" y="360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14120" y="122400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8г., з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968720" y="1152360"/>
            <a:ext cx="47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купация Бессарабии Румы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194472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рт-ию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728720" y="194472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ступление войск Германии на парижском направлении, использование войск, переброшенных с Восточного фронта(Аррас, Мар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0" y="4392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-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655640" y="4392720"/>
            <a:ext cx="3816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ее наступление войск Антанты. Поражение стран Четверного союз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Компьенское перемир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029200" y="1981080"/>
            <a:ext cx="533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Брестский мир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ду Германией и Ро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114800" y="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33:39Z</dcterms:created>
  <dc:creator>Ученик_</dc:creator>
  <dc:description/>
  <dc:language>en-US</dc:language>
  <cp:lastModifiedBy>Школа</cp:lastModifiedBy>
  <dcterms:modified xsi:type="dcterms:W3CDTF">2018-03-30T12:20:47Z</dcterms:modified>
  <cp:revision>58</cp:revision>
  <dc:subject/>
  <dc:title>Слайд 1</dc:title>
</cp:coreProperties>
</file>