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2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35FA-054F-4EF6-9E51-F661392BB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A14F-8C60-4723-90CE-4D44B494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8A5B-B418-47B7-A82F-8CAA274F9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EA83-1287-4E5C-B45D-ED05BCB5F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0E26-F848-45CB-999D-07EE496FD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DEC8-83E7-4E97-87E7-282CA2DE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3680-01D2-4ADA-BA60-33D51EDA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ABF0-6F5F-4920-9A26-0CE7FFB5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A68C-D704-4DFA-BF98-B298C3A8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0952-4D0D-42D3-8E8D-E667FCB4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CECD-782E-4614-AC7E-92675356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50E5-D3A9-44CB-88C6-061C7765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68FC-6055-41D6-9FFC-F5643CDC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2283-D1A7-42B8-9F71-56C8013C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EF2E-8B86-4854-AD19-2DD1B9EB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87EB-F453-4139-A01F-AE35BFC2B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67BDF-5EB5-4ADF-91BF-B1E9F10D2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6273-ADC8-4958-A365-0B0DFE4C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6288-81D6-4234-BDD2-9569C7D0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6DC9-5B70-4E06-8DEE-A7943A02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2E76-A63F-4654-8253-9DDBB5BE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9BA8-8589-461A-A420-DD38BD65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5DE7-6013-426A-8825-4B9E316B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3A3B-E91A-47CD-8679-5FB4F2FD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DEFB-F7B6-4FCE-884C-BA94BC6373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B601-1D67-46E0-9411-D23B22DEE3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ru/" TargetMode="External"/><Relationship Id="rId2" Type="http://schemas.openxmlformats.org/officeDocument/2006/relationships/hyperlink" Target="http://www.google.ru/" TargetMode="External"/><Relationship Id="rId3" Type="http://schemas.openxmlformats.org/officeDocument/2006/relationships/hyperlink" Target="http://www.google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280" y="3715920"/>
            <a:ext cx="8209080" cy="12495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marL="266760" indent="0" algn="ctr">
              <a:buNone/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omic Sans MS"/>
              </a:rPr>
              <a:t>«Госпожа Симметрия»</a:t>
            </a:r>
            <a:br>
              <a:rPr sz="4000"/>
            </a:br>
            <a:r>
              <a:rPr b="0" lang="ru-RU" sz="4000" spc="-1" strike="noStrike">
                <a:solidFill>
                  <a:srgbClr val="ff3300"/>
                </a:solidFill>
                <a:latin typeface="Comic Sans MS"/>
              </a:rPr>
              <a:t>Властвует ли симметрия над миром?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          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32360" y="587700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уководитель проекта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читель математики    Шипикова Анастасия Игоревн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629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omic Sans MS"/>
              </a:rPr>
              <a:t>В живой природе различают следующие виды симметрий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Винтовая (спиральная) симметрия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Винтовая симметрия есть симметрия относительно комбинации двух преобразований - поворота и переноса вдоль оси поворота, т.е. идёт перемещение вдоль оси винта и вокруг оси винта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8216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omic Sans MS"/>
              </a:rPr>
              <a:t>Примеры винтовой симметрии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3419640" y="4365720"/>
            <a:ext cx="2662200" cy="19605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"/>
          <p:cNvPicPr/>
          <p:nvPr/>
        </p:nvPicPr>
        <p:blipFill>
          <a:blip r:embed="rId2"/>
          <a:stretch/>
        </p:blipFill>
        <p:spPr>
          <a:xfrm>
            <a:off x="2124000" y="4292640"/>
            <a:ext cx="1444680" cy="10476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5"/>
          <p:cNvSpPr/>
          <p:nvPr/>
        </p:nvSpPr>
        <p:spPr>
          <a:xfrm>
            <a:off x="539640" y="1338120"/>
            <a:ext cx="7910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стречаются левые и правые винты. Примерами природных винтов являются: бивень нарвала  - левый винт; Раковина улитки - правый винт; рога памирского барана (один рог закручен по левой, а другой по правой спирали). Спиральная симметрия не бывает идеальной, например, раковина у моллюсков сужается или расширяется на конце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Picture 6" descr=""/>
          <p:cNvPicPr/>
          <p:nvPr/>
        </p:nvPicPr>
        <p:blipFill>
          <a:blip r:embed="rId3"/>
          <a:stretch/>
        </p:blipFill>
        <p:spPr>
          <a:xfrm>
            <a:off x="6804000" y="4365720"/>
            <a:ext cx="12952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6312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omic Sans MS"/>
              </a:rPr>
              <a:t>В живой природе различают следующие виды симметрий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Поворотная симметрия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Тело обладает поворотной симметрией, если при повороте на соответствующий угол все части фигуры совмещаются друг с другом. Ось, вокруг которой происходит вращение тела, называют осью симметрии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omic Sans MS"/>
              </a:rPr>
              <a:t>Примеры поворотной симметрии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900000" y="3645000"/>
            <a:ext cx="1952640" cy="180972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5"/>
          <p:cNvSpPr/>
          <p:nvPr/>
        </p:nvSpPr>
        <p:spPr>
          <a:xfrm>
            <a:off x="755640" y="1916280"/>
            <a:ext cx="79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воротная симметрия характерна для цветов. Смотря по тому, сколько раз совместится фигура сама с собой при одном полном повороте вокруг оси, ось симметрии имеет различный порядок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Picture 6" descr=""/>
          <p:cNvPicPr/>
          <p:nvPr/>
        </p:nvPicPr>
        <p:blipFill>
          <a:blip r:embed="rId2"/>
          <a:stretch/>
        </p:blipFill>
        <p:spPr>
          <a:xfrm>
            <a:off x="3564000" y="3645000"/>
            <a:ext cx="1639800" cy="1800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"/>
          <p:cNvPicPr/>
          <p:nvPr/>
        </p:nvPicPr>
        <p:blipFill>
          <a:blip r:embed="rId3"/>
          <a:stretch/>
        </p:blipFill>
        <p:spPr>
          <a:xfrm>
            <a:off x="5940360" y="3645000"/>
            <a:ext cx="2087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Заключени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00712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аким образом, симметрия проявляется в природе очень часто и играет огромную роль у растений и животных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Библиограф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00748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Фестиваль педагогических идей «Открытый урок» -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электронный ресурс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/ режим доступа </a:t>
            </a: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festival.1september.ru/articles/41349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чебный проект Госпожа Симметрия –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электронный ресурс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/ режим доступа </a:t>
            </a: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http://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wiki.iteach.ru/Учебный_проект_Госпожа_ Симметрия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артинки по запросу Симметрия в природе -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электронный ресурс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/ режим доступа </a:t>
            </a: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http://www.google.r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Гипотез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едположим, что симметрия очень часто встречается в природе и играет огромную роль у растений и животных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Цели и задач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69608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Цель: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Научить различать многообразные проявления симметрии в окружающем мир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717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учить различать виды симметрии в окружающем мире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717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учить определять ось и центр симметрии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История</a:t>
            </a:r>
            <a:r>
              <a:rPr b="0" lang="ru-RU" sz="4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вопрос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78483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древности слово </a:t>
            </a: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«симметрия»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употреблялось как «гармония», «красота»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Симметрия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гр.) – соразмерность, пропорциональность, закономерность, одинаковость в расположении частей, регулярная повторяемост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Симметрия в природ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4" descr="мор зв"/>
          <p:cNvPicPr/>
          <p:nvPr/>
        </p:nvPicPr>
        <p:blipFill>
          <a:blip r:embed="rId1"/>
          <a:stretch/>
        </p:blipFill>
        <p:spPr>
          <a:xfrm>
            <a:off x="7380360" y="5084640"/>
            <a:ext cx="1162080" cy="1382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бабочка 2"/>
          <p:cNvPicPr/>
          <p:nvPr/>
        </p:nvPicPr>
        <p:blipFill>
          <a:blip r:embed="rId2"/>
          <a:stretch/>
        </p:blipFill>
        <p:spPr>
          <a:xfrm>
            <a:off x="3780000" y="5084640"/>
            <a:ext cx="2162160" cy="1440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S00024I"/>
          <p:cNvPicPr/>
          <p:nvPr/>
        </p:nvPicPr>
        <p:blipFill>
          <a:blip r:embed="rId3"/>
          <a:stretch/>
        </p:blipFill>
        <p:spPr>
          <a:xfrm>
            <a:off x="5435640" y="1197000"/>
            <a:ext cx="2681280" cy="1935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"/>
          <p:cNvPicPr/>
          <p:nvPr/>
        </p:nvPicPr>
        <p:blipFill>
          <a:blip r:embed="rId4"/>
          <a:stretch/>
        </p:blipFill>
        <p:spPr>
          <a:xfrm>
            <a:off x="5508720" y="3451320"/>
            <a:ext cx="1727280" cy="1469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5" descr=""/>
          <p:cNvPicPr/>
          <p:nvPr/>
        </p:nvPicPr>
        <p:blipFill>
          <a:blip r:embed="rId5"/>
          <a:stretch/>
        </p:blipFill>
        <p:spPr>
          <a:xfrm>
            <a:off x="684360" y="4146480"/>
            <a:ext cx="1366560" cy="1366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6" descr=""/>
          <p:cNvPicPr/>
          <p:nvPr/>
        </p:nvPicPr>
        <p:blipFill>
          <a:blip r:embed="rId6"/>
          <a:stretch/>
        </p:blipFill>
        <p:spPr>
          <a:xfrm>
            <a:off x="2050920" y="5516640"/>
            <a:ext cx="1511280" cy="100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7" descr=""/>
          <p:cNvPicPr/>
          <p:nvPr/>
        </p:nvPicPr>
        <p:blipFill>
          <a:blip r:embed="rId7"/>
          <a:stretch/>
        </p:blipFill>
        <p:spPr>
          <a:xfrm>
            <a:off x="2484360" y="1198440"/>
            <a:ext cx="2519280" cy="1889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8" descr=""/>
          <p:cNvPicPr/>
          <p:nvPr/>
        </p:nvPicPr>
        <p:blipFill>
          <a:blip r:embed="rId8"/>
          <a:stretch/>
        </p:blipFill>
        <p:spPr>
          <a:xfrm>
            <a:off x="684360" y="2565360"/>
            <a:ext cx="1366560" cy="12668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9" descr=""/>
          <p:cNvPicPr/>
          <p:nvPr/>
        </p:nvPicPr>
        <p:blipFill>
          <a:blip r:embed="rId9"/>
          <a:stretch/>
        </p:blipFill>
        <p:spPr>
          <a:xfrm>
            <a:off x="755640" y="1052640"/>
            <a:ext cx="1368360" cy="1171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0" descr=""/>
          <p:cNvPicPr/>
          <p:nvPr/>
        </p:nvPicPr>
        <p:blipFill>
          <a:blip r:embed="rId10"/>
          <a:srcRect l="0" t="0" r="0" b="19105"/>
          <a:stretch/>
        </p:blipFill>
        <p:spPr>
          <a:xfrm>
            <a:off x="3851280" y="3429000"/>
            <a:ext cx="1432080" cy="1512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1" descr=""/>
          <p:cNvPicPr/>
          <p:nvPr/>
        </p:nvPicPr>
        <p:blipFill>
          <a:blip r:embed="rId11"/>
          <a:stretch/>
        </p:blipFill>
        <p:spPr>
          <a:xfrm>
            <a:off x="2411280" y="3429000"/>
            <a:ext cx="1211400" cy="18223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3" descr=""/>
          <p:cNvPicPr/>
          <p:nvPr/>
        </p:nvPicPr>
        <p:blipFill>
          <a:blip r:embed="rId12"/>
          <a:stretch/>
        </p:blipFill>
        <p:spPr>
          <a:xfrm>
            <a:off x="7380360" y="3429000"/>
            <a:ext cx="1128600" cy="1441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5" descr=""/>
          <p:cNvPicPr/>
          <p:nvPr/>
        </p:nvPicPr>
        <p:blipFill>
          <a:blip r:embed="rId13"/>
          <a:stretch/>
        </p:blipFill>
        <p:spPr>
          <a:xfrm>
            <a:off x="6084720" y="5084640"/>
            <a:ext cx="1238400" cy="14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1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2000" fill="hold"/>
                                        <p:tgtEl>
                                          <p:spTgt spid="1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1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6312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omic Sans MS"/>
              </a:rPr>
              <a:t>В живой природе различают следующие виды симметрий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11280" y="1828800"/>
            <a:ext cx="8137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Лучевая симметрия (лучистая, радиальная)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Расположение частей тела, позволяет его разделить на 2 равные, зеркально отражающие друг друга половины в нескольких плоскостях. Обычно органы таких существ расположены радиальн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799164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omic Sans MS"/>
              </a:rPr>
              <a:t>Примеры лучевой симметрии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учевая симметрия характерна для малоподвижных и прикрепленных форм (лучевые кораллы, гидра, медузы, актинии). Значение лучевой симметрии: сидячее животное окружено со всех боковых сторон одинаковой средою и должно вступать во взаимоотношения с этой средой при помощи одинаковых, повторяющихся в радиальных направлениях органов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1979640" y="4724280"/>
            <a:ext cx="1727280" cy="14162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2"/>
          <a:stretch/>
        </p:blipFill>
        <p:spPr>
          <a:xfrm>
            <a:off x="4140360" y="4724280"/>
            <a:ext cx="1728720" cy="1386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6300720" y="4724280"/>
            <a:ext cx="1871640" cy="13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6312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omic Sans MS"/>
              </a:rPr>
              <a:t>В живой природе различают следующие виды симметрий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Билатеральная (двусторонняя) осевая симметрия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лат. би - два, латералис - боковой). Расположение частей тела, позволяет разделить его на 2 равные, зеркально отражающие друг друга половины лишь одной плоскостью. Эта плоскость носит название оси симметр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omic Sans MS"/>
              </a:rPr>
              <a:t>Примеры двусторонней симметрии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755640" y="4076640"/>
            <a:ext cx="2370240" cy="13557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"/>
          <p:cNvPicPr/>
          <p:nvPr/>
        </p:nvPicPr>
        <p:blipFill>
          <a:blip r:embed="rId2"/>
          <a:srcRect l="0" t="0" r="0" b="41914"/>
          <a:stretch/>
        </p:blipFill>
        <p:spPr>
          <a:xfrm>
            <a:off x="6012000" y="4581360"/>
            <a:ext cx="2662200" cy="1727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2" descr="Безымянный"/>
          <p:cNvPicPr/>
          <p:nvPr/>
        </p:nvPicPr>
        <p:blipFill>
          <a:blip r:embed="rId3"/>
          <a:srcRect l="0" t="0" r="73615" b="69256"/>
          <a:stretch/>
        </p:blipFill>
        <p:spPr>
          <a:xfrm>
            <a:off x="3635280" y="4581360"/>
            <a:ext cx="2016360" cy="17622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3"/>
          <p:cNvSpPr/>
          <p:nvPr/>
        </p:nvSpPr>
        <p:spPr>
          <a:xfrm>
            <a:off x="684360" y="1844640"/>
            <a:ext cx="79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акой тип организации характерен для большинства беспозвоночных, в особенности для кольчатых червей и для членистоногих - ракообразных, паукообразных, насекомых, бабочек; для позвоночных – рыб, птиц, млекопитающи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06:45:07Z</dcterms:created>
  <dc:creator>Вязова  Оксана </dc:creator>
  <dc:description/>
  <dc:language>en-US</dc:language>
  <cp:lastModifiedBy>kms_home</cp:lastModifiedBy>
  <dcterms:modified xsi:type="dcterms:W3CDTF">2018-03-24T10:51:30Z</dcterms:modified>
  <cp:revision>31</cp:revision>
  <dc:subject/>
  <dc:title>О симметр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04000000000001024140</vt:lpwstr>
  </property>
</Properties>
</file>