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17.jpeg" ContentType="image/jpeg"/>
  <Override PartName="/ppt/media/image14.png" ContentType="image/png"/>
  <Override PartName="/ppt/media/image16.png" ContentType="image/png"/>
  <Override PartName="/ppt/media/image2.jpeg" ContentType="image/jpeg"/>
  <Override PartName="/ppt/media/image3.jpeg" ContentType="image/jpeg"/>
  <Override PartName="/ppt/media/image15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7E725-FD19-48E1-9F61-6C2A8B190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BDCE4-366D-4705-9E68-7F4CA948F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A80B1-6A70-4F10-9A4B-34AB3322C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284D3-425F-48E5-B419-EF4B09DEE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CB095-9CB9-4958-B648-39BDAB86B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B6944-2285-43BA-AB68-4C3752048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B9AD2-99EA-4D3C-8C38-B850E1238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2F83A-D051-4328-A3EC-279CB357F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8D5C8-5482-4FA0-8222-9C9FB1010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D5082-A399-4A50-906D-F34733133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66F09-2906-440C-9D25-BF7DD1D29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6D762-DDCE-4350-9A5E-A9190200A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A6043-62B6-4BDD-B30B-DF73286BA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909A2-AA16-4925-B3A6-4B488B78D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DE99C-88B1-441F-8D06-04CAF0617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F0556-E927-4107-BB86-32FA2882D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46A70-27E7-48C5-B8A0-CCE7CBD8C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2AF29-8415-45A3-9AC8-50A251FB0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BF7B4-235C-49E9-80D0-0FB92EC36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2925A-0579-4F9D-93AB-BE8855736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015DB-9D86-4D91-B562-75906FEDF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85D34-BE25-4BB8-8B01-72CDCE693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CD18F-6256-426B-8014-3E6456274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14DB5-C3E5-4194-A8E6-8C0ABC46A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C16D6-9F2D-47BD-B395-10E80B13F8A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>
                    <a:gd name="textAreaLeft" fmla="*/ 0 w 243000"/>
                    <a:gd name="textAreaRight" fmla="*/ 243360 w 24300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>
                    <a:gd name="textAreaLeft" fmla="*/ 0 w 427320"/>
                    <a:gd name="textAreaRight" fmla="*/ 427680 w 427320"/>
                    <a:gd name="textAreaTop" fmla="*/ 0 h 695160"/>
                    <a:gd name="textAreaBottom" fmla="*/ 695520 h 69516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>
                    <a:gd name="textAreaLeft" fmla="*/ 0 w 801720"/>
                    <a:gd name="textAreaRight" fmla="*/ 802080 w 80172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>
                    <a:gd name="textAreaLeft" fmla="*/ 0 w 1203480"/>
                    <a:gd name="textAreaRight" fmla="*/ 1203840 w 120348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>
                    <a:gd name="textAreaLeft" fmla="*/ 0 w 268200"/>
                    <a:gd name="textAreaRight" fmla="*/ 268560 w 26820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>
                    <a:gd name="textAreaLeft" fmla="*/ 0 w 287640"/>
                    <a:gd name="textAreaRight" fmla="*/ 288000 w 28764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>
                    <a:gd name="textAreaLeft" fmla="*/ 0 w 287280"/>
                    <a:gd name="textAreaRight" fmla="*/ 287640 w 28728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>
                    <a:gd name="textAreaLeft" fmla="*/ 0 w 284040"/>
                    <a:gd name="textAreaRight" fmla="*/ 284400 w 284040"/>
                    <a:gd name="textAreaTop" fmla="*/ 0 h 218880"/>
                    <a:gd name="textAreaBottom" fmla="*/ 219240 h 21888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5120"/>
                <a:gd name="textAreaBottom" fmla="*/ 465480 h 46512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60440"/>
                <a:gd name="textAreaBottom" fmla="*/ 460800 h 46044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>
                <a:gd name="textAreaLeft" fmla="*/ 0 w 660600"/>
                <a:gd name="textAreaRight" fmla="*/ 660960 w 660600"/>
                <a:gd name="textAreaTop" fmla="*/ 0 h 420840"/>
                <a:gd name="textAreaBottom" fmla="*/ 421200 h 4208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840"/>
                  <a:gd name="textAreaBottom" fmla="*/ 97200 h 9684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3920"/>
                  <a:gd name="textAreaBottom" fmla="*/ 494280 h 4939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9360"/>
                  <a:gd name="textAreaBottom" fmla="*/ 279720 h 27936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87560"/>
                  <a:gd name="textAreaBottom" fmla="*/ 187920 h 18756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D6D9F-1F73-411A-8D7E-DAFE8A41404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3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google.ru/" TargetMode="External"/><Relationship Id="rId2" Type="http://schemas.openxmlformats.org/officeDocument/2006/relationships/hyperlink" Target="http://www.google.ru/" TargetMode="External"/><Relationship Id="rId3" Type="http://schemas.openxmlformats.org/officeDocument/2006/relationships/hyperlink" Target="http://www.google.ru/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39280" y="3715920"/>
            <a:ext cx="8209080" cy="124956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marL="266760" indent="0" algn="ctr">
              <a:buNone/>
              <a:tabLst>
                <a:tab algn="l" pos="0"/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Comic Sans MS"/>
              </a:rPr>
              <a:t>«Госпожа Симметрия»</a:t>
            </a:r>
            <a:br>
              <a:rPr sz="4000"/>
            </a:br>
            <a:r>
              <a:rPr b="0" lang="ru-RU" sz="4000" spc="-1" strike="noStrike">
                <a:solidFill>
                  <a:srgbClr val="ff3300"/>
                </a:solidFill>
                <a:latin typeface="Comic Sans MS"/>
              </a:rPr>
              <a:t>Властвует ли симметрия над миром?</a:t>
            </a:r>
            <a:r>
              <a:rPr b="0" lang="ru-RU" sz="4000" spc="-1" strike="noStrike">
                <a:solidFill>
                  <a:srgbClr val="ff0000"/>
                </a:solidFill>
                <a:latin typeface="Comic Sans MS"/>
              </a:rPr>
              <a:t>             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TextBox 4"/>
          <p:cNvSpPr/>
          <p:nvPr/>
        </p:nvSpPr>
        <p:spPr>
          <a:xfrm>
            <a:off x="4932360" y="5877000"/>
            <a:ext cx="381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Руководитель проекта: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учитель математики    Шипикова Анастасия Игоревн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806292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Comic Sans MS"/>
              </a:rPr>
              <a:t>В живой природе различают следующие виды симметрий: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Comic Sans MS"/>
              </a:rPr>
              <a:t>Винтовая (спиральная) симметрия.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Винтовая симметрия есть симметрия относительно комбинации двух преобразований - поворота и переноса вдоль оси поворота, т.е. идёт перемещение вдоль оси винта и вокруг оси винта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79280" y="620280"/>
            <a:ext cx="828216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Comic Sans MS"/>
              </a:rPr>
              <a:t>Примеры винтовой симметрии: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0" name="Picture 3" descr=""/>
          <p:cNvPicPr/>
          <p:nvPr/>
        </p:nvPicPr>
        <p:blipFill>
          <a:blip r:embed="rId1"/>
          <a:stretch/>
        </p:blipFill>
        <p:spPr>
          <a:xfrm>
            <a:off x="3419640" y="4365720"/>
            <a:ext cx="2662200" cy="196056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4" descr=""/>
          <p:cNvPicPr/>
          <p:nvPr/>
        </p:nvPicPr>
        <p:blipFill>
          <a:blip r:embed="rId2"/>
          <a:stretch/>
        </p:blipFill>
        <p:spPr>
          <a:xfrm>
            <a:off x="2124000" y="4292640"/>
            <a:ext cx="1444680" cy="1047600"/>
          </a:xfrm>
          <a:prstGeom prst="rect">
            <a:avLst/>
          </a:prstGeom>
          <a:ln w="0">
            <a:noFill/>
          </a:ln>
        </p:spPr>
      </p:pic>
      <p:sp>
        <p:nvSpPr>
          <p:cNvPr id="192" name="Rectangle 5"/>
          <p:cNvSpPr/>
          <p:nvPr/>
        </p:nvSpPr>
        <p:spPr>
          <a:xfrm>
            <a:off x="539640" y="1338120"/>
            <a:ext cx="79106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Встречаются левые и правые винты. Примерами природных винтов являются: бивень нарвала  - левый винт; Раковина улитки - правый винт; рога памирского барана (один рог закручен по левой, а другой по правой спирали). Спиральная симметрия не бывает идеальной, например, раковина у моллюсков сужается или расширяется на конце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3" name="Picture 6" descr=""/>
          <p:cNvPicPr/>
          <p:nvPr/>
        </p:nvPicPr>
        <p:blipFill>
          <a:blip r:embed="rId3"/>
          <a:stretch/>
        </p:blipFill>
        <p:spPr>
          <a:xfrm>
            <a:off x="6804000" y="4365720"/>
            <a:ext cx="129528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63128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Comic Sans MS"/>
              </a:rPr>
              <a:t>В живой природе различают следующие виды симметрий: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Comic Sans MS"/>
              </a:rPr>
              <a:t>Поворотная симметрия.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Тело обладает поворотной симметрией, если при повороте на соответствующий угол все части фигуры совмещаются друг с другом. Ось, вокруг которой происходит вращение тела, называют осью симметрии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Comic Sans MS"/>
              </a:rPr>
              <a:t>Примеры поворотной симметрии: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7" name="Picture 4" descr=""/>
          <p:cNvPicPr/>
          <p:nvPr/>
        </p:nvPicPr>
        <p:blipFill>
          <a:blip r:embed="rId1"/>
          <a:stretch/>
        </p:blipFill>
        <p:spPr>
          <a:xfrm>
            <a:off x="900000" y="3645000"/>
            <a:ext cx="1952640" cy="1809720"/>
          </a:xfrm>
          <a:prstGeom prst="rect">
            <a:avLst/>
          </a:prstGeom>
          <a:ln w="0">
            <a:noFill/>
          </a:ln>
        </p:spPr>
      </p:pic>
      <p:sp>
        <p:nvSpPr>
          <p:cNvPr id="198" name="Rectangle 5"/>
          <p:cNvSpPr/>
          <p:nvPr/>
        </p:nvSpPr>
        <p:spPr>
          <a:xfrm>
            <a:off x="755640" y="1916280"/>
            <a:ext cx="7920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оворотная симметрия характерна для цветов. Смотря по тому, сколько раз совместится фигура сама с собой при одном полном повороте вокруг оси, ось симметрии имеет различный порядок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9" name="Picture 6" descr=""/>
          <p:cNvPicPr/>
          <p:nvPr/>
        </p:nvPicPr>
        <p:blipFill>
          <a:blip r:embed="rId2"/>
          <a:stretch/>
        </p:blipFill>
        <p:spPr>
          <a:xfrm>
            <a:off x="3564000" y="3645000"/>
            <a:ext cx="1639800" cy="180000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7" descr=""/>
          <p:cNvPicPr/>
          <p:nvPr/>
        </p:nvPicPr>
        <p:blipFill>
          <a:blip r:embed="rId3"/>
          <a:stretch/>
        </p:blipFill>
        <p:spPr>
          <a:xfrm>
            <a:off x="5940360" y="3645000"/>
            <a:ext cx="208764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0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Comic Sans MS"/>
              </a:rPr>
              <a:t>Заключение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4360" y="1412640"/>
            <a:ext cx="8007120" cy="24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Таким образом, симметрия проявляется в природе очень часто и играет огромную роль у растений и животных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3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0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Comic Sans MS"/>
              </a:rPr>
              <a:t>Библиография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39280" y="1267920"/>
            <a:ext cx="8007480" cy="468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Фестиваль педагогических идей «Открытый урок» -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[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электронный ресурс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]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/ режим доступа </a:t>
            </a:r>
            <a:r>
              <a:rPr b="0" lang="ru-RU" sz="2000" spc="-1" strike="noStrike" u="sng">
                <a:solidFill>
                  <a:srgbClr val="00b200"/>
                </a:solidFill>
                <a:uFillTx/>
                <a:latin typeface="Comic Sans MS"/>
                <a:hlinkClick r:id="rId1"/>
              </a:rPr>
              <a:t>http://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festival.1september.ru/articles/413490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Учебный проект Госпожа Симметрия –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[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электронный ресурс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]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/ режим доступа </a:t>
            </a:r>
            <a:r>
              <a:rPr b="0" lang="ru-RU" sz="2000" spc="-1" strike="noStrike" u="sng">
                <a:solidFill>
                  <a:srgbClr val="00b200"/>
                </a:solidFill>
                <a:uFillTx/>
                <a:latin typeface="Comic Sans MS"/>
                <a:hlinkClick r:id="rId2"/>
              </a:rPr>
              <a:t>http://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wiki.iteach.ru/Учебный_проект_Госпожа_ Симметрия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Картинки по запросу Симметрия в природе -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[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электронный ресурс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]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/ режим доступа </a:t>
            </a:r>
            <a:r>
              <a:rPr b="0" lang="ru-RU" sz="2000" spc="-1" strike="noStrike" u="sng">
                <a:solidFill>
                  <a:srgbClr val="00b200"/>
                </a:solidFill>
                <a:uFillTx/>
                <a:latin typeface="Comic Sans MS"/>
                <a:hlinkClick r:id="rId3"/>
              </a:rPr>
              <a:t>http://www.google.ru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5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75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Comic Sans MS"/>
              </a:rPr>
              <a:t>Гипотеза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4360" y="134136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редположим, что симметрия очень часто встречается в природе и играет огромную роль у растений и животных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75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Comic Sans MS"/>
              </a:rPr>
              <a:t>Цели и задачи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980640"/>
            <a:ext cx="7696080" cy="450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Comic Sans MS"/>
              </a:rPr>
              <a:t>Цель: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Научить различать многообразные проявления симметрии в окружающем мире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Comic Sans MS"/>
              </a:rPr>
              <a:t>Задачи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indent="717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Научить различать виды симметрии в окружающем мире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indent="717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Научить определять ось и центр симметрии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82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Comic Sans MS"/>
              </a:rPr>
              <a:t>История</a:t>
            </a:r>
            <a:r>
              <a:rPr b="0" lang="ru-RU" sz="40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1" lang="ru-RU" sz="4000" spc="-1" strike="noStrike">
                <a:solidFill>
                  <a:srgbClr val="0000ff"/>
                </a:solidFill>
                <a:latin typeface="Comic Sans MS"/>
              </a:rPr>
              <a:t>вопроса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4000" y="1341360"/>
            <a:ext cx="784836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 древности слово </a:t>
            </a:r>
            <a:r>
              <a:rPr b="1" lang="ru-RU" sz="3200" spc="-1" strike="noStrike">
                <a:solidFill>
                  <a:srgbClr val="0000ff"/>
                </a:solidFill>
                <a:latin typeface="Comic Sans MS"/>
              </a:rPr>
              <a:t>«симметрия»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употреблялось как «гармония», «красота»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Comic Sans MS"/>
              </a:rPr>
              <a:t>Симметрия</a:t>
            </a:r>
            <a:r>
              <a:rPr b="0" lang="ru-RU" sz="32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(гр.) – соразмерность, пропорциональность, закономерность, одинаковость в расположении частей, регулярная повторяемость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82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Comic Sans MS"/>
              </a:rPr>
              <a:t>Симметрия в природе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0" name="Picture 4" descr="мор зв"/>
          <p:cNvPicPr/>
          <p:nvPr/>
        </p:nvPicPr>
        <p:blipFill>
          <a:blip r:embed="rId1"/>
          <a:stretch/>
        </p:blipFill>
        <p:spPr>
          <a:xfrm>
            <a:off x="7380360" y="5084640"/>
            <a:ext cx="1162080" cy="13827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6" descr="бабочка 2"/>
          <p:cNvPicPr/>
          <p:nvPr/>
        </p:nvPicPr>
        <p:blipFill>
          <a:blip r:embed="rId2"/>
          <a:stretch/>
        </p:blipFill>
        <p:spPr>
          <a:xfrm>
            <a:off x="3780000" y="5084640"/>
            <a:ext cx="2162160" cy="14400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0" descr="S00024I"/>
          <p:cNvPicPr/>
          <p:nvPr/>
        </p:nvPicPr>
        <p:blipFill>
          <a:blip r:embed="rId3"/>
          <a:stretch/>
        </p:blipFill>
        <p:spPr>
          <a:xfrm>
            <a:off x="5435640" y="1197000"/>
            <a:ext cx="2681280" cy="19350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4" descr=""/>
          <p:cNvPicPr/>
          <p:nvPr/>
        </p:nvPicPr>
        <p:blipFill>
          <a:blip r:embed="rId4"/>
          <a:stretch/>
        </p:blipFill>
        <p:spPr>
          <a:xfrm>
            <a:off x="5508720" y="3451320"/>
            <a:ext cx="1727280" cy="146988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5" descr=""/>
          <p:cNvPicPr/>
          <p:nvPr/>
        </p:nvPicPr>
        <p:blipFill>
          <a:blip r:embed="rId5"/>
          <a:stretch/>
        </p:blipFill>
        <p:spPr>
          <a:xfrm>
            <a:off x="684360" y="4146480"/>
            <a:ext cx="1366560" cy="13669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6" descr=""/>
          <p:cNvPicPr/>
          <p:nvPr/>
        </p:nvPicPr>
        <p:blipFill>
          <a:blip r:embed="rId6"/>
          <a:stretch/>
        </p:blipFill>
        <p:spPr>
          <a:xfrm>
            <a:off x="2050920" y="5516640"/>
            <a:ext cx="1511280" cy="10080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7" descr=""/>
          <p:cNvPicPr/>
          <p:nvPr/>
        </p:nvPicPr>
        <p:blipFill>
          <a:blip r:embed="rId7"/>
          <a:stretch/>
        </p:blipFill>
        <p:spPr>
          <a:xfrm>
            <a:off x="2484360" y="1198440"/>
            <a:ext cx="2519280" cy="188928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8" descr=""/>
          <p:cNvPicPr/>
          <p:nvPr/>
        </p:nvPicPr>
        <p:blipFill>
          <a:blip r:embed="rId8"/>
          <a:stretch/>
        </p:blipFill>
        <p:spPr>
          <a:xfrm>
            <a:off x="684360" y="2565360"/>
            <a:ext cx="1366560" cy="12668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9" descr=""/>
          <p:cNvPicPr/>
          <p:nvPr/>
        </p:nvPicPr>
        <p:blipFill>
          <a:blip r:embed="rId9"/>
          <a:stretch/>
        </p:blipFill>
        <p:spPr>
          <a:xfrm>
            <a:off x="755640" y="1052640"/>
            <a:ext cx="1368360" cy="117144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20" descr=""/>
          <p:cNvPicPr/>
          <p:nvPr/>
        </p:nvPicPr>
        <p:blipFill>
          <a:blip r:embed="rId10"/>
          <a:srcRect l="0" t="0" r="0" b="19105"/>
          <a:stretch/>
        </p:blipFill>
        <p:spPr>
          <a:xfrm>
            <a:off x="3851280" y="3429000"/>
            <a:ext cx="1432080" cy="151272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21" descr=""/>
          <p:cNvPicPr/>
          <p:nvPr/>
        </p:nvPicPr>
        <p:blipFill>
          <a:blip r:embed="rId11"/>
          <a:stretch/>
        </p:blipFill>
        <p:spPr>
          <a:xfrm>
            <a:off x="2411280" y="3429000"/>
            <a:ext cx="1211400" cy="182232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23" descr=""/>
          <p:cNvPicPr/>
          <p:nvPr/>
        </p:nvPicPr>
        <p:blipFill>
          <a:blip r:embed="rId12"/>
          <a:stretch/>
        </p:blipFill>
        <p:spPr>
          <a:xfrm>
            <a:off x="7380360" y="3429000"/>
            <a:ext cx="1128600" cy="144144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25" descr=""/>
          <p:cNvPicPr/>
          <p:nvPr/>
        </p:nvPicPr>
        <p:blipFill>
          <a:blip r:embed="rId13"/>
          <a:stretch/>
        </p:blipFill>
        <p:spPr>
          <a:xfrm>
            <a:off x="6084720" y="5084640"/>
            <a:ext cx="1238400" cy="1433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" dur="2000" fill="hold"/>
                                        <p:tgtEl>
                                          <p:spTgt spid="16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2" dur="2000" fill="hold"/>
                                        <p:tgtEl>
                                          <p:spTgt spid="16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6" dur="2000" fill="hold"/>
                                        <p:tgtEl>
                                          <p:spTgt spid="16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763128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Comic Sans MS"/>
              </a:rPr>
              <a:t>В живой природе различают следующие виды симметрий: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11280" y="1828800"/>
            <a:ext cx="813744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Comic Sans MS"/>
              </a:rPr>
              <a:t>Лучевая симметрия (лучистая, радиальная).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Расположение частей тела, позволяет его разделить на 2 равные, зеркально отражающие друг друга половины в нескольких плоскостях. Обычно органы таких существ расположены радиально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94920" y="404280"/>
            <a:ext cx="7991640" cy="87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Comic Sans MS"/>
              </a:rPr>
              <a:t>Примеры лучевой симметрии: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4360" y="148428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Лучевая симметрия характерна для малоподвижных и прикрепленных форм (лучевые кораллы, гидра, медузы, актинии). Значение лучевой симметрии: сидячее животное окружено со всех боковых сторон одинаковой средою и должно вступать во взаимоотношения с этой средой при помощи одинаковых, повторяющихся в радиальных направлениях органов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1979640" y="4724280"/>
            <a:ext cx="1727280" cy="14162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"/>
          <p:cNvPicPr/>
          <p:nvPr/>
        </p:nvPicPr>
        <p:blipFill>
          <a:blip r:embed="rId2"/>
          <a:stretch/>
        </p:blipFill>
        <p:spPr>
          <a:xfrm>
            <a:off x="4140360" y="4724280"/>
            <a:ext cx="1728720" cy="13860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6300720" y="4724280"/>
            <a:ext cx="1871640" cy="139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63128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Comic Sans MS"/>
              </a:rPr>
              <a:t>В живой природе различают следующие виды симметрий: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Comic Sans MS"/>
              </a:rPr>
              <a:t>Билатеральная (двусторонняя) осевая симметрия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(лат. би - два, латералис - боковой). Расположение частей тела, позволяет разделить его на 2 равные, зеркально отражающие друг друга половины лишь одной плоскостью. Эта плоскость носит название оси симметрии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Comic Sans MS"/>
              </a:rPr>
              <a:t>Примеры двусторонней симметрии: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3" name="Picture 4" descr=""/>
          <p:cNvPicPr/>
          <p:nvPr/>
        </p:nvPicPr>
        <p:blipFill>
          <a:blip r:embed="rId1"/>
          <a:stretch/>
        </p:blipFill>
        <p:spPr>
          <a:xfrm>
            <a:off x="755640" y="4076640"/>
            <a:ext cx="2370240" cy="135576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6" descr=""/>
          <p:cNvPicPr/>
          <p:nvPr/>
        </p:nvPicPr>
        <p:blipFill>
          <a:blip r:embed="rId2"/>
          <a:srcRect l="0" t="0" r="0" b="41914"/>
          <a:stretch/>
        </p:blipFill>
        <p:spPr>
          <a:xfrm>
            <a:off x="6012000" y="4581360"/>
            <a:ext cx="2662200" cy="172728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2" descr="Безымянный"/>
          <p:cNvPicPr/>
          <p:nvPr/>
        </p:nvPicPr>
        <p:blipFill>
          <a:blip r:embed="rId3"/>
          <a:srcRect l="0" t="0" r="73615" b="69256"/>
          <a:stretch/>
        </p:blipFill>
        <p:spPr>
          <a:xfrm>
            <a:off x="3635280" y="4581360"/>
            <a:ext cx="2016360" cy="1762200"/>
          </a:xfrm>
          <a:prstGeom prst="rect">
            <a:avLst/>
          </a:prstGeom>
          <a:ln w="0">
            <a:noFill/>
          </a:ln>
        </p:spPr>
      </p:pic>
      <p:sp>
        <p:nvSpPr>
          <p:cNvPr id="186" name="Rectangle 13"/>
          <p:cNvSpPr/>
          <p:nvPr/>
        </p:nvSpPr>
        <p:spPr>
          <a:xfrm>
            <a:off x="684360" y="1844640"/>
            <a:ext cx="7920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Такой тип организации характерен для большинства беспозвоночных, в особенности для кольчатых червей и для членистоногих - ракообразных, паукообразных, насекомых, бабочек; для позвоночных – рыб, птиц, млекопитающих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3T06:45:07Z</dcterms:created>
  <dc:creator>Вязова  Оксана </dc:creator>
  <dc:description/>
  <dc:language>en-US</dc:language>
  <cp:lastModifiedBy>kms_home</cp:lastModifiedBy>
  <dcterms:modified xsi:type="dcterms:W3CDTF">2018-03-24T10:51:30Z</dcterms:modified>
  <cp:revision>31</cp:revision>
  <dc:subject/>
  <dc:title>О симметри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2c04000000000001024140</vt:lpwstr>
  </property>
</Properties>
</file>