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583-7BB6-43C6-8D60-93128CDB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ACB-A982-4B57-9F77-F9ADEE1B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DD4-01E8-43E9-9776-09D5BD3D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8DF-4E4E-4008-9A40-E06B1027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9EE-025B-488B-AF4B-B7F4A151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188-B686-43B9-8E78-DE73857E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D51-B277-4131-8628-9519C7A6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99D-AD71-46C5-8CC7-22E7BCB0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7B0-B224-4928-A56E-DD3D3D8F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1BB-D261-4C3B-B4D7-CF063AB1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B55-EF85-4B76-8355-16C10FA0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8F2-64BD-4CD0-80C6-C2902A6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E5CA-5000-4859-865A-68CBFF133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068640"/>
            <a:ext cx="7561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Средневековая литература и искусст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250920" y="333360"/>
            <a:ext cx="8642160" cy="863640"/>
          </a:xfrm>
          <a:prstGeom prst="bevel">
            <a:avLst>
              <a:gd name="adj" fmla="val 12500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Средних веков, 6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Городская 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1341000"/>
            <a:ext cx="4321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прославился своими стихами французский вагант Франсуа Вийон; музыку к его произведениям сочиняют и современные композито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9" descr="movie3852"/>
          <p:cNvPicPr/>
          <p:nvPr/>
        </p:nvPicPr>
        <p:blipFill>
          <a:blip r:embed="rId1"/>
          <a:stretch/>
        </p:blipFill>
        <p:spPr>
          <a:xfrm>
            <a:off x="539640" y="1484280"/>
            <a:ext cx="33829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ан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1640" y="1341000"/>
            <a:ext cx="432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6000" y="1267920"/>
            <a:ext cx="446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Его считают самым великим поэтом Средневековья. Родился во Флоренции в старинной дворянской семье. Он учился в городской школе, а затем всю жизнь изучал философию, астрономию, античную литературу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5" descr="92705_image_large"/>
          <p:cNvPicPr/>
          <p:nvPr/>
        </p:nvPicPr>
        <p:blipFill>
          <a:blip r:embed="rId1"/>
          <a:stretch/>
        </p:blipFill>
        <p:spPr>
          <a:xfrm>
            <a:off x="324000" y="1197000"/>
            <a:ext cx="4074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Дан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268280"/>
            <a:ext cx="43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18 лет он пережил любовь к юной Беатриче, впоследствии вышедшей замуж за другого и рано умершей. О своих переживаниях Данте с небывалой для тех времен откровенностью рассказал в маленькой книжке «Новая жизн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Documents and Settings\админ\Рабочий стол\мама\культура\Данте и Беатриче.jpg"/>
          <p:cNvPicPr/>
          <p:nvPr/>
        </p:nvPicPr>
        <p:blipFill>
          <a:blip r:embed="rId1"/>
          <a:stretch/>
        </p:blipFill>
        <p:spPr>
          <a:xfrm>
            <a:off x="611280" y="1773360"/>
            <a:ext cx="374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ан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92360" y="1036800"/>
            <a:ext cx="540072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изгнании Данте написал великое произведение в стихах, которое назвал «Комедией». Потомки назвали ее «Божественной комедией» в знак высшей похвалы. Данте описывает путешествие в загробное царство: ад для грешников, рай для праведников и чистилище для тех, кому Бог еще не вынес свой приговор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5"/>
          <p:cNvPicPr/>
          <p:nvPr/>
        </p:nvPicPr>
        <p:blipFill>
          <a:blip r:embed="rId1"/>
          <a:stretch/>
        </p:blipFill>
        <p:spPr>
          <a:xfrm>
            <a:off x="324000" y="1413000"/>
            <a:ext cx="316548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ан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84720" y="1341000"/>
            <a:ext cx="4402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сопровождении великого римского поэта-Вергилия Данте посещает ад и чистилище, а по раю его ведет Беатриче. В аду 9 кругов: чем тяжелее грехи, тем ниже круг и суровее наказание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админ\Рабочий стол\мама\культура\Данте и Вергилий у врат Ада.jpg"/>
          <p:cNvPicPr/>
          <p:nvPr/>
        </p:nvPicPr>
        <p:blipFill>
          <a:blip r:embed="rId1"/>
          <a:stretch/>
        </p:blipFill>
        <p:spPr>
          <a:xfrm>
            <a:off x="611280" y="1268280"/>
            <a:ext cx="342900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ан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35280" y="1125000"/>
            <a:ext cx="53294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аду 9 кругов: чем тяжелее грехи, тем ниже круг и суровее наказание. В аду Данте поместил кровожадных властолюбцев, жестоких правителей, преступников, скупцов. В центре ада — сам дьявол, грызущий предателей: Иуду, Брута и Кассия. Данте поместил в ад и своих врагов, в том числе нескольких пап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46075b"/>
          <p:cNvPicPr/>
          <p:nvPr/>
        </p:nvPicPr>
        <p:blipFill>
          <a:blip r:embed="rId1"/>
          <a:stretch/>
        </p:blipFill>
        <p:spPr>
          <a:xfrm>
            <a:off x="395280" y="1773360"/>
            <a:ext cx="32418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рхитек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55640" y="1341360"/>
            <a:ext cx="4537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манский храм — массивное здание с почти гладкими стенами, высокими башнями и лаконичным декором. Всюду повторяются очертания полукруглой арки — на сводах, оконных проемах, входах в храм. В то же время своей мощью романские храмы напоминают зам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218120" cy="4668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324000" y="5805360"/>
            <a:ext cx="403200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оманский ст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рхитек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нутреннее его устройство также типично средневековое. Он состоит из трех или пяти нефов; центральный неф поднят над боковыми. В плане романский храм имеет вид креста, в центре которого — башня, завершавшаяся пирамидо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8" descr="1336121901_romanskiy1"/>
          <p:cNvPicPr/>
          <p:nvPr/>
        </p:nvPicPr>
        <p:blipFill>
          <a:blip r:embed="rId1"/>
          <a:stretch/>
        </p:blipFill>
        <p:spPr>
          <a:xfrm>
            <a:off x="468360" y="1182600"/>
            <a:ext cx="3743280" cy="2703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52156930_1260256072_romanskiy_stil__v_arhitekture"/>
          <p:cNvPicPr/>
          <p:nvPr/>
        </p:nvPicPr>
        <p:blipFill>
          <a:blip r:embed="rId2"/>
          <a:stretch/>
        </p:blipFill>
        <p:spPr>
          <a:xfrm>
            <a:off x="468360" y="4005360"/>
            <a:ext cx="367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рхитек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4360" y="1197000"/>
            <a:ext cx="4608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 середины XII века в свободных городах сооружались торговые помещения, залы для собраний цехов и гильдий, больницы, гостиницы. Главными украшениями города были ратуша и особенно собор. Постройки XII—XV веков получили позже название готических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x_b3f4737c"/>
          <p:cNvPicPr/>
          <p:nvPr/>
        </p:nvPicPr>
        <p:blipFill>
          <a:blip r:embed="rId1"/>
          <a:stretch/>
        </p:blipFill>
        <p:spPr>
          <a:xfrm>
            <a:off x="250920" y="1344600"/>
            <a:ext cx="41418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рхитек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40000" y="1413000"/>
            <a:ext cx="4546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перь легкий и высокий стрельчатый свод опирается внутри на пучки узких, высо­ких колонн, а снаружи на массивные опорные столбы и на соединительные арки. Залы — просторные и высокие, в них поступает больше света и воздуха, они богато украшены живописью, резьбой, барельефами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8" descr="0kri16v"/>
          <p:cNvPicPr/>
          <p:nvPr/>
        </p:nvPicPr>
        <p:blipFill>
          <a:blip r:embed="rId1"/>
          <a:stretch/>
        </p:blipFill>
        <p:spPr>
          <a:xfrm>
            <a:off x="395280" y="620640"/>
            <a:ext cx="2071800" cy="300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0_5dfb5_2e9572a2_XL"/>
          <p:cNvPicPr/>
          <p:nvPr/>
        </p:nvPicPr>
        <p:blipFill>
          <a:blip r:embed="rId2"/>
          <a:stretch/>
        </p:blipFill>
        <p:spPr>
          <a:xfrm>
            <a:off x="1476360" y="3141720"/>
            <a:ext cx="26370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Рыцарская литера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ородская литера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ант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рхите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кульп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Живопис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рхитек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1280" y="1125360"/>
            <a:ext cx="48355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лагодаря широким проходам и сквозным галереям, множеству огромных окон и кружевной каменной резьбы готические соборы кажутся прозрачными. Повторяющиеся очертания стрельчатой арки, крутые скаты крыш, высокие башни колоколен — все создает впечатле­ние стремительного порыва ввысь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0" descr="41"/>
          <p:cNvPicPr/>
          <p:nvPr/>
        </p:nvPicPr>
        <p:blipFill>
          <a:blip r:embed="rId1"/>
          <a:stretch/>
        </p:blipFill>
        <p:spPr>
          <a:xfrm>
            <a:off x="250920" y="1197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1274515707_j8"/>
          <p:cNvPicPr/>
          <p:nvPr/>
        </p:nvPicPr>
        <p:blipFill>
          <a:blip r:embed="rId2"/>
          <a:stretch/>
        </p:blipFill>
        <p:spPr>
          <a:xfrm>
            <a:off x="324000" y="3860640"/>
            <a:ext cx="3665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Скульп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6600" y="2276280"/>
            <a:ext cx="79308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224-2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Живоп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35280" y="1267920"/>
            <a:ext cx="540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тены романских храмов были покрыты росписями. Но на стенах готических соборов для них оставалось мало места. Огромные окна заполняли витражи — картины или узоры из кусков цветного стекла, скрепленных свинцовыми ободками. Через витражи свет проникал в храм, играя на колоннах, сводах и камнях пола красочными бликами, и это придавало всему нарядный, праздничный вид.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128_9174_640x480"/>
          <p:cNvPicPr/>
          <p:nvPr/>
        </p:nvPicPr>
        <p:blipFill>
          <a:blip r:embed="rId1"/>
          <a:stretch/>
        </p:blipFill>
        <p:spPr>
          <a:xfrm>
            <a:off x="395280" y="1197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1259501090_file"/>
          <p:cNvPicPr/>
          <p:nvPr/>
        </p:nvPicPr>
        <p:blipFill>
          <a:blip r:embed="rId2"/>
          <a:stretch/>
        </p:blipFill>
        <p:spPr>
          <a:xfrm>
            <a:off x="468360" y="3716280"/>
            <a:ext cx="302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Живоп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5280" y="1197000"/>
            <a:ext cx="4691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ольшим достижением живописи была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книжная миниатю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 Во множестве ярких рисунков отражалась вся жизнь людей: как люди разного происхождения и достатка одевались и причесывались, обставляли жилища, работали и проводили досуг, во что верили и чего боялись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pic_2005424_8mn32s38mls362"/>
          <p:cNvPicPr/>
          <p:nvPr/>
        </p:nvPicPr>
        <p:blipFill>
          <a:blip r:embed="rId1"/>
          <a:stretch/>
        </p:blipFill>
        <p:spPr>
          <a:xfrm>
            <a:off x="395280" y="1519200"/>
            <a:ext cx="35290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Живоп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50920" y="1196640"/>
            <a:ext cx="5041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й прославленный образец миниатюры — «Календарь герцога Беррийского». Он был выполнен в начале XV века тремя братьями Лимбург. Миниатюры календаря отразили новое отношение к природе: у людей возникало желание любоваться ее красотой. В сценах, посвященных 12 месяцам, удивительно живо, ярко, точно запечатлены виды крестьянского труда и развлечения знати на фоне стен Парижа и окрестных замко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8" descr="page16small"/>
          <p:cNvPicPr/>
          <p:nvPr/>
        </p:nvPicPr>
        <p:blipFill>
          <a:blip r:embed="rId1"/>
          <a:stretch/>
        </p:blipFill>
        <p:spPr>
          <a:xfrm>
            <a:off x="539640" y="1413000"/>
            <a:ext cx="324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араграф 28, вопросы, 8 или 9 - пись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1520" y="119700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шаблона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 учитель физик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СОШ №20 п. Баранчинский, г. Кушва, Свердловской обл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исунок для фо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http://prosto-life.ru/prostyie-istorii/o-svyataya-prostota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инки: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images.rambler.ru/search?query=%D1%82%D1%80%D1%83%D0%B2%D0%B5%D1%80%D1%8B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http://art.1september.ru/articlef.php?ID=2007013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2050920" y="4653000"/>
            <a:ext cx="6624720" cy="1584360"/>
          </a:xfrm>
          <a:prstGeom prst="ellipse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одзаголовок 2"/>
          <p:cNvSpPr/>
          <p:nvPr/>
        </p:nvSpPr>
        <p:spPr>
          <a:xfrm>
            <a:off x="3419640" y="333360"/>
            <a:ext cx="259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Рыцарская литература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720" y="1341000"/>
            <a:ext cx="4402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е на юге Франции, в Провансе, возникла рыцарская поэзия. Прованские певцы назывались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трубаду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2" descr="book"/>
          <p:cNvPicPr/>
          <p:nvPr/>
        </p:nvPicPr>
        <p:blipFill>
          <a:blip r:embed="rId1"/>
          <a:stretch/>
        </p:blipFill>
        <p:spPr>
          <a:xfrm rot="20797800">
            <a:off x="468360" y="1483920"/>
            <a:ext cx="3744720" cy="271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616a716af86e"/>
          <p:cNvPicPr/>
          <p:nvPr/>
        </p:nvPicPr>
        <p:blipFill>
          <a:blip r:embed="rId2"/>
          <a:stretch/>
        </p:blipFill>
        <p:spPr>
          <a:xfrm rot="1357200">
            <a:off x="1834920" y="3141720"/>
            <a:ext cx="21272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Рыцарская литератур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0" y="134136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ображением поэтов был создан образ идеального рыцаря – смелого, великодушного, справедливого. В стихах воспевалась верность сеньору, щедрость, благородство, вежливость и привлекате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1263-951352-849587"/>
          <p:cNvPicPr/>
          <p:nvPr/>
        </p:nvPicPr>
        <p:blipFill>
          <a:blip r:embed="rId1"/>
          <a:stretch/>
        </p:blipFill>
        <p:spPr>
          <a:xfrm>
            <a:off x="468360" y="1700280"/>
            <a:ext cx="37018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ыцарская 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360" y="1197000"/>
            <a:ext cx="475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поэзии трубадуров воспевалось служение Прекрасной Даме, Мадонне ( « моей госпоже», в которой соединялись поклонение Богоматери и земной, прекрасной, живой женщ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7" descr="i?id=250945004-18-72"/>
          <p:cNvPicPr/>
          <p:nvPr/>
        </p:nvPicPr>
        <p:blipFill>
          <a:blip r:embed="rId1"/>
          <a:stretch/>
        </p:blipFill>
        <p:spPr>
          <a:xfrm>
            <a:off x="395280" y="1268280"/>
            <a:ext cx="2374920" cy="309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TRISTAN-ISOLDA-L"/>
          <p:cNvPicPr/>
          <p:nvPr/>
        </p:nvPicPr>
        <p:blipFill>
          <a:blip r:embed="rId2"/>
          <a:stretch/>
        </p:blipFill>
        <p:spPr>
          <a:xfrm>
            <a:off x="1116000" y="3789360"/>
            <a:ext cx="30956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ыцарск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360" y="1341360"/>
            <a:ext cx="4176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еверной Франции, Италии, Испании, Германии рыцарские поэты назывались труверами или миннезингерами              ( певцы любви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3" descr="trouvere"/>
          <p:cNvPicPr/>
          <p:nvPr/>
        </p:nvPicPr>
        <p:blipFill>
          <a:blip r:embed="rId1"/>
          <a:stretch/>
        </p:blipFill>
        <p:spPr>
          <a:xfrm>
            <a:off x="395280" y="1341360"/>
            <a:ext cx="37926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ыцарская 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484280"/>
            <a:ext cx="432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эти столетия появились стихотворные рыцарские романы и повести. Сначала это были обработки античных сказаний, а потом изображались легенды о короле Артуре, о Тристане и Изоль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4" descr="24b5eb9c06d4t"/>
          <p:cNvPicPr/>
          <p:nvPr/>
        </p:nvPicPr>
        <p:blipFill>
          <a:blip r:embed="rId1"/>
          <a:stretch/>
        </p:blipFill>
        <p:spPr>
          <a:xfrm>
            <a:off x="250920" y="1197000"/>
            <a:ext cx="4032000" cy="2732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17897_4"/>
          <p:cNvPicPr/>
          <p:nvPr/>
        </p:nvPicPr>
        <p:blipFill>
          <a:blip r:embed="rId2"/>
          <a:stretch/>
        </p:blipFill>
        <p:spPr>
          <a:xfrm>
            <a:off x="324000" y="3716280"/>
            <a:ext cx="3960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Городск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14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ке начинается расцвет городской литературы. Горожане любили короткие рассказы, чаще всего в стихах или басни. Их героями были хитрые бюргеры или весёлые находчивые крестья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0" descr="64221680_1284904611_5c5ef72b11f1"/>
          <p:cNvPicPr/>
          <p:nvPr/>
        </p:nvPicPr>
        <p:blipFill>
          <a:blip r:embed="rId1"/>
          <a:stretch/>
        </p:blipFill>
        <p:spPr>
          <a:xfrm>
            <a:off x="539640" y="1268280"/>
            <a:ext cx="3872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Городск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50920" y="1268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городской литературой связаны стих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агантов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 в переводе с лат. – бродяги). Вагантами называли студентов и школяров, которые кочевали по городам в поисках новых преподава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68360" y="5445000"/>
            <a:ext cx="3527280" cy="792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аг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1" descr="vagant1"/>
          <p:cNvPicPr/>
          <p:nvPr/>
        </p:nvPicPr>
        <p:blipFill>
          <a:blip r:embed="rId1"/>
          <a:stretch/>
        </p:blipFill>
        <p:spPr>
          <a:xfrm>
            <a:off x="684360" y="1376280"/>
            <a:ext cx="2681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Admin</cp:lastModifiedBy>
  <dcterms:modified xsi:type="dcterms:W3CDTF">2012-12-23T09:27:22Z</dcterms:modified>
  <cp:revision>8</cp:revision>
  <dc:subject/>
  <dc:title>Заголовок слайда</dc:title>
</cp:coreProperties>
</file>