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F626-7136-44BB-9B21-986BF7B4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37D-46B8-4EA9-A9D2-3A80E1B8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1EC-A7DD-4BBD-A5B5-E8BDA835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D1B7-5BB2-4CBF-B60F-08DDDC28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7B76-90BB-4B71-A8A4-133987D9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9383-5CE7-4AEC-A157-9D9C1B7E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4792-D10B-488D-91BF-36B966BB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C15D-1A3A-40CA-862E-B7BA61FB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D312-B876-433F-A7B6-E22994A0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621D-F18C-4AF4-A5FA-30B42D86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C93B-328D-44E6-80C9-20B987ED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AD4C-14F0-4A94-9596-703AB928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9927-2542-4CCA-82AC-35641BC9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07D0-655A-4506-A06B-3CFCCAFC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9C6D-BBDA-438E-8F37-E0A0A2AF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D5A9-47B6-447C-8637-7295FA09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AC8B-07BE-40D3-AC2F-9470AF82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60B7-FFAC-403C-89D2-D814678B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91DF-8CCB-4794-8CF6-7BD0CF65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1C0B-06BA-4A8F-8DDF-578276EF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C05-996A-4ACE-9CD5-E8A19E3D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7EA1-B6B6-4188-AA64-1BB44FAD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DF6-148A-4C53-9215-8958E147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6422-C59F-4252-9F40-E0EBF048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043B-5A0F-40DE-9FC0-E2630D7D83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03CC-F0B1-450F-9D49-BF90A1729D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Making up ques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59280" y="2205000"/>
            <a:ext cx="28573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Special questions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Lind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rot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(2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letter yester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i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ind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rit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(1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yesterda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The childre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the park n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children now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My granny usual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knit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ock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o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y granny usual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kn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The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ransl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20 texts every wee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any text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ransl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very week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If we have the following verbs in the sentence, we should make up the questions with them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to be (am, is, are, was, were)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hall/will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an/could, must, may, should, woul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he verb “to be”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211640" y="1700280"/>
            <a:ext cx="468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boy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i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reading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boo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now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I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he boy reading a book now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i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he boy reading now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8000" y="1700280"/>
            <a:ext cx="381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he verb “must”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560" y="1413000"/>
            <a:ext cx="309708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51280" y="1413000"/>
            <a:ext cx="511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o schoo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very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you go to school every da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you go every da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Auxiliary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спомогательные) 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verbs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454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 Present Simpl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 Past Simpl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27280" y="184464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D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Do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           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(he, she, it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Di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258920" y="188640"/>
            <a:ext cx="6121440" cy="4319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618920" y="4581000"/>
            <a:ext cx="604836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usually walk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 the par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y usually walk in the park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y usually walk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258920" y="115920"/>
            <a:ext cx="6551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716000" y="1412640"/>
            <a:ext cx="4103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play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ith his do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 th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rn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o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e play with his dog in the morn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o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e play with his do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41371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8000" y="1413000"/>
            <a:ext cx="4680000" cy="3967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827600" y="184464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 play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mpu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gam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ester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he play computer games yesterd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he play yesterd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eneral questions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Tom and Kat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inting no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m and Kate painting now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My sist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lean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er room every 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oe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 sist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le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er room every d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Dadd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ough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(2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new compu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i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dd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uy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(1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new comput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The bird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l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warm countries in autum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bird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l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warm countries in autum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06:45:12Z</dcterms:created>
  <dc:creator>Winda64</dc:creator>
  <dc:description/>
  <dc:language>en-US</dc:language>
  <cp:lastModifiedBy>Лозинские</cp:lastModifiedBy>
  <dcterms:modified xsi:type="dcterms:W3CDTF">2012-10-16T19:26:56Z</dcterms:modified>
  <cp:revision>30</cp:revision>
  <dc:subject/>
  <dc:title>Making up questions</dc:title>
</cp:coreProperties>
</file>