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49F-7377-4896-B506-E8A565D0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9A1-6430-415B-990C-D94FD781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A71-6CF3-4900-92FF-AA8EF0E5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B55-2158-4EFB-9F3F-221FE073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6525-EB38-442B-8219-1745D851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B90A-79E4-49CC-B5D0-CF3E0EDE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9EC8-9C66-4300-9F4C-A2E8C36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5C5F-320A-4372-849F-1EB1009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CAE8-6E4E-470D-B316-64BE653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9CF-7A3A-4D65-AC6E-F06EC6C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597D-47BE-422B-A5B0-7DCC9AD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A9C-7643-4C83-B0A4-A896733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4FB-9609-4C5E-B3B0-5F9255B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43D-D1D8-40EE-A777-29E465C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ED11-354F-4606-8B32-078ECF47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2C9-25FE-4EFE-A4F4-255D2787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C543-D7CB-4B27-B3FE-54EB8FC0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967-79E7-4749-BB24-AA0E742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257-0739-41A6-8396-17FE007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E25-E05D-46A8-B77B-5E267253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343-1D42-4ED7-9365-4C231FA5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892-08CC-48E1-AAA8-06E4A3D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D16-1A9B-4871-820C-BB4EE3E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7B3-C67A-4E3B-81B7-008754E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126-5107-43DF-BC41-D65344024E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1064-F57C-45FB-BB4E-835A2E5407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aking up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285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pecial questions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Lin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o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letter yester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n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i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ester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The childr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park 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children 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My granny usu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nit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granny usu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n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ns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 texts every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text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ns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very week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f we have the following verbs in the sentence, we should make up the questions with them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o be (am, is, are, was, were)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hall/will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n/could, must, may, should, wou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verb “to be”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11640" y="170028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y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ading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oo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n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boy reading a book 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boy reading 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38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verb “must”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560" y="1413000"/>
            <a:ext cx="30970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 scho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very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go to school every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go every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Auxiliary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спомогательные)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verbs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Present Si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Past Si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7280" y="1844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(he, she, it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58920" y="188640"/>
            <a:ext cx="612144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18920" y="4581000"/>
            <a:ext cx="6048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usually wal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e par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y usually walk in the pa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y usually wal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58920" y="115920"/>
            <a:ext cx="655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16000" y="1412640"/>
            <a:ext cx="4103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lay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his do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r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lay with his dog in the morn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lay with his 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137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680000" cy="3967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827600" y="184464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play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u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am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ester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e play computer games yester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e play yester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 questions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Tom and Kat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inting n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m and Kate painting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My sis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 room every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sis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 room every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Dadd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ough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new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dd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(1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ew compu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he bir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arm countries in autum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ir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arm countries in autum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6:45:12Z</dcterms:created>
  <dc:creator>Winda64</dc:creator>
  <dc:description/>
  <dc:language>en-US</dc:language>
  <cp:lastModifiedBy>Лозинские</cp:lastModifiedBy>
  <dcterms:modified xsi:type="dcterms:W3CDTF">2012-10-16T19:26:56Z</dcterms:modified>
  <cp:revision>30</cp:revision>
  <dc:subject/>
  <dc:title>Making up questions</dc:title>
</cp:coreProperties>
</file>