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2EA-4128-4AD9-B563-A0798DF3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A75-48F7-4169-BF43-3FBA6C4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948-084C-452D-9EEB-68DDBD2D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C62-296F-41DF-B4EC-4A24E86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300-669E-4FBB-BD25-C688018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64D-25CC-459C-A7BA-4E44472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F39-D02F-4F75-9B57-ED189ED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31A-4BD5-40D9-9D5A-5FEFD44E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3E3-3D29-469C-B873-F0972703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455-F466-43F4-9BF5-C2E7BBB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93C-DE3D-4627-AE5F-738E88D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B9C-5919-4F3A-BA01-F9EE437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41A-FF47-4B7E-BAE0-51A2D644B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немотехни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к технология развит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знавательной активности обучающихся с ЗП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уроках математик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начальных класс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4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Русанова Лариса Александровна,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4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ГБОУ школы № 561 Калинин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79640" y="549360"/>
            <a:ext cx="4392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40072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87280" y="6216120"/>
            <a:ext cx="633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 + В) * С = АВ + 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низ 11"/>
          <p:cNvSpPr/>
          <p:nvPr/>
        </p:nvSpPr>
        <p:spPr>
          <a:xfrm rot="2194200">
            <a:off x="3419640" y="2492280"/>
            <a:ext cx="360360" cy="865440"/>
          </a:xfrm>
          <a:prstGeom prst="downArrow">
            <a:avLst>
              <a:gd name="adj1" fmla="val 50000"/>
              <a:gd name="adj2" fmla="val 3534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трелка вниз 11"/>
          <p:cNvSpPr/>
          <p:nvPr/>
        </p:nvSpPr>
        <p:spPr>
          <a:xfrm rot="1120800">
            <a:off x="3634920" y="2565360"/>
            <a:ext cx="360360" cy="863640"/>
          </a:xfrm>
          <a:prstGeom prst="downArrow">
            <a:avLst>
              <a:gd name="adj1" fmla="val 50000"/>
              <a:gd name="adj2" fmla="val 3527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79640" y="549360"/>
            <a:ext cx="4392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2"/>
          <p:cNvSpPr/>
          <p:nvPr/>
        </p:nvSpPr>
        <p:spPr>
          <a:xfrm>
            <a:off x="2556000" y="2643120"/>
            <a:ext cx="4032000" cy="18655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блако 16"/>
          <p:cNvSpPr/>
          <p:nvPr/>
        </p:nvSpPr>
        <p:spPr>
          <a:xfrm>
            <a:off x="3059280" y="0"/>
            <a:ext cx="3090600" cy="2000160"/>
          </a:xfrm>
          <a:custGeom>
            <a:avLst/>
            <a:gdLst>
              <a:gd name="textAreaLeft" fmla="*/ 425880 w 3090600"/>
              <a:gd name="textAreaRight" fmla="*/ 2445120 w 3090600"/>
              <a:gd name="textAreaTop" fmla="*/ 302040 h 2000160"/>
              <a:gd name="textAreaBottom" fmla="*/ 1605600 h 2000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блако 17"/>
          <p:cNvSpPr/>
          <p:nvPr/>
        </p:nvSpPr>
        <p:spPr>
          <a:xfrm>
            <a:off x="5796000" y="4869000"/>
            <a:ext cx="3027240" cy="1809720"/>
          </a:xfrm>
          <a:custGeom>
            <a:avLst/>
            <a:gdLst>
              <a:gd name="textAreaLeft" fmla="*/ 417240 w 3027240"/>
              <a:gd name="textAreaRight" fmla="*/ 2394720 w 3027240"/>
              <a:gd name="textAreaTop" fmla="*/ 273240 h 1809720"/>
              <a:gd name="textAreaBottom" fmla="*/ 1452600 h 1809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блако 18"/>
          <p:cNvSpPr/>
          <p:nvPr/>
        </p:nvSpPr>
        <p:spPr>
          <a:xfrm>
            <a:off x="179280" y="4653000"/>
            <a:ext cx="2952720" cy="2022480"/>
          </a:xfrm>
          <a:custGeom>
            <a:avLst/>
            <a:gdLst>
              <a:gd name="textAreaLeft" fmla="*/ 406800 w 2952720"/>
              <a:gd name="textAreaRight" fmla="*/ 2336040 w 2952720"/>
              <a:gd name="textAreaTop" fmla="*/ 305280 h 2022480"/>
              <a:gd name="textAreaBottom" fmla="*/ 1623600 h 2022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блако 19"/>
          <p:cNvSpPr/>
          <p:nvPr/>
        </p:nvSpPr>
        <p:spPr>
          <a:xfrm>
            <a:off x="6539040" y="1628640"/>
            <a:ext cx="2604960" cy="2011320"/>
          </a:xfrm>
          <a:custGeom>
            <a:avLst/>
            <a:gdLst>
              <a:gd name="textAreaLeft" fmla="*/ 358920 w 2604960"/>
              <a:gd name="textAreaRight" fmla="*/ 2060640 w 2604960"/>
              <a:gd name="textAreaTop" fmla="*/ 303480 h 2011320"/>
              <a:gd name="textAreaBottom" fmla="*/ 1614600 h 20113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блако 20"/>
          <p:cNvSpPr/>
          <p:nvPr/>
        </p:nvSpPr>
        <p:spPr>
          <a:xfrm>
            <a:off x="0" y="981000"/>
            <a:ext cx="2892600" cy="2448000"/>
          </a:xfrm>
          <a:custGeom>
            <a:avLst/>
            <a:gdLst>
              <a:gd name="textAreaLeft" fmla="*/ 398520 w 2892600"/>
              <a:gd name="textAreaRight" fmla="*/ 2288160 w 289260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3492360" y="3141720"/>
            <a:ext cx="230364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Метод мнемо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539640" y="16286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539640" y="51577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Отработка математических навы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3851280" y="476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основных психических проце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6588000" y="22766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мелкой мотор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6516720" y="52293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связной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 вниз 28"/>
          <p:cNvSpPr/>
          <p:nvPr/>
        </p:nvSpPr>
        <p:spPr>
          <a:xfrm rot="10800000">
            <a:off x="4642920" y="1988640"/>
            <a:ext cx="142920" cy="53676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низ 29"/>
          <p:cNvSpPr/>
          <p:nvPr/>
        </p:nvSpPr>
        <p:spPr>
          <a:xfrm rot="16200000">
            <a:off x="6209640" y="2654640"/>
            <a:ext cx="142920" cy="538200"/>
          </a:xfrm>
          <a:prstGeom prst="downArrow">
            <a:avLst>
              <a:gd name="adj1" fmla="val 50000"/>
              <a:gd name="adj2" fmla="val 68446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трелка вниз 30"/>
          <p:cNvSpPr/>
          <p:nvPr/>
        </p:nvSpPr>
        <p:spPr>
          <a:xfrm rot="7354800">
            <a:off x="2853360" y="2483280"/>
            <a:ext cx="158760" cy="46512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трелка вниз 31"/>
          <p:cNvSpPr/>
          <p:nvPr/>
        </p:nvSpPr>
        <p:spPr>
          <a:xfrm rot="19236000">
            <a:off x="6443280" y="4292280"/>
            <a:ext cx="168120" cy="536400"/>
          </a:xfrm>
          <a:prstGeom prst="downArrow">
            <a:avLst>
              <a:gd name="adj1" fmla="val 50000"/>
              <a:gd name="adj2" fmla="val 49794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трелка вниз 32"/>
          <p:cNvSpPr/>
          <p:nvPr/>
        </p:nvSpPr>
        <p:spPr>
          <a:xfrm rot="2068800">
            <a:off x="3059280" y="4292640"/>
            <a:ext cx="168120" cy="53640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3" descr=""/>
          <p:cNvPicPr/>
          <p:nvPr/>
        </p:nvPicPr>
        <p:blipFill>
          <a:blip r:embed="rId2"/>
          <a:stretch/>
        </p:blipFill>
        <p:spPr>
          <a:xfrm>
            <a:off x="0" y="3681360"/>
            <a:ext cx="9090000" cy="31766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C:\Temp\FineReader11\media\image1.jpeg"/>
          <p:cNvPicPr/>
          <p:nvPr/>
        </p:nvPicPr>
        <p:blipFill>
          <a:blip r:embed="rId3"/>
          <a:stretch/>
        </p:blipFill>
        <p:spPr>
          <a:xfrm>
            <a:off x="2000160" y="357120"/>
            <a:ext cx="4929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89000"/>
            <a:ext cx="8207280" cy="2663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емотехник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система методов и прием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ивающая  эффективное запоминани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хранение и воспроизведение информ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образованной в комбинации зритель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или звуковых, тактильных) образ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500280"/>
            <a:ext cx="32414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5445000"/>
            <a:ext cx="32414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896000" y="4005360"/>
            <a:ext cx="4248000" cy="1224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ЛЮДА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292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9242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306864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404800">
            <a:off x="2050560" y="2421000"/>
            <a:ext cx="701640" cy="792000"/>
          </a:xfrm>
          <a:prstGeom prst="downArrow">
            <a:avLst>
              <a:gd name="adj1" fmla="val 50000"/>
              <a:gd name="adj2" fmla="val 2822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rot="20612400">
            <a:off x="6588000" y="2997000"/>
            <a:ext cx="701640" cy="1439640"/>
          </a:xfrm>
          <a:prstGeom prst="downArrow">
            <a:avLst>
              <a:gd name="adj1" fmla="val 50000"/>
              <a:gd name="adj2" fmla="val 5129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197000"/>
            <a:ext cx="316836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197000"/>
            <a:ext cx="316872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дагог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4500720" cy="1987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памя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ного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876920"/>
            <a:ext cx="5580000" cy="1699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и актив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знава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0"/>
            <a:ext cx="45356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НЕМОТЕХ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576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обенности детей с ЗП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ставание и своеобразие в познавательной деятель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обладание наглядно – действенного мышления и наглядно – образной памяти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ижение познавательной актив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рушение логического мыш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дный словарный запас слов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MPj04372310000[1]"/>
          <p:cNvPicPr/>
          <p:nvPr/>
        </p:nvPicPr>
        <p:blipFill>
          <a:blip r:embed="rId2"/>
          <a:stretch/>
        </p:blipFill>
        <p:spPr>
          <a:xfrm>
            <a:off x="7093080" y="189000"/>
            <a:ext cx="1587240" cy="20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50920" y="5160960"/>
            <a:ext cx="1739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859280" y="40464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немотаблиц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55736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Колла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63700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Рифма и рит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386064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01336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Группиров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83664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1773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781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005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5229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205000"/>
            <a:ext cx="3203280" cy="180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мотех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блако 5"/>
          <p:cNvSpPr/>
          <p:nvPr/>
        </p:nvSpPr>
        <p:spPr>
          <a:xfrm>
            <a:off x="0" y="1557360"/>
            <a:ext cx="2808360" cy="1152360"/>
          </a:xfrm>
          <a:custGeom>
            <a:avLst/>
            <a:gdLst>
              <a:gd name="textAreaLeft" fmla="*/ 387000 w 2808360"/>
              <a:gd name="textAreaRight" fmla="*/ 2221560 w 2808360"/>
              <a:gd name="textAreaTop" fmla="*/ 173880 h 1152360"/>
              <a:gd name="textAreaBottom" fmla="*/ 925200 h 1152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0" y="260280"/>
            <a:ext cx="8893080" cy="1224000"/>
          </a:xfrm>
          <a:custGeom>
            <a:avLst/>
            <a:gdLst>
              <a:gd name="textAreaLeft" fmla="*/ 1225440 w 8893080"/>
              <a:gd name="textAreaRight" fmla="*/ 7035120 w 8893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блако 5"/>
          <p:cNvSpPr/>
          <p:nvPr/>
        </p:nvSpPr>
        <p:spPr>
          <a:xfrm>
            <a:off x="0" y="3284640"/>
            <a:ext cx="2664000" cy="1224000"/>
          </a:xfrm>
          <a:custGeom>
            <a:avLst/>
            <a:gdLst>
              <a:gd name="textAreaLeft" fmla="*/ 367200 w 2664000"/>
              <a:gd name="textAreaRight" fmla="*/ 2107440 w 26640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49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Мнемотаблицы – работа над задач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844640"/>
            <a:ext cx="194472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блако 5"/>
          <p:cNvSpPr/>
          <p:nvPr/>
        </p:nvSpPr>
        <p:spPr>
          <a:xfrm>
            <a:off x="324000" y="5157720"/>
            <a:ext cx="2808000" cy="1152720"/>
          </a:xfrm>
          <a:custGeom>
            <a:avLst/>
            <a:gdLst>
              <a:gd name="textAreaLeft" fmla="*/ 387000 w 2808000"/>
              <a:gd name="textAreaRight" fmla="*/ 2221560 w 2808000"/>
              <a:gd name="textAreaTop" fmla="*/ 173880 h 1152720"/>
              <a:gd name="textAreaBottom" fmla="*/ 925200 h 1152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645000"/>
            <a:ext cx="194472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445000"/>
            <a:ext cx="194472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ТАБЛ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1557360"/>
            <a:ext cx="2808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716360" y="1628640"/>
            <a:ext cx="54000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2349360"/>
            <a:ext cx="6476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213000"/>
            <a:ext cx="2736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213000"/>
            <a:ext cx="2089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4869000"/>
            <a:ext cx="540072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27672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92436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57200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21964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6443640" y="3284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308720" y="328464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64000" y="4149720"/>
            <a:ext cx="5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4076640"/>
            <a:ext cx="5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3419640" y="4941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4067280" y="4941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4716360" y="4941720"/>
            <a:ext cx="54000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5364000" y="4941720"/>
            <a:ext cx="54000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6516720" y="4941720"/>
            <a:ext cx="790560" cy="7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7451640" y="4941720"/>
            <a:ext cx="790560" cy="790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32360" y="5877000"/>
            <a:ext cx="251928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 =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92360" y="432360"/>
            <a:ext cx="3589560" cy="745200"/>
          </a:xfrm>
          <a:prstGeom prst="rect">
            <a:avLst/>
          </a:pr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49360"/>
            <a:ext cx="2376720" cy="504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Times New Roman"/>
              </a:rPr>
              <a:t>КОЛЛ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Текст 2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1490760"/>
            <a:ext cx="1366920" cy="995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076720" y="1490760"/>
            <a:ext cx="1366920" cy="995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659640" y="1557360"/>
            <a:ext cx="1368360" cy="99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84360" y="2708280"/>
            <a:ext cx="33829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11280" y="3645000"/>
            <a:ext cx="1296720" cy="110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2050920" y="3645000"/>
            <a:ext cx="1297080" cy="1103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3564000" y="3645000"/>
            <a:ext cx="1295280" cy="110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5364000" y="3573360"/>
            <a:ext cx="1087560" cy="1141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6804000" y="3573360"/>
            <a:ext cx="1017720" cy="106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6360" y="4869000"/>
            <a:ext cx="338292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16640"/>
            <a:ext cx="83534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од: от перестановки слагаем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 не измен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блако 5"/>
          <p:cNvSpPr/>
          <p:nvPr/>
        </p:nvSpPr>
        <p:spPr>
          <a:xfrm>
            <a:off x="1547640" y="260280"/>
            <a:ext cx="6264360" cy="1224000"/>
          </a:xfrm>
          <a:custGeom>
            <a:avLst/>
            <a:gdLst>
              <a:gd name="textAreaLeft" fmla="*/ 863280 w 6264360"/>
              <a:gd name="textAreaRight" fmla="*/ 4955760 w 626436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92d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620640"/>
            <a:ext cx="374508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ИФМА И РИТ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блако 5"/>
          <p:cNvSpPr/>
          <p:nvPr/>
        </p:nvSpPr>
        <p:spPr>
          <a:xfrm>
            <a:off x="0" y="260280"/>
            <a:ext cx="8893080" cy="1224000"/>
          </a:xfrm>
          <a:custGeom>
            <a:avLst/>
            <a:gdLst>
              <a:gd name="textAreaLeft" fmla="*/ 1225440 w 8893080"/>
              <a:gd name="textAreaRight" fmla="*/ 7035120 w 8893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76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ФМА И РИТ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916280"/>
            <a:ext cx="2089080" cy="18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1484280"/>
            <a:ext cx="619308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ериметр фигуры может каждый получ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стороны фигуры взять все вместе и сло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076640"/>
            <a:ext cx="619272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ищем ширин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им площадь на д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чешь ты найти длин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и на шир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828720" y="278136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08000" y="620640"/>
            <a:ext cx="51120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ФМА И РИТМ: изучаем таблицу умн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448000" cy="204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24360" y="198180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∙9 =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екрет вам выдам вс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жды девять — двадцать сем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∙9 = 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авду вам сказ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ью девять — сорок 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929760"/>
            <a:ext cx="324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∙ 8 = 4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кого, друз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 спросим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ь на во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рок восем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3-25T10:55:20Z</dcterms:modified>
  <cp:revision>180</cp:revision>
  <dc:subject/>
  <dc:title>«Влияние  техники оригами на развитие мелкой маторике рук</dc:title>
</cp:coreProperties>
</file>