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A69-C0CC-4229-AE1B-3DCCD9EC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18B-C8F6-45C2-8EB6-1CFAA1C4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A54-260C-43F3-BEAA-1A3CC9C2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1AB-8ADE-474B-9729-373C9CAC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26A-97F5-4905-B78F-88627FBE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C8B-6A78-4C30-8C2F-7C7D0F1F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8D4-D9DB-49E0-A16B-B5778817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FEF-4888-40A3-97FF-D4C2DE4C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BAE-5EC7-4F32-9DC3-2750D0C9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24E-24A5-4BE1-9328-5004D0D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567-1B3A-43BF-AA9D-ED242581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27A-2CAD-4F42-A1F2-066315A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D9AE-2550-492A-98AD-83E40E906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1700280"/>
            <a:ext cx="8001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ноголикая симметрия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260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 для учащих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4869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ипикова Анастасия Игор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Успехов в рабо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692280"/>
            <a:ext cx="7846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имметрия является той иде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редством которой человек на протяжении веков пытался постич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оздать порядок, красоту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ршенств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Вей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оевала ли симметрия наш ми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920" y="260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объединяет картинки?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i-tmb-0x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3095640" cy="2060280"/>
          </a:xfrm>
          <a:prstGeom prst="rect">
            <a:avLst/>
          </a:prstGeom>
          <a:ln w="0">
            <a:noFill/>
          </a:ln>
        </p:spPr>
      </p:pic>
      <p:pic>
        <p:nvPicPr>
          <p:cNvPr id="48" name="0011-019-Simmetrija-v-fizike" descr="Симметрия в физике. Каждая снежинка – это маленький кристалл замерзшей воды. Форма снежинок может быть очень разнообразной, но все они обладают симметрией. Все твердые тела состоят из кристаллов. Назад."/>
          <p:cNvPicPr/>
          <p:nvPr/>
        </p:nvPicPr>
        <p:blipFill>
          <a:blip r:embed="rId2"/>
          <a:stretch/>
        </p:blipFill>
        <p:spPr>
          <a:xfrm>
            <a:off x="6877080" y="2637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49" name="i-tmb-0x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728720" cy="1551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flipH="1" rot="19287000">
            <a:off x="538920" y="1413000"/>
            <a:ext cx="2340000" cy="218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877080" y="465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95280" y="4149720"/>
            <a:ext cx="2305080" cy="18082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276720" y="4221000"/>
            <a:ext cx="287964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мметрия встречается везд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2637000"/>
            <a:ext cx="3529080" cy="1944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мме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1413000"/>
            <a:ext cx="216036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бы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1197000"/>
            <a:ext cx="2160720" cy="1295280"/>
          </a:xfrm>
          <a:prstGeom prst="cloudCallout">
            <a:avLst>
              <a:gd name="adj1" fmla="val -6134"/>
              <a:gd name="adj2" fmla="val 79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ех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197000"/>
            <a:ext cx="2160360" cy="1295280"/>
          </a:xfrm>
          <a:prstGeom prst="cloudCallout">
            <a:avLst>
              <a:gd name="adj1" fmla="val 61462"/>
              <a:gd name="adj2" fmla="val 6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5157720"/>
            <a:ext cx="2160720" cy="1295640"/>
          </a:xfrm>
          <a:prstGeom prst="cloudCallout">
            <a:avLst>
              <a:gd name="adj1" fmla="val -9662"/>
              <a:gd name="adj2" fmla="val -92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физ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5940360" y="4292640"/>
            <a:ext cx="2449440" cy="1295280"/>
          </a:xfrm>
          <a:prstGeom prst="cloudCallout">
            <a:avLst>
              <a:gd name="adj1" fmla="val 44555"/>
              <a:gd name="adj2" fmla="val 69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литера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250560" y="4149720"/>
            <a:ext cx="2593800" cy="1295280"/>
          </a:xfrm>
          <a:prstGeom prst="cloudCallout">
            <a:avLst>
              <a:gd name="adj1" fmla="val -65425"/>
              <a:gd name="adj2" fmla="val 44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рхитек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76360" y="3860640"/>
            <a:ext cx="6480360" cy="15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361b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 какие виды симметрий вам ихвестны? </a:t>
            </a:r>
            <a:endParaRPr b="0" lang="en-US" sz="1800" spc="1" strike="noStrike">
              <a:ln w="25560">
                <a:solidFill>
                  <a:srgbClr val="00361b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36800" y="619560"/>
            <a:ext cx="7153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Симметрия! Я гимн тебе п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Тебя повсюду я в мире узн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Ты в Эйфелевой башне, в малой мош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Ты в елочке, что у лесной доро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С тобою в дружбе и тюльпан, и 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И снежный рой – творение мо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Антонов 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\\server\profiles$\10a\10  класс ( 1 группа)\Бикбулатова Юля\risunok34.jpg"/>
          <p:cNvPicPr/>
          <p:nvPr/>
        </p:nvPicPr>
        <p:blipFill>
          <a:blip r:embed="rId1"/>
          <a:stretch/>
        </p:blipFill>
        <p:spPr>
          <a:xfrm>
            <a:off x="324000" y="404640"/>
            <a:ext cx="1547640" cy="12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692360" y="5157720"/>
            <a:ext cx="612144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1a0d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что вы про них знаете?</a:t>
            </a:r>
            <a:endParaRPr b="0" lang="en-US" sz="1800" spc="1" strike="noStrike">
              <a:ln w="25560">
                <a:solidFill>
                  <a:srgbClr val="001a0d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" name="i-tmb-0x" descr=""/>
          <p:cNvPicPr/>
          <p:nvPr/>
        </p:nvPicPr>
        <p:blipFill>
          <a:blip r:embed="rId2"/>
          <a:stretch/>
        </p:blipFill>
        <p:spPr>
          <a:xfrm>
            <a:off x="7380360" y="333360"/>
            <a:ext cx="14396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метрия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bright="12000"/>
          </a:blip>
          <a:srcRect l="2729" t="7145" r="2830" b="14224"/>
          <a:stretch/>
        </p:blipFill>
        <p:spPr>
          <a:xfrm>
            <a:off x="6588000" y="3500280"/>
            <a:ext cx="2003400" cy="2521080"/>
          </a:xfrm>
          <a:prstGeom prst="rect">
            <a:avLst/>
          </a:prstGeom>
          <a:ln w="25560">
            <a:solidFill>
              <a:srgbClr val="993366"/>
            </a:solidFill>
            <a:prstDash val="sysDot"/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0" r="2825" b="0"/>
          <a:stretch/>
        </p:blipFill>
        <p:spPr>
          <a:xfrm>
            <a:off x="1258920" y="3429000"/>
            <a:ext cx="1942920" cy="2592360"/>
          </a:xfrm>
          <a:prstGeom prst="rect">
            <a:avLst/>
          </a:prstGeom>
          <a:ln w="0">
            <a:noFill/>
          </a:ln>
        </p:spPr>
      </p:pic>
      <p:pic>
        <p:nvPicPr>
          <p:cNvPr id="71" name="i-tmb-0x" descr=""/>
          <p:cNvPicPr/>
          <p:nvPr/>
        </p:nvPicPr>
        <p:blipFill>
          <a:blip r:embed="rId3"/>
          <a:stretch/>
        </p:blipFill>
        <p:spPr>
          <a:xfrm>
            <a:off x="3348000" y="3933720"/>
            <a:ext cx="3095640" cy="2060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1341360"/>
            <a:ext cx="7129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стили в архитектуре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симметрия встречается на улицах нашего посел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виды симметрий используются при создании памятни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она – симметрия мировой архитекту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метрия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чему природа создает симметр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метричен ли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виды симметрий встречаются в при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40360" y="4581360"/>
            <a:ext cx="2521080" cy="187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76720" y="2708280"/>
            <a:ext cx="2519280" cy="184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11280" y="4653000"/>
            <a:ext cx="25192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метрия в бы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такое бордю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лучается орна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виды симметрий используются в бордюр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й вид симметрия лежит в основе орнамен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4297" r="6592" b="4419"/>
          <a:stretch/>
        </p:blipFill>
        <p:spPr>
          <a:xfrm>
            <a:off x="1476360" y="3716280"/>
            <a:ext cx="1511280" cy="1513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4169" t="4760" r="9598" b="4130"/>
          <a:stretch/>
        </p:blipFill>
        <p:spPr>
          <a:xfrm>
            <a:off x="6443640" y="3789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6556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группа – исследователи (отвечают на вопрос: «Властвует ли симметрия в природе?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группа – оформители (создают буклет по теме «Симметрия в физике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449440" cy="2617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10800000">
            <a:off x="6443640" y="260280"/>
            <a:ext cx="2449440" cy="2617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08720" y="4869000"/>
            <a:ext cx="1584360" cy="1558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158436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8:59:21Z</dcterms:created>
  <dc:creator>user</dc:creator>
  <dc:description/>
  <dc:language>en-US</dc:language>
  <cp:lastModifiedBy>home</cp:lastModifiedBy>
  <dcterms:modified xsi:type="dcterms:W3CDTF">2013-05-02T04:27:25Z</dcterms:modified>
  <cp:revision>22</cp:revision>
  <dc:subject/>
  <dc:title>Вводная презентация учителя для учащихся</dc:title>
</cp:coreProperties>
</file>