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795-17DC-49D6-93AB-6B8799F6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7E2-B77A-4F41-B2AE-F298AB66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45E-13FF-4BE2-8950-DD29DFC5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C6E-85B2-4E51-89D7-15C6EE64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9FE3-866E-4D80-9D0C-768D9B08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6CC1-9FBE-447F-B09C-A033A50A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AE6F-1D9D-4E0E-A091-53E46472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3D1-283E-4450-A4D0-82C34838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E354-CAED-45EA-A5C3-5042B0BE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D8DB-2910-4522-9CDC-7EB5F8F7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D961-B875-4687-B220-FF2BB781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C8B-99A8-474E-BFC1-46F62D8D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1A31-2AA4-48B2-892C-0C58B7C2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AD31-49D8-45CE-A194-A5B1CEF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253A-DC5C-4779-9672-F0EDCBFD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FE21-6A52-47ED-8CE1-7BE7400D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BDD0-BEF7-4E7C-A326-1D240B3C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C78-97DB-4F3C-92F1-7A0197AA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1BA-FB4D-497C-9B9C-54FE585F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1FE-625C-4B35-ADBC-D34989BB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999-9DA2-4878-A84A-83E549FD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F0D-782A-412A-A0A5-EC98236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D3D-C0C4-4B27-B3CD-F54BF07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1C3-E418-44FE-896A-F2E7E7A9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0281-EFBD-4587-ABD2-F8B28FF61A1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49DD-F005-4744-8049-D780FE2E17F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 английского язы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удакова О.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КОУ «Эртильская СОШ № 1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uess the wor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is helpfu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r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is mode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o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studies well at schoo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v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makes friends smi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unn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makes a lot of nois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is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 love my Mum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That is your mother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I agree, she is fine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You love your mother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And I love mine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205092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155000" y="2349360"/>
            <a:ext cx="1989000" cy="146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164360" y="4724280"/>
            <a:ext cx="197964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 can speak English, but  I can’t speak French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the guita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the pian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ak Frenc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o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an the roo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computer gam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ad a boo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footbal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hocke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sten to musi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sh the dish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24720" y="9079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740720" y="4149720"/>
            <a:ext cx="1176120" cy="1414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rcRect l="0" t="0" r="0" b="12123"/>
          <a:stretch/>
        </p:blipFill>
        <p:spPr>
          <a:xfrm>
            <a:off x="2771640" y="3284640"/>
            <a:ext cx="1465560" cy="1309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635280" y="5445000"/>
            <a:ext cx="1586160" cy="1200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580000" y="4221000"/>
            <a:ext cx="12956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 ca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1344600" cy="1373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948360" y="1916280"/>
            <a:ext cx="117648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1438560" cy="1412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rcRect l="0" t="0" r="0" b="12123"/>
          <a:stretch/>
        </p:blipFill>
        <p:spPr>
          <a:xfrm>
            <a:off x="6659640" y="4508640"/>
            <a:ext cx="1465200" cy="1309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971640" y="1916280"/>
            <a:ext cx="15858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Mu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’s your mum’s nam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er name is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w old is sh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he is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’s she lik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he is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can she do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he ca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292720" y="3933720"/>
            <a:ext cx="3600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I am 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I have got a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y mother is 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She can ..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y father is 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He ca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y brother/ sister is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She/ he ca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Playful –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игривый, весёл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Proud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горд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Quiet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тих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Wise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мудр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Gentle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неж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Strong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силь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Busy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занят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Stubborn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упря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Slow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медлен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busy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a be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ise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as an ow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layful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a kitt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low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as a snai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quiet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as a mou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619280" cy="1258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1725480" cy="1098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667640" y="3284640"/>
            <a:ext cx="1184400" cy="1189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1130400" cy="1139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380360" y="5429160"/>
            <a:ext cx="143964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Verdana"/>
              </a:rPr>
              <a:t>My family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tubborn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a mu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strong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 as an ox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roud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s a peacock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gentle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 as a lamb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77080" y="1413000"/>
            <a:ext cx="1295280" cy="1062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132680" y="2637000"/>
            <a:ext cx="1106280" cy="1296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1190520" cy="92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732720" y="5300640"/>
            <a:ext cx="1404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Simps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굴림"/>
              </a:rPr>
              <a:t>Repeat, plea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Lisa   [li:sə 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Bart   [ba:t 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Homer   [houmə 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Maggie   [mægi ]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Marge   [ma:d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patien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[peiʃnt]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xophon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[sæksəfoun]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wedish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[swi:diʃ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380360" cy="5400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42920" y="1457280"/>
            <a:ext cx="7380360" cy="54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The 17</a:t>
            </a:r>
            <a:r>
              <a:rPr b="0" lang="en-US" sz="4400" spc="-1" strike="noStrike" baseline="30000">
                <a:solidFill>
                  <a:srgbClr val="006699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 of December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Thursday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Verdana"/>
                <a:ea typeface="宋体"/>
              </a:rPr>
              <a:t>Phonetic Drill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I` ve got a mo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I` ve got a fa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I` ve got a sist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I` ve got a bro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We live toge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We love each other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oth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ath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ist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oth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ie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ph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ughter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cl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f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us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ап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ест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бра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лемянниц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лемянни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ы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оч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яд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же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воюродный брат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ест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ut in the missing letter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-e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e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-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-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-re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e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n-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nc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-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-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u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-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o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ay the wor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o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in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v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riend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unn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ugh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autifu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is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w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r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Класс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Добр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Ум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Дружелюб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Смеш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Непослуш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Красив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Шум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Мил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Заботлив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7776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512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ay the wor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oCl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d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ever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Frien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ny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yNa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tiBeafu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yN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Example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My mother is clev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o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in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lev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riend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unn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ugh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eautifu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is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12:16:45Z</dcterms:created>
  <dc:creator>Юрка</dc:creator>
  <dc:description/>
  <dc:language>en-US</dc:language>
  <cp:lastModifiedBy>Юрка</cp:lastModifiedBy>
  <dcterms:modified xsi:type="dcterms:W3CDTF">2018-03-25T10:43:25Z</dcterms:modified>
  <cp:revision>5</cp:revision>
  <dc:subject/>
  <dc:title>Слайд 1</dc:title>
</cp:coreProperties>
</file>