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728B-1347-4E4E-A832-1CB25030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E81E-67B5-45B5-A966-0D0ED773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1F23-034D-4CBB-B213-E908DD92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E673-4A2D-42A4-8B79-A36B76F2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5BBA-F8ED-4C3F-A53C-3F840E97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BFC7-B5AD-402C-BCAB-20865B30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8F4C-5525-42F8-97EC-BCD1154B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842E-AA1B-4782-BA49-093390B0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5DFF-0FDA-4898-A71B-F8E6EB88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C88B-540E-469F-A562-D0A0FB6B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4690-B80E-4704-9E14-6516F35D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5F76-405F-4999-9BBF-002546FC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24E9-4616-4B37-998F-CE94B39E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DB1E-2566-4A8E-8264-573FA381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CEA0-70BB-42FF-9B3C-A195F2DC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E225-D06E-4BE3-8597-3D1C2A26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00F5-F600-4A22-ADB3-73FB13EF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034A-ADFE-449F-A5A2-1EBF0064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C09F-8A5A-4CA8-9E20-F6F176A6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693-20D8-4F4A-883A-37DA0C54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CF8-DD29-48E8-9969-C770CF3A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8F96-2F25-4243-BDD1-D727AA40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F612-B7B0-41F3-BDF3-ADE203D6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CF52-16DD-4EBC-A7D6-A0D224D6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C8F1-243C-49F8-AAED-2B32EC0BAE0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339B-A585-47EF-BF4A-2D7B02BD23E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y famil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читель английского язы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удакова О.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КОУ «Эртильская СОШ № 1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Guess the word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person who is helpfu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ar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person who is moder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oo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person who studies well at schoo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lev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person who makes friends smil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unn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person who makes a lot of nois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ois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 love my Mum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That is your mother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I agree, she is fine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You love your mother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And I love mine!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093080" y="115920"/>
            <a:ext cx="205092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155000" y="2349360"/>
            <a:ext cx="1989000" cy="1465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7164360" y="4724280"/>
            <a:ext cx="197964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 can speak English, but  I can’t speak French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lay the guita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lay the pian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peak Frenc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an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oo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lean the roo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lay computer gam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ad a boo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lay footbal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lay hocke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isten to music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ash the dish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524720" y="90792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740720" y="4149720"/>
            <a:ext cx="1176120" cy="1414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rcRect l="0" t="0" r="0" b="12123"/>
          <a:stretch/>
        </p:blipFill>
        <p:spPr>
          <a:xfrm>
            <a:off x="2771640" y="3284640"/>
            <a:ext cx="1465560" cy="1309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3635280" y="5445000"/>
            <a:ext cx="1586160" cy="12002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5580000" y="4221000"/>
            <a:ext cx="129564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 ca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1344600" cy="1373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948360" y="1916280"/>
            <a:ext cx="1176480" cy="1414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900000" y="4365720"/>
            <a:ext cx="1438560" cy="1412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rcRect l="0" t="0" r="0" b="12123"/>
          <a:stretch/>
        </p:blipFill>
        <p:spPr>
          <a:xfrm>
            <a:off x="6659640" y="4508640"/>
            <a:ext cx="1465200" cy="1309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971640" y="1916280"/>
            <a:ext cx="158580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y Mum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’s your mum’s nam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er name is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ow old is sh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he is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’s she lik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he is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can she do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he can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292720" y="3933720"/>
            <a:ext cx="36003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y famil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I am ..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I have got a..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My mother is ..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She can ..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My father is ..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He can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My brother/ sister is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She/ he can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y famil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66"/>
                </a:solidFill>
                <a:latin typeface="Verdana"/>
              </a:rPr>
              <a:t>Playful –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игривый, весёл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66"/>
                </a:solidFill>
                <a:latin typeface="Verdana"/>
              </a:rPr>
              <a:t>Proud -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горд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66"/>
                </a:solidFill>
                <a:latin typeface="Verdana"/>
              </a:rPr>
              <a:t>Quiet -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тихи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66"/>
                </a:solidFill>
                <a:latin typeface="Verdana"/>
              </a:rPr>
              <a:t>Wise -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мудр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66"/>
                </a:solidFill>
                <a:latin typeface="Verdana"/>
              </a:rPr>
              <a:t>Gentle -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нежн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66"/>
                </a:solidFill>
                <a:latin typeface="Verdana"/>
              </a:rPr>
              <a:t>Strong -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сильн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66"/>
                </a:solidFill>
                <a:latin typeface="Verdana"/>
              </a:rPr>
              <a:t>Busy -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занято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66"/>
                </a:solidFill>
                <a:latin typeface="Verdana"/>
              </a:rPr>
              <a:t>Stubborn -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упрям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66"/>
                </a:solidFill>
                <a:latin typeface="Verdana"/>
              </a:rPr>
              <a:t>Slow -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медленн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Verdana"/>
              </a:rPr>
              <a:t>My famil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SzPct val="75000"/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busy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 a be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wise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as an ow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SzPct val="75000"/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playful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 a kitte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low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as a snai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SzPct val="75000"/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quiet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as a mous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164360" y="1125360"/>
            <a:ext cx="1619280" cy="12589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435640" y="2349360"/>
            <a:ext cx="1725480" cy="1098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7667640" y="3284640"/>
            <a:ext cx="1184400" cy="11890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5580000" y="4149720"/>
            <a:ext cx="1130400" cy="1139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7380360" y="5429160"/>
            <a:ext cx="143964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Verdana"/>
              </a:rPr>
              <a:t>My family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tubborn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 a mul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As 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strong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 as an ox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66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As 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proud </a:t>
            </a: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as a peacock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As 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gentle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 as a lamb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77080" y="1413000"/>
            <a:ext cx="1295280" cy="1062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7132680" y="2637000"/>
            <a:ext cx="1106280" cy="1296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08000" y="3429000"/>
            <a:ext cx="1190520" cy="925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6732720" y="5300640"/>
            <a:ext cx="140472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he Simps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굴림"/>
              </a:rPr>
              <a:t>Repeat, pleas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굴림"/>
              </a:rPr>
              <a:t>Lisa   [li:sə ]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굴림"/>
              </a:rPr>
              <a:t>Bart   [ba:t ]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굴림"/>
              </a:rPr>
              <a:t>Homer   [houmə ]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굴림"/>
              </a:rPr>
              <a:t>Maggie   [mægi ]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굴림"/>
              </a:rPr>
              <a:t>Marge   [ma:d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з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굴림"/>
              </a:rPr>
              <a:t>]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굴림"/>
              </a:rPr>
              <a:t>patient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굴림"/>
              </a:rPr>
              <a:t>[peiʃnt]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axophon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굴림"/>
              </a:rPr>
              <a:t>[sæksəfoun]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wedish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굴림"/>
              </a:rPr>
              <a:t>[swi:diʃ]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7380360" cy="54007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Verdana"/>
              </a:rPr>
              <a:t>My family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042920" y="1457280"/>
            <a:ext cx="7380360" cy="540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The 17</a:t>
            </a:r>
            <a:r>
              <a:rPr b="0" lang="en-US" sz="4400" spc="-1" strike="noStrike" baseline="30000">
                <a:solidFill>
                  <a:srgbClr val="006699"/>
                </a:solidFill>
                <a:latin typeface="Verdana"/>
              </a:rPr>
              <a:t>th</a:t>
            </a: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 of December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Thursday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Verdana"/>
                <a:ea typeface="宋体"/>
              </a:rPr>
              <a:t>Phonetic Drill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  <a:ea typeface="宋体"/>
              </a:rPr>
              <a:t>I` ve got a mothe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  <a:ea typeface="宋体"/>
              </a:rPr>
              <a:t>I` ve got a fathe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  <a:ea typeface="宋体"/>
              </a:rPr>
              <a:t>I` ve got a siste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  <a:ea typeface="宋体"/>
              </a:rPr>
              <a:t>I` ve got a brothe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  <a:ea typeface="宋体"/>
              </a:rPr>
              <a:t>We live togethe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  <a:ea typeface="宋体"/>
              </a:rPr>
              <a:t>We love each other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  <a:ea typeface="宋体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y famil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oth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ath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ist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roth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iec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ephew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aughter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ncl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if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usi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а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ап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естр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бра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лемянниц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лемянник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ын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оч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яд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же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воюродный брат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естр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ut in the missing letter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-e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ie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-th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oth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-th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ath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-rent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arent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un-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unc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-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-n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un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r-th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roth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ay the word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oo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Kin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lev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riendl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unn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aught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eautifu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ois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w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ar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Классн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Добр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Умн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Дружелюбн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Смешно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Непослушн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Красив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Шумн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Мил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Заботлив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775560" y="0"/>
            <a:ext cx="2368440" cy="1447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093080" y="4941720"/>
            <a:ext cx="1877760" cy="1828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5127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ay the word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oCl     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dK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leverC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Frienl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nnyF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tyNau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tiBeafu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syN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Example: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My mother is clever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o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ind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lev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riendl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unn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aught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eautifu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ois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12:16:45Z</dcterms:created>
  <dc:creator>Юрка</dc:creator>
  <dc:description/>
  <dc:language>en-US</dc:language>
  <cp:lastModifiedBy>Юрка</cp:lastModifiedBy>
  <dcterms:modified xsi:type="dcterms:W3CDTF">2018-03-25T10:43:25Z</dcterms:modified>
  <cp:revision>5</cp:revision>
  <dc:subject/>
  <dc:title>Слайд 1</dc:title>
</cp:coreProperties>
</file>