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823F-4A3E-412C-8EDE-7D8AA113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E4F-8F9A-4DD0-A010-20266089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04E-2F6A-4895-ACFC-3A04FC42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F9EC-B210-4F69-8B5B-63FF1BBE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29FD-308E-41EB-95E0-FB25CD30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204-E5E4-463D-AFE9-BB530758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6B5D-F3B7-4FC8-94A1-EE97E3EE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C078-F871-4A43-8336-4E869C22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2C7-6E8B-4561-BBBE-A835851A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CA6D-F92C-4539-88D3-600E8F21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DEE-E10B-45F9-8231-6C1A265B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E946-F731-4502-9E4E-66373C7D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AE3A-B22D-4226-9209-1D7361054A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477689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>
            <a:off x="857160" y="1857240"/>
            <a:ext cx="74296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Нетрадиционные форм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работы с родителя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по вопросам здоровье сбере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357800" y="4286160"/>
            <a:ext cx="37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оспитатель: Майор Е.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4" descr="2fc5f9eb45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642960" y="64296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Самое сложное в работе с детьми – это работа с их родителями! </a:t>
            </a:r>
            <a:r>
              <a:rPr b="0" lang="ru-RU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3929040" y="28576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3143160" y="2500200"/>
            <a:ext cx="1429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gifr.ru/data/gifs/9/4/1/94139284ad.gif"/>
          <p:cNvPicPr/>
          <p:nvPr/>
        </p:nvPicPr>
        <p:blipFill>
          <a:blip r:embed="rId2"/>
          <a:stretch/>
        </p:blipFill>
        <p:spPr>
          <a:xfrm>
            <a:off x="1357200" y="2286000"/>
            <a:ext cx="6853320" cy="221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shablon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"/>
          <p:cNvSpPr/>
          <p:nvPr/>
        </p:nvSpPr>
        <p:spPr>
          <a:xfrm>
            <a:off x="285840" y="1071360"/>
            <a:ext cx="8572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444"/>
                </a:solidFill>
                <a:latin typeface="Calibri"/>
                <a:ea typeface="Times New Roman"/>
              </a:rPr>
              <a:t>   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дной из целей работы детского сада является сохранение и укрепление здоровья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Здоровье ребенка зависит не только от физических особенностей, но и от условий жизни в семье. Поэтому важно взаимодействие семьи и детского сада в здоровье сбережении детей.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"/>
          <p:cNvSpPr/>
          <p:nvPr/>
        </p:nvSpPr>
        <p:spPr>
          <a:xfrm>
            <a:off x="214200" y="714240"/>
            <a:ext cx="87156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  </a:t>
            </a: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Единство детского сада и семьи в вопросах сохранения здоровья детей достигается в том случае, если цели и задачи воспитания здорового ребенка хорошо понятны не только воспитателям, но и родителям; когда семья знакома с основным содержанием, методами и приемами физкультурно-оздоровительной работы в детском сад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Роль родителей состоит в готовности принимать помощь и поддержку от специалистов детского сада в вопросах сохранения и укрепления здоровья ребё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214200" y="357120"/>
            <a:ext cx="8643960" cy="56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В работе с родителями в данном направлении мы ставим перед собой несколько задач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Одна из которых - обеспечение семей всей имеющейся информацией о передовых и эффективных технологиях и методиках по оздоровлению детей.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Одним из главных путей повышения взаимодействия дошкольного учебного заведения и семьи является использование нетрадиционных форм и средств работы с родителями по формированию здорового образа жизни дошкольник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shablon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283480" y="500040"/>
            <a:ext cx="50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 Black"/>
              </a:rPr>
              <a:t>Информационно-аналитическ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00040" y="142884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57120" y="928800"/>
            <a:ext cx="8643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Основной задачей </a:t>
            </a:r>
            <a:r>
              <a:rPr b="0" i="1" lang="ru-RU" sz="2000" spc="-1" strike="noStrike">
                <a:solidFill>
                  <a:srgbClr val="002060"/>
                </a:solidFill>
                <a:latin typeface="Arial Black"/>
              </a:rPr>
              <a:t>информационно-аналитических форм 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организации общения с родителями являются сбор, обработка и использование данных о семье каждого воспитанника. Только на аналитической основе возможно осуществление индивидуального, личностно-ориентированного подхода к ребенку в условиях дошкольного учреждения, повышение эффективности воспитательно-образовательной работы с детьми и построение грамотного общения с их родителями.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Цель: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выявление интересов, потребностей, запросов родителей, уровня их педагогической грамот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Формы проведения: </a:t>
            </a:r>
            <a:r>
              <a:rPr b="1" lang="ru-RU" sz="2000" spc="-1" strike="noStrike">
                <a:solidFill>
                  <a:srgbClr val="002060"/>
                </a:solidFill>
                <a:latin typeface="Arial Black"/>
              </a:rPr>
              <a:t>проведение социологических срезов, опросов, «Почтовый ящик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shablon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214200" y="1251360"/>
            <a:ext cx="8715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Досуговые 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формы организации общения призваны устанавливать теплые неформальные отношения между педагогами и родителями, а также более доверительные отношения между родителями и детьми. Использование досуговых форм способствует тому, что благодаря установлению позитивной эмоциональной атмосферы родители становятся более открытыми для общения, в дальнейшем педагогам проще налаживать с ними контакты, предоставлять педагогическую информац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Black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установление эмоционального контакта между педагогами, родителями, детьми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Black"/>
                <a:ea typeface="Times New Roman"/>
              </a:rPr>
              <a:t>Формы работы: </a:t>
            </a:r>
            <a:r>
              <a:rPr b="1" lang="ru-RU" sz="2000" spc="-1" strike="noStrike">
                <a:solidFill>
                  <a:srgbClr val="002060"/>
                </a:solidFill>
                <a:latin typeface="Arial Black"/>
              </a:rPr>
              <a:t>совместные досуги, праздники, участие родителей и детей в выставк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3715200" y="42876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 Black"/>
              </a:rPr>
              <a:t>Досуговые</a:t>
            </a:r>
            <a:r>
              <a:rPr b="0" i="1" lang="ru-RU" sz="2800" spc="-1" strike="noStrike">
                <a:solidFill>
                  <a:srgbClr val="ff0000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214200" y="714240"/>
            <a:ext cx="8572680" cy="50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Arial Black"/>
              </a:rPr>
              <a:t>Познавательные </a:t>
            </a:r>
            <a:r>
              <a:rPr b="0" lang="ru-RU" sz="1700" spc="-1" strike="noStrike">
                <a:solidFill>
                  <a:srgbClr val="002060"/>
                </a:solidFill>
                <a:latin typeface="Arial Black"/>
              </a:rPr>
              <a:t>формы организации общения педагогов с семьей предназначены для ознакомления родителей с особенностями возрастного и психологического развития детей, рациональными методами и приемами воспитания для формирования у родителей практических навыков. Основная роль продолжает принадлежать таким коллективным формам общения, как собрания, групповые консультации и др. Данные формы использовались и раньше. Однако сегодня изменились принципы, на основе которых строится общение педагогов и родителей. К ним относятся общение на основе диалога, открытость, искренность в общении, отказ от критики и оценки партнера по общению. Поэтому данные формы рассматриваются нами как нетрадиционные.</a:t>
            </a:r>
            <a:r>
              <a:rPr b="0" lang="ru-RU" sz="1700" spc="-1" strike="noStrike" u="sng">
                <a:solidFill>
                  <a:srgbClr val="002060"/>
                </a:solidFill>
                <a:uFillTx/>
                <a:latin typeface="Arial Black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ff0000"/>
                </a:solidFill>
                <a:uFillTx/>
                <a:latin typeface="Arial Black"/>
                <a:ea typeface="Times New Roman"/>
              </a:rPr>
              <a:t>Цель: </a:t>
            </a:r>
            <a:r>
              <a:rPr b="0" lang="ru-RU" sz="1700" spc="-1" strike="noStrike">
                <a:solidFill>
                  <a:srgbClr val="002060"/>
                </a:solidFill>
                <a:latin typeface="Arial Black"/>
              </a:rPr>
              <a:t>ознакомление родителей с возрастными и психологическими особенностями детей дошкольного возраста. Формирование у родителей практических навыков воспитания дете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ff0000"/>
                </a:solidFill>
                <a:uFillTx/>
                <a:latin typeface="Arial Black"/>
                <a:ea typeface="Times New Roman"/>
              </a:rPr>
              <a:t>Формы работы: </a:t>
            </a:r>
            <a:r>
              <a:rPr b="0" lang="ru-RU" sz="1700" spc="-1" strike="noStrike">
                <a:solidFill>
                  <a:srgbClr val="002060"/>
                </a:solidFill>
                <a:latin typeface="Arial Black"/>
              </a:rPr>
              <a:t>семинары-практикумы, педагогический брифинг, педагогическая гостиная, проведение собраний, консультаций в нетрадиционной форме, устные педагогические журналы, игры с педагогическим содержанием, педагогическая библиотека для родителе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500200" y="2858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 Black"/>
              </a:rPr>
              <a:t>Познавательны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285840" y="1328400"/>
            <a:ext cx="8643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Наглядно-информационные 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формы организации общения педагогов и родителей решают задачи ознакомления родителей с условиями, содержанием и методами воспитания детей в условиях дошкольного учреждения, позволяют правильнее оценить деятельность педагогов, пересмотреть методы и приемы домашнего воспитания, объективнее увидеть деятельность воспитател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Black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Black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ознакомление родителей с работой дошкольного учреждения, особенностями воспитания детей. Формирование у родителей знаний о воспитании и развитии детей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Black"/>
                <a:ea typeface="Times New Roman"/>
              </a:rPr>
              <a:t>Формы работы: 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Информационные проспекты для родителей, организация дней открытых дверей, открытых просмотров занятий и других видов деятельности детей. Выпуск газет, организация мини-библиот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285840" y="35712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Наглядно-информационные: информационно-ознакомительные; информационно-просветительски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214200" y="285840"/>
            <a:ext cx="871560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Сотрудничество воспитателей и родителей должно осуществляться на позициях диало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Что могут делать родители воспитанник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1. Понимать, чувствовать и любить своего ребенка, опираться на его достоинства, а не на его недостат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2. Вести здоровый образ жизни, показывая тем самым пример ребенку (соблюдать режимные моменты, делать зарядку, заниматься закаливанием, спортом, ходить в походы, общаться с природой в любое время года, чаще ходить на прогулк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3. Заниматься профилактикой заболеваний в семь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4. Заботиться о нравственном, психическом и физическом здоровье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5.Своевременно информировать воспитателей о проблемах здоровья ребенка, обращаться за помощью к врач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6. Организовать полноценный досуг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4:04:56Z</dcterms:created>
  <dc:creator>Мой</dc:creator>
  <dc:description/>
  <dc:language>en-US</dc:language>
  <cp:lastModifiedBy>Мой</cp:lastModifiedBy>
  <dcterms:modified xsi:type="dcterms:W3CDTF">2016-11-09T15:44:57Z</dcterms:modified>
  <cp:revision>10</cp:revision>
  <dc:subject/>
  <dc:title>Слайд 1</dc:title>
</cp:coreProperties>
</file>