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DCD-6E2B-4526-95C2-C810238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6A2-854F-462E-88A8-AD75CA32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F3E-5C3F-49FC-B28C-6B656CD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26B-3033-4497-8D5F-F8F8FF3E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598-3682-4852-B418-756BC16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01A-B069-4D02-98DC-6AFEF78E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51B-5D80-49E1-89AE-CD206C8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3BE-9BD3-47BF-BE33-53A9615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3F5-2A81-4EC8-8BA4-7C23C6F5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7EE-2D81-4125-96AA-057B7C8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CF2-154C-4E54-9CA1-85CD137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C23-DD68-48BE-875F-9EC63C8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D25-D231-4B46-A78C-9E93E9530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477689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857160" y="1857240"/>
            <a:ext cx="7429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традиционные фор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аботы с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по вопросам здоровье сбере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357800" y="4286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спитатель: Майор Е.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2fc5f9eb45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642960" y="6429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амое сложное в работе с детьми – это работа с их родителями!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92904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143160" y="250020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gifr.ru/data/gifs/9/4/1/94139284ad.gif"/>
          <p:cNvPicPr/>
          <p:nvPr/>
        </p:nvPicPr>
        <p:blipFill>
          <a:blip r:embed="rId2"/>
          <a:stretch/>
        </p:blipFill>
        <p:spPr>
          <a:xfrm>
            <a:off x="1357200" y="2286000"/>
            <a:ext cx="685332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285840" y="107136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Calibri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дной из целей работы детского сада является сохранение и укрепление здоровь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Здоровье ребенка зависит не только от физических особенностей, но и от условий жизни в семье. Поэтому важно взаимодействие семьи и детского сада в здоровье сбережении детей.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14200" y="714240"/>
            <a:ext cx="8715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  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Единство детского сада и семьи в вопросах сохранения здоровья детей достигается в том случае, если цели и задачи воспитания здорового ребенка хорошо понятны не только воспитателям, но и родителям; когда семья знакома с основным содержанием, методами и приемами физкультурно-оздоровительной работы в детском сад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оль родителей состоит в готовности принимать помощь и поддержку от специалистов детского сада в вопросах сохранения и укрепления здоровья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14200" y="357120"/>
            <a:ext cx="864396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 работе с родителями в данном направлении мы ставим перед собой несколько задач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дна из которых - обеспечение семей всей имеющейся информацией о передовых и эффективных технологиях и методиках по оздоровлению детей.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дним из главных путей повышения взаимодействия дошкольного учебного заведения и семьи является использование нетрадиционных форм и средств работы с родителями по формированию здорового образа жизни дошколь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3480" y="50004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Информационно-аналитическ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00040" y="14288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57120" y="92880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сновной задачей 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</a:rPr>
              <a:t>информационно-аналитических форм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рганизации общения с родителями являются сбор, обработка и использование данных о семье каждого воспитанника. Только на аналитической основе возможно осуществление индивидуального, личностно-ориентированного подхода к ребенку в условиях дошкольного учреждения, повышение эффективности воспитательно-образовательной работы с детьми и построение грамотного общения с их родителями.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ыявление интересов, потребностей, запросов родителей, уровня их педагогической грамо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Формы проведения: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проведение социологических срезов, опросов, «Почтовый ящик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shablon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214200" y="1251360"/>
            <a:ext cx="871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Досуговые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формы организации общения призваны устанавливать теплые неформальные отношения между педагогами и родителями, а также более доверительные отношения между родителями и детьми. Использование досуговых форм способствует тому, что благодаря установлению позитивной эмоциональной атмосферы родители становятся более открытыми для общения, в дальнейшем педагогам проще налаживать с ними контакты, предоставлять педаг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установление эмоционального контакта между педагогами, родителями, детьм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совместные досуги, праздники, участие родителей и детей в выстав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715200" y="4287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Досуговые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14200" y="714240"/>
            <a:ext cx="857268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 Black"/>
              </a:rPr>
              <a:t>Познавательные 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формы организации общения педагогов с семьей предназначены для ознакомления родителей с особенностями возрастного и психологического развития детей, рациональными методами и приемами воспитания для формирования у родителей практических навыков. Основная роль продолжает принадлежать таким коллективным формам общения, как собрания, групповые консультации и др. Данные формы использовались и раньше. Однако сегодня изменились принципы, на основе которых строится общение педагогов и родителей. К ним относятся общение на основе диалога, открытость, искренность в общении, отказ от критики и оценки партнера по общению. Поэтому данные формы рассматриваются нами как нетрадиционные.</a:t>
            </a:r>
            <a:r>
              <a:rPr b="0" lang="ru-RU" sz="17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ознакомление родителей с возрастными и психологическими особенностями детей дошкольного возраста. Формирование у родителей практических навыков воспитания дет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семинары-практикумы, педагогический брифинг, педагогическая гостиная, проведение собраний, консультаций в нетрадиционной форме, устные педагогические журналы, игры с педагогическим содержанием, педагогическая библиотека для роди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2858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Познав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285840" y="132840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глядно-информационные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формы организации общения педагогов и родителей решают задачи ознакомления родителей с условиями, содержанием и методами воспитания детей в условиях дошкольного учреждения, позволяют правильнее оценить деятельность педагогов, пересмотреть методы и приемы домашнего воспитания, объективнее увидеть деятельность воспит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ознакомление родителей с работой дошкольного учреждения, особенностями воспитания детей. Формирование у родителей знаний о воспитании и развитии детей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Формы работы: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Информационные проспекты для родителей, организация дней открытых дверей, открытых просмотров занятий и других видов деятельности детей. Выпуск газет, организация мини-библиот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85840" y="3571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Наглядно-информационные: информационно-ознакомительные; информационно-просветительски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shabl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200" y="285840"/>
            <a:ext cx="871560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Сотрудничество воспитателей и родителей должно осуществляться на позициях диа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то могут делать родители воспитан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1. Понимать, чувствовать и любить своего ребенка, опираться на его достоинства, а не на его недоста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2. Вести здоровый образ жизни, показывая тем самым пример ребенку (соблюдать режимные моменты, делать зарядку, заниматься закаливанием, спортом, ходить в походы, общаться с природой в любое время года, чаще ходить на прогул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3. Заниматься профилактикой заболеваний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4. Заботиться о нравственном, психическом и физическом здоровье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5.Своевременно информировать воспитателей о проблемах здоровья ребенка, обращаться за помощью к врач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6. Организовать полноценный досуг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04:56Z</dcterms:created>
  <dc:creator>Мой</dc:creator>
  <dc:description/>
  <dc:language>en-US</dc:language>
  <cp:lastModifiedBy>Мой</cp:lastModifiedBy>
  <dcterms:modified xsi:type="dcterms:W3CDTF">2016-11-09T15:44:57Z</dcterms:modified>
  <cp:revision>10</cp:revision>
  <dc:subject/>
  <dc:title>Слайд 1</dc:title>
</cp:coreProperties>
</file>