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C01-ECD5-44FF-BE9D-CE66D5F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732-B883-409E-BC57-24DE7985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5EE-A8A5-48DF-9693-C6A29D13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FC0-BBDB-4219-9DDE-780C95D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03F-90B9-4574-92E6-00F6CEE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073-C82E-4A09-825E-F6CC8EBD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D27-4E16-4F72-ACA7-8941F1EF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DB5-2FAF-4248-8C05-26FDCEF0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190-F896-4A8D-8B9E-1530B0E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407-37FA-45D6-932D-0496B08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B2D-2CFD-475D-A36B-F8F0CA6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E89-4A33-464B-B19C-5AC70D0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D673-8DA8-430E-AFD4-C7DCEDBB2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Образование и философ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33360"/>
            <a:ext cx="8642160" cy="863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рия Средних веков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Профессо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реподаватель в университ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Студен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 от лат. студере - «усердно заниматься»)  - человек, который получает знания в университ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Факульте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объединение по предм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Дека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факуль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Ректо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универси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ычно в университетах было три факультета: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богословский, юридиче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медицин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Занятия вели магистры, которые читали книги, а студенты запомин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032000" cy="2443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105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Средневековые школы и университеты. Часть 4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3997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екции дополнялись диспутами – словесными поединками. Это были состязании в знаниях и красноречии по заранее поставленному вопро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Схо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08000" y="1412640"/>
            <a:ext cx="525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 – X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еках в соборных школах и университетах расцветала новая религия –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холасти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( от греч. « схолэ» - школ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File:Thomas Aquinas in Stained Glass.jpg"/>
          <p:cNvPicPr/>
          <p:nvPr/>
        </p:nvPicPr>
        <p:blipFill>
          <a:blip r:embed="rId2"/>
          <a:stretch/>
        </p:blipFill>
        <p:spPr>
          <a:xfrm>
            <a:off x="395280" y="1413000"/>
            <a:ext cx="3097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00200" cy="41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546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Одним из известных философов схоластов был француз Пьер Абеляр. С 1117 года он начинает преподавать в Парижской собор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1119 г. началась его любовь к Элоизы, окончившаяся трагедией: напавшие на него люди изувечили его, а Элоиза ушла в монастыр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589720"/>
            <a:ext cx="403236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ьер Абеляр и Эло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File:Heloïse et d'Abélard.jpg"/>
          <p:cNvPicPr/>
          <p:nvPr/>
        </p:nvPicPr>
        <p:blipFill>
          <a:blip r:embed="rId2"/>
          <a:stretch/>
        </p:blipFill>
        <p:spPr>
          <a:xfrm>
            <a:off x="395280" y="1268280"/>
            <a:ext cx="354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95280" y="1341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Абеляра обрушились его идейные противники, одним из которых был знаменитый мистик, создатель ордена тапмлиеров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File:Heiligenkreuz.Bernard of Clervaux.jpg"/>
          <p:cNvPicPr/>
          <p:nvPr/>
        </p:nvPicPr>
        <p:blipFill>
          <a:blip r:embed="rId2"/>
          <a:stretch/>
        </p:blipFill>
        <p:spPr>
          <a:xfrm>
            <a:off x="539640" y="1268280"/>
            <a:ext cx="331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14800" cy="510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341360"/>
            <a:ext cx="4248000" cy="3456000"/>
          </a:xfrm>
          <a:prstGeom prst="wedgeEllipseCallout">
            <a:avLst>
              <a:gd name="adj1" fmla="val -82662"/>
              <a:gd name="adj2" fmla="val 27675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Нужно верить, а не рассуждать. Вера должна быть простой и искренней, идти от сердца, а не от рассудк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аги Абеляра добились того, что на церковном соборе 1121 г. он собственноручно бросил свою книгу в костё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760" y="1844640"/>
            <a:ext cx="4467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редставления о мире расширя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ереводы с греческого и араб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ые университ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хола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ьер Абеляр и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« Ангельский док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« Ангельский докт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шиной средневековой схоластики были труды учёног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 Фомы Аквинского. Самая знаменитая его книга – « Сумма богосло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82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Фома Акви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создал свою картину всей христианской Вселенной, показывая, что у каждой детали своё место в жизни и соя роль, предназначенная Бо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608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джер Бэкон – монах ордена францисканцев, преподавал в университетах Оксфорда и Парижа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н доказывал, что для познания истины авторитета и разума недостаточно, нужны ещё наблюдения и опы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5840" y="1413000"/>
            <a:ext cx="42861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гра « Крестики – нол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600200"/>
          <a:ext cx="7786800" cy="45259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     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араграф 27, вопросы, 7 вопрос -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520" y="119700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блона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 учитель физи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20 п. Баранчинский, г. Кушва, Свердловской об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исунок для фо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http://prosto-life.ru/prostyie-istorii/o-svyataya-prostota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инки: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rambler.ru/search?query=%D0%9C%D0%BE%D1%80%D0%BA%D0%BE+%D0%BF%D0%BE%D0%BB%D0%BE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ttp://www.wholehistory.ru/Srednie-veka/srednevekovye-shkoly-i-universitety-page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653000"/>
            <a:ext cx="6624720" cy="158436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читайте материал на стр.208 и ответьте на вопрос: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 Благодаря чему расширялись представления людей о мир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762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Яркий рассказ о странах Дальнего Востока оставил венецианский купец и путешественник Марко Поло, который более 25 лет прожил в Китае. По возвращении на родину написал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« Книгу Марко Поло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428840"/>
            <a:ext cx="3560760" cy="480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661000"/>
            <a:ext cx="3743280" cy="7905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360" y="1197000"/>
            <a:ext cx="47512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тели Западной Европы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– 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х почти забыли греческий язык и вовсе не стремились знать восточные язы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290600"/>
            <a:ext cx="2736720" cy="2138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309420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4724280"/>
            <a:ext cx="3151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53384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36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 – X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х появилось большое количество переводов на латинский язык книг греческих и арабских учёных. Круг знаний европейцев расширился и обогати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ое общество было корпоративным, т.е. Каждый человек имел свою, чётко очерченную «нишу», входил в ту или иную корпор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185840"/>
            <a:ext cx="33735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504d"/>
                </a:solidFill>
                <a:uFillTx/>
                <a:latin typeface="Arial"/>
              </a:rPr>
              <a:t>Корпорация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– это обособленная группа людей, которые занимаются определённым общим делом, живут соответствующим ему образом, подчиняются особым правилам и распорядк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ниверситеты представляли собой корпорации людей интеллектуального труда – профессоров и студе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869000"/>
            <a:ext cx="352728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редневек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ниверс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Средневековые школы и университеты. Часть 3"/>
          <p:cNvPicPr/>
          <p:nvPr/>
        </p:nvPicPr>
        <p:blipFill>
          <a:blip r:embed="rId2"/>
          <a:stretch/>
        </p:blipFill>
        <p:spPr>
          <a:xfrm>
            <a:off x="324000" y="2128680"/>
            <a:ext cx="3527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17:15Z</dcterms:modified>
  <cp:revision>6</cp:revision>
  <dc:subject/>
  <dc:title>Заголовок слайда</dc:title>
</cp:coreProperties>
</file>