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BC4-39AF-478A-9330-1CBFFE9D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E0F-F043-4706-8401-2E079AE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22B-E01C-4D3B-B801-421FE089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6C9-4118-4112-8A5A-D6847181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E6D-C985-4CED-B5D4-2AE614D8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AFD-4A4E-4DD1-995F-D16B65A8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258-10FB-4621-BAF3-93BA1EA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8A3-54F1-409D-80D2-1F6B53AF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A93-0D51-424A-B14E-EB5FEF82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EEE-10D9-4A68-8E80-C58FEC7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B06-5D40-4EFD-9C0F-9F3524C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1F8-5D27-43D7-8657-FA0D5B3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EA14-A02F-4F48-BD5C-C338F05CA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Образование и философ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33360"/>
            <a:ext cx="8642160" cy="8636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рия Средних веков, 6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пишем опреде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Arial"/>
              </a:rPr>
              <a:t>Профессор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преподаватель в университ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Arial"/>
              </a:rPr>
              <a:t>Студен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 от лат. студере - «усердно заниматься»)  - человек, который получает знания в университ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Запишем опреде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Факульте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объединение по предмет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Декан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глава факульт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Ректо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глава университ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ычно в университетах было три факультета: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богословский, юридическ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медицинск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Занятия вели магистры, которые читали книги, а студенты запомин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032000" cy="2443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4105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Средневековые школы и университеты. Часть 4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3997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екции дополнялись диспутами – словесными поединками. Это были состязании в знаниях и красноречии по заранее поставленному вопро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Схо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08000" y="1412640"/>
            <a:ext cx="525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 – X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еках в соборных школах и университетах расцветала новая религия –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холасти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( от греч. « схолэ» - школ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File:Thomas Aquinas in Stained Glass.jpg"/>
          <p:cNvPicPr/>
          <p:nvPr/>
        </p:nvPicPr>
        <p:blipFill>
          <a:blip r:embed="rId2"/>
          <a:stretch/>
        </p:blipFill>
        <p:spPr>
          <a:xfrm>
            <a:off x="395280" y="1413000"/>
            <a:ext cx="3097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00200" cy="41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546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Одним из известных философов схоластов был француз Пьер Абеляр. С 1117 года он начинает преподавать в Парижской собор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 1119 г. началась его любовь к Элоизы, окончившаяся трагедией: напавшие на него люди изувечили его, а Элоиза ушла в монастыр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589720"/>
            <a:ext cx="403236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ьер Абеляр и Эло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File:Heloïse et d'Abélard.jpg"/>
          <p:cNvPicPr/>
          <p:nvPr/>
        </p:nvPicPr>
        <p:blipFill>
          <a:blip r:embed="rId2"/>
          <a:stretch/>
        </p:blipFill>
        <p:spPr>
          <a:xfrm>
            <a:off x="395280" y="1268280"/>
            <a:ext cx="3540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95280" y="1341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Абеляра обрушились его идейные противники, одним из которых был знаменитый мистик, создатель ордена тапмлиеров Бернар Клерво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File:Heiligenkreuz.Bernard of Clervaux.jpg"/>
          <p:cNvPicPr/>
          <p:nvPr/>
        </p:nvPicPr>
        <p:blipFill>
          <a:blip r:embed="rId2"/>
          <a:stretch/>
        </p:blipFill>
        <p:spPr>
          <a:xfrm>
            <a:off x="539640" y="1268280"/>
            <a:ext cx="331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114800" cy="510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1341360"/>
            <a:ext cx="4248000" cy="3456000"/>
          </a:xfrm>
          <a:prstGeom prst="wedgeEllipseCallout">
            <a:avLst>
              <a:gd name="adj1" fmla="val -82662"/>
              <a:gd name="adj2" fmla="val 27675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Нужно верить, а не рассуждать. Вера должна быть простой и искренней, идти от сердца, а не от рассудк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раги Абеляра добились того, что на церковном соборе 1121 г. он собственноручно бросил свою книгу в костё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760" y="1844640"/>
            <a:ext cx="4467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редставления о мире расширя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ереводы с греческого и арабс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редневековые университ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хола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ьер Абеляр и Бернар Клерво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« Ангельский докт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« Ангельский докт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ршиной средневековой схоластики были труды учёног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 Фомы Аквинского. Самая знаменитая его книга – « Сумма богосло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82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Фома Акви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создал свою картину всей христианской Вселенной, показывая, что у каждой детали своё место в жизни и соя роль, предназначенная Бо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608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ождер Бэ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джер Бэкон – монах ордена францисканцев, преподавал в университетах Оксфорда и Парижа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ождер Бэ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н доказывал, что для познания истины авторитета и разума недостаточно, нужны ещё наблюдения и опы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5840" y="1413000"/>
            <a:ext cx="42861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гра « Крестики – нол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600200"/>
          <a:ext cx="7786800" cy="45259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           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араграф 27, вопросы, 7 вопрос -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520" y="119700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блона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 учитель физи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20 п. Баранчинский, г. Кушва, Свердловской обл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исунок для фо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http://prosto-life.ru/prostyie-istorii/o-svyataya-prostota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инки: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rambler.ru/search?query=%D0%9C%D0%BE%D1%80%D0%BA%D0%BE+%D0%BF%D0%BE%D0%BB%D0%BE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ttp://www.wholehistory.ru/Srednie-veka/srednevekovye-shkoly-i-universitety-page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653000"/>
            <a:ext cx="6624720" cy="1584360"/>
          </a:xfrm>
          <a:prstGeom prst="ellipse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ия о мире расширяютс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читайте материал на стр.208 и ответьте на вопрос: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 Благодаря чему расширялись представления людей о мир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редставления о мире расширяются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762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Яркий рассказ о странах Дальнего Востока оставил венецианский купец и путешественник Марко Поло, который более 25 лет прожил в Китае. По возвращении на родину написал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« Книгу Марко Поло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428840"/>
            <a:ext cx="3560760" cy="480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661000"/>
            <a:ext cx="3743280" cy="7905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Марко По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ереводы с греческого и арабског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360" y="1197000"/>
            <a:ext cx="475128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тели Западной Европы 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– 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х почти забыли греческий язык и вовсе не стремились знать восточные язы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1290600"/>
            <a:ext cx="2736720" cy="2138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309420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08720" y="4724280"/>
            <a:ext cx="3151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ереводы с греческого и араб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53384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36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 – X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х появилось большое количество переводов на латинский язык книг греческих и арабских учёных. Круг знаний европейцев расширился и обогатил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редневековое общество было корпоративным, т.е. Каждый человек имел свою, чётко очерченную «нишу», входил в ту или иную корпор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185840"/>
            <a:ext cx="33735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504d"/>
                </a:solidFill>
                <a:uFillTx/>
                <a:latin typeface="Arial"/>
              </a:rPr>
              <a:t>Корпорация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– это обособленная группа людей, которые занимаются определённым общим делом, живут соответствующим ему образом, подчиняются особым правилам и распорядк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ниверситеты представляли собой корпорации людей интеллектуального труда – профессоров и студе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869000"/>
            <a:ext cx="352728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редневек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универс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Средневековые школы и университеты. Часть 3"/>
          <p:cNvPicPr/>
          <p:nvPr/>
        </p:nvPicPr>
        <p:blipFill>
          <a:blip r:embed="rId2"/>
          <a:stretch/>
        </p:blipFill>
        <p:spPr>
          <a:xfrm>
            <a:off x="324000" y="2128680"/>
            <a:ext cx="3527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17:15Z</dcterms:modified>
  <cp:revision>6</cp:revision>
  <dc:subject/>
  <dc:title>Заголовок слайда</dc:title>
</cp:coreProperties>
</file>