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7DD-9EB5-43D6-B7AD-292673B8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160-98F4-4C7A-965C-DDC9E7EA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E33-62D4-4325-B8A1-5822644D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314-DADB-4F50-9B3D-7FF8DF18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74E1-12F3-415C-ADAA-23CAF2BF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FC43-5E3C-4274-9965-BE4BDAA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581C-3D1B-49D6-85B3-29ED303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9197-6F9A-4678-8195-A7671842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89E3-6A74-4469-91F3-97155A14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A174-4D1A-4FB7-BEB6-1066A16D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00E3-DB09-4A50-AF13-25C97117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AF6-C302-4534-9DA5-2A534960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2EE3-A66E-4A93-8378-B734955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AE27-44E5-4448-81BE-80B5C16E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6872-5B44-4FD3-BD5D-B0C4A480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84E6-F2EA-4865-89E2-595C104E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B23C-EC51-4346-BA90-79755AE9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2B1-54CA-4EB0-AEAD-A5273990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BC2-FDF1-4066-86F8-5B1600F9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B87-56BF-46CD-A4CF-03EC018E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DB7-BE01-4ED8-AFEB-F6CF5692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483-0CF7-4C7A-A283-1D190DAE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CBB-DE78-4814-B6B4-45A3F6DA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B73-5140-4AA5-868E-6D666D4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635B-6A64-4101-8626-CF91135324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CCFC-D1D2-4E82-80F6-285685D1AE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0" y="189000"/>
            <a:ext cx="50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ОПРИЧНИНА ИВАНА ГРОЗНОГ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763280" y="-360"/>
            <a:ext cx="727236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«Сущность опричнин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27240" cy="16286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5"/>
          <p:cNvSpPr/>
          <p:nvPr/>
        </p:nvSpPr>
        <p:spPr>
          <a:xfrm>
            <a:off x="1258920" y="549360"/>
            <a:ext cx="788508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С. Платонов, Н. Павлов-Сильванский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Борьба аристократии с нарождающимся самодержавием»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С. Соловьев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Прогресс в утверждении государственных начал над родовыми»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Д. Альшиц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Террор – необходимое условие самодержавия»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А. Зимин, С. Веселовский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Деспотизм и насилие в отношении всех слоев населения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В. Кобрин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Борьба удельного и централизованного порядков»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Н. Карамзин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Следствие душевной болезни Ивана </a:t>
            </a:r>
            <a:r>
              <a:rPr b="0" lang="en-US" sz="1700" spc="-1" strike="noStrike">
                <a:solidFill>
                  <a:srgbClr val="ffcc66"/>
                </a:solidFill>
                <a:latin typeface="Tahoma"/>
              </a:rPr>
              <a:t>IV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»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ff"/>
                </a:solidFill>
                <a:latin typeface="Tahoma"/>
              </a:rPr>
              <a:t>В. Ключевский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cc66"/>
                </a:solidFill>
                <a:latin typeface="Tahoma"/>
              </a:rPr>
              <a:t>«Гипертрофированная централизация государственной власти»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9308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) Главным содержанием опричнины стали совершенно бессмысленные убийства. Однако самая страшная и существенная  особенность опричнины заключалась в том, что Иван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V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, и его опричники абсолютно уверены в благости своих чудовищных злодеяний.</a:t>
            </a:r>
            <a:br>
              <a:rPr sz="2400"/>
            </a:br>
            <a:r>
              <a:rPr b="0" lang="ru-RU" sz="2400" spc="-1" strike="noStrike" u="sng">
                <a:solidFill>
                  <a:srgbClr val="ff6600"/>
                </a:solidFill>
                <a:uFillTx/>
                <a:latin typeface="Tahoma"/>
              </a:rPr>
              <a:t>На чем основывалась их уверенность?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7169040" y="0"/>
            <a:ext cx="1974960" cy="2565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250920" y="3213000"/>
            <a:ext cx="8497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Ответьте на вопрос, сформулированный Н. Костомаровым: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Царь Иван Грозный рубил головы, топил, жег огнем своих ближних слуг: народ роптал. Не заявлял ужаса и неудовольствия при виде множества казней, совершаемых часто всенародно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600"/>
                </a:solidFill>
                <a:uFillTx/>
                <a:latin typeface="Tahoma"/>
              </a:rPr>
              <a:t>По этим признакам нельзя ли заключить, что царь Иван делал народу угодно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28800" cy="4535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5"/>
          <p:cNvSpPr/>
          <p:nvPr/>
        </p:nvSpPr>
        <p:spPr>
          <a:xfrm>
            <a:off x="4356000" y="1700280"/>
            <a:ext cx="41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ahoma"/>
              </a:rPr>
              <a:t>Спасибо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ahoma"/>
              </a:rPr>
              <a:t>за урок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6" descr="AG00373_"/>
          <p:cNvPicPr/>
          <p:nvPr/>
        </p:nvPicPr>
        <p:blipFill>
          <a:blip r:embed="rId2"/>
          <a:stretch/>
        </p:blipFill>
        <p:spPr>
          <a:xfrm>
            <a:off x="7020000" y="4815000"/>
            <a:ext cx="21240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40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5406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ть цели и причины, ход, итоги  и последствия опричнины через анализ исторических документов и решения проблемных вопро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835280" y="3127320"/>
            <a:ext cx="53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00800.mpg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916000" y="1989000"/>
            <a:ext cx="68403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Причины опричн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Развитие опричн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Итоги и последствия опричн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989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4788000" y="549360"/>
            <a:ext cx="5182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причн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(1565-1572 г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692360" y="2637000"/>
            <a:ext cx="662472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99"/>
                </a:solidFill>
                <a:latin typeface="Tahoma"/>
              </a:rPr>
              <a:t>                                               </a:t>
            </a:r>
            <a:r>
              <a:rPr b="1" lang="ru-RU" sz="2000" spc="-1" strike="noStrike">
                <a:solidFill>
                  <a:srgbClr val="ff6699"/>
                </a:solidFill>
                <a:latin typeface="Tahoma"/>
              </a:rPr>
              <a:t>Этимолог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древнерусского – </a:t>
            </a:r>
            <a:r>
              <a:rPr b="1" lang="ru-RU" sz="2400" spc="-1" strike="noStrike">
                <a:solidFill>
                  <a:srgbClr val="ccecff"/>
                </a:solidFill>
                <a:latin typeface="Tahoma"/>
              </a:rPr>
              <a:t>«опричь» - кроме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           форму «оприча» как обособленной территории использовал Иван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IV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 Грозный для осуществления особой политики – опричн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0" y="5300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Опричнин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400" spc="-1" strike="noStrike">
                <a:solidFill>
                  <a:srgbClr val="ffff66"/>
                </a:solidFill>
                <a:latin typeface="Tahoma"/>
              </a:rPr>
              <a:t>особый, царский удел, состоящий из лучших земель, находящихся под особым, отдельным опричным управл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15" descr="Рисунок6"/>
          <p:cNvPicPr/>
          <p:nvPr/>
        </p:nvPicPr>
        <p:blipFill>
          <a:blip r:embed="rId1"/>
          <a:stretch/>
        </p:blipFill>
        <p:spPr>
          <a:xfrm>
            <a:off x="108000" y="115920"/>
            <a:ext cx="3959280" cy="25509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604000" y="-3481560"/>
            <a:ext cx="53964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563868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Цели опричнин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7270920" y="0"/>
            <a:ext cx="1873080" cy="2089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468360" y="1125360"/>
            <a:ext cx="5904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Стремление царя к единовласт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Сосредоточение главных сил на продолжении начатой в 1558 г. Ливонской вой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99cc"/>
                </a:solidFill>
                <a:latin typeface="Tahoma"/>
              </a:rPr>
              <a:t>Ликвидация остатков феодальной раздроб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16000" y="33577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Причины опричнин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95280" y="4292640"/>
            <a:ext cx="720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99ff33"/>
                </a:solidFill>
                <a:latin typeface="Tahoma"/>
              </a:rPr>
              <a:t>Противоборство царя с его окружением, вызванное становлением самодержавия, оттеснением от власти княжеско-боярской зна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99ff33"/>
                </a:solidFill>
                <a:latin typeface="Tahoma"/>
              </a:rPr>
              <a:t>Неудовлетворенность царя результатом проводимой внешней политики (ходом Ливонской войн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а с документ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00801.mpg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9" dur="1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56000" y="228600"/>
            <a:ext cx="6286320" cy="26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Документ №2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cc33"/>
                </a:solidFill>
                <a:latin typeface="Tahoma"/>
              </a:rPr>
              <a:t>Ответьте на вопросы:</a:t>
            </a:r>
            <a:br>
              <a:rPr sz="2000"/>
            </a:b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1) С каким событием связано начало опричнины?</a:t>
            </a:r>
            <a:br>
              <a:rPr sz="2000"/>
            </a:b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2) Как изменилась организация государственного управления в годы опричнины?</a:t>
            </a:r>
            <a:br>
              <a:rPr sz="2000"/>
            </a:b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3) Против кого был направлен опричный террор?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282888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6"/>
          <p:cNvSpPr/>
          <p:nvPr/>
        </p:nvSpPr>
        <p:spPr>
          <a:xfrm>
            <a:off x="611280" y="3573360"/>
            <a:ext cx="7561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                  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Документ №3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99ff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Tahoma"/>
              </a:rPr>
              <a:t>К чему могла привести такая политика Ивана Грозног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99ff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Tahoma"/>
              </a:rPr>
              <a:t>Каковы, на ваш взгляд, были последствия опричнины?</a:t>
            </a:r>
            <a:br>
              <a:rPr sz="1800"/>
            </a:br>
            <a:r>
              <a:rPr b="0" lang="ru-RU" sz="1800" spc="-1" strike="noStrike">
                <a:solidFill>
                  <a:srgbClr val="99ff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2"/>
          <a:stretch/>
        </p:blipFill>
        <p:spPr>
          <a:xfrm>
            <a:off x="7713720" y="4724280"/>
            <a:ext cx="1430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3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следствия опричн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Picture 4" descr="1"/>
          <p:cNvPicPr/>
          <p:nvPr/>
        </p:nvPicPr>
        <p:blipFill>
          <a:blip r:embed="rId1"/>
          <a:stretch/>
        </p:blipFill>
        <p:spPr>
          <a:xfrm>
            <a:off x="2268360" y="4437000"/>
            <a:ext cx="3889440" cy="2305080"/>
          </a:xfrm>
          <a:prstGeom prst="rect">
            <a:avLst/>
          </a:prstGeom>
          <a:ln w="98280">
            <a:solidFill>
              <a:srgbClr val="000000"/>
            </a:solidFill>
            <a:miter/>
          </a:ln>
        </p:spPr>
      </p:pic>
      <p:sp>
        <p:nvSpPr>
          <p:cNvPr id="414" name="Oval 14"/>
          <p:cNvSpPr/>
          <p:nvPr/>
        </p:nvSpPr>
        <p:spPr>
          <a:xfrm>
            <a:off x="684360" y="1052640"/>
            <a:ext cx="3166920" cy="576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олит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Oval 15"/>
          <p:cNvSpPr/>
          <p:nvPr/>
        </p:nvSpPr>
        <p:spPr>
          <a:xfrm>
            <a:off x="5508720" y="1052640"/>
            <a:ext cx="2950920" cy="576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оциально-эконом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AutoShape 16"/>
          <p:cNvSpPr/>
          <p:nvPr/>
        </p:nvSpPr>
        <p:spPr>
          <a:xfrm>
            <a:off x="2050920" y="1628640"/>
            <a:ext cx="360360" cy="433440"/>
          </a:xfrm>
          <a:prstGeom prst="downArrow">
            <a:avLst>
              <a:gd name="adj1" fmla="val 0"/>
              <a:gd name="adj2" fmla="val 61136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AutoShape 17"/>
          <p:cNvSpPr/>
          <p:nvPr/>
        </p:nvSpPr>
        <p:spPr>
          <a:xfrm>
            <a:off x="6804000" y="1628640"/>
            <a:ext cx="289080" cy="432000"/>
          </a:xfrm>
          <a:prstGeom prst="downArrow">
            <a:avLst>
              <a:gd name="adj1" fmla="val 0"/>
              <a:gd name="adj2" fmla="val 75958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AutoShape 18"/>
          <p:cNvSpPr/>
          <p:nvPr/>
        </p:nvSpPr>
        <p:spPr>
          <a:xfrm>
            <a:off x="755640" y="1916280"/>
            <a:ext cx="2952720" cy="2376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. Укрепление реж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личной власти цар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. Ликвид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пережитков удель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исте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AutoShape 20"/>
          <p:cNvSpPr/>
          <p:nvPr/>
        </p:nvSpPr>
        <p:spPr>
          <a:xfrm>
            <a:off x="5364000" y="1844640"/>
            <a:ext cx="2953080" cy="2376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. Хозяйствен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разорение стра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. Начало проце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закрепощения крестья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25:30Z</dcterms:created>
  <dc:creator>Алексей</dc:creator>
  <dc:description/>
  <dc:language>en-US</dc:language>
  <cp:lastModifiedBy>Пользователь</cp:lastModifiedBy>
  <dcterms:modified xsi:type="dcterms:W3CDTF">2016-01-18T21:29:14Z</dcterms:modified>
  <cp:revision>27</cp:revision>
  <dc:subject/>
  <dc:title>Слайд 1</dc:title>
</cp:coreProperties>
</file>