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BD2D-CBA8-4212-BB56-778AC555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24B-2FB8-4B6C-9756-EED1DABC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D1A-11D8-45A2-9E28-EDCA9BB8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3FB-12A0-4422-AC55-DFBE15CE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67C5-402D-4A75-A312-9DFBE95C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F974-1076-4FF5-9B2D-7D5FC519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2535-A80D-4F87-BD16-D14F655F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FC14-F1C6-45D5-8845-C18F4945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4F2D-FCB1-4CC9-981B-FDC78B44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AF17-8A24-42FA-861D-513AB307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ABA6-039F-43EF-85F7-9BC84E0F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09D9-445D-4DD1-89CF-43867364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2559-FCB0-4E2A-8B62-CA583B98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D1E3-07C5-4AB3-BC6C-92FF2112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3F0F-22A6-4A4A-AA9B-E77EB09F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5082-FF84-4752-B6F7-402C0E3D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CD85-6D9C-4937-A246-2578442A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B3910-DCE5-4069-B39A-7F6FDA5E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9F4BE-867C-4EC2-B074-EC719256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E9BBB-84B5-45FD-A856-E353EE00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F4701F-05C3-4043-9CA0-BEDA5FB9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97F04-C7AF-4F94-ACF2-98CFBB27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B63-12DC-4EAD-A52B-4034F5C5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710CE-CAE7-44F2-A3B7-C654C716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C7824-ECBB-472F-8C63-D5BA453C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23D95-98BE-42D3-BCFB-91593D6A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F2BC1-AEAE-4387-ABD7-DA7D5DE9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348FE-2F0E-4031-BBE1-2995C4DD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64B22B-209B-4D6F-A993-92FD5B1C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C4C4F-CE85-441D-B529-AA054C19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2F6B9-9819-4365-9C08-106C3735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0A634-92B7-4590-8ACA-5B15316F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5EC02-C4EF-4127-813C-7EB9BF1B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96D-1CA5-40BC-AEDC-B295B07A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94BD7-66DF-42B8-8137-E7948DBA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1E4EE-D265-4B0A-AF75-73E70F05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48D81-4056-4014-91E4-7B92938D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A3B28-EBBF-4197-B855-0E855E15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E6B80-F498-44E9-9679-D1AB8453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6783F-B00A-4E48-A4E8-D305B07B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26B7E-6399-4BF8-A15E-CDA79E00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523FA-D79A-49EF-90A2-5EF6DF41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5A35F-29E7-4E98-B475-E250EDA8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2C503-DE9C-4BAD-8AA1-11549A8D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77B-F3B3-48A8-8883-29524D8E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1115F-C718-4F76-BAE9-608772C7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53094-C45A-40A7-BE4B-91A78A2F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69ACE-0A8C-419C-A1BD-F44E89B9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50944-ACFA-4D0D-968C-54CF1290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D24B1-26B5-4BB1-BC37-FEF1E68D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DDAE3-CF4C-49E7-AFB4-51C8F3DF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305C8-483E-4144-8B83-D2B3BA04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8156A-B2C0-4CE9-9C14-16C7C671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1F731-2BF3-4169-B30D-81BA4E8D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3D5E8-B03C-4F0F-8955-DC13959C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C27-0DBF-4D01-BC92-1757916D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259D6-3C34-4EDC-A64E-609FD7E6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B73-E740-41BA-AAC6-76F937E2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1B9-E860-4917-8188-5F06E337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58A-1733-4900-84D2-4DD093D2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1E0A-3574-4AE7-A213-0334BB74DCE5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50A2-2A7E-43BC-A516-7ECF9F20E043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0225-8BFA-468B-85EB-35F093D23F09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D68F-50D0-4F5B-ABE7-1E9B5B5FFD98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34CB-D904-490A-AD9D-20F89971E697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716000" y="764640"/>
            <a:ext cx="3024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Mistral"/>
              </a:rPr>
              <a:t>ОБЪЕКТЫ  ПРИРОДЫ</a:t>
            </a:r>
            <a:endParaRPr b="0" lang="en-US" sz="5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19" name="Picture 4" descr="2-1"/>
          <p:cNvPicPr/>
          <p:nvPr/>
        </p:nvPicPr>
        <p:blipFill>
          <a:blip r:embed="rId1"/>
          <a:stretch/>
        </p:blipFill>
        <p:spPr>
          <a:xfrm>
            <a:off x="4859280" y="2781360"/>
            <a:ext cx="3029040" cy="3029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2-3"/>
          <p:cNvPicPr/>
          <p:nvPr/>
        </p:nvPicPr>
        <p:blipFill>
          <a:blip r:embed="rId2"/>
          <a:stretch/>
        </p:blipFill>
        <p:spPr>
          <a:xfrm>
            <a:off x="395280" y="176040"/>
            <a:ext cx="400212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10920" y="2852640"/>
            <a:ext cx="590076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b050"/>
                </a:solidFill>
                <a:latin typeface="Mistral"/>
              </a:rPr>
              <a:t>ЯГОДЫ</a:t>
            </a:r>
            <a:endParaRPr b="0" lang="en-US" sz="115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3" descr="2-5"/>
          <p:cNvPicPr/>
          <p:nvPr/>
        </p:nvPicPr>
        <p:blipFill>
          <a:blip r:embed="rId1"/>
          <a:stretch/>
        </p:blipFill>
        <p:spPr>
          <a:xfrm>
            <a:off x="1042920" y="1125360"/>
            <a:ext cx="7162920" cy="42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92000" y="2852640"/>
            <a:ext cx="66913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b050"/>
                </a:solidFill>
                <a:latin typeface="Mistral"/>
              </a:rPr>
              <a:t>ЖЕЛУДИ</a:t>
            </a:r>
            <a:endParaRPr b="0" lang="en-US" sz="115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3" descr="2-6"/>
          <p:cNvPicPr/>
          <p:nvPr/>
        </p:nvPicPr>
        <p:blipFill>
          <a:blip r:embed="rId1"/>
          <a:stretch/>
        </p:blipFill>
        <p:spPr>
          <a:xfrm>
            <a:off x="1042920" y="907920"/>
            <a:ext cx="7315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24000" y="2852640"/>
            <a:ext cx="6259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b050"/>
                </a:solidFill>
                <a:latin typeface="Mistral"/>
              </a:rPr>
              <a:t>ШИШКИ</a:t>
            </a:r>
            <a:endParaRPr b="0" lang="en-US" sz="115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3" descr="2-7"/>
          <p:cNvPicPr/>
          <p:nvPr/>
        </p:nvPicPr>
        <p:blipFill>
          <a:blip r:embed="rId1"/>
          <a:stretch/>
        </p:blipFill>
        <p:spPr>
          <a:xfrm>
            <a:off x="1116000" y="907920"/>
            <a:ext cx="7315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Mistral"/>
              </a:rPr>
              <a:t>ОРЕХ </a:t>
            </a:r>
            <a:br>
              <a:rPr sz="9600"/>
            </a:br>
            <a:r>
              <a:rPr b="0" lang="ru-RU" sz="9600" spc="-1" strike="noStrike">
                <a:solidFill>
                  <a:srgbClr val="00b050"/>
                </a:solidFill>
                <a:latin typeface="Mistral"/>
              </a:rPr>
              <a:t>   И  ОРЕХОВАЯ СКОРЛУПКА</a:t>
            </a:r>
            <a:endParaRPr b="0" lang="en-US" sz="9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3" descr="2-8"/>
          <p:cNvPicPr/>
          <p:nvPr/>
        </p:nvPicPr>
        <p:blipFill>
          <a:blip r:embed="rId1"/>
          <a:stretch/>
        </p:blipFill>
        <p:spPr>
          <a:xfrm>
            <a:off x="1476360" y="1341360"/>
            <a:ext cx="640080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07640" y="2781000"/>
            <a:ext cx="6548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b050"/>
                </a:solidFill>
                <a:latin typeface="Mistral"/>
              </a:rPr>
              <a:t>КОЛОСЬЯ</a:t>
            </a:r>
            <a:endParaRPr b="0" lang="en-US" sz="115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3" descr="2-9"/>
          <p:cNvPicPr/>
          <p:nvPr/>
        </p:nvPicPr>
        <p:blipFill>
          <a:blip r:embed="rId1"/>
          <a:stretch/>
        </p:blipFill>
        <p:spPr>
          <a:xfrm>
            <a:off x="2987640" y="620640"/>
            <a:ext cx="3521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410920" y="2060280"/>
            <a:ext cx="6188040" cy="17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b050"/>
                </a:solidFill>
                <a:latin typeface="Mistral"/>
              </a:rPr>
              <a:t>РОСТОК</a:t>
            </a:r>
            <a:endParaRPr b="0" lang="en-US" sz="10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2-1"/>
          <p:cNvPicPr/>
          <p:nvPr/>
        </p:nvPicPr>
        <p:blipFill>
          <a:blip r:embed="rId1"/>
          <a:stretch/>
        </p:blipFill>
        <p:spPr>
          <a:xfrm>
            <a:off x="2195640" y="981000"/>
            <a:ext cx="4952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39640" y="2781000"/>
            <a:ext cx="61880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b050"/>
                </a:solidFill>
                <a:latin typeface="Mistral"/>
              </a:rPr>
              <a:t>ВЕТКА</a:t>
            </a:r>
            <a:endParaRPr b="0" lang="en-US" sz="115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3" descr="2-2"/>
          <p:cNvPicPr/>
          <p:nvPr/>
        </p:nvPicPr>
        <p:blipFill>
          <a:blip r:embed="rId1"/>
          <a:stretch/>
        </p:blipFill>
        <p:spPr>
          <a:xfrm>
            <a:off x="2556000" y="763560"/>
            <a:ext cx="4117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4360" y="2997000"/>
            <a:ext cx="59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b050"/>
                </a:solidFill>
                <a:latin typeface="Mistral"/>
              </a:rPr>
              <a:t>ЦВЕТЫ</a:t>
            </a:r>
            <a:endParaRPr b="0" lang="en-US" sz="115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2-3"/>
          <p:cNvPicPr/>
          <p:nvPr/>
        </p:nvPicPr>
        <p:blipFill>
          <a:blip r:embed="rId1"/>
          <a:stretch/>
        </p:blipFill>
        <p:spPr>
          <a:xfrm>
            <a:off x="2916360" y="692280"/>
            <a:ext cx="3470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55640" y="2852640"/>
            <a:ext cx="597204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b050"/>
                </a:solidFill>
                <a:latin typeface="Mistral"/>
              </a:rPr>
              <a:t>ЛИСТЬЯ</a:t>
            </a:r>
            <a:endParaRPr b="0" lang="en-US" sz="115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3" descr="2-4"/>
          <p:cNvPicPr/>
          <p:nvPr/>
        </p:nvPicPr>
        <p:blipFill>
          <a:blip r:embed="rId1"/>
          <a:stretch/>
        </p:blipFill>
        <p:spPr>
          <a:xfrm>
            <a:off x="971640" y="981000"/>
            <a:ext cx="7315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5T19:16:15Z</dcterms:created>
  <dc:creator>Маша</dc:creator>
  <dc:description/>
  <dc:language>en-US</dc:language>
  <cp:lastModifiedBy>User</cp:lastModifiedBy>
  <dcterms:modified xsi:type="dcterms:W3CDTF">2018-03-25T10:34:32Z</dcterms:modified>
  <cp:revision>34</cp:revision>
  <dc:subject/>
  <dc:title>ОБЪЕКТЫ ПРИРОДЫ</dc:title>
</cp:coreProperties>
</file>