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8E9-4C5C-48B5-8580-C74DFB57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48C-E2EE-4D35-AC36-DB1B40B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32D-5DF1-4431-8EBD-8C933218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4AE-D9E5-4D25-A3D3-D8B8098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1B56-47B6-4E52-B2E8-346660B5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7CE-E2D9-439A-9D1D-56A78FAC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1906-AD52-493A-9658-80497F9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7810-4E87-4BDF-B66B-11801BE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46F-C620-47AE-A47F-95269F68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A1ED-8766-4D0C-979E-D24AB57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EAC-4E14-40AD-BCAC-BEE738FB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870-71A8-4DA3-ADEB-3CD3A76B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442-4991-4672-8205-04580A7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1C7-1180-4B0B-A0C2-8AED939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BDC-93D7-4D2E-8614-4E811A8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FDA-D575-484F-9679-D9C10455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FA7-B371-4B57-9175-B1A3EF37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E5497-E6A7-438E-88EA-4CDD4DB1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B423C-5C69-4CA2-8206-9C57145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659F1-1455-4A4F-8651-A8350BD2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36F8A-F61C-4538-9068-C2A1A52D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BE0C6-170B-43EE-9A33-6F85C533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4F4-2373-4F09-AD31-B6227F1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5D0CE-7A7D-4BE0-8B42-17E2F07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86691-0AB4-42C2-A335-BEE63C7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C092C-1038-4ED1-9FBB-79E5A9F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E6CA0-B6F9-43C8-A3F3-F367811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377FB-819E-4F7C-8283-F57B6DB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1FFB-1536-4C22-86FB-50BD41F5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0A79A-131F-4E53-A440-526A24E1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63EC-448F-40F5-B07E-A183EBD0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2C80-B233-463A-A433-2385306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D807-563A-4B8F-847B-A554BDA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3F5-F92B-4F6D-A0A0-809E3A4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7029-9247-4414-BD0B-6F03095A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ACF4-CE1E-4E17-A80E-4B417B1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D40F-26B2-4B77-9FA5-7F11CA77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BC8F-AA1C-49CE-96A0-B8FD4A6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08FD-20FF-4377-95F6-47CF226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A9D9-6AF0-4108-8132-A30D9BA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E60B-BA02-483C-A5E4-77F5230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F8C4-5EC2-4C70-9834-6A67BF7E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0826-E075-4383-8B3D-0CDBE85C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40E78-9383-4B72-97E8-0A2F1278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8FD-32EA-4045-8726-E133F95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6572-FA10-428A-9DB1-989B780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CE944-2280-4E61-9FB9-0B82C3CC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778B-26B9-4758-8F16-9FB92E1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5D1A3-32DA-4597-9311-6032906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4D57-5833-4383-BB11-DB901242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F9D9-F434-4D00-99A3-B51EF9D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7C66-B6E4-4C7C-9E53-8B60B6E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5A93-7A5C-4F30-88C3-4226ABB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D30D-35E2-4A2C-AFB3-3B2C07F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2CE14-7571-4539-91A2-DE9609A5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480-D519-4192-8DE7-75E2D7B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B0F6F-23EC-4F28-B0EC-2C68A398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D10-DD9B-4AE7-AC82-83F2F2E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4D4-DF45-4AA6-9309-7C0406A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385-2257-4B0C-9E0F-4044E88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5035-1F66-4716-8012-8F7E27786ED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57A-470F-44B3-BF5A-1E5D74A3F17F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499-5BB8-4B17-AD73-625B8E524B6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B39-524E-4F40-ABC9-540169F0EA6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D7F-EB37-4A1B-90B1-923248DDF29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716000" y="76464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istral"/>
              </a:rPr>
              <a:t>ОБЪЕКТЫ  ПРИРОДЫ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9" name="Picture 4" descr="2-1"/>
          <p:cNvPicPr/>
          <p:nvPr/>
        </p:nvPicPr>
        <p:blipFill>
          <a:blip r:embed="rId1"/>
          <a:stretch/>
        </p:blipFill>
        <p:spPr>
          <a:xfrm>
            <a:off x="4859280" y="278136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2-3"/>
          <p:cNvPicPr/>
          <p:nvPr/>
        </p:nvPicPr>
        <p:blipFill>
          <a:blip r:embed="rId2"/>
          <a:stretch/>
        </p:blipFill>
        <p:spPr>
          <a:xfrm>
            <a:off x="395280" y="176040"/>
            <a:ext cx="400212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10920" y="2852640"/>
            <a:ext cx="590076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ЯГОДЫ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92000" y="2852640"/>
            <a:ext cx="66913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ЖЕЛУДИ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24000" y="2852640"/>
            <a:ext cx="6259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ШИШКИ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istral"/>
              </a:rPr>
              <a:t>ОРЕХ 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Mistral"/>
              </a:rPr>
              <a:t>   И  ОРЕХОВАЯ СКОРЛУПКА</a:t>
            </a:r>
            <a:endParaRPr b="0" lang="en-US" sz="9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07640" y="2781000"/>
            <a:ext cx="6548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КОЛОСЬЯ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10920" y="2060280"/>
            <a:ext cx="6188040" cy="17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b050"/>
                </a:solidFill>
                <a:latin typeface="Mistral"/>
              </a:rPr>
              <a:t>РОСТОК</a:t>
            </a:r>
            <a:endParaRPr b="0" lang="en-US" sz="10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2781000"/>
            <a:ext cx="6188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ВЕТКА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4360" y="2997000"/>
            <a:ext cx="59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ЦВЕТЫ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55640" y="2852640"/>
            <a:ext cx="59720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Mistral"/>
              </a:rPr>
              <a:t>ЛИСТЬЯ</a:t>
            </a:r>
            <a:endParaRPr b="0" lang="en-US" sz="11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User</cp:lastModifiedBy>
  <dcterms:modified xsi:type="dcterms:W3CDTF">2018-03-25T10:34:32Z</dcterms:modified>
  <cp:revision>34</cp:revision>
  <dc:subject/>
  <dc:title>ОБЪЕКТЫ ПРИРОДЫ</dc:title>
</cp:coreProperties>
</file>