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973E-6821-4B94-A9D7-BA3E00E4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3F23-B91C-4A1D-A489-2EF2BBFD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05AE-8641-4E2A-90BA-EF2303C7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7030-9C58-4623-B289-13C6BD2A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A105-74AA-4FE8-91F2-9AD4F724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3001-6618-4E8E-8746-3FD14FF4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8276-DF51-4B81-B8F1-1640A2A8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BDF9-5F76-43CC-A8E5-BD394B23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CBC4-F1F9-4123-904F-927B1E00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7B38-C910-4207-A2F9-67E21D69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9C55-F679-49FE-8BCC-627CC54F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A2A9-B5BF-4CC0-B486-52EB65C0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EA57-9990-4557-911B-74497A751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 нестандартных задач при подготовке к ЕГ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№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числить до сотых √ 26 ,используя формулу для приближенного вычис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6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6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4114800" cy="790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7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516720" y="3357720"/>
            <a:ext cx="1200240" cy="380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3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6816600" cy="486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08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4095720" cy="493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2886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3800" y="14119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68360" y="2708280"/>
            <a:ext cx="1547640" cy="485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39640" y="3284640"/>
            <a:ext cx="1744920" cy="485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60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468360" y="3933720"/>
            <a:ext cx="3490920" cy="486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216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468360" y="4941720"/>
            <a:ext cx="2232000" cy="486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3995640" y="3933720"/>
            <a:ext cx="596880" cy="478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5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468360" y="4508640"/>
            <a:ext cx="411300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дставляем значения коэффици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яд Маклор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51280" y="3284640"/>
            <a:ext cx="2238480" cy="304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4110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8360" y="3789360"/>
            <a:ext cx="26575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3390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3213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но представить в ви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68360" y="4292640"/>
            <a:ext cx="2257200" cy="304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35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458136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яд Тейл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598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59640" y="573408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95280" y="6237360"/>
            <a:ext cx="1095480" cy="304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3390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00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00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670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468360" y="5013360"/>
            <a:ext cx="6153120" cy="1143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3822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468360" y="2421000"/>
            <a:ext cx="6495840" cy="519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№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емщиком была взята на 3 года сумма, равная 684 000 рублей, под 20% годовых, с условием, что вторая выплата будет  вдвое больше первой, а третья- втрое больше первой, и выплаты производятся после начисления процентов на остаток зай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ва была сумма первой выплаты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0T15:29:44Z</dcterms:created>
  <dc:creator>Vasily</dc:creator>
  <dc:description/>
  <dc:language>en-US</dc:language>
  <cp:lastModifiedBy>Vasily</cp:lastModifiedBy>
  <dcterms:modified xsi:type="dcterms:W3CDTF">2018-03-21T12:02:05Z</dcterms:modified>
  <cp:revision>6</cp:revision>
  <dc:subject/>
  <dc:title>Решение нестандартных задач при подготовке к ЕГЭ</dc:title>
</cp:coreProperties>
</file>