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9995-72D0-4885-A741-25A30E006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3FDA-29A0-4147-A979-42D930ECF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E787-1E6B-4873-B188-8B23E233C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A51D-32FB-4F7D-9915-17A2E9628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1BB1-9740-4B7C-A976-BD38D29A2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AD3C-E11D-4162-929F-C46E0C5D3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8A15-CCA1-4C3D-B686-3B518190D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AC64-680F-4B47-9D84-2F8BE4DA6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C3EC-1F4F-4CCB-B9E0-EFFDF615F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FD74-BCA4-4C01-8799-09F35E82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4CF8-0640-488E-B8A8-32C26457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7CA1-9775-4453-B2E5-87B81529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D8F9D-4519-48C8-9774-597FD82341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шение нестандартных задач при подготовке к ЕГ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ча №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числить до сотых √ 26 ,используя формулу для приближенного вычис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6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6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26920" y="3141720"/>
            <a:ext cx="4114800" cy="7905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7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516720" y="3357720"/>
            <a:ext cx="1200240" cy="380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3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6816600" cy="486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3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08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4095720" cy="493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2886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3800" y="14119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68360" y="2708280"/>
            <a:ext cx="1547640" cy="4856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3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539640" y="3284640"/>
            <a:ext cx="1744920" cy="4856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3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3606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468360" y="3933720"/>
            <a:ext cx="3490920" cy="486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2166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468360" y="4941720"/>
            <a:ext cx="2232000" cy="486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3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7"/>
          <a:stretch/>
        </p:blipFill>
        <p:spPr>
          <a:xfrm>
            <a:off x="3995640" y="3933720"/>
            <a:ext cx="596880" cy="478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3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5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8"/>
          <a:stretch/>
        </p:blipFill>
        <p:spPr>
          <a:xfrm>
            <a:off x="468360" y="4508640"/>
            <a:ext cx="411300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дставляем значения коэффициен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яд Маклор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3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4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851280" y="3284640"/>
            <a:ext cx="2238480" cy="304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4110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68360" y="3789360"/>
            <a:ext cx="2657520" cy="3049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3390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321300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жно представить в вид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68360" y="4292640"/>
            <a:ext cx="2257200" cy="3049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0" y="35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4581360"/>
            <a:ext cx="35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яд Тейл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5988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59640" y="5734080"/>
            <a:ext cx="5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395280" y="6237360"/>
            <a:ext cx="1095480" cy="3045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0" y="3390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00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00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2670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468360" y="5013360"/>
            <a:ext cx="6153120" cy="1143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0" y="38228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468360" y="2421000"/>
            <a:ext cx="6495840" cy="5191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0" y="4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ча №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емщиком была взята на 3 года сумма, равная 684 000 рублей, под 20% годовых, с условием, что вторая выплата будет  вдвое больше первой, а третья- втрое больше первой, и выплаты производятся после начисления процентов на остаток зай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ова была сумма первой выплаты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0T15:29:44Z</dcterms:created>
  <dc:creator>Vasily</dc:creator>
  <dc:description/>
  <dc:language>en-US</dc:language>
  <cp:lastModifiedBy>Vasily</cp:lastModifiedBy>
  <dcterms:modified xsi:type="dcterms:W3CDTF">2018-03-21T12:02:05Z</dcterms:modified>
  <cp:revision>6</cp:revision>
  <dc:subject/>
  <dc:title>Решение нестандартных задач при подготовке к ЕГЭ</dc:title>
</cp:coreProperties>
</file>