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120-20AC-4D33-A070-2C69A9F4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7DE-950C-4603-8EF2-85E1C2D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1D1-09EE-429C-BC81-15B579D7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9AC-54EF-4EFE-B07A-F14527DB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B8E-C746-40BD-860F-AC02C94D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3CA-10AC-4340-9EAE-41816C9C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093E-26C5-4EDF-B7E6-3DAC09A6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2CC7-61DE-48EB-A31B-E1266FC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FFB6-19A1-4D37-B8EC-8F76D05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642-B8B0-4A60-98CE-9CFC8544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D274-8E58-43E6-A718-C7926C34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A81-F13F-4BBE-A7FF-CB330FB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56A0-E45A-427E-A27A-B67DBF9E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6D97-1CB0-405F-AACD-238DDFF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334F-811C-4ED3-8B57-DA391F1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7E56-804A-499D-863D-317AF0BA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B095-B635-4FD0-B018-ACF9142D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E03-5AD5-44A4-9ABA-7A00EF07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59F-30EA-43A5-B161-3D7077B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E1B-3559-4E81-9846-90ACF43C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B33-8341-4472-AA17-46A82610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9CE-8648-467B-B2C5-6D50D66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323-7B58-4205-A027-71A1012A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033-0B4A-4156-8482-0DE4D24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EC6A-6F99-402E-84A6-C61BFC606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0593-C581-4039-8880-1E98CC7327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ознавательно-исследовательский проект «Веселый огород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4571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 воспита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шей квалификационной категор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пшина М.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Актуальность темы проекта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роект направлен на расширение и обобщение знаний о культурных огородных растениях, на то, как ухаживать за растениями, на осознание значимости овощей в жизнедеятельности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Цель проек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создание условий стимулирующих интерес к исследовательской деятельности, раскрытие творческого и интеллектуального потенциала дошкольников, вовлечение детей в практическую деятельность по выращиванию культурных огородных раст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 проек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. Учить правильно ухаживать за растени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Дать наглядное представление детям о необходимости света, тепла, влаги, почвы для роста раст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Развивать познавательные и творческие способности дет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. Создавать условия для участия родителей в образовательном процесс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Формировать осознанно-правильное отношение к природе, к труду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ектная иде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создать на участке детского сада огород и цветник. Получить урожай культур, выращенных самими дошкольник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пособы оценки успешност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наблюдения, беседы, практикум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Участники проек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воспитанники МБОУ «ЦО-гимназия №30» ДО №102, родители, воспитате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роки реализации проекта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5 месяцев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этап: Подготовитель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ючает в себя: выращивание рассады подготовка почвы, подготовка орудий труда для посадки и прополки; изготовление алгоритма ухода за растениями; подготовка дидактических игр по теме: «Огород», «Цветник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8" descr="20160715_094701"/>
          <p:cNvPicPr/>
          <p:nvPr/>
        </p:nvPicPr>
        <p:blipFill>
          <a:blip r:embed="rId1"/>
          <a:stretch/>
        </p:blipFill>
        <p:spPr>
          <a:xfrm>
            <a:off x="2209680" y="4038480"/>
            <a:ext cx="40388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этап: Исследователь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ключает в себя: посадка семян, высадка рассады; поливка грядок и клумб; рыхление почвы; прополка и окучивание; помощь воспитателю в проведении в порядок используемое в трудовой деятельности оборудование (очистить, просушить, относить в отведенное место)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20160715_105814"/>
          <p:cNvPicPr/>
          <p:nvPr/>
        </p:nvPicPr>
        <p:blipFill>
          <a:blip r:embed="rId1"/>
          <a:stretch/>
        </p:blipFill>
        <p:spPr>
          <a:xfrm>
            <a:off x="457200" y="441972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20160715_110218"/>
          <p:cNvPicPr/>
          <p:nvPr/>
        </p:nvPicPr>
        <p:blipFill>
          <a:blip r:embed="rId2"/>
          <a:stretch/>
        </p:blipFill>
        <p:spPr>
          <a:xfrm>
            <a:off x="4648320" y="441972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этап: Эстетиче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стетическое оформление огорода, цветника и клумб (декоративные заборчики, фигуры животных и сказочных персонажей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гащение знаний детей о быте в нашем регионе и труде деревенских ж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20160905_105449"/>
          <p:cNvPicPr/>
          <p:nvPr/>
        </p:nvPicPr>
        <p:blipFill>
          <a:blip r:embed="rId1"/>
          <a:stretch/>
        </p:blipFill>
        <p:spPr>
          <a:xfrm>
            <a:off x="380880" y="426708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0160905_105315"/>
          <p:cNvPicPr/>
          <p:nvPr/>
        </p:nvPicPr>
        <p:blipFill>
          <a:blip r:embed="rId2"/>
          <a:stretch/>
        </p:blipFill>
        <p:spPr>
          <a:xfrm>
            <a:off x="4495680" y="426708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20160905_105449"/>
          <p:cNvPicPr/>
          <p:nvPr/>
        </p:nvPicPr>
        <p:blipFill>
          <a:blip r:embed="rId3"/>
          <a:stretch/>
        </p:blipFill>
        <p:spPr>
          <a:xfrm>
            <a:off x="380880" y="4267080"/>
            <a:ext cx="40388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этап: Заключитель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ючает в себя: сбор семян; уборка овощей с огорода; выкапывание луковиц, клубней цветов; перекапывание земли на огороде и в цветнике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20160905_104845"/>
          <p:cNvPicPr/>
          <p:nvPr/>
        </p:nvPicPr>
        <p:blipFill>
          <a:blip r:embed="rId1"/>
          <a:stretch/>
        </p:blipFill>
        <p:spPr>
          <a:xfrm>
            <a:off x="380880" y="41148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20160909_115508"/>
          <p:cNvPicPr/>
          <p:nvPr/>
        </p:nvPicPr>
        <p:blipFill>
          <a:blip r:embed="rId2"/>
          <a:stretch/>
        </p:blipFill>
        <p:spPr>
          <a:xfrm>
            <a:off x="4572000" y="411480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20160909_115508"/>
          <p:cNvPicPr/>
          <p:nvPr/>
        </p:nvPicPr>
        <p:blipFill>
          <a:blip r:embed="rId3"/>
          <a:stretch/>
        </p:blipFill>
        <p:spPr>
          <a:xfrm>
            <a:off x="4572000" y="411480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этапы проекта фотографировались и в результате мы сделали презентацию «Наш веселый огород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тавка детских работ «Дары осен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IMG_20160920_115055"/>
          <p:cNvPicPr/>
          <p:nvPr/>
        </p:nvPicPr>
        <p:blipFill>
          <a:blip r:embed="rId1"/>
          <a:stretch/>
        </p:blipFill>
        <p:spPr>
          <a:xfrm>
            <a:off x="380880" y="331488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G_20160920_121100_1"/>
          <p:cNvPicPr/>
          <p:nvPr/>
        </p:nvPicPr>
        <p:blipFill>
          <a:blip r:embed="rId2"/>
          <a:stretch/>
        </p:blipFill>
        <p:spPr>
          <a:xfrm>
            <a:off x="5181480" y="3276720"/>
            <a:ext cx="23702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11:53:00Z</dcterms:created>
  <dc:creator>1</dc:creator>
  <dc:description/>
  <dc:language>en-US</dc:language>
  <cp:lastModifiedBy>com</cp:lastModifiedBy>
  <dcterms:modified xsi:type="dcterms:W3CDTF">2018-03-25T16:4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