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713-F321-4B22-A255-2B42322F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8CB-8F7A-4070-BA0E-5BB33BFF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7A9-7D5B-468E-AC2F-332A5EFC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F80-68C0-4670-8F0B-24287E15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5CF5-452D-4D83-AE68-49506821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A80A-7ADA-4945-ADFF-8BC4D715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C11C-4DEC-4EB4-95B9-925D310E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86AF-69B1-4736-AAA9-82F13C1F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04DB-B64C-4143-B433-F2B254EB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5F52-0D70-440B-9A22-9ACB4033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94D1-9A21-48B3-8EA6-B58CA981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789-5C9D-4CCB-9EAA-A6030A02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48DA-329F-43D3-8657-499158DB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21F9-0934-453C-9920-914B61C2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AF04-F480-4185-B4FB-5B457AC7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6996-E041-4929-ABC2-EE5F5759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66FB-7776-4DBB-B55D-AE690265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3C6-4A06-43FD-8E60-1BBADAA3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406-70AF-4208-BB47-4C303441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B46-64CD-48E2-A79C-50BAC7F8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5A9-A3A1-485E-88E5-D131A504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26E-D52B-445A-A840-6B25FC15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3A0-29C6-4A30-8018-15F34AF8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053-95EB-4FB1-B84E-B2B9AD86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E480-0FED-4976-BDE1-C505848561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C071-2EC5-459E-A7BE-2C2053B18E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Познавательно-исследовательский проект «Веселый огород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457164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 воспитат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шей квалификационной категори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пшина М.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16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Актуальность темы проекта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проект направлен на расширение и обобщение знаний о культурных огородных растениях, на то, как ухаживать за растениями, на осознание значимости овощей в жизнедеятельности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Цель проект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создание условий стимулирующих интерес к исследовательской деятельности, раскрытие творческого и интеллектуального потенциала дошкольников, вовлечение детей в практическую деятельность по выращиванию культурных огородных раст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 проект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. Учить правильно ухаживать за растения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Дать наглядное представление детям о необходимости света, тепла, влаги, почвы для роста раст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Развивать познавательные и творческие способности дет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. Создавать условия для участия родителей в образовательном процесс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. Формировать осознанно-правильное отношение к природе, к труду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роектная иде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создать на участке детского сада огород и цветник. Получить урожай культур, выращенных самими дошкольника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пособы оценки успешност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наблюдения, беседы, практикум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Участники проект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воспитанники МБОУ «ЦО-гимназия №30» ДО №102, родители, воспитател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роки реализации проекта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5 месяцев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этап: Подготовитель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ключает в себя: выращивание рассады подготовка почвы, подготовка орудий труда для посадки и прополки; изготовление алгоритма ухода за растениями; подготовка дидактических игр по теме: «Огород», «Цветник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8" descr="20160715_094701"/>
          <p:cNvPicPr/>
          <p:nvPr/>
        </p:nvPicPr>
        <p:blipFill>
          <a:blip r:embed="rId1"/>
          <a:stretch/>
        </p:blipFill>
        <p:spPr>
          <a:xfrm>
            <a:off x="2209680" y="4038480"/>
            <a:ext cx="40388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этап: Исследователь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ключает в себя: посадка семян, высадка рассады; поливка грядок и клумб; рыхление почвы; прополка и окучивание; помощь воспитателю в проведении в порядок используемое в трудовой деятельности оборудование (очистить, просушить, относить в отведенное место)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7" descr="20160715_105814"/>
          <p:cNvPicPr/>
          <p:nvPr/>
        </p:nvPicPr>
        <p:blipFill>
          <a:blip r:embed="rId1"/>
          <a:stretch/>
        </p:blipFill>
        <p:spPr>
          <a:xfrm>
            <a:off x="457200" y="441972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20160715_110218"/>
          <p:cNvPicPr/>
          <p:nvPr/>
        </p:nvPicPr>
        <p:blipFill>
          <a:blip r:embed="rId2"/>
          <a:stretch/>
        </p:blipFill>
        <p:spPr>
          <a:xfrm>
            <a:off x="4648320" y="4419720"/>
            <a:ext cx="40384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этап: Эстетиче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ключает в себ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стетическое оформление огорода, цветника и клумб (декоративные заборчики, фигуры животных и сказочных персонажей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гащение знаний детей о быте в нашем регионе и труде деревенских жител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8" descr="20160905_105449"/>
          <p:cNvPicPr/>
          <p:nvPr/>
        </p:nvPicPr>
        <p:blipFill>
          <a:blip r:embed="rId1"/>
          <a:stretch/>
        </p:blipFill>
        <p:spPr>
          <a:xfrm>
            <a:off x="380880" y="4267080"/>
            <a:ext cx="4038840" cy="227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20160905_105315"/>
          <p:cNvPicPr/>
          <p:nvPr/>
        </p:nvPicPr>
        <p:blipFill>
          <a:blip r:embed="rId2"/>
          <a:stretch/>
        </p:blipFill>
        <p:spPr>
          <a:xfrm>
            <a:off x="4495680" y="4267080"/>
            <a:ext cx="4038840" cy="2271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20160905_105449"/>
          <p:cNvPicPr/>
          <p:nvPr/>
        </p:nvPicPr>
        <p:blipFill>
          <a:blip r:embed="rId3"/>
          <a:stretch/>
        </p:blipFill>
        <p:spPr>
          <a:xfrm>
            <a:off x="380880" y="4267080"/>
            <a:ext cx="40388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 этап: Заключитель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ключает в себя: сбор семян; уборка овощей с огорода; выкапывание луковиц, клубней цветов; перекапывание земли на огороде и в цветнике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20160905_104845"/>
          <p:cNvPicPr/>
          <p:nvPr/>
        </p:nvPicPr>
        <p:blipFill>
          <a:blip r:embed="rId1"/>
          <a:stretch/>
        </p:blipFill>
        <p:spPr>
          <a:xfrm>
            <a:off x="380880" y="411480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20160909_115508"/>
          <p:cNvPicPr/>
          <p:nvPr/>
        </p:nvPicPr>
        <p:blipFill>
          <a:blip r:embed="rId2"/>
          <a:stretch/>
        </p:blipFill>
        <p:spPr>
          <a:xfrm>
            <a:off x="4572000" y="411480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20160909_115508"/>
          <p:cNvPicPr/>
          <p:nvPr/>
        </p:nvPicPr>
        <p:blipFill>
          <a:blip r:embed="rId3"/>
          <a:stretch/>
        </p:blipFill>
        <p:spPr>
          <a:xfrm>
            <a:off x="4572000" y="4114800"/>
            <a:ext cx="40384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 этапы проекта фотографировались и в результате мы сделали презентацию «Наш веселый огород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тавка детских работ «Дары осен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7" descr="IMG_20160920_115055"/>
          <p:cNvPicPr/>
          <p:nvPr/>
        </p:nvPicPr>
        <p:blipFill>
          <a:blip r:embed="rId1"/>
          <a:stretch/>
        </p:blipFill>
        <p:spPr>
          <a:xfrm>
            <a:off x="380880" y="331488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IMG_20160920_121100_1"/>
          <p:cNvPicPr/>
          <p:nvPr/>
        </p:nvPicPr>
        <p:blipFill>
          <a:blip r:embed="rId2"/>
          <a:stretch/>
        </p:blipFill>
        <p:spPr>
          <a:xfrm>
            <a:off x="5181480" y="3276720"/>
            <a:ext cx="23702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9T11:53:00Z</dcterms:created>
  <dc:creator>1</dc:creator>
  <dc:description/>
  <dc:language>en-US</dc:language>
  <cp:lastModifiedBy>com</cp:lastModifiedBy>
  <dcterms:modified xsi:type="dcterms:W3CDTF">2018-03-25T16:40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