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133-2E23-47FC-98D8-6D570615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ADD-6D7F-4B95-B9A0-ABC6210A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8B7-BC2F-4E6A-9338-88668C31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F3D-BFED-4887-AC91-7E49B7FA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668D-562A-4A85-8D91-E1C98CA6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D67F-3B62-4485-ACF1-FAB48871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51D3-32FA-4ACE-9699-A44B3A31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2660-843D-49F9-AEE2-BA66BAE1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6F39-9573-4FE4-87CC-616FCA03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C7BE-6B38-479A-9022-37AA7BE7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A7D3-2F42-404A-8B98-F0069119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BD3-556E-4D8F-ABB5-540724C0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6564-D20C-4531-89C1-CCC3ABB2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FCE8-C955-4EE5-B4CC-40A728DE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9CC6-66D7-4A14-B4C8-086F36DA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E585-B5FC-4953-9C77-4D112B55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4118-A3DB-43BB-8DC5-7098C28D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5087-23DC-4E3E-92E5-7490502A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7E0-39C1-4422-8847-D5F577AE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046-6416-44A3-AEA0-8FDE91DE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39C-2EBC-4CBB-944C-AF58DC1A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669-E69B-4281-AB9F-12335139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BFB-CA2A-4F4C-B295-17607DD7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12FC-D318-4560-BF59-30B9E509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051D-7700-45C9-B244-E00E6A40A8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5C47-C8EB-411D-A867-BDF80F7EB45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Образовательная  область «познание»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тельная область «позна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ет до пяти. Число 5. Цифра 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ила: воспитатель высшей    категории     МБДОУ «ЦО – гимназия №30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апшина М.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писок используемой литературы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А. К. Бондаренко. Дидактические игры в детском са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. Альтхауз, Э. Дум. Цвет, форма, коли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Т. С. Комарова, М. А. Васильева, Н. Е. Веракса. От рождения до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Тема:</a:t>
            </a:r>
            <a:r>
              <a:rPr b="1" lang="ru-RU" sz="2400" spc="-1" strike="noStrike">
                <a:solidFill>
                  <a:srgbClr val="b2b2b2"/>
                </a:solidFill>
                <a:latin typeface="Arial"/>
              </a:rPr>
              <a:t> Счет до пяти. Число 5. Цифра 5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образованием числа 5 на      основе сравнения двух совокупностей, содержащих    4 и 5 элементов; познакомить с формой наглядного изображения числа 5; формировать временные представления; развивать мыслительные операции, речь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Материалы к занятию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емонстрационны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игрушки мишки и зайчик, карточки с изображением земляники и черники, геометрические фигуры для игры «Геометрическое лото», картинки для формирования временных представ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аточны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карточки с двумя полосками, набор геометрических фигу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2421000"/>
            <a:ext cx="4038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ифра 5 – с большим брюшк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сит кепку с козырь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школе эту цифру пя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и любят получ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2" descr="DSCN0380"/>
          <p:cNvPicPr/>
          <p:nvPr/>
        </p:nvPicPr>
        <p:blipFill>
          <a:blip r:embed="rId1"/>
          <a:stretch/>
        </p:blipFill>
        <p:spPr>
          <a:xfrm>
            <a:off x="5508720" y="1628640"/>
            <a:ext cx="2808360" cy="218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DSCN0379"/>
          <p:cNvPicPr/>
          <p:nvPr/>
        </p:nvPicPr>
        <p:blipFill>
          <a:blip r:embed="rId2"/>
          <a:stretch/>
        </p:blipFill>
        <p:spPr>
          <a:xfrm>
            <a:off x="5219640" y="4149720"/>
            <a:ext cx="3384720" cy="2519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1" descr="DSCN0381"/>
          <p:cNvPicPr/>
          <p:nvPr/>
        </p:nvPicPr>
        <p:blipFill>
          <a:blip r:embed="rId1"/>
          <a:stretch/>
        </p:blipFill>
        <p:spPr>
          <a:xfrm>
            <a:off x="468360" y="1628640"/>
            <a:ext cx="309564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DSCN0383"/>
          <p:cNvPicPr/>
          <p:nvPr/>
        </p:nvPicPr>
        <p:blipFill>
          <a:blip r:embed="rId2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4"/>
          <p:cNvSpPr/>
          <p:nvPr/>
        </p:nvSpPr>
        <p:spPr>
          <a:xfrm>
            <a:off x="4500720" y="213372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пальчик подержи,        цифру пальчику скаж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считать, повтори: и один, и два, и тр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четыре не забудешь? И четыре говор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последний будешь брать, говори скорее- Пя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000" y="3941280"/>
            <a:ext cx="867564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у пальцев домик шерстя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палец – в комнате од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лько пальцев на руках твоих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лько же и комнаток у н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8" descr="DSCN0400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DSCN0404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пяти легко счит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пальчик подерж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ифру пальчику скаж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считали, повтор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дин, и два, и тр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четыре не забудеш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четыре говор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последний будешь брат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вори скорее пя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DSCN0405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SCN0410"/>
          <p:cNvPicPr/>
          <p:nvPr/>
        </p:nvPicPr>
        <p:blipFill>
          <a:blip r:embed="rId2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бая из твоих сторо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3 соседок гляд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бя в них видит и собой любу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кто же с кем подружится из ни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, что пересеклис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ь те, что параллельн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тут еще угл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в них сердито тычется пространств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у тебя своих забот хватает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DSCN0420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DSCN0428"/>
          <p:cNvPicPr/>
          <p:nvPr/>
        </p:nvPicPr>
        <p:blipFill>
          <a:blip r:embed="rId2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гости к пальчику больш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ходили прямо к д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азательный и средни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ымянный и послед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 мизинчик-малыш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учался на поро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 пальчики-друзь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 без друга им нельз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8" descr="DSCN0439"/>
          <p:cNvPicPr/>
          <p:nvPr/>
        </p:nvPicPr>
        <p:blipFill>
          <a:blip r:embed="rId1"/>
          <a:stretch/>
        </p:blipFill>
        <p:spPr>
          <a:xfrm>
            <a:off x="900000" y="1628640"/>
            <a:ext cx="2951280" cy="2189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DSCN0442"/>
          <p:cNvPicPr/>
          <p:nvPr/>
        </p:nvPicPr>
        <p:blipFill>
          <a:blip r:embed="rId2"/>
          <a:stretch/>
        </p:blipFill>
        <p:spPr>
          <a:xfrm>
            <a:off x="611280" y="3933720"/>
            <a:ext cx="360036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03:41:39Z</dcterms:created>
  <dc:creator>1</dc:creator>
  <dc:description/>
  <dc:language>en-US</dc:language>
  <cp:lastModifiedBy>com</cp:lastModifiedBy>
  <dcterms:modified xsi:type="dcterms:W3CDTF">2018-03-25T16:38:12Z</dcterms:modified>
  <cp:revision>39</cp:revision>
  <dc:subject/>
  <dc:title>Занятие по математике в подготовительной группе «Знакомство с числом и цифрой 5»</dc:title>
</cp:coreProperties>
</file>