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72F-F67D-403C-9D33-92358D81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60D-3EF8-4875-9691-F6E7B5B2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460-4A13-400C-9B49-77741C8D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BC3-C73B-424A-BD62-F0545B7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2FE6-6424-4F42-B47F-1FC9655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B317-571F-4ED8-A746-8E88C75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96A-2C6D-414B-A457-253FFDF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932F-54FC-4C21-875B-8C90B793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4CC-1C41-4FF3-862C-FF3BFB5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A39F-3B84-44EB-9DD4-035609D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D8B4-989A-4AF9-8A60-678BD83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540-03E9-495E-8D13-07F5638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77D5-9DB7-4A48-A2BF-2C968AF2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08E6-8184-4E6A-AB23-A3D7CD4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49E7-6F40-440B-A2A3-5B8F21C3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351-74DA-4760-A906-CF8B785B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8DA-BEA1-4EB7-A207-B279C598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E58-DFBA-4783-846E-85CCC29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79D-7C52-4938-B323-91F3C76D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B0D-3660-43D2-801A-32A4F936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FCF-74D0-4A45-97E7-4A419C8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6B3-91C9-48B5-A0EA-73D93CA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C04-DABB-4C65-A7D3-F52471E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A85-B2FE-4E91-B35A-3C7C3AA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647-3C45-4AE1-B87C-C3315BA6D0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1ED9-D8A0-4691-808D-DD7B3F72588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Образовательная  область «познание»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тельная область «позн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ет до пяти. Число 5. Цифра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: воспитатель высшей    категории     МБДОУ «ЦО – гимназия №30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апшина М.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писок используемой литературы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. К. Бондаренко. Дидактические игры в детском с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. Альтхауз, Э. Дум. Цвет, форма, кол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. С. Комарова, М. А. Васильева, Н. Е. Веракса. От рождения до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 Счет до пяти. Число 5. Цифра 5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бразованием числа 5 на      основе сравнения двух совокупностей, содержащих    4 и 5 элементов; познакомить с формой наглядного изображения числа 5; формировать временные представления; развивать мыслительные операции, речь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Материалы к занятию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монстрацион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игрушки мишки и зайчик, карточки с изображением земляники и черники, геометрические фигуры для игры «Геометрическое лото», картинки для формирования временных представ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аточ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карточки с двумя полосками, набор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фра 5 – с большим брюшк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сит кепку с козырь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коле эту цифру п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любят получ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2" descr="DSCN0380"/>
          <p:cNvPicPr/>
          <p:nvPr/>
        </p:nvPicPr>
        <p:blipFill>
          <a:blip r:embed="rId1"/>
          <a:stretch/>
        </p:blipFill>
        <p:spPr>
          <a:xfrm>
            <a:off x="5508720" y="1628640"/>
            <a:ext cx="280836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DSCN0379"/>
          <p:cNvPicPr/>
          <p:nvPr/>
        </p:nvPicPr>
        <p:blipFill>
          <a:blip r:embed="rId2"/>
          <a:stretch/>
        </p:blipFill>
        <p:spPr>
          <a:xfrm>
            <a:off x="5219640" y="4149720"/>
            <a:ext cx="3384720" cy="2519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1" descr="DSCN0381"/>
          <p:cNvPicPr/>
          <p:nvPr/>
        </p:nvPicPr>
        <p:blipFill>
          <a:blip r:embed="rId1"/>
          <a:stretch/>
        </p:blipFill>
        <p:spPr>
          <a:xfrm>
            <a:off x="468360" y="1628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DSCN0383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4500720" y="213372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ьчик подержи,        цифру пальчику ск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читать, повтори: и один, и два, и т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етыре не забудешь? И четыре гов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последний будешь брать, говори скорее- Пя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3941280"/>
            <a:ext cx="86756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у пальцев домик шерстя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ец – в комнате од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пальцев на руках твоих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лько же и комнаток у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DSCN0400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SCN0404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пяти легко счи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альчик подерж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фру пальчику ск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читали, повт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дин, и два, и т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етыре не забудеш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четыре говор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последний будешь брат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и скорее п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DSCN0405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N0410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ая из твоих сторо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3 соседок гляд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бя в них видит и собой любу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кто же с кем подружится из н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, что пересеклис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ь те, что параллель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ут еще уг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них сердито тычется простран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у тебя своих забот хватае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DSCN0420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SCN0428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сти к пальчику больш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ходили прямо к д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азательный и сред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ымянный и послед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 мизинчик-малыш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чался на пор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пальчики-друзь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 без друга им нельз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DSCN0439"/>
          <p:cNvPicPr/>
          <p:nvPr/>
        </p:nvPicPr>
        <p:blipFill>
          <a:blip r:embed="rId1"/>
          <a:stretch/>
        </p:blipFill>
        <p:spPr>
          <a:xfrm>
            <a:off x="900000" y="162864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SCN0442"/>
          <p:cNvPicPr/>
          <p:nvPr/>
        </p:nvPicPr>
        <p:blipFill>
          <a:blip r:embed="rId2"/>
          <a:stretch/>
        </p:blipFill>
        <p:spPr>
          <a:xfrm>
            <a:off x="611280" y="3933720"/>
            <a:ext cx="36003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3:41:39Z</dcterms:created>
  <dc:creator>1</dc:creator>
  <dc:description/>
  <dc:language>en-US</dc:language>
  <cp:lastModifiedBy>com</cp:lastModifiedBy>
  <dcterms:modified xsi:type="dcterms:W3CDTF">2018-03-25T16:38:12Z</dcterms:modified>
  <cp:revision>39</cp:revision>
  <dc:subject/>
  <dc:title>Занятие по математике в подготовительной группе «Знакомство с числом и цифрой 5»</dc:title>
</cp:coreProperties>
</file>