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15D-5841-4836-828B-CF7FAE4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012-6A89-4DFC-B0E5-33A423A9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D5D-F3BB-48A7-B313-74CC826E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648-7734-4823-9DFC-D65BC8FD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DE55-2498-4CFE-9C17-B273D65D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C213-68FC-4774-855D-AC553B5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4B25-5D49-47D9-819F-C1775E6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3F0-2C11-4421-9A98-6700B32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574-4BF4-4086-BE46-A0A4361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C65-6C58-4E60-B9EC-B0523ED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E618-6CFC-4778-9B34-D928739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587-2C4C-436A-89B9-055E45E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E52-7EA8-461A-A7EE-0A142DA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98D-328E-40D8-929F-1FA28C3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A4C0-E469-44CF-A309-7F79489F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994-D38C-4AAD-B0CC-FF8845F3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265-3769-4EAC-8EBB-036F5B83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BAA-688B-44D5-84AE-F300158F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6AB-D981-473A-AE10-DA5B712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A1A-D58C-4292-9782-B3541151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D2B-CD7E-4FC3-A593-82C39A0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F57-22D7-4FDD-8919-39BD851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843-CDDD-4E39-A530-D86A494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B0-8C89-4949-B7C7-D6C20C1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DBF-1CC8-4A1E-BC60-B3DF78895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BF1-90B0-4F73-BA76-DB4B0BA9B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Тема: «Изготовление дерева рябины»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Рябина обыкновенная"/>
          <p:cNvPicPr/>
          <p:nvPr/>
        </p:nvPicPr>
        <p:blipFill>
          <a:blip r:embed="rId1"/>
          <a:stretch/>
        </p:blipFill>
        <p:spPr>
          <a:xfrm>
            <a:off x="990720" y="1981080"/>
            <a:ext cx="7238880" cy="4515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Словарь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низа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бисе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буси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проволо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Методическое и дидактическое обеспечение: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разец в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отографии с изображением рябины во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 времена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ы плет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вол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ис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ус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готовка дер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Технические средства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узыкальный цент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ультимедийная установ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ьюте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Подготовка к занятию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готовление сх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готовка дерева-платфор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готовка инструмента и материала для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бор литературы и иллюстраций с изображением рябины во все времена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380880"/>
            <a:ext cx="76960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Times New Roman"/>
              </a:rPr>
              <a:t>Спасибо за внимание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930240"/>
            <a:ext cx="8001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Форма организации занятия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ндивидуально-группо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Структура занятия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оретическа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ческая ч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растной состав группы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8 - 12 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здать оптимальные педагогические условия для развития творческих задатков и способностей обучающихся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крепить и расширить знания и умения, полученные на предыдущих занятиях: петельное, прямое и обратное низ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 помощью изготовленных веток создать дере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чить планировать свою работу, учитывать ее результа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спитывать высокую культуру труда, делать поделку эстетичной, доброкачеств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Общепедагогические принцип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уч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истемность и последовате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ступность и актуа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вязь учебного материала с жизн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Теор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сказ о ряби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образц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ёмы бисероплетения, используемые для изготовления ветки рябины: петельное, прямое и обратное низ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бинирование приём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хника выполнения элементов в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бор материа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ветовое и композиционное реш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Практическая рабо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полнение отдельных элементов в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ставление композиц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борка и закрепление ветки на дерев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ставка коллективной раб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нализ выполненной р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Методы обуч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тивация и стимулирование, формирование интереса к занятию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изация и осуществление учебно-познавательной деятельности (словесный, наглядный и практический методы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оперативное обуч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зговой штур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упповая дискусс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Педагогические технолог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ичностно-ориентированный подход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дагогика сотрудничества и сотворчест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вающее об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7-02-20T05:47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