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C56-9186-4617-98B2-A070BDC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7D3-089E-4846-8E08-CD28E2EA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BA2-6026-4224-9EFF-5E7D8409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778-1B19-41C6-9F8F-4FFAEFBA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636C-DCAA-4139-9BF2-DC73A995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1E8B-C494-4635-8BCD-5B884F9B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507-F0E5-48D0-BCD0-3EACD671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59CC-98CD-4843-BEB7-82AB910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8CD9-8950-4F58-858B-E741DAA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6ACA-7180-40A5-BC09-4C30FF40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1958-B2D3-4186-B15F-4492E40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F94-8B4C-4B04-BD1A-5B12184B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C005-133E-4447-8058-014F481C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71B6-88BF-447A-A2F3-BA6E041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A454-BEC5-4C89-825B-6BA55D0E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D496-B648-4907-8BEF-524D8126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0A3A-0185-4AA8-AF1A-284C3352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D9E-4614-48D5-9673-A291EE40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C83-A78A-4B7E-BAD6-FC502A2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B1C-FCB7-4670-9E55-4331D5FE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CEB-B40B-4481-A093-144869AC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16D-882E-488E-BA4B-334AA1E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D6D-13C7-45A6-B837-AC8130F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EB6-5084-46E8-B056-2C4D9D7D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DCE5-E9D9-47A2-8A6A-4A459BD67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190-1287-478A-A567-0EABE2C4D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Тема: «Изготовление дерева рябины»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Рябина обыкновенная"/>
          <p:cNvPicPr/>
          <p:nvPr/>
        </p:nvPicPr>
        <p:blipFill>
          <a:blip r:embed="rId1"/>
          <a:stretch/>
        </p:blipFill>
        <p:spPr>
          <a:xfrm>
            <a:off x="990720" y="1981080"/>
            <a:ext cx="7238880" cy="4515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Словарь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низа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бисер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бусин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проволо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Методическое и дидактическое обеспечение: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разец ве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отографии с изображением рябины во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 времена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хемы плет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воло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ис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уси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готовка дер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Технические средства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узыкальный цент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ультимедийная установ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ьюте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Подготовка к занятию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зготовление сх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дготовка дерева-платфор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дготовка инструмента и материала для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дбор литературы и иллюстраций с изображением рябины во все времена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380880"/>
            <a:ext cx="76960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Times New Roman"/>
              </a:rPr>
              <a:t>Спасибо за внимание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pic>
        <p:nvPicPr>
          <p:cNvPr id="146" name="" descr="Рябина обыкновенная"/>
          <p:cNvPicPr/>
          <p:nvPr/>
        </p:nvPicPr>
        <p:blipFill>
          <a:blip r:embed="rId1"/>
          <a:stretch/>
        </p:blipFill>
        <p:spPr>
          <a:xfrm>
            <a:off x="9144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930240"/>
            <a:ext cx="8001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Форма организации занятия: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ндивидуально-группов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Структура занятия: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еоретическа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актическая ч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растной состав группы: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8 - 12 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Цел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здать оптимальные педагогические условия для развития творческих задатков и способностей обучающихся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крепить и расширить знания и умения, полученные на предыдущих занятиях: петельное, прямое и обратное низ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 помощью изготовленных веток создать дере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чить планировать свою работу, учитывать ее результа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спитывать высокую культуру труда, делать поделку эстетичной, доброкачеств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Общепедагогические принцип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уч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истемность и последователь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оступность и актуаль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вязь учебного материала с жизн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Теор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сказ о ряби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лиз образц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ёмы бисероплетения, используемые для изготовления ветки рябины: петельное, прямое и обратное низ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бинирование приём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хника выполнения элементов ве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бор материа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ветовое и композиционное реш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Times New Roman"/>
              </a:rPr>
              <a:t>Практическая работ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полнение отдельных элементов ве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ставление композиц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борка и закрепление ветки на дерев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ставка коллективной работ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нализ выполненной р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Методы обуч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тивация и стимулирование, формирование интереса к занятию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ганизация и осуществление учебно-познавательной деятельности (словесный, наглядный и практический методы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оперативное обуче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зговой штур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рупповая дискусс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Педагогические технолог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ичностно-ориентированный подход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дагогика сотрудничества и сотворчеств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вающее обу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7-02-20T05:47:3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