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EF7-C174-4502-AA5A-74CBBFEA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955-DF58-4EAF-A9D2-1A83C78C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693-138B-45AA-84B0-310BE227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949-53F2-4319-87C6-36775625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6AB-5C6B-476D-8F32-9E8A3653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210-F50C-40A4-BC3A-24B9BCB4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044-45FB-4E4E-993E-08DEB115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864-59AF-4EB9-9885-812260E2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CD6-D701-4558-A3AD-69CBCF6B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3E2-5A75-4F94-B2F1-021809DA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259-35EA-4964-B19C-5FE3287E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E7D-099F-44BE-9540-0D03471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C990-3278-4AAF-9CE8-C83253CB6630}" type="slidenum">
              <a:rPr b="0" i="1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http://www.kazachok-234.ru/files/85d7247fb0ea42c6d61345f2cb424143.jpg"/>
          <p:cNvPicPr/>
          <p:nvPr/>
        </p:nvPicPr>
        <p:blipFill>
          <a:blip r:embed="rId1"/>
          <a:stretch/>
        </p:blipFill>
        <p:spPr>
          <a:xfrm>
            <a:off x="250920" y="3368520"/>
            <a:ext cx="3430440" cy="34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818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ое дошко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ский сад № 10 «Богатырь» Московского района  СПБ</a:t>
            </a:r>
            <a:br>
              <a:rPr sz="1800"/>
            </a:b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ртикуляционная гимнастика -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ак средство речевого развития детей старшего дошкольного возраст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724000" y="4437000"/>
            <a:ext cx="3024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зентацию подготови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идорова Наталья Игоревн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читель – логопе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изация проведения артикуляционной гимнастики в домашних условиях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25000"/>
            <a:ext cx="829152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Взрослый показывает выполнение упраж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Упражнение делает ребенок, а взрослый контролирует выполн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зрослый, проводящий артикуляционную гимнастику, должен следить за качеством выполняемых ребенком движений: точность движения, плавность, темп выполнения, устойчивость, переход от одного движения к другому. Также важно следить, чтобы движения каждого органа артикуляции выполнялись симметрично по отношению к правой и левой стороне лица. В противном случае артикуляционная гимнастика не достигает своей цел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Если у ребенка не получается какое-то движение, помогать ему (шпателем, ручкой чайной ложки, ватной палочкой или просто чистым пальцем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Для того чтобы ребенок нашел правильное положение языка, например, облизал верхнюю губу, намазать ее вареньем, шоколадом или чем-то еще, что можно вашему ребенку. Подходить к выполнению упражнений творческ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начала при выполнении детьми упражнений наблюдается напряженность движений органов артикуляционного аппарата. Постепенно напряжение исчезает, движения становятся непринужденными и вместе с тем координированны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зрослый рассказывает о предстоящем упражнении, используя игровые приемы (например, можно использовать для этого «Сказку о язычке», артикуляционная гимнастика в картинках и. т. д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случайно у каждого артикуляционного упражнения есть свое название и образ. Что ребенку интересней: по инструкции облизывать широким языком верхнюю губу или представить, что облизываешь с верхней губы вкусное варенье… клубничное, малиновое, яблочное? Вот, заодно и  пополняем и развиваем  словарь дет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ртикуляционные комплек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4920" y="69192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жнения для развития движений органов артикуляционного аппарата объединены в комплексы для постановки звук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жнения, вырабатывающие основные движения и положения органов артикуляции. ( «Улыбка», «Трубочка», «Заборчик», «Рыбка», «Часики», «Качели»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жнения, способствующие выработке движений органов артикуляционного аппарата, необходимых для правильного произнесения свистящих звуков («Лопаточка», «Дуем на лопаточку», «Почистим зубки», «Накажем непослушный язык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жнения, способствующие выработке движений органов артикуляционного аппарата, необходимых для правильного произнесения шипящих звуков и звуков [Р]  и [Л] ( «Лошадка», «Маляр», «Вкусное варенье», «Болтушки», «Дятел», «Барабанщик», «Грибок», «Иголочка», «Спрячем конфетку»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0755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ьное речевое дыхание - основа звучащей речи</a:t>
            </a:r>
            <a:br>
              <a:rPr sz="5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123920"/>
            <a:ext cx="8147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чником образования звуков речи является воздушная струя, выходящая из легких через гортань, глотку, полость рта или носа наруж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ыхание обеспечивает нормальное звукообразование, создает условия для поддержания нормальной громкости речи, четкого соблюдения пауз, сохранения плавности речи и интонационной вырази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учшим типом речевого дыхания является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диафрагмально – нижнереберно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и вдохе диафрагма опускается, нижние ребра отходят в стороны, плечи при этом не поднимаютс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араметры правильного ротового выдох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оху предшествует сильный вдох через нос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ох происходит плавно, а не толчк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выдоха губы складывать трубочкой и улыбкой, не следует сжимать губы, надувать ще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выдоха воздух выходит через рот, нельзя допускать выхода воздуха через нос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ыхать следует, пока не закончится воздух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пения или разговора нельзя добирать воздух при помощи частых коротких вдох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РТИКУЛЯЦИОННАЯ ГИМНА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413000"/>
            <a:ext cx="8147160" cy="4176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ость особых упражнений, способствующих укреплению мышц артикуляционного аппарата и развитию силы, ловкости и дифференцированности движений данного орга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водится с детьми дошкольного возраста 2-3 раза в ден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олжительность – до 5 мину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комплекс должно входить 4-5 упражнений: 2-3 статических и 2-3 динамическ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66280" y="260280"/>
            <a:ext cx="7821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ак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егулярное выполнение артикуляционной гимнастики помож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лучшить кровоснабжение артикуляционных органов и их иннервацию (нервную проводимость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лучшить подвижность артикуляционных орган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крепить мышечную систему языка, губ, щё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учить ребёнка удерживать определённую артикуляционную поз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величить амплитуду дви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меньшить спастичность (напряжённость артикуляционных орган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дготовить ребёнка к правильному произношению звуков и введению их в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626920" y="1752120"/>
            <a:ext cx="5940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0" descr="Гномик 1"/>
          <p:cNvPicPr/>
          <p:nvPr/>
        </p:nvPicPr>
        <p:blipFill>
          <a:blip r:embed="rId1"/>
          <a:stretch/>
        </p:blipFill>
        <p:spPr>
          <a:xfrm>
            <a:off x="179280" y="2492280"/>
            <a:ext cx="3384720" cy="436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огда у моего ребенка пропадут дефекты речи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вень развития ребенка в первую очередь зависит от той атмосферы, создают сознательно, а большой частью, и бессознательно взрослые в семье. Степень влияния домашней работы родителей с детьми на время и качество коррекции речи ребенка велика. Ожидания и надежды родителей связаны, как правило, только с работой логопеда. Поэтому довольно часто воспитателям и логопеду приходится сталкиваться с такими вопросами, как: «Вы специалисты, поэтому ждем от вас результатов. Когда у моего ребенка пропадут дефекты речи?». Возникают подобные вопросы из-за слабого представления родителей о самом процессе обучения их ребенка, а также из-за непонимания того простого факта, что большую часть своей жизни ребенок проводит именно с родител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ь семьи, в преодолении речевых нарушений у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341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ова же роль семьи, в преодолении речевых нарушений у детей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адо думать, что речевые дефекты исчезнут сами собой со временем. Для их преодоления необходима систематическая, длительная коррекционная работа, в которой родителям отводится значительная роль, поскольку большее время ребенок проводит дома с близкими ему люд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 должны формировать правильное отношение к речевому нарушению у ребен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ругать ребенка за неправильную реч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навязчиво исправля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авильное произнош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 заострять внима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запинках и повторах слогов и сл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ять позитивный настрой ребенка на занятия с педагог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и родители должны быть готовы к достаточно длительной психологической подготовке не только ребенка, но и самих себя к занятиям с н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тапы коррекции нарушенного звукопроизно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ррекция нарушенного звукопроизношения происходит постепенно и состоит из 4 этап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этап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дготовительный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дготовка речеслухового и речедвигательного анализаторов к правильному восприятию звуков. Создание установки на коррекционную работу, повышение уверенности, чувства полноце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этап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становка звук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иться правильного звучания изолированного зву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этап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втоматизация звуков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иться правильного произношения во фразово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этап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ифференциация звуков.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ить ребенка различать смешиваемые звуки и правильно употреблять их в собственно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000" y="44928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втоматизировать звук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– это значит ввести его в слоги, слова, предложения, связную речь.  С физиологической точки зрения этап автоматизации звука представляет собой закрепление  условно-рефлекторных речедвигательных связей на различном речевом материал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вленный звук еще очень хрупкий, условно-рефлекторная связь без подкрепления может быстро разрушиться. К автоматизации поставленного звука можно переходить лишь тогда, когда ребенок произносит его изолированно совершенно правильно и четко при продолжительном или многократном повторении. Ни в коем случае не следует вводить в слоги и слова звук, который произносится еще недостаточно отчетливо, так как это приведет лишь к закреплению неправильных навыков и не даст улучшения в произноше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осуществляется по принципу от легкого к трудному, от простого к сложно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Автоматизация поставленного звука должна проводиться в строгой последовательност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слогах (прямых, обратных, со стечением согласных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словах (в начале слова, середине, конце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предложения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чистоговорках, скороговорках и стих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коротких, а затем длинных рассказ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разговорной реч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новому материалу можно переходить только в том случае, если усвоен предыдущ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тоды проведения занятий в домашних условия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0920" y="1196640"/>
            <a:ext cx="806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, который изучается за неделю на занятиях, дается домой для закрепления в виде различных упражнений. Что касается звукопроизношения, то чем чаще вы будете заниматься, тем быстрее исправленный звук закрепится в речи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я в идеале должны быть ежедневн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логопе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ставить звук, автоматизировать его в слогах, словах, но если домашних занятий будет недостаточно, то заметных подвижек может и не быть. Работу по автоматизации исправленных звуков можно сравнить со спорто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 зависит от трениров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ртикуляционная гимнастика, как тренировка подвижности органов артикуляционного аппара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125360"/>
            <a:ext cx="82915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льная речь формируется в раннем детстве. К сожалению, логопедические проблемы не редки. Предотвратить формирование неправильного произношения звуков, помочь ребенку быстрее заговорить помогает артикуляционная гимнастика, которой мама может заниматься с ребенком самостоятель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 артикуляционной гимнастикой понимается комплекс упражнений, который направлен специально на развитие языка, губ, мягкого неба, мимических мышц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артикуляционной гимнаст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выработка полноценных движений и определенных положений органов артикуляционного аппарата, необходимых для правильного произношения звуков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тикуляционный аппарат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тонкий инструмент, и его можно и нужно настраивать на правильное звучание. В будущем это поможет ребенку без проблем научиться читать и писать. Понятно, что и социальная успешность, а значит, эмоциональная стабильность и душевный комфорт, тоже не в последнюю очередь зависят от умения правильно говор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ды и задачи артикуляционной гимнастике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620280"/>
            <a:ext cx="8291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ществует два вида гимнастики для развития артикуляционного аппара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   пассивна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при которой направление правильного движения речевому аппарату ребенка задает взрослы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   активна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при которой ребенок совершенно самостоятельно, без существенной помощи взрослого, делает упражн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куляционная гимнастика направлена на решение трех основных задач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    развить подвижность язы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    развить подвижность губ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    закрепить навык удерживания нижней челюсти в правильном положе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Язы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лжен легко принимать нужную форму и положение во рту: становиться уже или шире, полностью помещаться за зубами, подтягиваться к глот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уб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лжны округляться, создавать щель, вытягиваться вперед, растягиваться в стороны. На тренировку этих умений и направлены самые простые упражн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ребенком, у которого речи нет или она невнятная, нужно вначале заняться статическими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жнения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и только потом переходить к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намически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статические упражнения – это фиксация мышцы в определенном состоянии в течение 7-10 секунд. Например, вытягивание языка в трубочку, создание «чашечк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инамические упражнения – это активное движение языком или губами в определенном ритме (7-8 движений сразу). Например, облизать губы, показать «часы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комендации по проведению упражнений артикуляционной гимнасти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981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Проводить артикуляционную гимнастику нужно ежедневно, чтобы вырабатываемые у детей навыки закреплялись. Лучше выполнять упражнения 3-4 раза в день по 3-5 минут. Не следует предлагать детям более 2-3 упражнений за один  раз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Каждое упражнение выполняется по 5-7 раз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Статические упражнения выполняются по 10-15 секунд (удержание артикуляционной позы в одном положении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При отборе упражнений для артикуляционной гимнастики надо соблюдать определенную последовательность, идти от простых упражнений к более сложным. Проводить их лучше эмоционально, в игровой форм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Из выполняемых двух-трех упражнений новым может быть только одно, второе и третье даются для повторения и закрепления. Если же ребенок выполняет какое-то упражнение недостаточно хорошо, не следует вводить новых упражнений, лучше отрабатывать старый материал. Для его закрепления можно придумать новые игровые прием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Артикуляционную гимнастику выполняют сидя, так как в таком положении у ребенка прямая спина, тело не напряжено, руки и ноги находятся в спокойном положении. Поэтому ребенок и взрослый во время проведения артикуляционной гимнастики должны находиться перед настенным зеркалом. Также ребенок может воспользоваться небольшим ручным зеркалом (примерно 9х12 см), но тогда взрослый должен находиться напротив ребенка лицом к нем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Начинать гимнастику лучше с упражнений для г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1:30:33Z</dcterms:created>
  <dc:creator>Class104b</dc:creator>
  <dc:description/>
  <dc:language>en-US</dc:language>
  <cp:lastModifiedBy>Samsung User</cp:lastModifiedBy>
  <dcterms:modified xsi:type="dcterms:W3CDTF">2018-03-26T20:58:30Z</dcterms:modified>
  <cp:revision>165</cp:revision>
  <dc:subject/>
  <dc:title>Курсовой проект</dc:title>
</cp:coreProperties>
</file>