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6F13-6A05-4516-9252-AF6C5C424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B234-5277-46C6-A0D8-7B16073BA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44BD-E398-4570-8E8A-DC622F1C5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F8F5-9DBA-489C-872C-1FA7E7AAC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4D65-6FAE-4F49-B0F6-32D8FD11C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B9C2-5FEA-4114-8B9D-9BC65C7AD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AE50-8772-432A-B913-4BD9ACC29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63CC-C36B-4F7B-9F30-495896B3B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B77F-00A6-442C-A425-B27F8C015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8F40-9CD4-4870-8F93-080BB1F03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B00F-E627-404A-92A2-4F748FB8B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0C3D-1070-4F9E-93ED-F6C5BFBE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21921-E86E-4875-8EFB-61889D428062}" type="slidenum">
              <a:rPr b="0" i="1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http://www.kazachok-234.ru/files/85d7247fb0ea42c6d61345f2cb424143.jpg"/>
          <p:cNvPicPr/>
          <p:nvPr/>
        </p:nvPicPr>
        <p:blipFill>
          <a:blip r:embed="rId1"/>
          <a:stretch/>
        </p:blipFill>
        <p:spPr>
          <a:xfrm>
            <a:off x="250920" y="3368520"/>
            <a:ext cx="3430440" cy="3489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0920" y="-360"/>
            <a:ext cx="8281800" cy="35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осударственное дошкольное образовательное учреждение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етский сад № 10 «Богатырь» Московского района  СПБ</a:t>
            </a:r>
            <a:br>
              <a:rPr sz="1800"/>
            </a:b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Артикуляционная гимнастика -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как средство речевого развития детей старшего дошкольного возраста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5724000" y="4437000"/>
            <a:ext cx="302436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езентацию подготовил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идорова Наталья Игоревна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учитель – логопе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рганизация проведения артикуляционной гимнастики в домашних условиях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8360" y="1125000"/>
            <a:ext cx="8291520" cy="543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. Взрослый показывает выполнение упражнени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2. Упражнение делает ребенок, а взрослый контролирует выполнение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зрослый, проводящий артикуляционную гимнастику, должен следить за качеством выполняемых ребенком движений: точность движения, плавность, темп выполнения, устойчивость, переход от одного движения к другому. Также важно следить, чтобы движения каждого органа артикуляции выполнялись симметрично по отношению к правой и левой стороне лица. В противном случае артикуляционная гимнастика не достигает своей цели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3.Если у ребенка не получается какое-то движение, помогать ему (шпателем, ручкой чайной ложки, ватной палочкой или просто чистым пальцем)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4. Для того чтобы ребенок нашел правильное положение языка, например, облизал верхнюю губу, намазать ее вареньем, шоколадом или чем-то еще, что можно вашему ребенку. Подходить к выполнению упражнений творчески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начала при выполнении детьми упражнений наблюдается напряженность движений органов артикуляционного аппарата. Постепенно напряжение исчезает, движения становятся непринужденными и вместе с тем координированным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зрослый рассказывает о предстоящем упражнении, используя игровые приемы (например, можно использовать для этого «Сказку о язычке», артикуляционная гимнастика в картинках и. т. д.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е случайно у каждого артикуляционного упражнения есть свое название и образ. Что ребенку интересней: по инструкции облизывать широким языком верхнюю губу или представить, что облизываешь с верхней губы вкусное варенье… клубничное, малиновое, яблочное? Вот, заодно и  пополняем и развиваем  словарь дете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Артикуляционные комплекс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94920" y="691920"/>
            <a:ext cx="843588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пражнения для развития движений органов артикуляционного аппарата объединены в комплексы для постановки звуков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пражнения, вырабатывающие основные движения и положения органов артикуляции. ( «Улыбка», «Трубочка», «Заборчик», «Рыбка», «Часики», «Качели» и т.д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пражнения, способствующие выработке движений органов артикуляционного аппарата, необходимых для правильного произнесения свистящих звуков («Лопаточка», «Дуем на лопаточку», «Почистим зубки», «Накажем непослушный язык»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пражнения, способствующие выработке движений органов артикуляционного аппарата, необходимых для правильного произнесения шипящих звуков и звуков [Р]  и [Л] ( «Лошадка», «Маляр», «Вкусное варенье», «Болтушки», «Дятел», «Барабанщик», «Грибок», «Иголочка», «Спрячем конфетку» и т.д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807552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авильное речевое дыхание - основа звучащей речи</a:t>
            </a:r>
            <a:br>
              <a:rPr sz="54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6840" y="1123920"/>
            <a:ext cx="814716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точником образования звуков речи является воздушная струя, выходящая из легких через гортань, глотку, полость рта или носа наружу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ыхание обеспечивает нормальное звукообразование, создает условия для поддержания нормальной громкости речи, четкого соблюдения пауз, сохранения плавности речи и интонационной выразительност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учшим типом речевого дыхания является: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диафрагмально – нижнереберное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при вдохе диафрагма опускается, нижние ребра отходят в стороны, плечи при этом не поднимаются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56840" y="260280"/>
            <a:ext cx="821844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араметры правильного ротового выдоха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доху предшествует сильный вдох через нос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дох происходит плавно, а не толчкам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 время выдоха губы складывать трубочкой и улыбкой, не следует сжимать губы, надувать щеки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 время выдоха воздух выходит через рот, нельзя допускать выхода воздуха через нос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дыхать следует, пока не закончится воздух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 время пения или разговора нельзя добирать воздух при помощи частых коротких вдохов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АРТИКУЛЯЦИОННАЯ ГИМНАСТИ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6840" y="1413000"/>
            <a:ext cx="8147160" cy="4176720"/>
          </a:xfrm>
          <a:prstGeom prst="rect">
            <a:avLst/>
          </a:prstGeom>
          <a:solidFill>
            <a:srgbClr val="fdeada"/>
          </a:solidFill>
          <a:ln w="9360">
            <a:solidFill>
              <a:srgbClr val="00b050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о совокупность особых упражнений, способствующих укреплению мышц артикуляционного аппарата и развитию силы, ловкости и дифференцированности движений данного орган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оводится с детьми дошкольного возраста 2-3 раза в день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одолжительность – до 5 минут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комплекс должно входить 4-5 упражнений: 2-3 статических и 2-3 динамических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566280" y="260280"/>
            <a:ext cx="782172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так,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регулярное выполнение артикуляционной гимнастики поможет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улучшить кровоснабжение артикуляционных органов и их иннервацию (нервную проводимость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улучшить подвижность артикуляционных орган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укрепить мышечную систему языка, губ, щёк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научить ребёнка удерживать определённую артикуляционную поз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увеличить амплитуду движени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уменьшить спастичность (напряжённость артикуляционных органов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подготовить ребёнка к правильному произношению звуков и введению их в реч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2626920" y="1752120"/>
            <a:ext cx="5940360" cy="11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f0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10" descr="Гномик 1"/>
          <p:cNvPicPr/>
          <p:nvPr/>
        </p:nvPicPr>
        <p:blipFill>
          <a:blip r:embed="rId1"/>
          <a:stretch/>
        </p:blipFill>
        <p:spPr>
          <a:xfrm>
            <a:off x="179280" y="2492280"/>
            <a:ext cx="3384720" cy="4365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«Когда у моего ребенка пропадут дефекты речи?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ровень развития ребенка в первую очередь зависит от той атмосферы, создают сознательно, а большой частью, и бессознательно взрослые в семье. Степень влияния домашней работы родителей с детьми на время и качество коррекции речи ребенка велика. Ожидания и надежды родителей связаны, как правило, только с работой логопеда. Поэтому довольно часто воспитателям и логопеду приходится сталкиваться с такими вопросами, как: «Вы специалисты, поэтому ждем от вас результатов. Когда у моего ребенка пропадут дефекты речи?». Возникают подобные вопросы из-за слабого представления родителей о самом процессе обучения их ребенка, а также из-за непонимания того простого факта, что большую часть своей жизни ребенок проводит именно с родителя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оль семьи, в преодолении речевых нарушений у дет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68360" y="134136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акова же роль семьи, в преодолении речевых нарушений у детей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 надо думать, что речевые дефекты исчезнут сами собой со временем. Для их преодоления необходима систематическая, длительная коррекционная работа, в которой родителям отводится значительная роль, поскольку большее время ребенок проводит дома с близкими ему людь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одители должны формировать правильное отношение к речевому нарушению у ребенк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 ругать ребенка за неправильную речь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ненавязчиво исправлять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правильное произношени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не заострять внимание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запинках и повторах слогов и слов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существлять позитивный настрой ребенка на занятия с педагог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ами родители должны быть готовы к достаточно длительной психологической подготовке не только ребенка, но и самих себя к занятиям с ни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Этапы коррекции нарушенного звукопроизнош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95280" y="14130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Коррекция нарушенного звукопроизношения происходит постепенно и состоит из 4 этапов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 этап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Подготовительный.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Подготовка речеслухового и речедвигательного анализаторов к правильному восприятию звуков. Создание установки на коррекционную работу, повышение уверенности, чувства полноцен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этап.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Постановка звука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биться правильного звучания изолированного зву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этап.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Автоматизация звуков.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биться правильного произношения во фразовой реч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этап.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Дифференциация звуков.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учить ребенка различать смешиваемые звуки и правильно употреблять их в собственной реч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68000" y="449280"/>
            <a:ext cx="82803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Автоматизировать звук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– это значит ввести его в слоги, слова, предложения, связную речь.  С физиологической точки зрения этап автоматизации звука представляет собой закрепление  условно-рефлекторных речедвигательных связей на различном речевом материал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ставленный звук еще очень хрупкий, условно-рефлекторная связь без подкрепления может быстро разрушиться. К автоматизации поставленного звука можно переходить лишь тогда, когда ребенок произносит его изолированно совершенно правильно и четко при продолжительном или многократном повторении. Ни в коем случае не следует вводить в слоги и слова звук, который произносится еще недостаточно отчетливо, так как это приведет лишь к закреплению неправильных навыков и не даст улучшения в произношени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втоматизация звука осуществляется по принципу от легкого к трудному, от простого к сложному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Автоматизация поставленного звука должна проводиться в строгой последовательности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втоматизация звука в слогах (прямых, обратных, со стечением согласных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втоматизация звука в словах (в начале слова, середине, конце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втоматизация звука в предложениях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втоматизация звука в чистоговорках, скороговорках и стихах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втоматизация звука в коротких, а затем длинных рассказах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втоматизация звука в разговорной реч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 новому материалу можно переходить только в том случае, если усвоен предыдущи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Методы проведения занятий в домашних условиях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10920" y="1196640"/>
            <a:ext cx="806436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атериал, который изучается за неделю на занятиях, дается домой для закрепления в виде различных упражнений. Что касается звукопроизношения, то чем чаще вы будете заниматься, тем быстрее исправленный звук закрепится в речи.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Упражнения в идеале должны быть ежедневным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дача логопеда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поставить звук, автоматизировать его в слогах, словах, но если домашних занятий будет недостаточно, то заметных подвижек может и не быть. Работу по автоматизации исправленных звуков можно сравнить со спортом: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результат зависит от тренирово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353440" cy="118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ртикуляционная гимнастика, как тренировка подвижности органов артикуляционного аппарат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39640" y="1125360"/>
            <a:ext cx="829152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авильная речь формируется в раннем детстве. К сожалению, логопедические проблемы не редки. Предотвратить формирование неправильного произношения звуков, помочь ребенку быстрее заговорить помогает артикуляционная гимнастика, которой мама может заниматься с ребенком самостоятельн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д артикуляционной гимнастикой понимается комплекс упражнений, который направлен специально на развитие языка, губ, мягкого неба, мимических мышц.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Цель артикуляционной гимнастик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- выработка полноценных движений и определенных положений органов артикуляционного аппарата, необходимых для правильного произношения звуков.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ртикуляционный аппарат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это тонкий инструмент, и его можно и нужно настраивать на правильное звучание. В будущем это поможет ребенку без проблем научиться читать и писать. Понятно, что и социальная успешность, а значит, эмоциональная стабильность и душевный комфорт, тоже не в последнюю очередь зависят от умения правильно говори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иды и задачи артикуляционной гимнастике 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39640" y="620280"/>
            <a:ext cx="829152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уществует два вида гимнастики для развития артикуляционного аппарат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1. 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   пассивная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, при которой направление правильного движения речевому аппарату ребенка задает взрослый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2. 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   активная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, при которой ребенок совершенно самостоятельно, без существенной помощи взрослого, делает упражнени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Артикуляционная гимнастика направлена на решение трех основных задач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1.    развить подвижность язык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2.    развить подвижность губ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3.    закрепить навык удерживания нижней челюсти в правильном положени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Язык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должен легко принимать нужную форму и положение во рту: становиться уже или шире, полностью помещаться за зубами, подтягиваться к глотк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Губы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должны округляться, создавать щель, вытягиваться вперед, растягиваться в стороны. На тренировку этих умений и направлены самые простые упражнени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 ребенком, у которого речи нет или она невнятная, нужно вначале заняться статическими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упражнениями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, и только потом переходить к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инамическим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-статические упражнения – это фиксация мышцы в определенном состоянии в течение 7-10 секунд. Например, вытягивание языка в трубочку, создание «чашечки»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-динамические упражнения – это активное движение языком или губами в определенном ритме (7-8 движений сразу). Например, облизать губы, показать «часы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екомендации по проведению упражнений артикуляционной гимнастик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8000" y="981000"/>
            <a:ext cx="82184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1. Проводить артикуляционную гимнастику нужно ежедневно, чтобы вырабатываемые у детей навыки закреплялись. Лучше выполнять упражнения 3-4 раза в день по 3-5 минут. Не следует предлагать детям более 2-3 упражнений за один  раз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2. Каждое упражнение выполняется по 5-7 раз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3. Статические упражнения выполняются по 10-15 секунд (удержание артикуляционной позы в одном положении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4. При отборе упражнений для артикуляционной гимнастики надо соблюдать определенную последовательность, идти от простых упражнений к более сложным. Проводить их лучше эмоционально, в игровой форме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5. Из выполняемых двух-трех упражнений новым может быть только одно, второе и третье даются для повторения и закрепления. Если же ребенок выполняет какое-то упражнение недостаточно хорошо, не следует вводить новых упражнений, лучше отрабатывать старый материал. Для его закрепления можно придумать новые игровые приемы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6. Артикуляционную гимнастику выполняют сидя, так как в таком положении у ребенка прямая спина, тело не напряжено, руки и ноги находятся в спокойном положении. Поэтому ребенок и взрослый во время проведения артикуляционной гимнастики должны находиться перед настенным зеркалом. Также ребенок может воспользоваться небольшим ручным зеркалом (примерно 9х12 см), но тогда взрослый должен находиться напротив ребенка лицом к нему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7. Начинать гимнастику лучше с упражнений для губ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9T11:30:33Z</dcterms:created>
  <dc:creator>Class104b</dc:creator>
  <dc:description/>
  <dc:language>en-US</dc:language>
  <cp:lastModifiedBy>Samsung User</cp:lastModifiedBy>
  <dcterms:modified xsi:type="dcterms:W3CDTF">2018-03-26T20:58:30Z</dcterms:modified>
  <cp:revision>165</cp:revision>
  <dc:subject/>
  <dc:title>Курсовой проект</dc:title>
</cp:coreProperties>
</file>