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FE4-5CD4-4EAF-B841-6CC24045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A91-F0D1-41CD-9CA0-616F28DA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EC2-E90B-4AC3-9168-DE8E1323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34B-0EA5-4D67-A5D1-64921801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79C9-FBF1-4D7F-BDCF-E72D7F88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B098-9B03-48AD-AD00-B7B5D83E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E994-BE3B-4539-BF8A-825D5395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ACC8-5209-41AF-9D67-5F24D150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83F-3AD4-4597-A63C-9928E5D6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BBD9-D8E4-4BB6-8549-8001980D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BF1D-F5FF-419E-8642-F87F1F5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87B-19B5-4DA6-9A76-AEECA10E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56AD-0D65-4F10-9F79-0016E363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F7A8-61CF-4C99-841E-67FF2331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76E0-B191-4F5B-B1A5-E17E2476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7E50-B4A4-4DD4-ADE3-9F08FF92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A2AF-653A-4E48-A219-4F49B5C3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AF7AF-2B65-4151-A6B1-71EEA1A2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459BB-8DFD-44AA-8F32-3ECD0793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47D1-AEDD-482A-8EB0-CCC924E5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DDD9-19CB-41F2-814E-ADDDCD36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2CF25-35D7-4942-ACF6-6618B505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D58-F80C-4BE8-867D-B58CE547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F801-381E-4AE3-8D5C-E67E8A30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CD493-782E-40E2-A2CA-A44650E7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3EF1-A0A2-43C7-8EBE-832FEECF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0ADE-BE0E-416E-AAF5-B990AD0B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2B74-B9A1-46C8-968A-C5D89AAC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7DCA-BA72-4DF7-99DC-0FCCCD61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7B46C-F787-41B4-A8B7-14042268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234DE-72E2-4C96-8643-E7A7FD81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62DB2-2B73-486A-8994-13E9335F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D0CB-0EAD-4633-B9A8-DE004434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EBB-BFD7-42AF-ABEE-91F97BD5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88EB7-7300-4962-B8B2-FC5330EF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FDC5-F498-43F3-8F8A-BFAC1EAC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0F005-4446-4C12-B904-795E38C7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2DF10-517E-4AD4-9EAC-2D98DAEA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4769-72A2-4E55-A660-22F996C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434A-D95A-4D5F-A4D3-D25D03C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B773-B04B-4956-9489-C4F70DB4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371B-EF06-4389-A3A6-F5FFBC46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2B51-34B9-4E99-9719-F2203F8D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BDFC5-C0A0-47B7-96E6-5C12604A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397-AF8F-4D31-9FDA-655D73DB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0D205-A7DD-4AC9-BB11-2BC7D391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8BEA0-26E2-4F3A-8D8E-6DEF186A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BF672-B020-452D-A350-108BD947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FAA3-E246-4FFC-A860-A3A5938A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1E9C7-7BE5-45C9-B080-6C4D6202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550E8-F5B2-44E1-A8C4-870716C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13A87-52DB-450B-A695-CDB66A78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F6BFC-7CE8-403A-883A-D9810F8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CB24F-8BF4-4CB8-8E5F-6AD17BF6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86D6F-8B3B-4691-A2FD-C075B615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975-59DD-44E7-9FA0-BD1D13DE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405F-7C21-4F97-8AFF-2B51236C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A3A-66AC-4438-95AE-368A41A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4A9-84F7-4F83-B44D-1D6DA5B8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F07-FF69-4D60-9918-F4706DDF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E7E6-0E57-417D-9D95-205FD0F6818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2DC9-DE1B-4DBD-9CE7-8E984C16F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32EE-39A6-4F8D-93C8-B49786E84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AAD5-E9EB-473F-8B51-7CD9617C21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877E-9A20-48BD-AB51-77E1ABC3C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819600" cy="2811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68360" y="373212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859280" y="37242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6048360" cy="453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55640" y="404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99"/>
                </a:solidFill>
                <a:latin typeface="Arial"/>
              </a:rPr>
              <a:t>Весёлые фантанч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72010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770436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799308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78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619280" y="1052640"/>
            <a:ext cx="6108840" cy="5599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68360" y="1159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ак надуть</a:t>
            </a:r>
            <a:r>
              <a:rPr b="1" i="1" lang="en-US" sz="4400" spc="-1" strike="noStrike">
                <a:solidFill>
                  <a:srgbClr val="00cc00"/>
                </a:solidFill>
                <a:latin typeface="Arial"/>
              </a:rPr>
              <a:t>  Шар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95280" y="225360"/>
            <a:ext cx="84963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89080" y="189000"/>
            <a:ext cx="867564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5400360" cy="3186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3911400" cy="2933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284720" y="1773360"/>
            <a:ext cx="45194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6913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28720" y="33336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52360" y="476280"/>
            <a:ext cx="856764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780000" y="2205000"/>
            <a:ext cx="5256000" cy="4353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42920" y="765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РАДУГА ИЗ ПЕН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972720" cy="6913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627280" y="-16844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i="1" lang="en-US" sz="4800" spc="-1" strike="noStrike">
                <a:solidFill>
                  <a:srgbClr val="ff3399"/>
                </a:solidFill>
                <a:latin typeface="Arial"/>
              </a:rPr>
              <a:t>Разноцветный дожд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458316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6913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115920"/>
            <a:ext cx="8856720" cy="66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4:32:14Z</dcterms:created>
  <dc:creator>Александр</dc:creator>
  <dc:description/>
  <dc:language>en-US</dc:language>
  <cp:lastModifiedBy>Microsoft Office</cp:lastModifiedBy>
  <dcterms:modified xsi:type="dcterms:W3CDTF">2018-03-26T12:06:50Z</dcterms:modified>
  <cp:revision>134</cp:revision>
  <dc:subject/>
  <dc:title>Организация проектной деятельности</dc:title>
</cp:coreProperties>
</file>