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1F8-B96C-4D4D-BC0D-24A17506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0F4-0DF7-43DC-A7A8-5ABD1DC3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5BC-7665-4795-B863-C6584D46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A2D-0148-48DD-8927-CC582FB2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509B-C6EA-406C-A98D-92138E1A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EEAA-C40D-40C6-8C5F-BD87CAD8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4DEA-E27E-4783-BA50-D3FD0843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C45E-CD29-4E54-93F6-5F9CFDAF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993A-B76D-4309-AD95-50C0DB17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5256-63F0-4642-95FC-C94820AC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7F0C-E036-40DD-9DC2-61686B09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670-F8E4-424C-B0EA-D5621D36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7F0A-AD3E-4E50-A264-17DA6905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7FC9-4B19-4DF1-9121-67FD0562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128A-7EE2-40FD-A735-95C25AC3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D84B-384A-4295-8F7B-4B446879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E115-028A-4939-8CA2-05556821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9B89A-A56A-4459-B507-21A0EEEB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D1FF6-AFDC-4CE6-B25F-2CD0FC71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9CF4A-FE49-4DF7-8B40-120409EF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3324-9DBD-4F21-83E3-7947DE48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C95D-0CFD-4551-B6FA-8D7D0517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D66-BAA3-4E4D-B38F-62AC8517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575DE-450E-49EE-A4B3-DBFB6D19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CD082-A9D5-4DCF-9848-D7BE764C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C947D-371D-4522-9605-14A35834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7FD10-DC5F-44DD-84DC-C26BEC94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767C-A3BD-4DE9-A8E4-B625BC22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86609-4F8E-4F72-84F2-1B720A96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6F1AF-499A-4539-81B5-226EB512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CF56F-2F06-4BF9-B7F8-E0C88C31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C3584-4A9F-4817-A615-3FB7F7EB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DAB93-50CE-425C-8B43-124B37F5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A81-067F-4BD9-A622-82CB1DD4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A8AC6-D91E-4BA8-8129-A69BC970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30B7A-E923-4D9E-A4F8-07626C74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C5106-0AAA-4306-80C4-1A046A6E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FC417-119E-4993-8436-273305E4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C24FE-5B92-4BCF-B67F-909ACBA5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69977-3B30-4E57-9BBE-10442CE1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11176-C848-42F6-A50D-0F344DBF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DC229-13D9-474B-9385-8D477456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DCE6A-4253-4A2F-91A9-E9058403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9171B-2C0F-4F55-9912-604002E7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B2F-61AB-4A34-B6EF-A2A8F7EA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A7AD2-8DEF-4F26-A051-F2535FEC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E825E-B4C4-40DE-981E-018672B0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E759C-DCD7-4327-B45B-F289AF4E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4E66E-F529-44A3-BB18-EFD37176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2AACA-FABF-48C4-BC73-D9FD57A1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6CF54-ECB8-4ABB-BA01-6FD0BEE0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8AE81-ED00-43D5-AB59-D429DF22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187D4-4DAA-44B2-8ED6-45F211C1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AC47C-10C5-4597-B468-4F1B5D84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12A94-9495-4E7F-AEA3-B979BB54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89E-F4E1-42F3-970C-5F33453F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CD2E2-81E4-4F97-8181-0A46EFEF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FA8-622A-4F68-998B-544CD427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7CD-DB53-4B18-9D13-31B5454C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C7C-18BE-4D66-9758-52FCF350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951F-BE12-489D-B95C-A0D1E4AFAF5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0A07-1D01-4FDB-BF0B-F6FF95339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DAD8-8D0A-4AD9-B7D0-DD8A7BEB5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2503-D0F9-4AC5-A996-A7CD2F2AD2F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ED8F-676E-42AC-AF44-7B77BE911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819600" cy="2811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3745080" cy="2810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68360" y="373212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859280" y="372420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6048360" cy="453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55640" y="4046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99"/>
                </a:solidFill>
                <a:latin typeface="Arial"/>
              </a:rPr>
              <a:t>Весёлые фантанч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72010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770436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11280" y="260280"/>
            <a:ext cx="7993080" cy="65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42472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780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619280" y="1052640"/>
            <a:ext cx="6108840" cy="5599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68360" y="11592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Как надуть</a:t>
            </a:r>
            <a:r>
              <a:rPr b="1" i="1" lang="en-US" sz="4400" spc="-1" strike="noStrike">
                <a:solidFill>
                  <a:srgbClr val="00cc00"/>
                </a:solidFill>
                <a:latin typeface="Arial"/>
              </a:rPr>
              <a:t>  Шари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95280" y="225360"/>
            <a:ext cx="849636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89080" y="189000"/>
            <a:ext cx="867564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5400360" cy="3186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3911400" cy="2933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284720" y="1773360"/>
            <a:ext cx="45194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72720" cy="6913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828720" y="33336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52360" y="476280"/>
            <a:ext cx="856764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780000" y="2205000"/>
            <a:ext cx="5256000" cy="4353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042920" y="765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РАДУГА ИЗ ПЕН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9972720" cy="6913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627280" y="-16844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1" i="1" lang="en-US" sz="4800" spc="-1" strike="noStrike">
                <a:solidFill>
                  <a:srgbClr val="ff3399"/>
                </a:solidFill>
                <a:latin typeface="Arial"/>
              </a:rPr>
              <a:t>Разноцветный дожд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003640" y="836640"/>
            <a:ext cx="4583160" cy="34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72720" cy="6913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8360" y="115920"/>
            <a:ext cx="8856720" cy="66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14:32:14Z</dcterms:created>
  <dc:creator>Александр</dc:creator>
  <dc:description/>
  <dc:language>en-US</dc:language>
  <cp:lastModifiedBy>Microsoft Office</cp:lastModifiedBy>
  <dcterms:modified xsi:type="dcterms:W3CDTF">2018-03-26T12:06:50Z</dcterms:modified>
  <cp:revision>134</cp:revision>
  <dc:subject/>
  <dc:title>Организация проектной деятельности</dc:title>
</cp:coreProperties>
</file>