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33360" y="4211640"/>
            <a:ext cx="61912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Актерское отыгрыв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ерез тело можно также работать с психикой. Тело является как бы экраном, на  котором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тображаются все наши эмоциональные переживания, страхи, недовольств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Кукольный театр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– наиболее часто применяемый метод. Дети неосознанно наделяют  куко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бственными мыслями, чувствами, желаниями. Куклы могут быть добрыми и  жестокими, честным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 лицемерным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 работе с куклами мы учитывали характер проблем детей, их возраст, особенности  личности 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ровень развития. Кукольный театр подразумевает в первую очередь  групповую работу с детьм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Желательно включение в группу детей с различными  проблемами и разных полов, количеств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частников при этом чаще всего ограничивается 5-6 детьми. Первоначально совместно с детьм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пределяется сюжет постановки (как правило, сказки), в котором обязательно должны быт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ложительные и отрицательные персонажи, трудности и  преграды и, в конце концов, торжество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бра и справедливости. В соответствие с выбранными ролями составляется сценарий, каждый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частник запоминает  свой текст (здесь развиваются память и внимание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процессе игры дети эмоционально вовлекаются в проигрываемое ими, а иногда на короткое время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воплощаются в героев сказки, что позволяет им раскрыть свои творческие способности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требность в самовыражении. Дети являются активными участниками терапевтического процесса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 них развивается воображение, уменьшается  потребность в зависимости.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Сказкотерапевтическое рисов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рисунке проявляются свободные ассоциации, в дальнейшем возможен анализ полученного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ого материал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820880" y="250920"/>
            <a:ext cx="3360600" cy="2520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333360" y="3203640"/>
            <a:ext cx="619128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Каждое занятие имеет определённую структуру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итуал «входа» в сказку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Цель: Создать настрой на совместную работу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коллективное упражне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сширени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Цель: расширить представления ребенка о чем-либо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педагог рассказывает детям новую сказку. Спрашивает, хотят ли они  попробовать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очь какому-либо персонажу из сказ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Цель: Приобрести новый опыт, закрепить новые качества личности  ребенка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Педагог проводит игры, позволяющие детям приобрести новый опыт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вершаются символические путешествия и превращения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Интеграц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Цель: Связать новый опыт с реальной жизнь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Ведущий обсуждает и анализирует вместе с детьми, в каких ситуациях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х жизни они могут использовать тот опыт, который приобрели сегодня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езюмировани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Цель: Обобщить приобретенный опыт, связать его с уже имеющимся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Ведущий подводит итоги занятия. Четко проговаривает последовательност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исходившего на занятии, отмечает отдельных детей за их заслуги, подчеркивает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значимость приобретенного опыта, проговаривает конкретные ситуации реальной жизни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которых дети могут использовать новый опыт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. Ритуал «выхода» из сказки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Цель: Закрепить новый опыт, подготовить ребенка к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заимодействию в привычной социальной сред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Повторение ритуала «входа» в сказку дополнением. Ведущий говорит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«Мы берем с собой все важное, что было сегодня с нами, все, чему мы научились». Ребят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тягивают руки в круг, совершают действие, как будто что-то берут из круга, и прикладывают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уки к груд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270160" y="695160"/>
            <a:ext cx="2479680" cy="1860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33360" y="2843280"/>
            <a:ext cx="61912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то, что ребенок проводит в детском саду большую часть времени, семь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тается важнейшим социальным институтом, оказывающим решающее влияние на 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и дошкольника. Сотрудничество с семьей строится по двум направл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овлечение семьи в образовательный  процесс, организованный в груп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вышение психолого-педагогической культуры родителей осуществляется чер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ие собрания и конференции, консультации, семинары-практику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и принимают  участие 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и учебного  процесса: обеспечивают дет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ами, необходимыми для занятий. Родителями шьются или приобретаются костю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казочных представлений, родители сами участвуют в драматизациях сказок, играю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роли, принимают участие в утренниках и развлечениях для детей. Присутств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ей на мастер-классах создает в группе атмосферу домашней обстанов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а, взаимоуважения. Родители совместно с детьми принимают участие 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и реквизита для сказ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колько раз в год мы посещаем Арзамасский муниципальный театр драмы, где де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ят сказки, знакомятся с театральной культурой, устройством театра, наблюдают 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грой актеров. Потом мы вместе с детьми обсуждаем просмотренные сказки, выделя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ительных и отрицательных героев, обсуждаем поступки персонаж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целью приобщения детей к культуре чтения художественной литературы, в т. ч. сказок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одятся экскурсии и запись детей в детскую библиотеку. В дальнейшем дети продолж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ься услугами библиотеки вместе с родител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целью приобщения детей к русскому народному творчеству, к старинному русскому быту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гащения словаря детей названиями старинных бытовых предметов (ухват, корыто и др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посещаем «Чернухинский краеведческий музей». В дальнейшем новые знания мы используем в сво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712880" y="684360"/>
            <a:ext cx="3360600" cy="2519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33360" y="4211280"/>
            <a:ext cx="619128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ценки результативности  формирования интегративных качеств у детей средней груп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лся мониторинг достижения планируемых результатов под редакцией М.А. Васильево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В. Гербовой, Т.С. Комаровой. Были применены общепринятые критерии по принципу «Чем ниже балл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проблем в формировании полноценной личности ребенка», заполн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ностические карты, подсчитаны средние баллы и проценты. Мониторинг проводилс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3-х бальной системе в следующих интегративных качеств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юбознательный-активный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моционально-отзывчив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владевший средствами общения и способами взаимодействия со взрослыми и сверстник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пособный управлять своим поведением и планировать свои действия на основе перв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остных представлений, соблюдающий элементарные общепринятые нормы и правил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обследования детей средней группы в количестве 21 человека в начале года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 человека в конце года показал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диаграммы видно - большинство детей имеют высокий уровень сформирова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ых качеств - на начало года 35%, на конец года 47%. Низкий уровен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нности интегративных качеств у  10% детей на начало года и 0% на конец г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 хорошо видно, что применение сказкотерапии приносит положительн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в личностном развитии детей, коррекции поведения, взаимодействии воспита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и взрослыми, эмоциональном развит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592280" y="684360"/>
            <a:ext cx="4014720" cy="3011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04280" y="3708000"/>
            <a:ext cx="6193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анной работе рассмотрены и проанализированы разные формулировки сказкотерап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крыты ее педагогические ценности. Проведен мониторинг формирования у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ых качеств,  который показывает на конец года положительную динамику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является обоснованием эффективности применения технологии «сказкотерапия»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авдывает цель данной методической разраб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вленные в начале работы задачи были решен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учена и проанализирована психолого-педагогическая литерату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работаны содержание, формы и приемы рабо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казкотерапия внедрена во все виды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дтверждена эффективность применения сказкотерап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ведена работа с родителям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в исследовании были решены все поставленные задачи, а цель пол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о всё, что нас окружает, может быть описано языком сказок. Если родител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итатели смогут правильно использовать все возможности сказкотерапии, то окажу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ценимую помощь. Ребенок будет знать, что родителям и воспитат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езразличны его проблемы,  он сможет усвоить такое жизненное правило: " нужно иск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ы для преодоления трудностей в себе самом". Сказки показывают, что безвых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й не существует, выход всегда есть - надо только его поискать. Сказки  разовь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ображение ребёнка, научат свободно, не страшась опасностей, импровизировать, даду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чудесное умение использовать для решения проблем волшебную силу творчеств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76280" y="4343400"/>
            <a:ext cx="569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, полное тревог и противоречий, когда жестокость, насили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уховность становятся нормой в обществе, возврат к истокам народной мудр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радиций – сказкам -  может помочь ребенку почувствовать себя более защищенны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ренным в себе, воспитает позитивное оптимистичное отношение к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аком контексте естественно, приемлемо и целесообразно исполь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отерапии педагогами и специалистами ДОУ.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уальность и новиз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отерапии заключается в объединении многих методических, педагогически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х приёмов в единый сказочный контекст и адаптация их к психи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ходя из вышесказанного, мы решили более подробно изучить педагогическ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ю «сказкотерапия»,  поставили перед собой следующие цель и задач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76280" y="4343400"/>
            <a:ext cx="61214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методиче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эффективности применения «сказкотерапии» в работе с дошкольни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 реализации цели мы поставили перед собой следующие 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Изучить психолого-педагогическую и методическую литературу по данной тем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азработать содержание, формы и организацию работы по  применению сказкотерап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оверить эффективность разработанной метод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лечь внимание воспитателей, родителей к данной педагогической техноло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зработать формы взаимодействия с социу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33000" y="4140360"/>
            <a:ext cx="62643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отерапия -  пожалуй, самый детский метод педагогики, и, конечно, од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амых древних. Ведь ещё наши предки, занимаясь воспитанием детей, 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шили наказать провинившегося ребенка, а рассказывали ему сказку, из котор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лся ясным смысл поступка. Сказки служили моральным и нравственн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, предохраняли детей от напастей, учили их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 сталкиваются с какими-нибудь проблемами, приходят к нам, взрослым, 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способы, которые предлагаем мы, для них не подходят. Тогда 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ходят к выводу, что мы им помочь не можем. А куда же девать накопившую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аль, раздражение, гнев или радость, которые уже переполняют ребе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десь на помощь может прийти сказкотерапия. Что же это такое? Это те ж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сказки, только ориентированы на какую-либо проблему. Это рассказ о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х ситуациях, в которые часто попадает ребенок, также в н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ются чувства, возникающие у ребенка, которые могут быть связ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совершенно различными событиями жизни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казкотерапия это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овместное с ребенком открытие тех знаний, которые живут в душе и явля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анный момент педагогическими и психотерапевтически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цесс активизации ресурсов, потенциала л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с поиска смысла, расшифровки знаний о мире и системе взаимоотношений в н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с образования связи между сказочными событиями и поведением в реальной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ИМУЩЕСТВО СКАЗКИ ДЛЯ РАЗВИТИЯ Л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БЕНКА ЗАКЛЮЧАЕТСЯ В СЛЕДУЮЩ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сутствие в сказке нравоучений и дидак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сутствие четких персонификаций, собирательный образ главного геро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разность и метафоричность язы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сихологическая защищенность - всегда хороший коне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личие тайны и волшеб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сихологическая подготовка к напряженным эмоциональным ситуац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мволическое отреагирование  физиологических и эмоциональных стр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60280" y="4211640"/>
            <a:ext cx="63374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каждой группы сказок есть своя возрастная аудитор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тям 3-5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 наиболее понятны и близки сказки о животных и сказ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взаимодействии людей и животных. В этом возрасте дети часто идентифицир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бя с животными, легко перевоплощаются в них, копируя их манеру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иная с 5 л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ребенок идентифицирует себя преимущественно с человечес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жами: Принцами, Царевнами, Солдатами и пр. Чем старше стано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енок, тем с большим удовольствием он читает истории и сказки о людя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в этих историях содержится рассказ о том, как человек познает ми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рно с 6-7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 ребенок предпочитает волшебные сказ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принцип подбора сказок – это направленность проблемной ситуа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ной для данного возраста, нравственный урок, который дает сказ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й для осмысления детям  дошкольного возрас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8388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Чтение и обсуждение уже существующей сказки (народные, авторские сказки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то, наверное, самый популярный и часто применяемый прием сказкотерапи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итая и обсуждая сказки, любые – народные, авторские, ребенок перевоплощается в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казочного героя, чтобы вместе с ним постигать житейские истины, противостоять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скушениям и найти выход из, казалось бы, безвыходных ситуаций. Вместе с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сонажами сказок дети учатся отличать добро и зло, щедрость и жадность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мелость и трусость милосердие и жестокость, верность и предательство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бсуждая сказочных героев, их поведение, ситуации в которые они попадают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трудности, которые преодолевают, мы можем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Ненавязчиво, но наглядно пояснить ребенку что такое «хорошо», а что такое «плохо»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знакомить его с нормами морали, привить духовно-ценностные понятия и координат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Лучше понять ребенка, то, как он воспринимает окружающий мир, что он чувствует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Подготовить его к жизни в реальном мире, который не всегда бывает добр и ласков к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ходящему в него человечку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Скорректировать ряд вполне естественных и часто встречающихся психологических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блем (страхи, робость, стеснительность, жадность и многое другое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Групповое и индивидуальное сочинение и рассказывание сказк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ы предлагаем детям любую игрушку и просим придумать сказку о том, что с ней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ключилось в сказочной стране.  Кто-то начинает говорить первую фразу, например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«В некотором царстве, в некотором государстве…». Следующий участник группы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соединяет к сказочной фразе одну или две фразы и так далее.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76756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сказывание известной сказки и придумывание к ней продол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участник группы по очереди рассказывает небольшой кусочек знако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и.   После того, как сказка рассказана, участники группы придумывают к 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лжение, причем последний рассказчик должен закончить сказ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сказывание сказки от первого лица и от имени различных персонажей сказк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стники группы выбирают сказку, которую они собираются рассказывать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яют персонажи между соб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сиходинамические медитации и танц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движения, перевоплощения, 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ого рода чувствительности, получение позитивного двигательного опыт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находясь в сказочном лесу, дети изображают разных животных: лису, зайц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а, медведя, птиц. Этот прием мы также используем во время проведения утрен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мнастики или как физкультурная минутка. Застенчивые дети чувствуют себя в та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нуты более свободными, уверенными. Танец – это телесное выражение раз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ональных состояний. Он раскрепощает и наполняет человека ново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нцуя, ребенок начинает чувствовать свое тело и лучше владеть 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D69-F80D-4F53-91AE-296121FA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DED-E467-4C20-9F90-9AF1B665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1B5-EB33-4FB1-9974-31779C47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5C0-1B3C-480C-9DA5-8FCD51DF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EB0-BD4A-4474-B772-3C3EC63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BEF-8281-4748-956C-20DC5532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B17-7670-4DEC-B174-2F7D2879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289-5988-4959-A713-278FDB8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A06-7C89-42A9-B57E-CA309010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660-FD1A-4676-A622-3053180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A00-B8B0-41AF-AC57-7839E3D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17E-76E9-457F-A312-A37D9D07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6D54AA-E80C-4879-8823-9E18B5C10E9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-282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2520" y="2349360"/>
            <a:ext cx="7772400" cy="37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езентац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методической разработ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ретьяково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льги Александров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воспитател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БДОУ «Мотовиловский детский са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99308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СПОЛЬЗОВАНИЕ СКАЗКОТЕРАПИИ В РАБОТЕ  С ДЕТЬ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РЕДНЕЙ ГРУППЫ Д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200"/>
            <a:ext cx="824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рмы работы по сказкотерап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007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6. Актер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тыгр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7. Кукольный теат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8. Сказкотерапев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E:\DCIM\100CANON\IMG_0351.JPG"/>
          <p:cNvPicPr/>
          <p:nvPr/>
        </p:nvPicPr>
        <p:blipFill>
          <a:blip r:embed="rId2"/>
          <a:stretch/>
        </p:blipFill>
        <p:spPr>
          <a:xfrm>
            <a:off x="6588000" y="1158840"/>
            <a:ext cx="1474920" cy="110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E:\DCIM\100CANON\IMG_0368.JPG"/>
          <p:cNvPicPr/>
          <p:nvPr/>
        </p:nvPicPr>
        <p:blipFill>
          <a:blip r:embed="rId3"/>
          <a:stretch/>
        </p:blipFill>
        <p:spPr>
          <a:xfrm>
            <a:off x="4751280" y="1125360"/>
            <a:ext cx="1522440" cy="1140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:\DCIM\100CANON\IMG_0370.JPG"/>
          <p:cNvPicPr/>
          <p:nvPr/>
        </p:nvPicPr>
        <p:blipFill>
          <a:blip r:embed="rId4"/>
          <a:stretch/>
        </p:blipFill>
        <p:spPr>
          <a:xfrm>
            <a:off x="2843280" y="1125360"/>
            <a:ext cx="1512720" cy="11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:\DCIM\100CANON\IMG_0343.JPG"/>
          <p:cNvPicPr/>
          <p:nvPr/>
        </p:nvPicPr>
        <p:blipFill>
          <a:blip r:embed="rId5"/>
          <a:stretch/>
        </p:blipFill>
        <p:spPr>
          <a:xfrm>
            <a:off x="2843280" y="2852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:\DCIM\100CANON\IMG_0393.JPG"/>
          <p:cNvPicPr/>
          <p:nvPr/>
        </p:nvPicPr>
        <p:blipFill>
          <a:blip r:embed="rId6"/>
          <a:stretch/>
        </p:blipFill>
        <p:spPr>
          <a:xfrm>
            <a:off x="2987640" y="515772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E:\DCIM\100CANON\IMG_0391.JPG"/>
          <p:cNvPicPr/>
          <p:nvPr/>
        </p:nvPicPr>
        <p:blipFill>
          <a:blip r:embed="rId7"/>
          <a:stretch/>
        </p:blipFill>
        <p:spPr>
          <a:xfrm>
            <a:off x="6012000" y="5157720"/>
            <a:ext cx="1873080" cy="14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:\оля\1.jpg"/>
          <p:cNvPicPr/>
          <p:nvPr/>
        </p:nvPicPr>
        <p:blipFill>
          <a:blip r:embed="rId8"/>
          <a:stretch/>
        </p:blipFill>
        <p:spPr>
          <a:xfrm>
            <a:off x="2340000" y="2538360"/>
            <a:ext cx="25192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4360" y="692280"/>
            <a:ext cx="88552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5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итуал «входа» в сказку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здать настрой на совмест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шир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сширить представления ребенка о чем-либ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реп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Цель: Приобрести новый опыт, закрепить новые качества личности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теграци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вязать новый опыт с реальной жизн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зюмирова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Обобщить приобретенный опыт, связать его с уже имеющим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итуал «выхода» из сказк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акрепить новый опыт, подготовить ребенка к взаимодействию в привычной социальной ср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660240" y="19224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труктура сказкотерапевтического заня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240" y="190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1366920" y="26589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О «Соци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8640" y="476280"/>
            <a:ext cx="8228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котерапия используется  в непосредственной образовательной деятельности, в режимных моментах, свободной  игровой деятельности детей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Виды сказкотерапевтической деятельности по образовательным облас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4" descr=""/>
          <p:cNvPicPr/>
          <p:nvPr/>
        </p:nvPicPr>
        <p:blipFill>
          <a:blip r:embed="rId2"/>
          <a:stretch/>
        </p:blipFill>
        <p:spPr>
          <a:xfrm>
            <a:off x="480960" y="1768320"/>
            <a:ext cx="8182080" cy="47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240" y="190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1366920" y="26589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О «Соци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2"/>
          <a:stretch/>
        </p:blipFill>
        <p:spPr>
          <a:xfrm>
            <a:off x="590400" y="328680"/>
            <a:ext cx="818856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-304920" y="-2300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4360" y="1197000"/>
            <a:ext cx="88552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хема 5" descr=""/>
          <p:cNvPicPr/>
          <p:nvPr/>
        </p:nvPicPr>
        <p:blipFill>
          <a:blip r:embed="rId2"/>
          <a:stretch/>
        </p:blipFill>
        <p:spPr>
          <a:xfrm>
            <a:off x="463680" y="1030320"/>
            <a:ext cx="7716600" cy="47545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1563840" y="195120"/>
            <a:ext cx="60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циальные связ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4360" y="890640"/>
            <a:ext cx="885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обследования детей средней группы в количестве 17 человека в начале года и 17 человек в конце года показал следующи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-2013 уч.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755640" y="1951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диагностического обследования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Диаграмма 6" descr=""/>
          <p:cNvPicPr/>
          <p:nvPr/>
        </p:nvPicPr>
        <p:blipFill>
          <a:blip r:embed="rId2"/>
          <a:stretch/>
        </p:blipFill>
        <p:spPr>
          <a:xfrm>
            <a:off x="1352520" y="2154240"/>
            <a:ext cx="61498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792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324000" y="981000"/>
            <a:ext cx="8569080" cy="72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иагностического обследования детей видно, что использование сказкотерапии в работе с детьми является эффективным и поставленная цель достигну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использования сказкотерапии, мы получили положительные результ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тей  вес­ти себя в различных  си­туациях, применяя положительный опыт на примере поведения сказочных герое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коммуникативный опыт взаимодействия со сверстниками и взросл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детьми информации 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, о природе, об окружающем мире, о социальных отно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развития у детей познава­тельной активности, творчески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отрицательных черт характе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е  оптимистичное отношение к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задачи реше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а   психолого-педагогическая  и методическая литература по  данной тем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содержание, формы и организация работы по  применению сказкотерап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формы взаимодействия с социум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вовлечены в жизнь групп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ена эффективность разработанной методической систе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69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116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ЕРСПЕКТИВ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84360" y="1916280"/>
            <a:ext cx="79200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планируется продолжить использование сказкотерапии в работе с деть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сказкотерапию как средство формирования речи дошк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перспективный план по  развитию речи детей старшей группы посредством сказкотерап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предметно-развивающую сре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тесное сотрудничество с родителями воспитан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КТУА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655280"/>
            <a:ext cx="8790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Не бойся сказки. Бойся л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А сказка? Сказка не обма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Ребёнку сказку расскажи…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, полное тревог и противоречий, когда жестокость, насилие, бездуховность становятся нормой в обществе, возврат к истокам народной мудрости и традиций – сказкам -  может помочь ребенку почувствовать себя более защищенным, уверенным в себе, воспитает позитивное оптимистичное отношение к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таком контексте приемлемо и целесообразно использование сказкотерапии педагогами и специалистами ДО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новизна сказкотерапии заключается в объединении многих методических, педагогических, психологических приёмов в единый сказочный контекст и адаптация их к психике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ЦЕЛЬ  МЕТОДИЧЕСКОЙ РАЗРАБОТ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60" y="1328400"/>
            <a:ext cx="926136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эффективности применения сказкотерапии в работе с дошколь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2"/>
          <p:cNvSpPr/>
          <p:nvPr/>
        </p:nvSpPr>
        <p:spPr>
          <a:xfrm>
            <a:off x="3538440" y="2754360"/>
            <a:ext cx="20732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138240" y="4340160"/>
            <a:ext cx="18414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-педагогическую и методическую литературу по данной тем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кругленный прямоугольник 8"/>
          <p:cNvSpPr/>
          <p:nvPr/>
        </p:nvSpPr>
        <p:spPr>
          <a:xfrm>
            <a:off x="2124000" y="4340160"/>
            <a:ext cx="1584360" cy="17528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752840"/>
              <a:gd name="textAreaBottom" fmla="*/ 1675800 h 1752840"/>
            </a:gdLst>
            <a:ahLst/>
            <a:rect l="textAreaLeft" t="textAreaTop" r="textAreaRight" b="textAreaBottom"/>
            <a:pathLst>
              <a:path w="21600" h="23896">
                <a:moveTo>
                  <a:pt x="3600" y="0"/>
                </a:moveTo>
                <a:arcTo wR="3600" hR="3600" stAng="16200000" swAng="-5400000"/>
                <a:lnTo>
                  <a:pt x="0" y="20296"/>
                </a:lnTo>
                <a:arcTo wR="3600" hR="3600" stAng="10800000" swAng="-5400000"/>
                <a:lnTo>
                  <a:pt x="18000" y="23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одержание, формы и организацию работы по  применению сказкотерап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Скругленный прямоугольник 9"/>
          <p:cNvSpPr/>
          <p:nvPr/>
        </p:nvSpPr>
        <p:spPr>
          <a:xfrm>
            <a:off x="3840120" y="4340160"/>
            <a:ext cx="1789200" cy="176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внимание воспитателей, родителей к данной педагогической технолог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Скругленный прямоугольник 10"/>
          <p:cNvSpPr/>
          <p:nvPr/>
        </p:nvSpPr>
        <p:spPr>
          <a:xfrm>
            <a:off x="5711760" y="4340160"/>
            <a:ext cx="1474920" cy="1773360"/>
          </a:xfrm>
          <a:custGeom>
            <a:avLst/>
            <a:gdLst>
              <a:gd name="textAreaLeft" fmla="*/ 72000 w 1474920"/>
              <a:gd name="textAreaRight" fmla="*/ 1402920 w 1474920"/>
              <a:gd name="textAreaTop" fmla="*/ 72000 h 1773360"/>
              <a:gd name="textAreaBottom" fmla="*/ 1701360 h 1773360"/>
            </a:gdLst>
            <a:ahLst/>
            <a:rect l="textAreaLeft" t="textAreaTop" r="textAreaRight" b="textAreaBottom"/>
            <a:pathLst>
              <a:path w="21600" h="25970">
                <a:moveTo>
                  <a:pt x="3600" y="0"/>
                </a:moveTo>
                <a:arcTo wR="3600" hR="3600" stAng="16200000" swAng="-5400000"/>
                <a:lnTo>
                  <a:pt x="0" y="22370"/>
                </a:lnTo>
                <a:arcTo wR="3600" hR="3600" stAng="10800000" swAng="-5400000"/>
                <a:lnTo>
                  <a:pt x="18000" y="259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формы взаимодействия с социум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" name="Прямая со стрелкой 5"/>
          <p:cNvCxnSpPr>
            <a:endCxn id="54" idx="0"/>
          </p:cNvCxnSpPr>
          <p:nvPr/>
        </p:nvCxnSpPr>
        <p:spPr>
          <a:xfrm flipH="1">
            <a:off x="1058040" y="3668400"/>
            <a:ext cx="367596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2"/>
          <p:cNvCxnSpPr>
            <a:endCxn id="55" idx="0"/>
          </p:cNvCxnSpPr>
          <p:nvPr/>
        </p:nvCxnSpPr>
        <p:spPr>
          <a:xfrm flipH="1">
            <a:off x="2915640" y="3668400"/>
            <a:ext cx="181836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5"/>
          <p:cNvCxnSpPr>
            <a:endCxn id="56" idx="0"/>
          </p:cNvCxnSpPr>
          <p:nvPr/>
        </p:nvCxnSpPr>
        <p:spPr>
          <a:xfrm>
            <a:off x="4734000" y="3713040"/>
            <a:ext cx="216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23"/>
          <p:cNvCxnSpPr>
            <a:endCxn id="57" idx="0"/>
          </p:cNvCxnSpPr>
          <p:nvPr/>
        </p:nvCxnSpPr>
        <p:spPr>
          <a:xfrm>
            <a:off x="4735440" y="3668400"/>
            <a:ext cx="171360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Скругленный прямоугольник 9"/>
          <p:cNvSpPr/>
          <p:nvPr/>
        </p:nvSpPr>
        <p:spPr>
          <a:xfrm>
            <a:off x="7378560" y="4373640"/>
            <a:ext cx="176076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эффективность разработанной методической систе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Прямая со стрелкой 21"/>
          <p:cNvCxnSpPr>
            <a:endCxn id="62" idx="0"/>
          </p:cNvCxnSpPr>
          <p:nvPr/>
        </p:nvCxnSpPr>
        <p:spPr>
          <a:xfrm>
            <a:off x="4735440" y="3668760"/>
            <a:ext cx="3525120" cy="70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-29844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казкотерапия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0160" y="1267920"/>
            <a:ext cx="8567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местное с ребенком открытие тех знаний, которые живут в душе и являются в данный момент педагогическими и психотерапевтиче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44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сс активизации ресурсов, потенциал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роцесс поиска смысла, расшифровки знаний о мире и системе взаимоотношений в 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роцесс образования связи между сказочными событиями и поведением в реаль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хема 2" descr=""/>
          <p:cNvPicPr/>
          <p:nvPr/>
        </p:nvPicPr>
        <p:blipFill>
          <a:blip r:embed="rId2"/>
          <a:stretch/>
        </p:blipFill>
        <p:spPr>
          <a:xfrm>
            <a:off x="676440" y="244440"/>
            <a:ext cx="7729200" cy="59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45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ИДЫ СКАЗ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395000"/>
            <a:ext cx="8496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хема 2" descr=""/>
          <p:cNvPicPr/>
          <p:nvPr/>
        </p:nvPicPr>
        <p:blipFill>
          <a:blip r:embed="rId2"/>
          <a:stretch/>
        </p:blipFill>
        <p:spPr>
          <a:xfrm>
            <a:off x="-1122480" y="1414440"/>
            <a:ext cx="8218440" cy="50785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с двумя вырезанными противолежащими углами 3"/>
          <p:cNvSpPr/>
          <p:nvPr/>
        </p:nvSpPr>
        <p:spPr>
          <a:xfrm>
            <a:off x="6486480" y="1285920"/>
            <a:ext cx="2449440" cy="360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о 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с двумя вырезанными противолежащими углами 8"/>
          <p:cNvSpPr/>
          <p:nvPr/>
        </p:nvSpPr>
        <p:spPr>
          <a:xfrm>
            <a:off x="6486480" y="1778040"/>
            <a:ext cx="2449440" cy="3556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с двумя вырезанными противолежащими углами 9"/>
          <p:cNvSpPr/>
          <p:nvPr/>
        </p:nvSpPr>
        <p:spPr>
          <a:xfrm>
            <a:off x="6486480" y="2276640"/>
            <a:ext cx="2449440" cy="360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ш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с двумя вырезанными противолежащими углами 10"/>
          <p:cNvSpPr/>
          <p:nvPr/>
        </p:nvSpPr>
        <p:spPr>
          <a:xfrm>
            <a:off x="6486480" y="2728800"/>
            <a:ext cx="2448000" cy="3222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" name="Прямая со стрелкой 5"/>
          <p:cNvCxnSpPr>
            <a:endCxn id="74" idx="4"/>
          </p:cNvCxnSpPr>
          <p:nvPr/>
        </p:nvCxnSpPr>
        <p:spPr>
          <a:xfrm>
            <a:off x="6012000" y="1466640"/>
            <a:ext cx="475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4"/>
          <p:cNvCxnSpPr>
            <a:endCxn id="75" idx="4"/>
          </p:cNvCxnSpPr>
          <p:nvPr/>
        </p:nvCxnSpPr>
        <p:spPr>
          <a:xfrm>
            <a:off x="6012000" y="1467000"/>
            <a:ext cx="47520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endCxn id="76" idx="4"/>
          </p:cNvCxnSpPr>
          <p:nvPr/>
        </p:nvCxnSpPr>
        <p:spPr>
          <a:xfrm>
            <a:off x="6012000" y="1466640"/>
            <a:ext cx="475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/>
          <p:nvPr/>
        </p:nvCxnSpPr>
        <p:spPr>
          <a:xfrm>
            <a:off x="6012000" y="1465200"/>
            <a:ext cx="475200" cy="14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1"/>
          <p:cNvSpPr/>
          <p:nvPr/>
        </p:nvSpPr>
        <p:spPr>
          <a:xfrm>
            <a:off x="324000" y="1916280"/>
            <a:ext cx="1726920" cy="43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440" y="-200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4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ЗРАСТНЫЕ 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052280"/>
            <a:ext cx="849600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й группы сказок есть своя возрастная аудито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нятны и близки сказки о животных и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о взаимодействии людей и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идентифицирует себя преимущественно с человеческими персонажами: Принцами, Царевнами, Солдатами и п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едпочитает волшебные сказки.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"/>
          <p:cNvSpPr/>
          <p:nvPr/>
        </p:nvSpPr>
        <p:spPr>
          <a:xfrm>
            <a:off x="163440" y="1628640"/>
            <a:ext cx="2320920" cy="61308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3-5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Овал 3"/>
          <p:cNvSpPr/>
          <p:nvPr/>
        </p:nvSpPr>
        <p:spPr>
          <a:xfrm>
            <a:off x="163440" y="2997360"/>
            <a:ext cx="2320920" cy="64764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5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Овал 4"/>
          <p:cNvSpPr/>
          <p:nvPr/>
        </p:nvSpPr>
        <p:spPr>
          <a:xfrm>
            <a:off x="169920" y="4508640"/>
            <a:ext cx="2087640" cy="736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 с 6-7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200"/>
            <a:ext cx="824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рмы работы по сказкотерап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4920" y="1052280"/>
            <a:ext cx="8496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1.Чтение и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уже существующей ска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(народные, авторские сказ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. Групповое и индивиду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очинение и рассказывание ска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E:\DCIM\100CANON\IMG_0383.JPG"/>
          <p:cNvPicPr/>
          <p:nvPr/>
        </p:nvPicPr>
        <p:blipFill>
          <a:blip r:embed="rId2"/>
          <a:stretch/>
        </p:blipFill>
        <p:spPr>
          <a:xfrm>
            <a:off x="5148360" y="981000"/>
            <a:ext cx="2377800" cy="163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DCIM\100CANON\IMG_0439.JPG"/>
          <p:cNvPicPr/>
          <p:nvPr/>
        </p:nvPicPr>
        <p:blipFill>
          <a:blip r:embed="rId3"/>
          <a:stretch/>
        </p:blipFill>
        <p:spPr>
          <a:xfrm>
            <a:off x="3203640" y="4508640"/>
            <a:ext cx="2442960" cy="1739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E:\DCIM\100CANON\IMG_0440.JPG"/>
          <p:cNvPicPr/>
          <p:nvPr/>
        </p:nvPicPr>
        <p:blipFill>
          <a:blip r:embed="rId4"/>
          <a:stretch/>
        </p:blipFill>
        <p:spPr>
          <a:xfrm>
            <a:off x="539640" y="3209760"/>
            <a:ext cx="2320920" cy="174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J:\оля\2.jpg"/>
          <p:cNvPicPr/>
          <p:nvPr/>
        </p:nvPicPr>
        <p:blipFill>
          <a:blip r:embed="rId5"/>
          <a:stretch/>
        </p:blipFill>
        <p:spPr>
          <a:xfrm>
            <a:off x="5124600" y="909720"/>
            <a:ext cx="29034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200"/>
            <a:ext cx="824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рмы работы по сказкотерап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980640"/>
            <a:ext cx="84960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3.Рассказывание извес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казки и придум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 ней продол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4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ссказывание сказки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ервого лица и от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зличных персонажей сказки.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5. Психодинам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едитации и та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E:\DCIM\100CANON\IMG_0450.JPG"/>
          <p:cNvPicPr/>
          <p:nvPr/>
        </p:nvPicPr>
        <p:blipFill>
          <a:blip r:embed="rId2"/>
          <a:stretch/>
        </p:blipFill>
        <p:spPr>
          <a:xfrm>
            <a:off x="6664320" y="1123920"/>
            <a:ext cx="2084400" cy="156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E:\DCIM\100CANON\IMG_0444.JPG"/>
          <p:cNvPicPr/>
          <p:nvPr/>
        </p:nvPicPr>
        <p:blipFill>
          <a:blip r:embed="rId3"/>
          <a:stretch/>
        </p:blipFill>
        <p:spPr>
          <a:xfrm>
            <a:off x="4067280" y="1125360"/>
            <a:ext cx="2089080" cy="15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1116000" y="2997360"/>
            <a:ext cx="194328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E:\DCIM\100CANON\IMG_0379.JPG"/>
          <p:cNvPicPr/>
          <p:nvPr/>
        </p:nvPicPr>
        <p:blipFill>
          <a:blip r:embed="rId5"/>
          <a:stretch/>
        </p:blipFill>
        <p:spPr>
          <a:xfrm>
            <a:off x="3186000" y="4782960"/>
            <a:ext cx="17640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E:\DCIM\100CANON\IMG_0467.JPG"/>
          <p:cNvPicPr/>
          <p:nvPr/>
        </p:nvPicPr>
        <p:blipFill>
          <a:blip r:embed="rId6"/>
          <a:stretch/>
        </p:blipFill>
        <p:spPr>
          <a:xfrm>
            <a:off x="5364000" y="4919760"/>
            <a:ext cx="1584360" cy="118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E:\DCIM\100CANON\IMG_0433.JPG"/>
          <p:cNvPicPr/>
          <p:nvPr/>
        </p:nvPicPr>
        <p:blipFill>
          <a:blip r:embed="rId7"/>
          <a:stretch/>
        </p:blipFill>
        <p:spPr>
          <a:xfrm>
            <a:off x="7308720" y="4915080"/>
            <a:ext cx="1619280" cy="116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6:00:02Z</dcterms:created>
  <dc:creator>Admin</dc:creator>
  <dc:description/>
  <dc:language>en-US</dc:language>
  <cp:lastModifiedBy>1</cp:lastModifiedBy>
  <dcterms:modified xsi:type="dcterms:W3CDTF">2014-03-31T11:33:24Z</dcterms:modified>
  <cp:revision>140</cp:revision>
  <dc:subject/>
  <dc:title>Инновационный проект  «ПСИХОЛОГО-ПЕДАГОГИЧЕСКОЕ ИСПОЛЬЗОВАНИЕ   СКАЗКОТЕРАПИИ ДЛЯ ВОСПИТАНИЯ ПОЛОЖИТЕЛЬНЫХ   НРАВСТВЕННЫХ КАЧЕСКТВ ЛИЧНОСТИ ДОШКОЛЬНИКОВ»</dc:title>
</cp:coreProperties>
</file>