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333360" y="4211640"/>
            <a:ext cx="61912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Актерское отыгрывание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Через тело можно также работать с психикой. Тело является как бы экраном, на  котором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тображаются все наши эмоциональные переживания, страхи, недовольства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Кукольный театр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– наиболее часто применяемый метод. Дети неосознанно наделяют  куко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бственными мыслями, чувствами, желаниями. Куклы могут быть добрыми и  жестокими, честными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и лицемерными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и работе с куклами мы учитывали характер проблем детей, их возраст, особенности  личности и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уровень развития. Кукольный театр подразумевает в первую очередь  групповую работу с детьми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Желательно включение в группу детей с различными  проблемами и разных полов, количеств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участников при этом чаще всего ограничивается 5-6 детьми. Первоначально совместно с детьми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пределяется сюжет постановки (как правило, сказки), в котором обязательно должны быть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ложительные и отрицательные персонажи, трудности и  преграды и, в конце концов, торжество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обра и справедливости. В соответствие с выбранными ролями составляется сценарий, каждый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участник запоминает  свой текст (здесь развиваются память и внимание)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 процессе игры дети эмоционально вовлекаются в проигрываемое ими, а иногда на короткое время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еревоплощаются в героев сказки, что позволяет им раскрыть свои творческие способности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требность в самовыражении. Дети являются активными участниками терапевтического процесса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у них развивается воображение, уменьшается  потребность в зависимости.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Сказкотерапевтическое рисование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 рисунке проявляются свободные ассоциации, в дальнейшем возможен анализ полученного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графического материала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820880" y="250920"/>
            <a:ext cx="3360600" cy="25207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333360" y="3203640"/>
            <a:ext cx="619128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Каждое занятие имеет определённую структуру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итуал «входа» в сказку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 Цель: Создать настрой на совместную работу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держание: коллективное упражнение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асширение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 Цель: расширить представления ребенка о чем-либо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держание: педагог рассказывает детям новую сказку. Спрашивает, хотят ли они  попробовать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мочь какому-либо персонажу из сказки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Закрепление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Цель: Приобрести новый опыт, закрепить новые качества личности  ребенка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держание: Педагог проводит игры, позволяющие детям приобрести новый опыт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вершаются символические путешествия и превращения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Интеграция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Цель: Связать новый опыт с реальной жизнью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держание: Ведущий обсуждает и анализирует вместе с детьми, в каких ситуациях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их жизни они могут использовать тот опыт, который приобрели сегодня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езюмирование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 Цель: Обобщить приобретенный опыт, связать его с уже имеющимся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держание: Ведущий подводит итоги занятия. Четко проговаривает последовательность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оисходившего на занятии, отмечает отдельных детей за их заслуги, подчеркивает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значимость приобретенного опыта, проговаривает конкретные ситуации реальной жизни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 которых дети могут использовать новый опыт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. Ритуал «выхода» из сказки.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Цель: Закрепить новый опыт, подготовить ребенка к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заимодействию в привычной социальной среде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держание: Повторение ритуала «входа» в сказку дополнением. Ведущий говорит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«Мы берем с собой все важное, что было сегодня с нами, все, чему мы научились». Ребята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отягивают руки в круг, совершают действие, как будто что-то берут из круга, и прикладывают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руки к груди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270160" y="695160"/>
            <a:ext cx="2479680" cy="1860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333360" y="2843280"/>
            <a:ext cx="6191280" cy="56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смотря на то, что ребенок проводит в детском саду большую часть времени, семь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тается важнейшим социальным институтом, оказывающим решающее влияние на развит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ости дошкольника. Сотрудничество с семьей строится по двум направлени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Вовлечение семьи в образовательный  процесс, организованный в групп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овышение психолого-педагогической культуры родителей осуществляется чере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ительские собрания и конференции, консультации, семинары-практику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ители принимают  участие 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и учебного  процесса: обеспечивают детей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ами, необходимыми для занятий. Родителями шьются или приобретаются костю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казочных представлений, родители сами участвуют в драматизациях сказок, играю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рослые роли, принимают участие в утренниках и развлечениях для детей. Присутств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ителей на мастер-классах создает в группе атмосферу домашней обстановк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трудничества, взаимоуважения. Родители совместно с детьми принимают участие 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и реквизита для сказ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сколько раз в год мы посещаем Арзамасский муниципальный театр драмы, где де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отрят сказки, знакомятся с театральной культурой, устройством театра, наблюдают 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грой актеров. Потом мы вместе с детьми обсуждаем просмотренные сказки, выделя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жительных и отрицательных героев, обсуждаем поступки персонаже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целью приобщения детей к культуре чтения художественной литературы, в т. ч. сказок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водятся экскурсии и запись детей в детскую библиотеку. В дальнейшем дети продолжаю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ьзоваться услугами библиотеки вместе с родител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целью приобщения детей к русскому народному творчеству, к старинному русскому быту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гащения словаря детей названиями старинных бытовых предметов (ухват, корыто и др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ы посещаем «Чернухинский краеведческий музей». В дальнейшем новые знания мы используем в свои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аз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712880" y="684360"/>
            <a:ext cx="3360600" cy="2519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33360" y="4211280"/>
            <a:ext cx="619128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оценки результативности  формирования интегративных качеств у детей средней групп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лся мониторинг достижения планируемых результатов под редакцией М.А. Васильевой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.В. Гербовой, Т.С. Комаровой. Были применены общепринятые критерии по принципу «Чем ниже балл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 больше проблем в формировании полноценной личности ребенка», заполнен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агностические карты, подсчитаны средние баллы и проценты. Мониторинг проводился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3-х бальной системе в следующих интегративных качества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любознательный-активный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эмоционально-отзывчивы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владевший средствами общения и способами взаимодействия со взрослыми и сверстник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пособный управлять своим поведением и планировать свои действия на основе первич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остных представлений, соблюдающий элементарные общепринятые нормы и правил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е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иторинг обследования детей средней группы в количестве 21 человека в начале года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1 человека в конце года показал следующие результа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 диаграммы видно - большинство детей имеют высокий уровень сформирован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ативных качеств - на начало года 35%, на конец года 47%. Низкий уровен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ормированности интегративных качеств у  10% детей на начало года и 0% на конец го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 хорошо видно, что применение сказкотерапии приносит положительны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ультаты в личностном развитии детей, коррекции поведения, взаимодействии воспитан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 с другом и взрослыми, эмоциональном развитии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592280" y="684360"/>
            <a:ext cx="4014720" cy="30114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04280" y="3708000"/>
            <a:ext cx="619308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данной работе рассмотрены и проанализированы разные формулировки сказкотерапи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крыты ее педагогические ценности. Проведен мониторинг формирования у дет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ативных качеств,  который показывает на конец года положительную динамику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является обоснованием эффективности применения технологии «сказкотерапия»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авдывает цель данной методической разработ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вленные в начале работы задачи были решен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зучена и проанализирована психолого-педагогическая литерату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азработаны содержание, формы и приемы работ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казкотерапия внедрена во все виды деятель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дтверждена эффективность применения сказкотерап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оведена работа с родителями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в исследовании были решены все поставленные задачи, а цель полность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ован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солютно всё, что нас окружает, может быть описано языком сказок. Если родители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спитатели смогут правильно использовать все возможности сказкотерапии, то окажу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ям неоценимую помощь. Ребенок будет знать, что родителям и воспитателя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безразличны его проблемы,  он сможет усвоить такое жизненное правило: " нужно иска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лы для преодоления трудностей в себе самом". Сказки показывают, что безвыход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туаций не существует, выход всегда есть - надо только его поискать. Сказки  разовью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ображение ребёнка, научат свободно, не страшась опасностей, импровизировать, даду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му чудесное умение использовать для решения проблем волшебную силу творчества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76280" y="4343400"/>
            <a:ext cx="569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астоящее время, полное тревог и противоречий, когда жестокость, насилие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духовность становятся нормой в обществе, возврат к истокам народной мудр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традиций – сказкам -  может помочь ребенку почувствовать себя более защищенным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ренным в себе, воспитает позитивное оптимистичное отношение к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 таком контексте естественно, приемлемо и целесообразно исполь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азкотерапии педагогами и специалистами ДОУ.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туальность и новизн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азкотерапии заключается в объединении многих методических, педагогических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х приёмов в единый сказочный контекст и адаптация их к психик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бе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ходя из вышесказанного, мы решили более подробно изучить педагогическу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ю «сказкотерапия»,  поставили перед собой следующие цель и задач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76280" y="4343400"/>
            <a:ext cx="612144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ь методической работ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снование эффективности применения «сказкотерапии» в работе с дошкольник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ля реализации цели мы поставили перед собой следующие задач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 Изучить психолого-педагогическую и методическую литературу по данной тем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Разработать содержание, формы и организацию работы по  применению сказкотерап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роверить эффективность разработанной методической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ривлечь внимание воспитателей, родителей к данной педагогической технолог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Разработать формы взаимодействия с социум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333000" y="4140360"/>
            <a:ext cx="626436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азкотерапия -  пожалуй, самый детский метод педагогики, и, конечно, од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 самых древних. Ведь ещё наши предки, занимаясь воспитанием детей, 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шили наказать провинившегося ребенка, а рассказывали ему сказку, из котор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овился ясным смысл поступка. Сказки служили моральным и нравственны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м, предохраняли детей от напастей, учили их жизн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и сталкиваются с какими-нибудь проблемами, приходят к нам, взрослым, 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ще всего способы, которые предлагаем мы, для них не подходят. Тогда о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ходят к выводу, что мы им помочь не можем. А куда же девать накопившую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чаль, раздражение, гнев или радость, которые уже переполняют ребенк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здесь на помощь может прийти сказкотерапия. Что же это такое? Это те ж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е сказки, только ориентированы на какую-либо проблему. Это рассказ об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ных ситуациях, в которые часто попадает ребенок, также в н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сываются чувства, возникающие у ребенка, которые могут быть связа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совершенно различными событиями жизни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казкотерапия это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овместное с ребенком открытие тех знаний, которые живут в душе и являю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данный момент педагогическими и психотерапевтическими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оцесс активизации ресурсов, потенциала лич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цесс поиска смысла, расшифровки знаний о мире и системе взаимоотношений в н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цесс образования связи между сказочными событиями и поведением в реальной жизн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ИМУЩЕСТВО СКАЗКИ ДЛЯ РАЗВИТИЯ ЛИ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БЕНКА ЗАКЛЮЧАЕТСЯ В СЛЕДУЮЩ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тсутствие в сказке нравоучений и дидакти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тсутствие четких персонификаций, собирательный образ главного геро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бразность и метафоричность язы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сихологическая защищенность - всегда хороший конец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наличие тайны и волшеб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сихологическая подготовка к напряженным эмоциональным ситуация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мволическое отреагирование  физиологических и эмоциональных стресс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60280" y="4211640"/>
            <a:ext cx="63374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каждой группы сказок есть своя возрастная аудитор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тям 3-5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 наиболее понятны и близки сказки о животных и сказ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 взаимодействии людей и животных. В этом возрасте дети часто идентифицирую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бя с животными, легко перевоплощаются в них, копируя их манеру пове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чиная с 5 ле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ребенок идентифицирует себя преимущественно с человечески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онажами: Принцами, Царевнами, Солдатами и пр. Чем старше станови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бенок, тем с большим удовольствием он читает истории и сказки о людях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ому что в этих историях содержится рассказ о том, как человек познает ми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мерно с 6-7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 ребенок предпочитает волшебные сказ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ой принцип подбора сказок – это направленность проблемной ситуаци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ной для данного возраста, нравственный урок, который дает сказк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упный для осмысления детям  дошкольного возрас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83884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Чтение и обсуждение уже существующей сказки (народные, авторские сказки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Это, наверное, самый популярный и часто применяемый прием сказкотерапии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Читая и обсуждая сказки, любые – народные, авторские, ребенок перевоплощается в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казочного героя, чтобы вместе с ним постигать житейские истины, противостоять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искушениям и найти выход из, казалось бы, безвыходных ситуаций. Вместе с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ерсонажами сказок дети учатся отличать добро и зло, щедрость и жадность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мелость и трусость милосердие и жестокость, верность и предательство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Обсуждая сказочных героев, их поведение, ситуации в которые они попадают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трудности, которые преодолевают, мы можем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. Ненавязчиво, но наглядно пояснить ребенку что такое «хорошо», а что такое «плохо»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знакомить его с нормами морали, привить духовно-ценностные понятия и координаты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. Лучше понять ребенка, то, как он воспринимает окружающий мир, что он чувствует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. Подготовить его к жизни в реальном мире, который не всегда бывает добр и ласков к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ходящему в него человечку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4. Скорректировать ряд вполне естественных и часто встречающихся психологических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облем (страхи, робость, стеснительность, жадность и многое другое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Групповое и индивидуальное сочинение и рассказывание сказки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ы предлагаем детям любую игрушку и просим придумать сказку о том, что с ней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иключилось в сказочной стране.  Кто-то начинает говорить первую фразу, например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«В некотором царстве, в некотором государстве…». Следующий участник группы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исоединяет к сказочной фразе одну или две фразы и так далее.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76756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ассказывание известной сказки и придумывание к ней продол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участник группы по очереди рассказывает небольшой кусочек знаком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азки.   После того, как сказка рассказана, участники группы придумывают к н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олжение, причем последний рассказчик должен закончить сказ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ассказывание сказки от первого лица и от имени различных персонажей сказки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астники группы выбирают сказку, которую они собираются рассказывать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еделяют персонажи между соб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сиходинамические медитации и танц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движения, перевоплощения, развит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ного рода чувствительности, получение позитивного двигательного опыта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находясь в сказочном лесу, дети изображают разных животных: лису, зайц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а, медведя, птиц. Этот прием мы также используем во время проведения утренн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мнастики или как физкультурная минутка. Застенчивые дети чувствуют себя в так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нуты более свободными, уверенными. Танец – это телесное выражение различ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оциональных состояний. Он раскрепощает и наполняет человека новой сил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нцуя, ребенок начинает чувствовать свое тело и лучше владеть и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1B68-E023-42DC-B283-D14D686F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E6AA-EF71-4D40-9999-1BCAE2E5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D74C-390F-4DFE-A3D8-29D2F1B0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5389-0315-4163-B553-2E9E73E3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165B-6BE2-4BCE-BA68-DDA952E2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C2A2-400D-4B68-8282-AA66DF9B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9B4D-7E19-4119-8698-8B57F02E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294C-36FE-4D0B-BFC1-6CDD9DC3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D720-207E-4222-87B3-80B092EC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5634-2DEC-4D7B-995B-6CDB9172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B00F-813E-48B3-8F04-AFF1DC46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B3F2-AA83-4FAB-A43E-E4A51BCC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7C327E-6A09-4728-AE6E-3CA3D44BA1B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-28260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2520" y="2349360"/>
            <a:ext cx="7772400" cy="37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резентац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методической разработк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Третьяковой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Ольги Александровн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воспитател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МБДОУ «Мотовиловский детский сад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280" y="259920"/>
            <a:ext cx="7993080" cy="22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ИСПОЛЬЗОВАНИЕ СКАЗКОТЕРАПИИ В РАБОТЕ  С ДЕТЬ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СРЕДНЕЙ ГРУППЫ Д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25200"/>
            <a:ext cx="82440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Формы работы по сказкотерап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007640"/>
            <a:ext cx="8496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6. Актер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отыгры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                                                                           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7. Кукольный теат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8. Сказкотерапевт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ис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E:\DCIM\100CANON\IMG_0351.JPG"/>
          <p:cNvPicPr/>
          <p:nvPr/>
        </p:nvPicPr>
        <p:blipFill>
          <a:blip r:embed="rId2"/>
          <a:stretch/>
        </p:blipFill>
        <p:spPr>
          <a:xfrm>
            <a:off x="6588000" y="1158840"/>
            <a:ext cx="1474920" cy="1106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E:\DCIM\100CANON\IMG_0368.JPG"/>
          <p:cNvPicPr/>
          <p:nvPr/>
        </p:nvPicPr>
        <p:blipFill>
          <a:blip r:embed="rId3"/>
          <a:stretch/>
        </p:blipFill>
        <p:spPr>
          <a:xfrm>
            <a:off x="4751280" y="1125360"/>
            <a:ext cx="1522440" cy="1140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E:\DCIM\100CANON\IMG_0370.JPG"/>
          <p:cNvPicPr/>
          <p:nvPr/>
        </p:nvPicPr>
        <p:blipFill>
          <a:blip r:embed="rId4"/>
          <a:stretch/>
        </p:blipFill>
        <p:spPr>
          <a:xfrm>
            <a:off x="2843280" y="1125360"/>
            <a:ext cx="1512720" cy="113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E:\DCIM\100CANON\IMG_0343.JPG"/>
          <p:cNvPicPr/>
          <p:nvPr/>
        </p:nvPicPr>
        <p:blipFill>
          <a:blip r:embed="rId5"/>
          <a:stretch/>
        </p:blipFill>
        <p:spPr>
          <a:xfrm>
            <a:off x="2843280" y="2852640"/>
            <a:ext cx="1728720" cy="129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E:\DCIM\100CANON\IMG_0393.JPG"/>
          <p:cNvPicPr/>
          <p:nvPr/>
        </p:nvPicPr>
        <p:blipFill>
          <a:blip r:embed="rId6"/>
          <a:stretch/>
        </p:blipFill>
        <p:spPr>
          <a:xfrm>
            <a:off x="2987640" y="5157720"/>
            <a:ext cx="1871640" cy="1403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E:\DCIM\100CANON\IMG_0391.JPG"/>
          <p:cNvPicPr/>
          <p:nvPr/>
        </p:nvPicPr>
        <p:blipFill>
          <a:blip r:embed="rId7"/>
          <a:stretch/>
        </p:blipFill>
        <p:spPr>
          <a:xfrm>
            <a:off x="6012000" y="5157720"/>
            <a:ext cx="1873080" cy="1403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J:\оля\1.jpg"/>
          <p:cNvPicPr/>
          <p:nvPr/>
        </p:nvPicPr>
        <p:blipFill>
          <a:blip r:embed="rId8"/>
          <a:stretch/>
        </p:blipFill>
        <p:spPr>
          <a:xfrm>
            <a:off x="2340000" y="2538360"/>
            <a:ext cx="2519280" cy="18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44360" y="692280"/>
            <a:ext cx="88552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5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5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итуал «входа» в сказку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Создать настрой на совместную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5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сширени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расширить представления ребенка о чем-либ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5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крепл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Цель: Приобрести новый опыт, закрепить новые качества личности реб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5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нтеграция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Связать новый опыт с реальной жизн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5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езюмировани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Обобщить приобретенный опыт, связать его с уже имеющим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5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итуал «выхода» из сказки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Закрепить новый опыт, подготовить ребенка к взаимодействию в привычной социальной ср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5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660240" y="192240"/>
            <a:ext cx="813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труктура сказкотерапевтического занят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3240" y="1908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8"/>
          <p:cNvSpPr/>
          <p:nvPr/>
        </p:nvSpPr>
        <p:spPr>
          <a:xfrm>
            <a:off x="1366920" y="26589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О «Социа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ц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8640" y="476280"/>
            <a:ext cx="8228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казкотерапия используется  в непосредственной образовательной деятельности, в режимных моментах, свободной  игровой деятельности детей.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Виды сказкотерапевтической деятельности по образовательным област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Объект 4" descr=""/>
          <p:cNvPicPr/>
          <p:nvPr/>
        </p:nvPicPr>
        <p:blipFill>
          <a:blip r:embed="rId2"/>
          <a:stretch/>
        </p:blipFill>
        <p:spPr>
          <a:xfrm>
            <a:off x="480960" y="1768320"/>
            <a:ext cx="8182080" cy="47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3240" y="1908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8"/>
          <p:cNvSpPr/>
          <p:nvPr/>
        </p:nvSpPr>
        <p:spPr>
          <a:xfrm>
            <a:off x="1366920" y="26589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О «Социа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ц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Объект 4" descr=""/>
          <p:cNvPicPr/>
          <p:nvPr/>
        </p:nvPicPr>
        <p:blipFill>
          <a:blip r:embed="rId2"/>
          <a:stretch/>
        </p:blipFill>
        <p:spPr>
          <a:xfrm>
            <a:off x="590400" y="328680"/>
            <a:ext cx="818856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-304920" y="-2300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44360" y="1197000"/>
            <a:ext cx="88552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Схема 5" descr=""/>
          <p:cNvPicPr/>
          <p:nvPr/>
        </p:nvPicPr>
        <p:blipFill>
          <a:blip r:embed="rId2"/>
          <a:stretch/>
        </p:blipFill>
        <p:spPr>
          <a:xfrm>
            <a:off x="463680" y="1030320"/>
            <a:ext cx="7716600" cy="47545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"/>
          <p:cNvSpPr/>
          <p:nvPr/>
        </p:nvSpPr>
        <p:spPr>
          <a:xfrm>
            <a:off x="1563840" y="195120"/>
            <a:ext cx="601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оциальные связ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44360" y="890640"/>
            <a:ext cx="88552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обследования детей средней группы в количестве 17 человека в начале года и 17 человек в конце года показал следующие результа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-2013 уч.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755640" y="19512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диагностического обследования де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Диаграмма 6" descr=""/>
          <p:cNvPicPr/>
          <p:nvPr/>
        </p:nvPicPr>
        <p:blipFill>
          <a:blip r:embed="rId2"/>
          <a:stretch/>
        </p:blipFill>
        <p:spPr>
          <a:xfrm>
            <a:off x="1352520" y="2154240"/>
            <a:ext cx="6149880" cy="41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7920" y="-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1"/>
          <p:cNvSpPr/>
          <p:nvPr/>
        </p:nvSpPr>
        <p:spPr>
          <a:xfrm>
            <a:off x="324000" y="981000"/>
            <a:ext cx="8569080" cy="72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диагностического обследования детей видно, что использование сказкотерапии в работе с детьми является эффективным и поставленная цель достигну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использования сказкотерапии, мы получили положительные результат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детей  вес­ти себя в различных  си­туациях, применяя положительный опыт на примере поведения сказочных герое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ый коммуникативный опыт взаимодействия со сверстниками и взрослы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детьми информации о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бе, о природе, об окружающем мире, о социальных отношения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развития у детей познава­тельной активности, творческих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отрицательных черт характер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ое  оптимистичное отношение к жизн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ленные задачи решен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а   психолого-педагогическая  и методическая литература по  данной тем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ы содержание, формы и организация работы по  применению сказкотерап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ы формы взаимодействия с социум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вовлечены в жизнь групп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ена эффективность разработанной методической систем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0690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11160" y="-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ЕРСПЕКТИВ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684360" y="1916280"/>
            <a:ext cx="7920000" cy="37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льнейшем планируется продолжить использование сказкотерапии в работе с детьм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сказкотерапию как средство формирования речи дошколь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перспективный план по  развитию речи детей старшей группы посредством сказкотерап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 предметно-развивающую сре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ь тесное сотрудничество с родителями воспитан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АКТУАЛЬН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8920" y="1655280"/>
            <a:ext cx="87901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                       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c00000"/>
                </a:solidFill>
                <a:latin typeface="Monotype Corsiva"/>
              </a:rPr>
              <a:t>Не бойся сказки. Бойся л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Monotype Corsiva"/>
              </a:rPr>
              <a:t>                                                                                                       </a:t>
            </a:r>
            <a:r>
              <a:rPr b="1" i="1" lang="ru-RU" sz="2000" spc="-1" strike="noStrike">
                <a:solidFill>
                  <a:srgbClr val="c00000"/>
                </a:solidFill>
                <a:latin typeface="Monotype Corsiva"/>
              </a:rPr>
              <a:t>А сказка? Сказка не обма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Monotype Corsiva"/>
              </a:rPr>
              <a:t>                                                                                                       </a:t>
            </a:r>
            <a:r>
              <a:rPr b="1" i="1" lang="ru-RU" sz="2000" spc="-1" strike="noStrike">
                <a:solidFill>
                  <a:srgbClr val="c00000"/>
                </a:solidFill>
                <a:latin typeface="Monotype Corsiva"/>
              </a:rPr>
              <a:t>Ребёнку сказку расскажи…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, полное тревог и противоречий, когда жестокость, насилие, бездуховность становятся нормой в обществе, возврат к истокам народной мудрости и традиций – сказкам -  может помочь ребенку почувствовать себя более защищенным, уверенным в себе, воспитает позитивное оптимистичное отношение к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таком контексте приемлемо и целесообразно использование сказкотерапии педагогами и специалистами ДО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и новизна сказкотерапии заключается в объединении многих методических, педагогических, психологических приёмов в единый сказочный контекст и адаптация их к психике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ЦЕЛЬ  МЕТОДИЧЕСКОЙ РАЗРАБОТ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560" y="1328400"/>
            <a:ext cx="9261360" cy="53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ование эффективности применения сказкотерапии в работе с дошкольн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2"/>
          <p:cNvSpPr/>
          <p:nvPr/>
        </p:nvSpPr>
        <p:spPr>
          <a:xfrm>
            <a:off x="3538440" y="2754360"/>
            <a:ext cx="20732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Скругленный прямоугольник 3"/>
          <p:cNvSpPr/>
          <p:nvPr/>
        </p:nvSpPr>
        <p:spPr>
          <a:xfrm>
            <a:off x="138240" y="4340160"/>
            <a:ext cx="1841400" cy="175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психолого-педагогическую и методическую литературу по данной тем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Скругленный прямоугольник 8"/>
          <p:cNvSpPr/>
          <p:nvPr/>
        </p:nvSpPr>
        <p:spPr>
          <a:xfrm>
            <a:off x="2124000" y="4340160"/>
            <a:ext cx="1584360" cy="175284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1752840"/>
              <a:gd name="textAreaBottom" fmla="*/ 1675800 h 1752840"/>
            </a:gdLst>
            <a:ahLst/>
            <a:rect l="textAreaLeft" t="textAreaTop" r="textAreaRight" b="textAreaBottom"/>
            <a:pathLst>
              <a:path w="21600" h="23896">
                <a:moveTo>
                  <a:pt x="3600" y="0"/>
                </a:moveTo>
                <a:arcTo wR="3600" hR="3600" stAng="16200000" swAng="-5400000"/>
                <a:lnTo>
                  <a:pt x="0" y="20296"/>
                </a:lnTo>
                <a:arcTo wR="3600" hR="3600" stAng="10800000" swAng="-5400000"/>
                <a:lnTo>
                  <a:pt x="18000" y="23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содержание, формы и организацию работы по  применению сказкотерап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Скругленный прямоугольник 9"/>
          <p:cNvSpPr/>
          <p:nvPr/>
        </p:nvSpPr>
        <p:spPr>
          <a:xfrm>
            <a:off x="3840120" y="4340160"/>
            <a:ext cx="1789200" cy="1762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ь внимание воспитателей, родителей к данной педагогической технолог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Скругленный прямоугольник 10"/>
          <p:cNvSpPr/>
          <p:nvPr/>
        </p:nvSpPr>
        <p:spPr>
          <a:xfrm>
            <a:off x="5711760" y="4340160"/>
            <a:ext cx="1474920" cy="1773360"/>
          </a:xfrm>
          <a:custGeom>
            <a:avLst/>
            <a:gdLst>
              <a:gd name="textAreaLeft" fmla="*/ 72000 w 1474920"/>
              <a:gd name="textAreaRight" fmla="*/ 1402920 w 1474920"/>
              <a:gd name="textAreaTop" fmla="*/ 72000 h 1773360"/>
              <a:gd name="textAreaBottom" fmla="*/ 1701360 h 1773360"/>
            </a:gdLst>
            <a:ahLst/>
            <a:rect l="textAreaLeft" t="textAreaTop" r="textAreaRight" b="textAreaBottom"/>
            <a:pathLst>
              <a:path w="21600" h="25970">
                <a:moveTo>
                  <a:pt x="3600" y="0"/>
                </a:moveTo>
                <a:arcTo wR="3600" hR="3600" stAng="16200000" swAng="-5400000"/>
                <a:lnTo>
                  <a:pt x="0" y="22370"/>
                </a:lnTo>
                <a:arcTo wR="3600" hR="3600" stAng="10800000" swAng="-5400000"/>
                <a:lnTo>
                  <a:pt x="18000" y="259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формы взаимодействия с социум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8" name="Прямая со стрелкой 5"/>
          <p:cNvCxnSpPr>
            <a:endCxn id="54" idx="0"/>
          </p:cNvCxnSpPr>
          <p:nvPr/>
        </p:nvCxnSpPr>
        <p:spPr>
          <a:xfrm flipH="1">
            <a:off x="1058040" y="3668400"/>
            <a:ext cx="3675960" cy="67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Прямая со стрелкой 12"/>
          <p:cNvCxnSpPr>
            <a:endCxn id="55" idx="0"/>
          </p:cNvCxnSpPr>
          <p:nvPr/>
        </p:nvCxnSpPr>
        <p:spPr>
          <a:xfrm flipH="1">
            <a:off x="2915640" y="3668400"/>
            <a:ext cx="1818360" cy="67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Прямая со стрелкой 15"/>
          <p:cNvCxnSpPr>
            <a:endCxn id="56" idx="0"/>
          </p:cNvCxnSpPr>
          <p:nvPr/>
        </p:nvCxnSpPr>
        <p:spPr>
          <a:xfrm>
            <a:off x="4734000" y="3713040"/>
            <a:ext cx="2160" cy="62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Прямая со стрелкой 23"/>
          <p:cNvCxnSpPr>
            <a:endCxn id="57" idx="0"/>
          </p:cNvCxnSpPr>
          <p:nvPr/>
        </p:nvCxnSpPr>
        <p:spPr>
          <a:xfrm>
            <a:off x="4735440" y="3668400"/>
            <a:ext cx="1713600" cy="67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Скругленный прямоугольник 9"/>
          <p:cNvSpPr/>
          <p:nvPr/>
        </p:nvSpPr>
        <p:spPr>
          <a:xfrm>
            <a:off x="7378560" y="4373640"/>
            <a:ext cx="1760760" cy="1752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эффективность разработанной методической систем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" name="Прямая со стрелкой 21"/>
          <p:cNvCxnSpPr>
            <a:endCxn id="62" idx="0"/>
          </p:cNvCxnSpPr>
          <p:nvPr/>
        </p:nvCxnSpPr>
        <p:spPr>
          <a:xfrm>
            <a:off x="4735440" y="3668760"/>
            <a:ext cx="3525120" cy="70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-29844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Сказкотерапия – э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0160" y="1267920"/>
            <a:ext cx="8567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0" indent="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вместное с ребенком открытие тех знаний, которые живут в душе и являются в данный момент педагогическими и психотерапевтическ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0" indent="44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цесс активизации ресурсов, потенциала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процесс поиска смысла, расшифровки знаний о мире и системе взаимоотношений в 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процесс образования связи между сказочными событиями и поведением в реальной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8351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Схема 2" descr=""/>
          <p:cNvPicPr/>
          <p:nvPr/>
        </p:nvPicPr>
        <p:blipFill>
          <a:blip r:embed="rId2"/>
          <a:stretch/>
        </p:blipFill>
        <p:spPr>
          <a:xfrm>
            <a:off x="676440" y="244440"/>
            <a:ext cx="7729200" cy="590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18880"/>
            <a:ext cx="8245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ИДЫ СКАЗОК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4000" y="1395000"/>
            <a:ext cx="84960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хема 2" descr=""/>
          <p:cNvPicPr/>
          <p:nvPr/>
        </p:nvPicPr>
        <p:blipFill>
          <a:blip r:embed="rId2"/>
          <a:stretch/>
        </p:blipFill>
        <p:spPr>
          <a:xfrm>
            <a:off x="-1122480" y="1414440"/>
            <a:ext cx="8218440" cy="50785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с двумя вырезанными противолежащими углами 3"/>
          <p:cNvSpPr/>
          <p:nvPr/>
        </p:nvSpPr>
        <p:spPr>
          <a:xfrm>
            <a:off x="6486480" y="1285920"/>
            <a:ext cx="2449440" cy="36036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 о живо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Прямоугольник с двумя вырезанными противолежащими углами 8"/>
          <p:cNvSpPr/>
          <p:nvPr/>
        </p:nvSpPr>
        <p:spPr>
          <a:xfrm>
            <a:off x="6486480" y="1778040"/>
            <a:ext cx="2449440" cy="35568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овые ска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Прямоугольник с двумя вырезанными противолежащими углами 9"/>
          <p:cNvSpPr/>
          <p:nvPr/>
        </p:nvSpPr>
        <p:spPr>
          <a:xfrm>
            <a:off x="6486480" y="2276640"/>
            <a:ext cx="2449440" cy="36036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шные ска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Прямоугольник с двумя вырезанными противолежащими углами 10"/>
          <p:cNvSpPr/>
          <p:nvPr/>
        </p:nvSpPr>
        <p:spPr>
          <a:xfrm>
            <a:off x="6486480" y="2728800"/>
            <a:ext cx="2448000" cy="32220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шебные ска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" name="Прямая со стрелкой 5"/>
          <p:cNvCxnSpPr>
            <a:endCxn id="74" idx="4"/>
          </p:cNvCxnSpPr>
          <p:nvPr/>
        </p:nvCxnSpPr>
        <p:spPr>
          <a:xfrm>
            <a:off x="6012000" y="1466640"/>
            <a:ext cx="475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Прямая со стрелкой 14"/>
          <p:cNvCxnSpPr>
            <a:endCxn id="75" idx="4"/>
          </p:cNvCxnSpPr>
          <p:nvPr/>
        </p:nvCxnSpPr>
        <p:spPr>
          <a:xfrm>
            <a:off x="6012000" y="1467000"/>
            <a:ext cx="475200" cy="48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Прямая со стрелкой 16"/>
          <p:cNvCxnSpPr>
            <a:endCxn id="76" idx="4"/>
          </p:cNvCxnSpPr>
          <p:nvPr/>
        </p:nvCxnSpPr>
        <p:spPr>
          <a:xfrm>
            <a:off x="6012000" y="1466640"/>
            <a:ext cx="475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Прямая со стрелкой 18"/>
          <p:cNvCxnSpPr/>
          <p:nvPr/>
        </p:nvCxnSpPr>
        <p:spPr>
          <a:xfrm>
            <a:off x="6012000" y="1465200"/>
            <a:ext cx="475200" cy="1426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Овал 1"/>
          <p:cNvSpPr/>
          <p:nvPr/>
        </p:nvSpPr>
        <p:spPr>
          <a:xfrm>
            <a:off x="324000" y="1916280"/>
            <a:ext cx="1726920" cy="4330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1440" y="-200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4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ОЗРАСТНЫЕ ОСОБ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4000" y="1052280"/>
            <a:ext cx="8496000" cy="49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75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ждой группы сказок есть своя возрастная аудитор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понятны и близки сказки о животных и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 о взаимодействии людей и живот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идентифицирует себя преимущественно с человеческими персонажами: Принцами, Царевнами, Солдатами и п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предпочитает волшебные сказки.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2"/>
          <p:cNvSpPr/>
          <p:nvPr/>
        </p:nvSpPr>
        <p:spPr>
          <a:xfrm>
            <a:off x="163440" y="1628640"/>
            <a:ext cx="2320920" cy="61308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 3-5 л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Овал 3"/>
          <p:cNvSpPr/>
          <p:nvPr/>
        </p:nvSpPr>
        <p:spPr>
          <a:xfrm>
            <a:off x="163440" y="2997360"/>
            <a:ext cx="2320920" cy="64764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5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Овал 4"/>
          <p:cNvSpPr/>
          <p:nvPr/>
        </p:nvSpPr>
        <p:spPr>
          <a:xfrm>
            <a:off x="169920" y="4508640"/>
            <a:ext cx="2087640" cy="736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о с 6-7 л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5200"/>
            <a:ext cx="82440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Формы работы по сказкотерап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94920" y="1052280"/>
            <a:ext cx="84963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1.Чтение и обс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уже существующей сказ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(народные, авторские сказ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2. Групповое и индивидуаль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сочинение и рассказывание сказ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E:\DCIM\100CANON\IMG_0383.JPG"/>
          <p:cNvPicPr/>
          <p:nvPr/>
        </p:nvPicPr>
        <p:blipFill>
          <a:blip r:embed="rId2"/>
          <a:stretch/>
        </p:blipFill>
        <p:spPr>
          <a:xfrm>
            <a:off x="5148360" y="981000"/>
            <a:ext cx="2377800" cy="1636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E:\DCIM\100CANON\IMG_0439.JPG"/>
          <p:cNvPicPr/>
          <p:nvPr/>
        </p:nvPicPr>
        <p:blipFill>
          <a:blip r:embed="rId3"/>
          <a:stretch/>
        </p:blipFill>
        <p:spPr>
          <a:xfrm>
            <a:off x="3203640" y="4508640"/>
            <a:ext cx="2442960" cy="1739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E:\DCIM\100CANON\IMG_0440.JPG"/>
          <p:cNvPicPr/>
          <p:nvPr/>
        </p:nvPicPr>
        <p:blipFill>
          <a:blip r:embed="rId4"/>
          <a:stretch/>
        </p:blipFill>
        <p:spPr>
          <a:xfrm>
            <a:off x="539640" y="3209760"/>
            <a:ext cx="2320920" cy="1740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J:\оля\2.jpg"/>
          <p:cNvPicPr/>
          <p:nvPr/>
        </p:nvPicPr>
        <p:blipFill>
          <a:blip r:embed="rId5"/>
          <a:stretch/>
        </p:blipFill>
        <p:spPr>
          <a:xfrm>
            <a:off x="5124600" y="909720"/>
            <a:ext cx="290340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25200"/>
            <a:ext cx="82440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Формы работы по сказкотерап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4000" y="980640"/>
            <a:ext cx="849600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3.Рассказывание извест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сказки и придумы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к ней продол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4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ассказывание сказки 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первого лица и от име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азличных персонажей сказки.</a:t>
            </a:r>
            <a:r>
              <a:rPr b="0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5. Психодинамиче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медитации и та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E:\DCIM\100CANON\IMG_0450.JPG"/>
          <p:cNvPicPr/>
          <p:nvPr/>
        </p:nvPicPr>
        <p:blipFill>
          <a:blip r:embed="rId2"/>
          <a:stretch/>
        </p:blipFill>
        <p:spPr>
          <a:xfrm>
            <a:off x="6664320" y="1123920"/>
            <a:ext cx="2084400" cy="1565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E:\DCIM\100CANON\IMG_0444.JPG"/>
          <p:cNvPicPr/>
          <p:nvPr/>
        </p:nvPicPr>
        <p:blipFill>
          <a:blip r:embed="rId3"/>
          <a:stretch/>
        </p:blipFill>
        <p:spPr>
          <a:xfrm>
            <a:off x="4067280" y="1125360"/>
            <a:ext cx="2089080" cy="1557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4"/>
          <a:stretch/>
        </p:blipFill>
        <p:spPr>
          <a:xfrm>
            <a:off x="1116000" y="2997360"/>
            <a:ext cx="1943280" cy="1368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E:\DCIM\100CANON\IMG_0379.JPG"/>
          <p:cNvPicPr/>
          <p:nvPr/>
        </p:nvPicPr>
        <p:blipFill>
          <a:blip r:embed="rId5"/>
          <a:stretch/>
        </p:blipFill>
        <p:spPr>
          <a:xfrm>
            <a:off x="3186000" y="4782960"/>
            <a:ext cx="1764000" cy="1324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E:\DCIM\100CANON\IMG_0467.JPG"/>
          <p:cNvPicPr/>
          <p:nvPr/>
        </p:nvPicPr>
        <p:blipFill>
          <a:blip r:embed="rId6"/>
          <a:stretch/>
        </p:blipFill>
        <p:spPr>
          <a:xfrm>
            <a:off x="5364000" y="4919760"/>
            <a:ext cx="1584360" cy="1187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E:\DCIM\100CANON\IMG_0433.JPG"/>
          <p:cNvPicPr/>
          <p:nvPr/>
        </p:nvPicPr>
        <p:blipFill>
          <a:blip r:embed="rId7"/>
          <a:stretch/>
        </p:blipFill>
        <p:spPr>
          <a:xfrm>
            <a:off x="7308720" y="4915080"/>
            <a:ext cx="1619280" cy="1166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16:00:02Z</dcterms:created>
  <dc:creator>Admin</dc:creator>
  <dc:description/>
  <dc:language>en-US</dc:language>
  <cp:lastModifiedBy>1</cp:lastModifiedBy>
  <dcterms:modified xsi:type="dcterms:W3CDTF">2014-03-31T11:33:24Z</dcterms:modified>
  <cp:revision>140</cp:revision>
  <dc:subject/>
  <dc:title>Инновационный проект  «ПСИХОЛОГО-ПЕДАГОГИЧЕСКОЕ ИСПОЛЬЗОВАНИЕ   СКАЗКОТЕРАПИИ ДЛЯ ВОСПИТАНИЯ ПОЛОЖИТЕЛЬНЫХ   НРАВСТВЕННЫХ КАЧЕСКТВ ЛИЧНОСТИ ДОШКОЛЬНИКОВ»</dc:title>
</cp:coreProperties>
</file>