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71D2-6C6E-4816-9457-D69968DA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5161-567A-46E0-BA3B-3A1395D3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713C-46D5-4985-BB64-B7DA184C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34A4-8E82-4A31-AC04-C2C38332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2A58-0F14-41F9-8CE3-CCDA4B82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C4F5-BAE8-41AD-9F6B-4FAD0910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CACC-53A5-475F-85FD-6F7A70BD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410F-6010-4B71-9175-BCE1EEE5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B9F0-438F-4F0B-B6E1-277FC270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2747-659E-4A2F-8D9E-9A30725D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F498-BDE7-4551-9A46-561976BF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0B3F-7422-4DD7-9D5C-7B1775FB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057A-EBC4-4816-ABBE-23058000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7D71-9BF6-4EB2-845A-9F3D5286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D540-3DA9-4260-923A-3A20D163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ED14-F8B3-4631-92BC-69CD7FC0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D24A-8E96-4ADA-B5D3-C023BADE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E153-9F3A-4D5D-AC58-5C9FCA2E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C319-70E6-41AC-B503-CBE7A758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69D-5594-468A-A203-695A6AD5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E6DC-DC74-461D-85B1-EDB9E0F0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472F-C0FB-42FF-ACB9-11736047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8B20-8B1D-43E5-B292-F0204E89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883E-B99D-4594-A26C-949A7605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AFCD-FFE8-4ED3-8A53-44B4573160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AB3D-EB1F-435A-8CBA-651EAF6DE8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Континентальный рационализм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668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Что то немногое, что я узнал до настоящего времени, почти ничто в сравнении с тем, чего я не знаю и что я не отчаиваюсь узнать»  Ренэ Декар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лова Павла о Петре говорят нам больше о Павле, чем о Петре» Бенедикт Спи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Наше счастье вовсе не состоит и не должно состоять в полном удовлетворении, при котором не оставалось бы больше ничего желать, что способствовало бы только отупению нашего ума. Вечное стремление к новым наслаждениям и новым совершенствам — это и есть счастье.» Г.В. Лейбни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05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Для новоевропейской философии была главной — теория познания. Не как вести себя в мире, а как познать его — вот основной вопрос новой философии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Рациональность – разумность, осмысленность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  Рационализм – философское направление, полагающее разум основой познания и поведения людей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360" y="13716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екарт, Спиноза и Лейбниц принадлежали к направлению, получившему название континентального рационализма, поскольку все три философа жили на европейском континенте и были рационалист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4724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Французский философ,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математик, механик, физик и физиолог, создатель аналитической геометрии и современной алгебраической символики, автор метода радикального сомнения в философии, механицизма в физике, предтеча рефлексологии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796000" y="685800"/>
            <a:ext cx="3036960" cy="4114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562720" y="4952880"/>
            <a:ext cx="3429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енэ Декарт</a:t>
            </a:r>
            <a:br>
              <a:rPr sz="40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(1596 — 165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62360" y="4952880"/>
            <a:ext cx="3429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енэ Декарт</a:t>
            </a:r>
            <a:br>
              <a:rPr sz="40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(1596 — 1650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867280" y="609480"/>
            <a:ext cx="2811600" cy="4114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3520" y="4114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914400"/>
            <a:ext cx="5410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Мы обладаем только четырьмя способностями, которые можем при этом использовать, а именно разумом, воображением, чувствами и памятью. Правда один только разум способен постичь истину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1294920"/>
            <a:ext cx="4419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Нидерландский философ-рационалист, натуралист еврейского происхождения, один из главных представителей философии Нового времени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876920" y="685800"/>
            <a:ext cx="4114800" cy="3581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876920" y="4952880"/>
            <a:ext cx="4267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Бенедикт Спиноза (1632—1677)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76560" y="495288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Бенедикт Спиноза (1632—1677)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181480" y="380880"/>
            <a:ext cx="354348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280" y="380880"/>
            <a:ext cx="5029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еловек, руководствующийся только аффектом или мнением, отличается от человека, руководствующегося разумом. Первый помимо своей воли делает то, чего совершенно не знает, второй делает только то, что он признает главнейшим в жизни. Поэтому первого я называю рабом, второго – свободным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05740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Саксонский философ, логик, математик, механик, физик, юрист, историк, дипломат, изобретатель и языковед. Основатель и первый президент Берлинской Академии наук, иностранный член Французской Академии наук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867280" y="533520"/>
            <a:ext cx="2919600" cy="4114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724280" y="4800600"/>
            <a:ext cx="4419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Готфрид Вильгельм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 Лейбниц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(1646 — 1716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3920" y="4800600"/>
            <a:ext cx="4419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Готфрид Вильгельм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 Лейбниц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(1646 — 1716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7200" y="1295280"/>
            <a:ext cx="3657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се ли истины зависят от опыта, т. е. от индукции и от примеров, или же имеются истины, покоящиеся на другой основе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1T04:23:19Z</dcterms:created>
  <dc:creator>Петр</dc:creator>
  <dc:description/>
  <dc:language>en-US</dc:language>
  <cp:lastModifiedBy>Петр</cp:lastModifiedBy>
  <dcterms:modified xsi:type="dcterms:W3CDTF">2017-12-11T06:32:0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