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296-4DDD-47AE-88E8-C276F54A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864-8029-43F2-A691-25E0A6C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C5C-5398-410D-833D-2AFA36D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4DD-CA48-41FE-9F8B-81F6EA5D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8551-C4A9-49AB-9AC7-97B8628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890B-BEEC-423E-8565-3305CBE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1749-D4DA-4AD2-8450-7F0EEF9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022F-5141-40FE-9C10-5F3C22B8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AD45-3C27-4A35-88F9-6AB3F76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0486-5AB8-4841-BBC8-C151E2F4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55EB-820B-4615-9D29-6BC4842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70F-C4B3-479F-A37C-165B30C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5F0E-6ED5-4216-842C-09EC14A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B5CA-3559-40FC-B83C-B7AC5BA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4276-0CCA-4485-8250-1B47CE3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EDF-A826-41F6-82EE-F3ED6254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7EC3-0B30-4473-8818-1C29F9E0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47A-07D4-4DD6-A8B9-45F3F0F6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722-5590-4831-8692-CA95335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D38-388F-41FA-9D39-4691F7D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A08-CDF3-43B3-A618-F3403AA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57C-E3C1-46A7-96F9-64B620F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DF5-FDE6-4D84-B9DE-3866510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195-2178-48D7-BB9E-541B486A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AD8-D880-47EE-A394-6664F3EFB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8C9-B912-47AC-AA32-2F20D0652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Континентальный рационализм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то то немногое, что я узнал до настоящего времени, почти ничто в сравнении с тем, чего я не знаю и что я не отчаиваюсь узнать»  Ренэ Дека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лова Павла о Петре говорят нам больше о Павле, чем о Петре» Бенедикт Спи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ше счастье вовсе не состоит и не должно состоять в полном удовлетворении, при котором не оставалось бы больше ничего желать, что способствовало бы только отупению нашего ума. Вечное стремление к новым наслаждениям и новым совершенствам — это и есть счастье.» Г.В. Лейбн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ля новоевропейской философии была главной — теория познания. Не как вести себя в мире, а как познать его — вот основной вопрос новой философ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ациональность – разумность, осмысленность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 Рационализм – философское направление, полагающее разум основой познания и поведения люде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карт, Спиноза и Лейбниц принадлежали к направлению, получившему название континентального рационализма, поскольку все три философа жили на европейском континенте и были рационалист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Французский философ,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математик, механик, физик и физиолог, создатель аналитической геометрии и современной алгебраической символики, автор метода радикального сомнения в философии, механицизма в физике, предтеча рефлексологи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96000" y="685800"/>
            <a:ext cx="30369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62720" y="495288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нэ Декарт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1596 — 16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62360" y="49528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нэ Декарт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1596 — 165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116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114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1440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ы обладаем только четырьмя способностями, которые можем при этом использовать, а именно разумом, воображением, чувствами и памятью. Правда один только разум способен постичь истин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Нидерландский философ-рационалист, натуралист еврейского происхождения, один из главных представителей философии Нового времен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495288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Бенедикт Спиноза (1632—1677)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4952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Бенедикт Спиноза (1632—1677)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35434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80880"/>
            <a:ext cx="50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ловек, руководствующийся только аффектом или мнением, отличается от человека, руководствующегося разумом. Первый помимо своей воли делает то, чего совершенно не знает, второй делает только то, что он признает главнейшим в жизни. Поэтому первого я называю рабом, второго – свободны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Саксонский философ, логик, математик, механик, физик, юрист, историк, дипломат, изобретатель и языковед. Основатель и первый президент Берлинской Академии наук, иностранный член Французской Академии наук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29196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4800600"/>
            <a:ext cx="44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отфрид Вильгельм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Лейбниц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(1646 — 171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3920" y="480060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отфрид Вильгельм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Лейбниц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(1646 — 1716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295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ли истины зависят от опыта, т. е. от индукции и от примеров, или же имеются истины, покоящиеся на другой основ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4:23:19Z</dcterms:created>
  <dc:creator>Петр</dc:creator>
  <dc:description/>
  <dc:language>en-US</dc:language>
  <cp:lastModifiedBy>Петр</cp:lastModifiedBy>
  <dcterms:modified xsi:type="dcterms:W3CDTF">2017-12-11T06:32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