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47D-C9D5-4956-80F8-AE636E7B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08C-B36B-4E07-A6E0-064194DE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952-3957-428B-9EBB-86C88495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3D3-DF8C-4092-A984-38546F45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3573-9CE6-4926-952D-6672D798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741E-A6EC-4BD8-AD15-10352EF7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2ADD-648F-41AC-B46C-E670CA51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F748-2F2B-437B-A578-E4F1E217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5287-2892-491B-9AB5-45E00718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B2FF-63C8-4C15-B3A7-74C749FE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9335-2B91-4D22-BEFD-5616B1C9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8B0-2C59-43E4-B1D4-90B24EC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22F3-8546-4D26-A2D4-8B1E7D4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A37D-2C90-4B5C-964E-370C7950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88D2-278B-4EA4-9396-E134E76A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AAA5-A455-4125-8CC5-0842A6C5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F0E3-2B0E-4D17-AD7C-64F07F21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FB2-7021-48F1-841A-544E2472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716-E899-4B38-A77C-39EDE385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1D4-AD07-4CAD-BDFE-CFD8E412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22E-6E35-4B88-A243-B0AAA74A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35B-94EE-499B-BC46-B7A8FD1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A51-C19F-4C26-B84C-F2693424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427-01EB-463D-9271-7CE87D08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37AE-B9B3-4C2B-938D-3362E942D0B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B9F1-CA11-4709-AD9C-3C7B348168D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-4500720" y="3068640"/>
            <a:ext cx="1942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68360" y="1197000"/>
            <a:ext cx="8426520" cy="383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СОВРЕМЕННЫЕ ТЕХНОЛОГИИ ОБУЧЕНИЯ ИНОСТРАННЫМ ЯЗЫКАМ НА ПРИМЕР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      </a:t>
            </a: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ПРОЕКТНОЙ МЕТОДИКИ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Автор презентации: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Ясюченина О.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635840" y="20628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Функции</a:t>
            </a:r>
            <a:r>
              <a:rPr b="1" lang="ru-RU" sz="1200" spc="-1" strike="noStrike">
                <a:solidFill>
                  <a:srgbClr val="ffffff"/>
                </a:solidFill>
                <a:latin typeface="Bookman Old Style"/>
              </a:rPr>
              <a:t>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учител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1979640" y="1197000"/>
            <a:ext cx="4753080" cy="4824360"/>
          </a:xfrm>
          <a:prstGeom prst="pi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консультант-помощн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психоло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регулят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организат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наблюдате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аналит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контрол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0" y="0"/>
            <a:ext cx="9144000" cy="762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Виды презентаций проект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Bookman Old Style"/>
              </a:rPr>
              <a:t>Демонстрация видеофильм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ru-RU" sz="2000" spc="-1" strike="noStrike">
                <a:solidFill>
                  <a:srgbClr val="a50021"/>
                </a:solidFill>
                <a:latin typeface="Bookman Old Style"/>
              </a:rPr>
              <a:t>Защита проектов на научно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Bookman Old Style"/>
              </a:rPr>
              <a:t>            </a:t>
            </a:r>
            <a:r>
              <a:rPr b="1" lang="ru-RU" sz="2000" spc="-1" strike="noStrike">
                <a:solidFill>
                  <a:srgbClr val="a50021"/>
                </a:solidFill>
                <a:latin typeface="Bookman Old Style"/>
              </a:rPr>
              <a:t>практической школьной конферен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Пресс-конференц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Bookman Old Style"/>
              </a:rPr>
              <a:t>Реклам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Bookman Old Style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Спектак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        </a:t>
            </a:r>
            <a:r>
              <a:rPr b="1" lang="ru-RU" sz="2000" spc="-1" strike="noStrike">
                <a:solidFill>
                  <a:srgbClr val="333300"/>
                </a:solidFill>
                <a:latin typeface="Bookman Old Style"/>
              </a:rPr>
              <a:t>Телепередач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Bookman Old Style"/>
              </a:rPr>
              <a:t>Слайд-шо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Bookman Old Style"/>
              </a:rPr>
              <a:t>Web-</a:t>
            </a:r>
            <a:r>
              <a:rPr b="1" lang="ru-RU" sz="2000" spc="-1" strike="noStrike">
                <a:solidFill>
                  <a:srgbClr val="008080"/>
                </a:solidFill>
                <a:latin typeface="Bookman Old Style"/>
              </a:rPr>
              <a:t>сай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528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Bookman Old Style"/>
              </a:rPr>
              <a:t>Цели проектной методики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179280" y="1916280"/>
            <a:ext cx="3889440" cy="1944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-повышение мотив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 изучению язык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благодаря креативном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подходу к использовани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новой информ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для изготовления проект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4932360" y="1916280"/>
            <a:ext cx="3887640" cy="22334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-воспитание готовност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 дальнейшему развити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самообразованию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способности к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самостоятельной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абот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в автономном режим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AutoShape 11"/>
          <p:cNvSpPr/>
          <p:nvPr/>
        </p:nvSpPr>
        <p:spPr>
          <a:xfrm rot="16200000">
            <a:off x="3600360" y="2889000"/>
            <a:ext cx="2087640" cy="5040360"/>
          </a:xfrm>
          <a:custGeom>
            <a:avLst/>
            <a:gdLst>
              <a:gd name="textAreaLeft" fmla="*/ 101880 w 2087640"/>
              <a:gd name="textAreaRight" fmla="*/ 1985760 w 2087640"/>
              <a:gd name="textAreaTop" fmla="*/ 101880 h 5040360"/>
              <a:gd name="textAreaBottom" fmla="*/ 4938480 h 5040360"/>
            </a:gdLst>
            <a:ahLst/>
            <a:rect l="textAreaLeft" t="textAreaTop" r="textAreaRight" b="textAreaBottom"/>
            <a:pathLst>
              <a:path w="21600" h="52145">
                <a:moveTo>
                  <a:pt x="3600" y="0"/>
                </a:moveTo>
                <a:arcTo wR="3600" hR="3600" stAng="16200000" swAng="-5400000"/>
                <a:lnTo>
                  <a:pt x="0" y="48545"/>
                </a:lnTo>
                <a:arcTo wR="3600" hR="3600" stAng="10800000" swAng="-5400000"/>
                <a:lnTo>
                  <a:pt x="18000" y="52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118800" bIns="118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-умение соотносить собственну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иноязычную культур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формирование на этой основ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оммуникабельности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толерантно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12"/>
          <p:cNvSpPr/>
          <p:nvPr/>
        </p:nvSpPr>
        <p:spPr>
          <a:xfrm flipH="1">
            <a:off x="1835280" y="1052640"/>
            <a:ext cx="26654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4500720" y="1052640"/>
            <a:ext cx="24476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4211280" y="1052640"/>
            <a:ext cx="289080" cy="32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0"/>
            <a:ext cx="9144000" cy="6561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aramond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24000" y="981000"/>
            <a:ext cx="3024000" cy="2089080"/>
          </a:xfrm>
          <a:prstGeom prst="beve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преодоление привычк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учащихс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заучиват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учебный материал</a:t>
            </a:r>
            <a:r>
              <a:rPr b="1" lang="ru-RU" sz="1200" spc="-1" strike="noStrike">
                <a:solidFill>
                  <a:srgbClr val="800000"/>
                </a:solidFill>
                <a:latin typeface="Bookman Old Style"/>
              </a:rPr>
              <a:t>;</a:t>
            </a:r>
            <a:r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788000" y="981000"/>
            <a:ext cx="4105080" cy="2303640"/>
          </a:xfrm>
          <a:prstGeom prst="beve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создание атмосферы увлечённости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учением, чтобы самостоятельна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умственная деятельность доставлял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учащимся радость и способствовал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созданию атмосферы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поиска и развит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187280" y="3429000"/>
            <a:ext cx="6409080" cy="2736720"/>
          </a:xfrm>
          <a:prstGeom prst="beve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звитие умения стоить коммуник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с другими людьми – вести диалог в пар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малой группе, учитывать сходство 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зницу в позициях, взаимодействоват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с партнерами для получения общего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езультата</a:t>
            </a:r>
            <a:r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1979280" y="549360"/>
            <a:ext cx="237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924000" y="549360"/>
            <a:ext cx="43164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4356000" y="549360"/>
            <a:ext cx="194472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0" y="981000"/>
            <a:ext cx="9144000" cy="514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Bookman Old Style"/>
              </a:rPr>
              <a:t>Теоретическое обоснова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4 ФАЗ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ПРОЕКТНО-ИССЛЕДОВАТЕЛЬСКОЙ ТЕХНОЛОГИИ</a:t>
            </a:r>
            <a:r>
              <a:rPr b="1" lang="ru-RU" sz="36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Bookman Old Style"/>
              </a:rPr>
              <a:t>(по У. Килпатрику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Намер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                 </a:t>
            </a: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2. </a:t>
            </a: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                                            </a:t>
            </a: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3. </a:t>
            </a: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Выполн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4. </a:t>
            </a: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Сужд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7"/>
          <p:cNvSpPr/>
          <p:nvPr/>
        </p:nvSpPr>
        <p:spPr>
          <a:xfrm>
            <a:off x="0" y="0"/>
            <a:ext cx="9144000" cy="8496720"/>
          </a:xfrm>
          <a:prstGeom prst="rect">
            <a:avLst/>
          </a:prstGeom>
          <a:gradFill rotWithShape="0">
            <a:gsLst>
              <a:gs pos="0">
                <a:srgbClr val="ccecff">
                  <a:alpha val="94117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Типологии проект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1. По степени самостоятельности (реальный, неструктурированный, полуструктурированны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2. По форме реализации (упражнение,  модель, эссе, презентация, реклама и т.д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3. По доминирующему виду  деятельности (поисковый,  творческий, исследовательски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4. По предметно-содержательной    об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(монопредметный, межпредметный и т.д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5. По характеру координации (индивидуальный, парный, группово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6. По продолжительности  проведения (краткосрочный, долгосрочны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13"/>
          <p:cNvSpPr/>
          <p:nvPr/>
        </p:nvSpPr>
        <p:spPr>
          <a:xfrm flipH="1">
            <a:off x="1258560" y="1341360"/>
            <a:ext cx="302580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19"/>
          <p:cNvSpPr/>
          <p:nvPr/>
        </p:nvSpPr>
        <p:spPr>
          <a:xfrm flipH="1">
            <a:off x="4068360" y="1341360"/>
            <a:ext cx="358920" cy="37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835280" y="476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Bookman Old Style"/>
              </a:rPr>
              <a:t>ЭФФЕКТИВНОСТЬ:</a:t>
            </a:r>
            <a:r>
              <a:rPr b="0" lang="ru-RU" sz="3600" spc="-1" strike="noStrike">
                <a:solidFill>
                  <a:srgbClr val="6633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324000" y="1700280"/>
            <a:ext cx="2087280" cy="151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змен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содержа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2987640" y="2421000"/>
            <a:ext cx="2374920" cy="19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азвитие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ыслительн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познаватель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деятельности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чащих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6084720" y="1628640"/>
            <a:ext cx="2160720" cy="14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силение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отив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ч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5078520" y="3573360"/>
            <a:ext cx="3600360" cy="273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формирование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мения жить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общать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в поликультурном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пространств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современного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3059280" y="5084640"/>
            <a:ext cx="187308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толерант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252360" y="3933720"/>
            <a:ext cx="1943280" cy="107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азвитие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патриотизм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12"/>
          <p:cNvSpPr/>
          <p:nvPr/>
        </p:nvSpPr>
        <p:spPr>
          <a:xfrm flipH="1">
            <a:off x="2125440" y="1341360"/>
            <a:ext cx="19429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4716360" y="1341360"/>
            <a:ext cx="223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4500720" y="1341360"/>
            <a:ext cx="223200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Line 17"/>
          <p:cNvSpPr/>
          <p:nvPr/>
        </p:nvSpPr>
        <p:spPr>
          <a:xfrm flipH="1">
            <a:off x="4140000" y="1341360"/>
            <a:ext cx="215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Овал 1"/>
          <p:cNvSpPr/>
          <p:nvPr/>
        </p:nvSpPr>
        <p:spPr>
          <a:xfrm>
            <a:off x="6586560" y="2637000"/>
            <a:ext cx="255744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отивац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2835360" y="2554200"/>
            <a:ext cx="3333600" cy="1463760"/>
          </a:xfrm>
          <a:prstGeom prst="rect">
            <a:avLst/>
          </a:prstGeom>
          <a:ln w="0">
            <a:noFill/>
          </a:ln>
        </p:spPr>
      </p:pic>
      <p:sp>
        <p:nvSpPr>
          <p:cNvPr id="190" name="Овал 3"/>
          <p:cNvSpPr/>
          <p:nvPr/>
        </p:nvSpPr>
        <p:spPr>
          <a:xfrm>
            <a:off x="5508720" y="4149720"/>
            <a:ext cx="334800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формирован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коммуникативно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компетен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Овал 4"/>
          <p:cNvSpPr/>
          <p:nvPr/>
        </p:nvSpPr>
        <p:spPr>
          <a:xfrm>
            <a:off x="395280" y="4365720"/>
            <a:ext cx="25210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ост самооцен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чащих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Овал 5"/>
          <p:cNvSpPr/>
          <p:nvPr/>
        </p:nvSpPr>
        <p:spPr>
          <a:xfrm>
            <a:off x="3059280" y="0"/>
            <a:ext cx="3313080" cy="1773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изменен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его отношени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к окружающе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действительност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Овал 6"/>
          <p:cNvSpPr/>
          <p:nvPr/>
        </p:nvSpPr>
        <p:spPr>
          <a:xfrm>
            <a:off x="2700360" y="5084640"/>
            <a:ext cx="3166920" cy="1251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нтегрированност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ь</a:t>
            </a:r>
            <a:r>
              <a:rPr b="1" lang="ru-RU" sz="1800" spc="-1" strike="noStrike">
                <a:solidFill>
                  <a:srgbClr val="0dae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Овал 7"/>
          <p:cNvSpPr/>
          <p:nvPr/>
        </p:nvSpPr>
        <p:spPr>
          <a:xfrm>
            <a:off x="0" y="2708280"/>
            <a:ext cx="2448000" cy="1297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открытос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Овал 8"/>
          <p:cNvSpPr/>
          <p:nvPr/>
        </p:nvSpPr>
        <p:spPr>
          <a:xfrm>
            <a:off x="0" y="620640"/>
            <a:ext cx="3132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звит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физиологическ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и психологическ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функций уче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Овал 9"/>
          <p:cNvSpPr/>
          <p:nvPr/>
        </p:nvSpPr>
        <p:spPr>
          <a:xfrm>
            <a:off x="6227640" y="1052640"/>
            <a:ext cx="237672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звит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творчеств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97" name="Прямая со стрелкой 11"/>
          <p:cNvCxnSpPr/>
          <p:nvPr/>
        </p:nvCxnSpPr>
        <p:spPr>
          <a:xfrm flipV="1">
            <a:off x="4642200" y="1846080"/>
            <a:ext cx="2520" cy="57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8" name="Прямая со стрелкой 13"/>
          <p:cNvCxnSpPr/>
          <p:nvPr/>
        </p:nvCxnSpPr>
        <p:spPr>
          <a:xfrm flipV="1">
            <a:off x="5940360" y="2204640"/>
            <a:ext cx="504000" cy="21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9" name="Прямая со стрелкой 17"/>
          <p:cNvCxnSpPr/>
          <p:nvPr/>
        </p:nvCxnSpPr>
        <p:spPr>
          <a:xfrm>
            <a:off x="6227280" y="3357720"/>
            <a:ext cx="2894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0" name="Прямая со стрелкой 19"/>
          <p:cNvCxnSpPr/>
          <p:nvPr/>
        </p:nvCxnSpPr>
        <p:spPr>
          <a:xfrm>
            <a:off x="5435280" y="4149720"/>
            <a:ext cx="361080" cy="21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1" name="Прямая со стрелкой 21"/>
          <p:cNvCxnSpPr/>
          <p:nvPr/>
        </p:nvCxnSpPr>
        <p:spPr>
          <a:xfrm flipH="1">
            <a:off x="4355280" y="4220640"/>
            <a:ext cx="7236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2" name="Прямая со стрелкой 23"/>
          <p:cNvCxnSpPr/>
          <p:nvPr/>
        </p:nvCxnSpPr>
        <p:spPr>
          <a:xfrm flipH="1">
            <a:off x="2339280" y="4075560"/>
            <a:ext cx="577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3" name="Прямая со стрелкой 25"/>
          <p:cNvCxnSpPr>
            <a:endCxn id="194" idx="6"/>
          </p:cNvCxnSpPr>
          <p:nvPr/>
        </p:nvCxnSpPr>
        <p:spPr>
          <a:xfrm flipH="1" flipV="1">
            <a:off x="2447280" y="3357000"/>
            <a:ext cx="324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4" name="Прямая со стрелкой 27"/>
          <p:cNvCxnSpPr/>
          <p:nvPr/>
        </p:nvCxnSpPr>
        <p:spPr>
          <a:xfrm flipH="1" flipV="1">
            <a:off x="2987280" y="2133360"/>
            <a:ext cx="721440" cy="28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050920" y="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2f2f2"/>
                </a:solidFill>
                <a:latin typeface="Bookman Old Style"/>
              </a:rPr>
              <a:t>Этапы работы над проект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0" y="476280"/>
            <a:ext cx="334800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I.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Планирование темы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намерение сделать проек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формулировка проблемы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проек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Oval 8"/>
          <p:cNvSpPr/>
          <p:nvPr/>
        </p:nvSpPr>
        <p:spPr>
          <a:xfrm>
            <a:off x="3203640" y="1052640"/>
            <a:ext cx="3097080" cy="180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II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Организац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боты над проекто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обсужден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 деление на микрогрупп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индивидуальная рабо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6156360" y="2133720"/>
            <a:ext cx="2987640" cy="180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III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Поисковая рабо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опро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поиск информа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интервь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Oval 10"/>
          <p:cNvSpPr/>
          <p:nvPr/>
        </p:nvSpPr>
        <p:spPr>
          <a:xfrm>
            <a:off x="0" y="2133720"/>
            <a:ext cx="341964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IV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Обработка материал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составление схем, графико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составление тезисо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выделение главного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второстепенног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Oval 11"/>
          <p:cNvSpPr/>
          <p:nvPr/>
        </p:nvSpPr>
        <p:spPr>
          <a:xfrm>
            <a:off x="3203640" y="3068640"/>
            <a:ext cx="3313080" cy="165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V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Оформлен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материал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5364000" y="4581360"/>
            <a:ext cx="3313440" cy="14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VI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Презентац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-</a:t>
            </a: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индивидуальна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в микрогруппа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группова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Oval 13"/>
          <p:cNvSpPr/>
          <p:nvPr/>
        </p:nvSpPr>
        <p:spPr>
          <a:xfrm>
            <a:off x="1332000" y="5157720"/>
            <a:ext cx="3311280" cy="1366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VII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Подведение итого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Вывод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592200" y="428760"/>
            <a:ext cx="779616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Bookman Old Style"/>
              </a:rPr>
              <a:t>ВЗАИМОДЕЙСТВИЕ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Bookman Old Style"/>
              </a:rPr>
              <a:t>УЧЕНИК</a:t>
            </a:r>
            <a:r>
              <a:rPr b="0" lang="ru-RU" sz="1200" spc="-1" strike="noStrike">
                <a:solidFill>
                  <a:srgbClr val="6600cc"/>
                </a:solidFill>
                <a:latin typeface="Bookman Old Style"/>
              </a:rPr>
              <a:t>                                                                                </a:t>
            </a:r>
            <a:r>
              <a:rPr b="1" lang="ru-RU" sz="2000" spc="-1" strike="noStrike">
                <a:solidFill>
                  <a:srgbClr val="6600cc"/>
                </a:solidFill>
                <a:latin typeface="Bookman Old Style"/>
              </a:rPr>
              <a:t>УЧИТЕ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95280" y="1197000"/>
          <a:ext cx="3600360" cy="530712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99"/>
                          </a:solidFill>
                          <a:latin typeface="Verdana"/>
                        </a:rPr>
                        <a:t>интер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Verdana"/>
                        </a:rPr>
                        <a:t>актуальная потреб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самостоятельная умствен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мыслительная познавательная актив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личная значи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самоуправляе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66"/>
                          </a:solidFill>
                          <a:latin typeface="Verdana"/>
                        </a:rPr>
                        <a:t>готовность к позна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Verdana"/>
                        </a:rPr>
                        <a:t>готовность овладеть современными коммуникативными технология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умение интегрировать ранее полученные знания по разным предмет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003640" y="1197000"/>
          <a:ext cx="3695760" cy="5456160"/>
        </p:xfrm>
        <a:graphic>
          <a:graphicData uri="http://schemas.openxmlformats.org/drawingml/2006/table">
            <a:tbl>
              <a:tblPr/>
              <a:tblGrid>
                <a:gridCol w="3695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создание атмосферы увлеченности учен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ff"/>
                          </a:solidFill>
                          <a:latin typeface="Verdana"/>
                        </a:rPr>
                        <a:t>создание атмосферы поиска и разви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воспитание благородных черт характ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провоцирование на высказ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развитие творческой актив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развитие творческих и аналитических способ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9900"/>
                          </a:solidFill>
                          <a:latin typeface="Verdana"/>
                        </a:rPr>
                        <a:t>осуществление консультативной помощ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осуществление интеграции с другими предмет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проведение анализа результатов выполненного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07:53:29Z</dcterms:created>
  <dc:creator>student</dc:creator>
  <dc:description/>
  <dc:language>en-US</dc:language>
  <cp:lastModifiedBy>Admin</cp:lastModifiedBy>
  <dcterms:modified xsi:type="dcterms:W3CDTF">2018-03-26T10:21:34Z</dcterms:modified>
  <cp:revision>141</cp:revision>
  <dc:subject/>
  <dc:title>Слайд 1</dc:title>
</cp:coreProperties>
</file>