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83FD-F30C-446C-A11D-938122D1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9A91-9E17-45D8-8CF6-CF7D8A71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EE1A-4EB3-4F7B-B0EB-19B20892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DB0B-9D24-4C57-9C0A-0A1E72CA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9713-2BA9-4FB7-870D-F7DDDE23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5E18-D271-4C7B-B919-B54A9AEC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EFE8-55C3-4685-8A41-DB1D533B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E3E5-E9BA-4E35-9C02-508E12C4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F6B6-D901-467E-8158-4B8B9AC3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6DAA-8D5A-4D4E-B6B2-5BAB711A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33C4-FDE8-417F-AE24-A3C3D348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3C91-9CF8-4F4A-AD68-006AAA6A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2338-20AF-45BC-A4F1-1732B4E2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1F2C-2832-4C61-BB39-41C4A950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67C4-DD50-4D0F-9FF3-0921C319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EAB2-3017-4520-B4E4-B3267F5C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3AB2-894D-47D8-BF48-921E05DD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A124-3A66-4368-AD53-06C35669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5C45-7B95-4CFA-913B-9076C603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19B8-A884-4752-A4D8-FC6DA4C4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C0F8-C1BB-4AF0-86A2-2D8130A0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784D-9D26-4FA3-AD6A-61377CFA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AF81-A2DF-418C-8683-CC169B81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05F7-E0E8-431F-8391-8D677F16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42B1-C0EB-492F-8FA6-FAB757D1A84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BD69-2D59-4D71-A07B-FB1BF8539CC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-4500720" y="3068640"/>
            <a:ext cx="1942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68360" y="1197000"/>
            <a:ext cx="8426520" cy="3832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Bookman Old Style"/>
              </a:rPr>
              <a:t>СОВРЕМЕННЫЕ ТЕХНОЛОГИИ ОБУЧЕНИЯ ИНОСТРАННЫМ ЯЗЫКАМ НА ПРИМЕРЕ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Bookman Old Style"/>
              </a:rPr>
              <a:t>      </a:t>
            </a:r>
            <a:r>
              <a:rPr b="1" lang="ru-RU" sz="3600" spc="-1" strike="noStrike">
                <a:solidFill>
                  <a:srgbClr val="800000"/>
                </a:solidFill>
                <a:latin typeface="Bookman Old Style"/>
              </a:rPr>
              <a:t>ПРОЕКТНОЙ МЕТОДИКИ</a:t>
            </a: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  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                                              </a:t>
            </a: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Автор презентации: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                                                                         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Ясюченина О.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1635840" y="206280"/>
            <a:ext cx="51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man Old Style"/>
              </a:rPr>
              <a:t>Функции</a:t>
            </a:r>
            <a:r>
              <a:rPr b="1" lang="ru-RU" sz="1200" spc="-1" strike="noStrike">
                <a:solidFill>
                  <a:srgbClr val="ffffff"/>
                </a:solidFill>
                <a:latin typeface="Bookman Old Style"/>
              </a:rPr>
              <a:t>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Bookman Old Style"/>
              </a:rPr>
              <a:t>учител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1979640" y="1197000"/>
            <a:ext cx="4753080" cy="4824360"/>
          </a:xfrm>
          <a:prstGeom prst="pi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консультант-помощни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психолог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регулято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организато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наблюдател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аналити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контроле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0" y="0"/>
            <a:ext cx="9144000" cy="7629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Виды презентаций проект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Bookman Old Style"/>
              </a:rPr>
              <a:t>Демонстрация видеофильм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1" lang="ru-RU" sz="2000" spc="-1" strike="noStrike">
                <a:solidFill>
                  <a:srgbClr val="a50021"/>
                </a:solidFill>
                <a:latin typeface="Bookman Old Style"/>
              </a:rPr>
              <a:t>Защита проектов на научно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Bookman Old Style"/>
              </a:rPr>
              <a:t>            </a:t>
            </a:r>
            <a:r>
              <a:rPr b="1" lang="ru-RU" sz="2000" spc="-1" strike="noStrike">
                <a:solidFill>
                  <a:srgbClr val="a50021"/>
                </a:solidFill>
                <a:latin typeface="Bookman Old Style"/>
              </a:rPr>
              <a:t>практической школьной конференц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           </a:t>
            </a: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Пресс-конференц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                        </a:t>
            </a:r>
            <a:r>
              <a:rPr b="1" lang="ru-RU" sz="2000" spc="-1" strike="noStrike">
                <a:solidFill>
                  <a:srgbClr val="993300"/>
                </a:solidFill>
                <a:latin typeface="Bookman Old Style"/>
              </a:rPr>
              <a:t>Реклам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                             </a:t>
            </a:r>
            <a:r>
              <a:rPr b="1" lang="ru-RU" sz="2000" spc="-1" strike="noStrike">
                <a:solidFill>
                  <a:srgbClr val="993300"/>
                </a:solidFill>
                <a:latin typeface="Bookman Old Style"/>
              </a:rPr>
              <a:t>Ролевая иг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                                   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Спектакл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                                       </a:t>
            </a:r>
            <a:r>
              <a:rPr b="1" lang="ru-RU" sz="2000" spc="-1" strike="noStrike">
                <a:solidFill>
                  <a:srgbClr val="333300"/>
                </a:solidFill>
                <a:latin typeface="Bookman Old Style"/>
              </a:rPr>
              <a:t>Телепередач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333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                                                  </a:t>
            </a:r>
            <a:r>
              <a:rPr b="1" lang="ru-RU" sz="2000" spc="-1" strike="noStrike">
                <a:solidFill>
                  <a:srgbClr val="006600"/>
                </a:solidFill>
                <a:latin typeface="Bookman Old Style"/>
              </a:rPr>
              <a:t>Слайд-шо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                                         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Bookman Old Style"/>
              </a:rPr>
              <a:t>Web-</a:t>
            </a:r>
            <a:r>
              <a:rPr b="1" lang="ru-RU" sz="2000" spc="-1" strike="noStrike">
                <a:solidFill>
                  <a:srgbClr val="008080"/>
                </a:solidFill>
                <a:latin typeface="Bookman Old Style"/>
              </a:rPr>
              <a:t>сай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9528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Bookman Old Style"/>
              </a:rPr>
              <a:t>Цели проектной методики: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179280" y="1916280"/>
            <a:ext cx="3889440" cy="1944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-повышение мотивац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к изучению языка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благодаря креативном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подходу к использованию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новой информац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для изготовления проект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4932360" y="1916280"/>
            <a:ext cx="3887640" cy="22334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-воспитание готовност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к дальнейшему развитию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и самообразованию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способности к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самостоятельной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работ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в автономном режим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AutoShape 11"/>
          <p:cNvSpPr/>
          <p:nvPr/>
        </p:nvSpPr>
        <p:spPr>
          <a:xfrm rot="16200000">
            <a:off x="3600360" y="2889000"/>
            <a:ext cx="2087640" cy="5040360"/>
          </a:xfrm>
          <a:custGeom>
            <a:avLst/>
            <a:gdLst>
              <a:gd name="textAreaLeft" fmla="*/ 101880 w 2087640"/>
              <a:gd name="textAreaRight" fmla="*/ 1985760 w 2087640"/>
              <a:gd name="textAreaTop" fmla="*/ 101880 h 5040360"/>
              <a:gd name="textAreaBottom" fmla="*/ 4938480 h 5040360"/>
            </a:gdLst>
            <a:ahLst/>
            <a:rect l="textAreaLeft" t="textAreaTop" r="textAreaRight" b="textAreaBottom"/>
            <a:pathLst>
              <a:path w="21600" h="52145">
                <a:moveTo>
                  <a:pt x="3600" y="0"/>
                </a:moveTo>
                <a:arcTo wR="3600" hR="3600" stAng="16200000" swAng="-5400000"/>
                <a:lnTo>
                  <a:pt x="0" y="48545"/>
                </a:lnTo>
                <a:arcTo wR="3600" hR="3600" stAng="10800000" swAng="-5400000"/>
                <a:lnTo>
                  <a:pt x="18000" y="521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0" rIns="126000" tIns="118800" bIns="118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-умение соотносить собственную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и иноязычную культуры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и формирование на этой основ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коммуникабельности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и толерантност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Line 12"/>
          <p:cNvSpPr/>
          <p:nvPr/>
        </p:nvSpPr>
        <p:spPr>
          <a:xfrm flipH="1">
            <a:off x="1835280" y="1052640"/>
            <a:ext cx="266544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4500720" y="1052640"/>
            <a:ext cx="244764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Line 14"/>
          <p:cNvSpPr/>
          <p:nvPr/>
        </p:nvSpPr>
        <p:spPr>
          <a:xfrm flipH="1">
            <a:off x="4211280" y="1052640"/>
            <a:ext cx="289080" cy="32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0"/>
            <a:ext cx="9144000" cy="65617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00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aramond"/>
              </a:rPr>
              <a:t>Задачи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324000" y="981000"/>
            <a:ext cx="3024000" cy="2089080"/>
          </a:xfrm>
          <a:prstGeom prst="beve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преодоление привычк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учащихся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заучивать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учебный материал</a:t>
            </a:r>
            <a:r>
              <a:rPr b="1" lang="ru-RU" sz="1200" spc="-1" strike="noStrike">
                <a:solidFill>
                  <a:srgbClr val="800000"/>
                </a:solidFill>
                <a:latin typeface="Bookman Old Style"/>
              </a:rPr>
              <a:t>;</a:t>
            </a:r>
            <a:r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4788000" y="981000"/>
            <a:ext cx="4105080" cy="2303640"/>
          </a:xfrm>
          <a:prstGeom prst="beve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8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Bookman Old Style"/>
              </a:rPr>
              <a:t>создание атмосферы увлечённости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Bookman Old Style"/>
              </a:rPr>
              <a:t>учением, чтобы самостоятельна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Bookman Old Style"/>
              </a:rPr>
              <a:t>умственная деятельность доставлял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400" spc="-1" strike="noStrike">
                <a:solidFill>
                  <a:srgbClr val="800000"/>
                </a:solidFill>
                <a:latin typeface="Bookman Old Style"/>
              </a:rPr>
              <a:t>учащимся радость и способствовал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400" spc="-1" strike="noStrike">
                <a:solidFill>
                  <a:srgbClr val="800000"/>
                </a:solidFill>
                <a:latin typeface="Bookman Old Style"/>
              </a:rPr>
              <a:t>созданию атмосферы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Bookman Old Style"/>
              </a:rPr>
              <a:t>поиска и развит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1187280" y="3429000"/>
            <a:ext cx="6409080" cy="2736720"/>
          </a:xfrm>
          <a:prstGeom prst="beve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8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развитие умения стоить коммуникацию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с другими людьми – вести диалог в паре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малой группе, учитывать сходство 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разницу в позициях, взаимодействовать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с партнерами для получения общего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результата</a:t>
            </a:r>
            <a:r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Line 6"/>
          <p:cNvSpPr/>
          <p:nvPr/>
        </p:nvSpPr>
        <p:spPr>
          <a:xfrm flipH="1">
            <a:off x="1979280" y="549360"/>
            <a:ext cx="2376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Line 7"/>
          <p:cNvSpPr/>
          <p:nvPr/>
        </p:nvSpPr>
        <p:spPr>
          <a:xfrm flipH="1">
            <a:off x="3924000" y="549360"/>
            <a:ext cx="43164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4356000" y="549360"/>
            <a:ext cx="194472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6"/>
          <p:cNvSpPr/>
          <p:nvPr/>
        </p:nvSpPr>
        <p:spPr>
          <a:xfrm>
            <a:off x="0" y="981000"/>
            <a:ext cx="9144000" cy="5148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Bookman Old Style"/>
              </a:rPr>
              <a:t>Теоретическое обоснование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4 ФАЗ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ПРОЕКТНО-ИССЛЕДОВАТЕЛЬСКОЙ ТЕХНОЛОГИИ</a:t>
            </a:r>
            <a:r>
              <a:rPr b="1" lang="ru-RU" sz="36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660033"/>
                </a:solidFill>
                <a:latin typeface="Bookman Old Style"/>
              </a:rPr>
              <a:t>(по У. Килпатрику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ookman Old Style"/>
              </a:rPr>
              <a:t>Намере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ookman Old Style"/>
              </a:rPr>
              <a:t>                 </a:t>
            </a:r>
            <a:r>
              <a:rPr b="1" lang="ru-RU" sz="2000" spc="-1" strike="noStrike">
                <a:solidFill>
                  <a:srgbClr val="990000"/>
                </a:solidFill>
                <a:latin typeface="Bookman Old Style"/>
              </a:rPr>
              <a:t>2. </a:t>
            </a:r>
            <a:r>
              <a:rPr b="1" lang="ru-RU" sz="2400" spc="-1" strike="noStrike">
                <a:solidFill>
                  <a:srgbClr val="990000"/>
                </a:solidFill>
                <a:latin typeface="Bookman Old Style"/>
              </a:rPr>
              <a:t>Планирова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ookman Old Style"/>
              </a:rPr>
              <a:t>                                            </a:t>
            </a:r>
            <a:r>
              <a:rPr b="1" lang="ru-RU" sz="2000" spc="-1" strike="noStrike">
                <a:solidFill>
                  <a:srgbClr val="990000"/>
                </a:solidFill>
                <a:latin typeface="Bookman Old Style"/>
              </a:rPr>
              <a:t>3. </a:t>
            </a:r>
            <a:r>
              <a:rPr b="1" lang="ru-RU" sz="2400" spc="-1" strike="noStrike">
                <a:solidFill>
                  <a:srgbClr val="990000"/>
                </a:solidFill>
                <a:latin typeface="Bookman Old Style"/>
              </a:rPr>
              <a:t>Выполне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ookman Old Style"/>
              </a:rPr>
              <a:t>                                                                       </a:t>
            </a:r>
            <a:r>
              <a:rPr b="1" lang="ru-RU" sz="2000" spc="-1" strike="noStrike">
                <a:solidFill>
                  <a:srgbClr val="990000"/>
                </a:solidFill>
                <a:latin typeface="Bookman Old Style"/>
              </a:rPr>
              <a:t>4. </a:t>
            </a:r>
            <a:r>
              <a:rPr b="1" lang="ru-RU" sz="2400" spc="-1" strike="noStrike">
                <a:solidFill>
                  <a:srgbClr val="990000"/>
                </a:solidFill>
                <a:latin typeface="Bookman Old Style"/>
              </a:rPr>
              <a:t>Сужде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7"/>
          <p:cNvSpPr/>
          <p:nvPr/>
        </p:nvSpPr>
        <p:spPr>
          <a:xfrm>
            <a:off x="0" y="0"/>
            <a:ext cx="9144000" cy="8496720"/>
          </a:xfrm>
          <a:prstGeom prst="rect">
            <a:avLst/>
          </a:prstGeom>
          <a:gradFill rotWithShape="0">
            <a:gsLst>
              <a:gs pos="0">
                <a:srgbClr val="ccecff">
                  <a:alpha val="94117"/>
                </a:srgbClr>
              </a:gs>
              <a:gs pos="100000">
                <a:srgbClr val="00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Bookman Old Style"/>
              </a:rPr>
              <a:t>Типологии проекта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Bookman Old Style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1. По степени самостоятельности (реальный, неструктурированный, полуструктурированный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2. По форме реализации (упражнение,  модель, эссе, презентация, реклама и т.д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3. По доминирующему виду  деятельности (поисковый,  творческий, исследовательский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4. По предметно-содержательной    облас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(монопредметный, межпредметный и т.д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5. По характеру координации (индивидуальный, парный, групповой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6. По продолжительности  проведения (краткосрочный, долгосрочный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Line 13"/>
          <p:cNvSpPr/>
          <p:nvPr/>
        </p:nvSpPr>
        <p:spPr>
          <a:xfrm flipH="1">
            <a:off x="1258560" y="1341360"/>
            <a:ext cx="3025800" cy="25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Line 19"/>
          <p:cNvSpPr/>
          <p:nvPr/>
        </p:nvSpPr>
        <p:spPr>
          <a:xfrm flipH="1">
            <a:off x="4068360" y="1341360"/>
            <a:ext cx="358920" cy="374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835280" y="47628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Bookman Old Style"/>
              </a:rPr>
              <a:t>ЭФФЕКТИВНОСТЬ:</a:t>
            </a:r>
            <a:r>
              <a:rPr b="0" lang="ru-RU" sz="3600" spc="-1" strike="noStrike">
                <a:solidFill>
                  <a:srgbClr val="6633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Oval 5"/>
          <p:cNvSpPr/>
          <p:nvPr/>
        </p:nvSpPr>
        <p:spPr>
          <a:xfrm>
            <a:off x="324000" y="1700280"/>
            <a:ext cx="2087280" cy="151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Измен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содержани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образова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2987640" y="2421000"/>
            <a:ext cx="2374920" cy="1944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развитие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мыслительно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и познавательно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деятельности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учащихс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6084720" y="1628640"/>
            <a:ext cx="2160720" cy="1441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усиление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мотивац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уче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5078520" y="3573360"/>
            <a:ext cx="3600360" cy="273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формирование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умения жить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и общатьс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в поликультурном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пространств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современного мир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Oval 9"/>
          <p:cNvSpPr/>
          <p:nvPr/>
        </p:nvSpPr>
        <p:spPr>
          <a:xfrm>
            <a:off x="3059280" y="5084640"/>
            <a:ext cx="1873080" cy="863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толерантност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252360" y="3933720"/>
            <a:ext cx="1943280" cy="1079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развитие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патриотизм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12"/>
          <p:cNvSpPr/>
          <p:nvPr/>
        </p:nvSpPr>
        <p:spPr>
          <a:xfrm flipH="1">
            <a:off x="2125440" y="1341360"/>
            <a:ext cx="194292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Line 15"/>
          <p:cNvSpPr/>
          <p:nvPr/>
        </p:nvSpPr>
        <p:spPr>
          <a:xfrm>
            <a:off x="4716360" y="1341360"/>
            <a:ext cx="2232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16"/>
          <p:cNvSpPr/>
          <p:nvPr/>
        </p:nvSpPr>
        <p:spPr>
          <a:xfrm>
            <a:off x="4500720" y="1341360"/>
            <a:ext cx="223200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Line 17"/>
          <p:cNvSpPr/>
          <p:nvPr/>
        </p:nvSpPr>
        <p:spPr>
          <a:xfrm flipH="1">
            <a:off x="4140000" y="1341360"/>
            <a:ext cx="21564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Овал 1"/>
          <p:cNvSpPr/>
          <p:nvPr/>
        </p:nvSpPr>
        <p:spPr>
          <a:xfrm>
            <a:off x="6586560" y="2637000"/>
            <a:ext cx="2557440" cy="1368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мотивац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Скругленный прямоугольник 2" descr=""/>
          <p:cNvPicPr/>
          <p:nvPr/>
        </p:nvPicPr>
        <p:blipFill>
          <a:blip r:embed="rId1"/>
          <a:stretch/>
        </p:blipFill>
        <p:spPr>
          <a:xfrm>
            <a:off x="2835360" y="2554200"/>
            <a:ext cx="3333600" cy="1463760"/>
          </a:xfrm>
          <a:prstGeom prst="rect">
            <a:avLst/>
          </a:prstGeom>
          <a:ln w="0">
            <a:noFill/>
          </a:ln>
        </p:spPr>
      </p:pic>
      <p:sp>
        <p:nvSpPr>
          <p:cNvPr id="190" name="Овал 3"/>
          <p:cNvSpPr/>
          <p:nvPr/>
        </p:nvSpPr>
        <p:spPr>
          <a:xfrm>
            <a:off x="5508720" y="4149720"/>
            <a:ext cx="3348000" cy="1440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формирование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коммуникативной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компетенци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Овал 4"/>
          <p:cNvSpPr/>
          <p:nvPr/>
        </p:nvSpPr>
        <p:spPr>
          <a:xfrm>
            <a:off x="395280" y="4365720"/>
            <a:ext cx="2521080" cy="1368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рост самооценк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учащихс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Овал 5"/>
          <p:cNvSpPr/>
          <p:nvPr/>
        </p:nvSpPr>
        <p:spPr>
          <a:xfrm>
            <a:off x="3059280" y="0"/>
            <a:ext cx="3313080" cy="1773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изменение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его отношения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к окружающей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действительност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Овал 6"/>
          <p:cNvSpPr/>
          <p:nvPr/>
        </p:nvSpPr>
        <p:spPr>
          <a:xfrm>
            <a:off x="2700360" y="5084640"/>
            <a:ext cx="3166920" cy="1251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интегрированност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ь</a:t>
            </a:r>
            <a:r>
              <a:rPr b="1" lang="ru-RU" sz="1800" spc="-1" strike="noStrike">
                <a:solidFill>
                  <a:srgbClr val="0dae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Овал 7"/>
          <p:cNvSpPr/>
          <p:nvPr/>
        </p:nvSpPr>
        <p:spPr>
          <a:xfrm>
            <a:off x="0" y="2708280"/>
            <a:ext cx="2448000" cy="1297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открытость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Овал 8"/>
          <p:cNvSpPr/>
          <p:nvPr/>
        </p:nvSpPr>
        <p:spPr>
          <a:xfrm>
            <a:off x="0" y="620640"/>
            <a:ext cx="3132000" cy="18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развитие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физиологических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и психологических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функций ученик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Овал 9"/>
          <p:cNvSpPr/>
          <p:nvPr/>
        </p:nvSpPr>
        <p:spPr>
          <a:xfrm>
            <a:off x="6227640" y="1052640"/>
            <a:ext cx="2376720" cy="1368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развити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творчеств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97" name="Прямая со стрелкой 11"/>
          <p:cNvCxnSpPr/>
          <p:nvPr/>
        </p:nvCxnSpPr>
        <p:spPr>
          <a:xfrm flipV="1">
            <a:off x="4642200" y="1846080"/>
            <a:ext cx="2520" cy="575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8" name="Прямая со стрелкой 13"/>
          <p:cNvCxnSpPr/>
          <p:nvPr/>
        </p:nvCxnSpPr>
        <p:spPr>
          <a:xfrm flipV="1">
            <a:off x="5940360" y="2204640"/>
            <a:ext cx="504000" cy="216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9" name="Прямая со стрелкой 17"/>
          <p:cNvCxnSpPr/>
          <p:nvPr/>
        </p:nvCxnSpPr>
        <p:spPr>
          <a:xfrm>
            <a:off x="6227280" y="3357720"/>
            <a:ext cx="2894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00" name="Прямая со стрелкой 19"/>
          <p:cNvCxnSpPr/>
          <p:nvPr/>
        </p:nvCxnSpPr>
        <p:spPr>
          <a:xfrm>
            <a:off x="5435280" y="4149720"/>
            <a:ext cx="361080" cy="216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01" name="Прямая со стрелкой 21"/>
          <p:cNvCxnSpPr/>
          <p:nvPr/>
        </p:nvCxnSpPr>
        <p:spPr>
          <a:xfrm flipH="1">
            <a:off x="4355280" y="4220640"/>
            <a:ext cx="72360" cy="864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02" name="Прямая со стрелкой 23"/>
          <p:cNvCxnSpPr/>
          <p:nvPr/>
        </p:nvCxnSpPr>
        <p:spPr>
          <a:xfrm flipH="1">
            <a:off x="2339280" y="4075560"/>
            <a:ext cx="577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03" name="Прямая со стрелкой 25"/>
          <p:cNvCxnSpPr>
            <a:endCxn id="194" idx="6"/>
          </p:cNvCxnSpPr>
          <p:nvPr/>
        </p:nvCxnSpPr>
        <p:spPr>
          <a:xfrm flipH="1" flipV="1">
            <a:off x="2447280" y="3357000"/>
            <a:ext cx="3243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04" name="Прямая со стрелкой 27"/>
          <p:cNvCxnSpPr/>
          <p:nvPr/>
        </p:nvCxnSpPr>
        <p:spPr>
          <a:xfrm flipH="1" flipV="1">
            <a:off x="2987280" y="2133360"/>
            <a:ext cx="721440" cy="288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2050920" y="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2f2f2"/>
                </a:solidFill>
                <a:latin typeface="Bookman Old Style"/>
              </a:rPr>
              <a:t>Этапы работы над проект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Oval 7"/>
          <p:cNvSpPr/>
          <p:nvPr/>
        </p:nvSpPr>
        <p:spPr>
          <a:xfrm>
            <a:off x="0" y="476280"/>
            <a:ext cx="3348000" cy="1584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Bookman Old Style"/>
              </a:rPr>
              <a:t>I. 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Планирование темы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- намерение сделать проек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- формулировка проблемы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проект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Oval 8"/>
          <p:cNvSpPr/>
          <p:nvPr/>
        </p:nvSpPr>
        <p:spPr>
          <a:xfrm>
            <a:off x="3203640" y="1052640"/>
            <a:ext cx="3097080" cy="1800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Bookman Old Style"/>
              </a:rPr>
              <a:t>II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. Организаци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работы над проектом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- обсуждени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-  деление на микрогруппы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- индивидуальная работ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Oval 9"/>
          <p:cNvSpPr/>
          <p:nvPr/>
        </p:nvSpPr>
        <p:spPr>
          <a:xfrm>
            <a:off x="6156360" y="2133720"/>
            <a:ext cx="2987640" cy="1800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Bookman Old Style"/>
              </a:rPr>
              <a:t>III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. Поисковая работ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-опрос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- поиск информаци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- интервью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Oval 10"/>
          <p:cNvSpPr/>
          <p:nvPr/>
        </p:nvSpPr>
        <p:spPr>
          <a:xfrm>
            <a:off x="0" y="2133720"/>
            <a:ext cx="3419640" cy="1942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Bookman Old Style"/>
              </a:rPr>
              <a:t>IV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. Обработка материал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-составление схем, графиков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-составление тезисов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-выделение главного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второстепенног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Oval 11"/>
          <p:cNvSpPr/>
          <p:nvPr/>
        </p:nvSpPr>
        <p:spPr>
          <a:xfrm>
            <a:off x="3203640" y="3068640"/>
            <a:ext cx="3313080" cy="1655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Bookman Old Style"/>
              </a:rPr>
              <a:t>V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. Оформлени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материал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Oval 12"/>
          <p:cNvSpPr/>
          <p:nvPr/>
        </p:nvSpPr>
        <p:spPr>
          <a:xfrm>
            <a:off x="5364000" y="4581360"/>
            <a:ext cx="3313440" cy="1441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Bookman Old Style"/>
              </a:rPr>
              <a:t>VI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. Презентаци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-</a:t>
            </a: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индивидуальна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-в микрогруппах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-группова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Oval 13"/>
          <p:cNvSpPr/>
          <p:nvPr/>
        </p:nvSpPr>
        <p:spPr>
          <a:xfrm>
            <a:off x="1332000" y="5157720"/>
            <a:ext cx="3311280" cy="1366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Bookman Old Style"/>
              </a:rPr>
              <a:t>VII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. Подведение итогов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Выводы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592200" y="428760"/>
            <a:ext cx="779616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Bookman Old Style"/>
              </a:rPr>
              <a:t>ВЗАИМОДЕЙСТВИЕ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Bookman Old Style"/>
              </a:rPr>
              <a:t>УЧЕНИК</a:t>
            </a:r>
            <a:r>
              <a:rPr b="0" lang="ru-RU" sz="1200" spc="-1" strike="noStrike">
                <a:solidFill>
                  <a:srgbClr val="6600cc"/>
                </a:solidFill>
                <a:latin typeface="Bookman Old Style"/>
              </a:rPr>
              <a:t>                                                                                </a:t>
            </a:r>
            <a:r>
              <a:rPr b="1" lang="ru-RU" sz="2000" spc="-1" strike="noStrike">
                <a:solidFill>
                  <a:srgbClr val="6600cc"/>
                </a:solidFill>
                <a:latin typeface="Bookman Old Style"/>
              </a:rPr>
              <a:t>УЧИТЕЛ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95280" y="1197000"/>
          <a:ext cx="3600360" cy="5307120"/>
        </p:xfrm>
        <a:graphic>
          <a:graphicData uri="http://schemas.openxmlformats.org/drawingml/2006/table">
            <a:tbl>
              <a:tblPr/>
              <a:tblGrid>
                <a:gridCol w="3600360"/>
              </a:tblGrid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99"/>
                          </a:solidFill>
                          <a:latin typeface="Verdana"/>
                        </a:rPr>
                        <a:t>интере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Verdana"/>
                        </a:rPr>
                        <a:t>актуальная потреб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самостоятельная умственная 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мыслительная познавательная актив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личная значим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66"/>
                          </a:solidFill>
                          <a:latin typeface="Verdana"/>
                        </a:rPr>
                        <a:t>самоуправляем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66"/>
                          </a:solidFill>
                          <a:latin typeface="Verdana"/>
                        </a:rPr>
                        <a:t>готовность к познани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Verdana"/>
                        </a:rPr>
                        <a:t>готовность овладеть современными коммуникативными технология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умение интегрировать ранее полученные знания по разным предмета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5003640" y="1197000"/>
          <a:ext cx="3695760" cy="5456160"/>
        </p:xfrm>
        <a:graphic>
          <a:graphicData uri="http://schemas.openxmlformats.org/drawingml/2006/table">
            <a:tbl>
              <a:tblPr/>
              <a:tblGrid>
                <a:gridCol w="36957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Verdana"/>
                        </a:rPr>
                        <a:t>создание атмосферы увлеченности учени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ff"/>
                          </a:solidFill>
                          <a:latin typeface="Verdana"/>
                        </a:rPr>
                        <a:t>создание атмосферы поиска и разви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ff"/>
                          </a:solidFill>
                          <a:latin typeface="Verdana"/>
                        </a:rPr>
                        <a:t>воспитание благородных черт характе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Verdana"/>
                        </a:rPr>
                        <a:t>провоцирование на высказы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Verdana"/>
                        </a:rPr>
                        <a:t>развитие творческой актив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развитие творческих и аналитических способност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9900"/>
                          </a:solidFill>
                          <a:latin typeface="Verdana"/>
                        </a:rPr>
                        <a:t>осуществление консультативной помощ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осуществление интеграции с другими предмета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80"/>
                          </a:solidFill>
                          <a:latin typeface="Verdana"/>
                        </a:rPr>
                        <a:t>проведение анализа результатов выполненного про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07:53:29Z</dcterms:created>
  <dc:creator>student</dc:creator>
  <dc:description/>
  <dc:language>en-US</dc:language>
  <cp:lastModifiedBy>Admin</cp:lastModifiedBy>
  <dcterms:modified xsi:type="dcterms:W3CDTF">2018-03-26T10:21:34Z</dcterms:modified>
  <cp:revision>141</cp:revision>
  <dc:subject/>
  <dc:title>Слайд 1</dc:title>
</cp:coreProperties>
</file>