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BDB-4255-4206-9F73-9D3EB9EA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0F7-EC60-4BA1-9C82-3FB30C1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2CD-2FF5-475A-B13F-DCE8A419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A38-0880-4F73-85F1-84F74A83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868-0E60-4D3B-AFCB-A587E4B8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F41-1BD6-4D04-9E3A-312F770D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0A0B-9190-40ED-98CC-FC55841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716-3C7E-4057-8BD1-65DF070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0ED7-E1E1-4B00-9685-5D517B1A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466-C506-440E-A24C-0EA3F381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3682-3154-493E-ACBC-22A4263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5CA-DDD9-4FB8-8BBE-7EC98F8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E1B-4D69-467A-82A4-09EF87D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0D04-9BFE-4B57-9C99-D526279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03E-1D6E-42C0-831A-E1CC6D5C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05E-FF69-4422-B71F-DB872389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6A5-E437-4385-B14E-BD9DCC7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15C-D4B7-4D0B-BC09-7DC50A91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654-28FC-4F56-954A-3895774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A7F-31EC-4A43-94F6-9D08987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8AF-3F48-4245-AD62-8A20D380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40D-85ED-4999-8916-22B72E4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218-E992-41AF-AEB0-33328EC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6F3-E455-455C-B2E1-0CDDCD9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49F-3DD2-4CA8-813B-DC79A2E7E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DC4-C4F4-4F4D-A8F9-AFD526BEF5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«Дерево рябины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7" descr="Дерево Рябина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имняя столова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5" descr="Снегирь (снегирь, небо, ветка, дерево, птица, рябина)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«Дерево рябины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3" descr="Дерево Рябина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хема выполнения листьев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5" descr="рис 63"/>
          <p:cNvPicPr/>
          <p:nvPr/>
        </p:nvPicPr>
        <p:blipFill>
          <a:blip r:embed="rId1"/>
          <a:stretch/>
        </p:blipFill>
        <p:spPr>
          <a:xfrm>
            <a:off x="2057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рис 62"/>
          <p:cNvPicPr/>
          <p:nvPr/>
        </p:nvPicPr>
        <p:blipFill>
          <a:blip r:embed="rId1"/>
          <a:stretch/>
        </p:blipFill>
        <p:spPr>
          <a:xfrm>
            <a:off x="1828800" y="0"/>
            <a:ext cx="541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Ягоды рябины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рис 66"/>
          <p:cNvPicPr/>
          <p:nvPr/>
        </p:nvPicPr>
        <p:blipFill>
          <a:blip r:embed="rId1"/>
          <a:stretch/>
        </p:blipFill>
        <p:spPr>
          <a:xfrm>
            <a:off x="304920" y="1523880"/>
            <a:ext cx="2342880" cy="507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рис 65"/>
          <p:cNvPicPr/>
          <p:nvPr/>
        </p:nvPicPr>
        <p:blipFill>
          <a:blip r:embed="rId2"/>
          <a:stretch/>
        </p:blipFill>
        <p:spPr>
          <a:xfrm>
            <a:off x="3048120" y="1504800"/>
            <a:ext cx="5867280" cy="513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Гроздь рябины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5" descr="рис 67"/>
          <p:cNvPicPr/>
          <p:nvPr/>
        </p:nvPicPr>
        <p:blipFill>
          <a:blip r:embed="rId1"/>
          <a:stretch/>
        </p:blipFill>
        <p:spPr>
          <a:xfrm>
            <a:off x="990720" y="1295280"/>
            <a:ext cx="7238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а работу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Рябина рисунок"/>
          <p:cNvPicPr/>
          <p:nvPr/>
        </p:nvPicPr>
        <p:blipFill>
          <a:blip r:embed="rId1"/>
          <a:stretch/>
        </p:blipFill>
        <p:spPr>
          <a:xfrm>
            <a:off x="2133720" y="304920"/>
            <a:ext cx="475920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Рябина (Камчатка, природа, рябина, ягода, листья, ветки, небо, лето)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Осень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Народные приметы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Бабье лето (сентябрь, рябина, осень, вода, берег, песок, листья, красная, ягода, гроздь, ветка, пруд, река, озеро, природа)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43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лезы осени (рябина, вода, лед, ветка, осень, заморозки, лист)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45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Листья рябины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ветлые ноч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5" descr="Рябина на рассвете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Воробей (фауна и флора, птицы, деревья, воробей, рябина)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4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Грозди ягод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олотая осень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Рябинка (Рябина,лист,ягода,клен,флора)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1-27T17:25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