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F84-C710-46BB-9A52-BB437A3D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681-94AD-4DFD-9DBA-7E1E3EF9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008-480D-477C-8886-E3F9C16D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A80-B79E-4877-A512-049B046D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9C5A-7BB5-41A5-97D0-D09FBDE5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C919-0CE0-42F9-A507-ECF787C4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3DE9-ED07-45BD-87A6-C7577392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7C55-05FA-49B0-A4F6-776C1A03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2096-42A9-4AC5-B580-177D24A1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0158-C219-40A4-8E8F-03E196C4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54EB-0621-4740-9186-BFA145C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F81-04C4-42A8-9B3E-6A1BED73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1702-182F-4448-A1B3-8299E9C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5B5E-CCE3-49D4-A058-7F7F8A6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2F9C-B664-4FC0-8E89-4613771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DFDF-0049-4FB1-B030-4C7D94B8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A518-F012-49CE-ADF9-F23B8CD7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FB5-41DE-4B8C-9510-917F9BC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82C-D591-4775-9C95-194A1DB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0D1-6DBF-41BB-A7C6-3CBB9473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E3E-5708-4BEE-AF8F-15FF46EF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C1E-AD54-4108-8056-6771683B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4E0-03DB-4172-BF80-7F53809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D3F-E3EE-495D-A4FC-7BC3E608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980F-89B3-4964-BF85-2B7F135CB4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B85E-F70A-49FE-A360-6228904B81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00"/>
                </a:solidFill>
                <a:latin typeface="Times New Roman"/>
              </a:rPr>
              <a:t>«Дерево рябины»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7" descr="Дерево Рябина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Зимняя столовая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5" descr="Снегирь (снегирь, небо, ветка, дерево, птица, рябина)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00"/>
                </a:solidFill>
                <a:latin typeface="Times New Roman"/>
              </a:rPr>
              <a:t>«Дерево рябины»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3" descr="Дерево Рябина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хема выполнения листьев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5" descr="рис 63"/>
          <p:cNvPicPr/>
          <p:nvPr/>
        </p:nvPicPr>
        <p:blipFill>
          <a:blip r:embed="rId1"/>
          <a:stretch/>
        </p:blipFill>
        <p:spPr>
          <a:xfrm>
            <a:off x="205740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рис 62"/>
          <p:cNvPicPr/>
          <p:nvPr/>
        </p:nvPicPr>
        <p:blipFill>
          <a:blip r:embed="rId1"/>
          <a:stretch/>
        </p:blipFill>
        <p:spPr>
          <a:xfrm>
            <a:off x="1828800" y="0"/>
            <a:ext cx="541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Ягоды рябины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рис 66"/>
          <p:cNvPicPr/>
          <p:nvPr/>
        </p:nvPicPr>
        <p:blipFill>
          <a:blip r:embed="rId1"/>
          <a:stretch/>
        </p:blipFill>
        <p:spPr>
          <a:xfrm>
            <a:off x="304920" y="1523880"/>
            <a:ext cx="2342880" cy="507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рис 65"/>
          <p:cNvPicPr/>
          <p:nvPr/>
        </p:nvPicPr>
        <p:blipFill>
          <a:blip r:embed="rId2"/>
          <a:stretch/>
        </p:blipFill>
        <p:spPr>
          <a:xfrm>
            <a:off x="3048120" y="1504800"/>
            <a:ext cx="5867280" cy="513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Гроздь рябины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5" descr="рис 67"/>
          <p:cNvPicPr/>
          <p:nvPr/>
        </p:nvPicPr>
        <p:blipFill>
          <a:blip r:embed="rId1"/>
          <a:stretch/>
        </p:blipFill>
        <p:spPr>
          <a:xfrm>
            <a:off x="990720" y="1295280"/>
            <a:ext cx="72388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За работу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Рябина обыкновенная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Рябина рисунок"/>
          <p:cNvPicPr/>
          <p:nvPr/>
        </p:nvPicPr>
        <p:blipFill>
          <a:blip r:embed="rId1"/>
          <a:stretch/>
        </p:blipFill>
        <p:spPr>
          <a:xfrm>
            <a:off x="2133720" y="304920"/>
            <a:ext cx="4759200" cy="6345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Рябина (Камчатка, природа, рябина, ягода, листья, ветки, небо, лето)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Осень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Народные приметы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Бабье лето (сентябрь, рябина, осень, вода, берег, песок, листья, красная, ягода, гроздь, ветка, пруд, река, озеро, природа)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5430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лезы осени (рябина, вода, лед, ветка, осень, заморозки, лист)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45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Листья рябины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ветлые ночи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5" descr="Рябина на рассвете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Воробей (фауна и флора, птицы, деревья, воробей, рябина)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4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Грозди ягод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" descr="Рябина обыкновенная"/>
          <p:cNvPicPr/>
          <p:nvPr/>
        </p:nvPicPr>
        <p:blipFill>
          <a:blip r:embed="rId1"/>
          <a:stretch/>
        </p:blipFill>
        <p:spPr>
          <a:xfrm>
            <a:off x="91440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Золотая осень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Рябинка (Рябина,лист,ягода,клен,флора)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1-27T17:25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