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F94-C9A4-41CA-A9A0-A2EA2196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8A9-0249-4FE2-BE51-72B8D6D0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B159D-AAE0-42D0-B49A-899ED60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F8D7C-FB48-4668-B777-132AB690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65419-0CA7-4269-A191-C7110AB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8173A-7524-431F-B249-4928839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FF084-7371-4388-81E7-B50DD24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904FF-F6EB-420D-AB32-EA00768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D2DC3-47AE-4E4A-855C-C6079E4C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BFDF-63E0-452A-9E29-0CCE7373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BDDE4-59DC-4E92-8CC6-92C5E0D2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23A7D-A895-4D37-A3F5-890C440A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DF8-6F7F-45D2-9136-A2136D4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6C5A0-F4EA-46F4-8BEE-A0BF589D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8D1A4-AE95-443B-BE42-DCD6A6F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BFEE8-E3C3-4EAB-A5DC-28B6904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59B03-9171-4847-8362-C1E32CD2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55F02-6C7A-4C1D-8877-918A4812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F67A-39DA-42E3-B785-D35C4DE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E1012-9EBB-44AB-B647-7DF1C26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00AE-33E9-4B2C-B2B3-D7B87AB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6FCFE-3694-463F-BAB4-E81D7EE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01E46-1EA7-4559-9B45-5F0D30CC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D72-B82A-4707-8467-589A416E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98B85-EBDE-40DC-8B08-F40501DC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AF0F-CB19-443B-87D2-A1F46ADC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23329-7CC8-4794-BEE3-38F4A7D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DDB9E-58AD-4AF9-993A-E0606C92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8521D-ECFD-4496-ABCA-3F2E6DA1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294E8-1774-47D9-B648-6722C86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72424-F728-4F69-A7A9-6EAEA5B5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776F7-C2C8-42A5-B4BC-4FC1DCE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F0D0-625A-4E98-B002-BF68A8C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35E6-1D52-473E-A790-5C285A2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501-13CD-4138-97F2-ADB95C11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202A-EC8E-4CB6-AEE9-7E12E6F3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082F-B895-4F6F-9375-AFCE2B96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5FBC-2C3A-4C28-B3B2-C47553C7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F4399-9DDA-4D6C-A75B-B02FE59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FCE91-8E40-4204-A990-D7A4B5A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48659-E4A1-4DCE-97EA-41AAF2B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719B9-0095-4ADD-8C18-3BAFD6C2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4C6EA-A3BC-43A9-945D-D0372707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EFE3E-8E68-423E-B06B-329C2E6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F7266-83E9-4E2A-92D1-CB5279A4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BA7-D08C-48D6-81B2-5FFBF83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4DF5-5F4C-493E-88C7-30C8642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8DF63-E196-425E-84EB-D4943BB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0C792-6A6B-4A99-8AAE-E0CE7DD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3C198-F672-4EA3-95C2-AABD690B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B5989-CF0D-4CB1-BAC6-2873932F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AA1AD-5EC2-4A20-99E6-3D0DBAEB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735E7-6C0F-4082-A9E4-A760D58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460EC-8175-434B-B9F2-49421BF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9F032-FB82-4B72-9414-2EC2C55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E817C-8E57-46E0-B17C-A290C9A8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9F64-481F-43F3-984C-24D5A47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FF771-83C2-4950-A842-DAA04546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3070A-DB7E-4B9A-B444-3D7C3B6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24354-072E-487E-8F95-78800D0C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72E2E-F82A-4B5B-AB36-AAFB7A2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A8095-5E91-4C3D-9B33-7A00C41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98B45-9DB9-4BCE-9ABC-4AA1129A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8D6A2-8884-4EDA-9DF5-3A4160AC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562D3-50B3-475B-807F-612320DB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F983A-C264-4F0E-90A5-3BFE65E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C5CDD-55FD-4009-A2F0-DF85D87E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9401-78F3-4B56-9A09-B07BC6E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1D512-CCC0-4F73-B182-7E883704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7C0A4-639A-4479-9D96-BC13384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769B5-032A-4DDF-8730-CC4B9CB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74F41-5E88-429D-8114-C471114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66DBF-143D-4986-AB7F-35BB3DA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A7C53-48A3-4A27-AE5E-D021A40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20F83-F3A8-4F20-99E2-00FCB4CF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D7759-DC3E-44B2-9D32-34E6C303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22AF-AD67-4625-AB2B-12B62790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12368-4672-47FE-BFE5-5A88FD7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6F1-EA4E-4D8D-BB0B-3091F7D0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7E25C-71D8-4C44-B5C5-14BC2BA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B76A5-6EF9-4E12-8434-064FF7CF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7E7CE-4D8F-46DC-A816-4C34747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4A443-B36D-401A-A85C-4004B3C2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C0A66-C215-4DDF-87DB-A6C19D7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815E4-F4CA-4D86-B415-897C705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FA6AB-CBE2-4082-8D02-FE20765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DCD67-198C-4BD3-BCA0-CA07804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0E3BB-413F-48CE-B720-33705F3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15CDA-2AD8-41DD-BFD8-798C2715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FF26-1521-488B-8293-B94AD7C4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440D5-B938-4CE0-B288-8E4BCE8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6DCB0-5EC6-4BB3-963A-D790F26B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D894D-5630-4882-94EE-AB726E1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2298D-3FAC-4A13-90A9-2C1306B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873DB-4821-4D4C-B0D6-1E05A06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F76B9-878B-4D36-B323-7F95C39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56736-4AF5-4456-8399-3BBA3398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5A2F9-F6B7-4629-AC21-63EE6F3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AF7AC-5776-46E9-A11D-CC4E13A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386C9-E689-4493-8D6D-FFCFC98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C6C-6FDC-440E-8111-F9A8C58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784FE-A9E2-438A-9C9F-BB66F25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92FCB-D542-4555-8CA7-9679DDCC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B6DD4-7E63-4DC6-95BE-B104A99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997D1-AA0D-4EF9-B29D-C0C0A986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C0C88-D88A-4CF7-BE4E-1B415E14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C7125-08A9-463F-8570-12512225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B7679-3D57-47ED-93C9-E1B2304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9A640-BBB4-4BD4-A381-D6DC24C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C5E19-891C-46D7-B026-FD25F6D6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52F71-5810-4C13-A06A-21C68FF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397-AA53-45AD-A451-F7C16A0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FF8-6B11-46F8-9B91-15AAF2C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A24F5-022C-44F0-9A27-06C4857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B8457-6B76-4B42-A89E-8057521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73214-B16D-4841-B702-C9EE148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217CF-B3AC-478C-B36F-DBA365FB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BDFF5-9C08-45F9-BA06-0E5E284F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C7066-7502-4B98-AD9F-9CDAF2EF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5CBD4-7B67-47B6-87E2-118F26A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576A7-A1CC-4EB7-B55E-9FB972B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ABF0B-BB75-445B-9D0E-3342B89E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FC7F2-8012-4CB1-879F-91F667FA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CAFC-0207-480C-BF51-0E789E7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C62F3-93E0-4C31-8C6E-1E481F9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743A1-4008-42C3-8326-3D52C5C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63620-1ED5-4E41-B8B0-0C4D04D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C4217-92BE-4D47-93FC-C96D2B4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0E336-80CE-43BA-90AA-A55E7E7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E7FE7-6A7A-4BF5-B23C-AF26776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E2F3C-D15B-45BB-BFE0-ABAB66F9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42C-2D89-4914-A61D-FE987496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2454-6F26-4965-821C-36B479CB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1F0-4EE7-436D-BA84-041C0F43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D00F-CCA6-440A-9EE6-7B350E58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0B35-A627-4DF6-9F62-10E5511C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CDFC-74AA-469F-924D-70E6D664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3634-5D79-4C60-A6B5-AC57078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CDF9-A61F-4F51-A14E-5ED4387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0C7-A5CD-4197-AA3C-88FD8D7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B349-9AF4-4B3A-A25A-7178D6F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9EE2-9CC4-46EB-A78C-ECA7A88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7FA8-AD49-4FD0-A3A9-405646A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43E4-ACD4-4774-B179-BE53FD3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0EF9-F409-4906-96B8-7A000F1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E918-9FEA-4C6A-ACE3-40C3591D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24AE-D7E4-4226-BFF6-326733EE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2E99-A658-45C5-B69C-5EA55880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D47F-27A1-4CEE-A201-D2F4287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043F-6D91-40B9-814C-9F8BE81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E2F-3993-476F-A98C-1CC96FC6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8C32-566C-48EB-8144-4918D010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A08D-A333-434D-BA25-304C535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07A1-D276-497D-B50F-B6BD1B0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15FA-2C4E-4112-AA51-D5BDD5F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9EA4-0EB9-426C-B69C-FD8086E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0AD9-4CDF-4DA1-8E71-44C4547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C5E9-D717-4AD1-B000-D55AA3FB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92E1-740B-4173-9B08-147FB16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81AD-E593-4B2C-B3FE-91C05FC7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FECB-E4B1-4053-A233-DBE91BF9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8E9-ABF0-4DA1-86F8-E09DFC1F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895F-1D74-4511-B1B8-E434661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6DB6-98DE-42EB-A35A-30F10EB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F837-4A02-4394-ACFA-28177A3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CD50-3C35-4A6E-A7C1-2116B28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A726-314D-44DD-8298-EF2A727B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EDD1-69E0-4E5D-86ED-EA7F669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010D-AD95-4C1D-8D8E-22FF2BD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5A3C-6868-488E-A160-55851AD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D85D-F0AA-45A0-8347-845DF632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44694-D345-46DC-B964-8039432E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C68-7FDD-4842-8A4A-9033B50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40E0-7A67-47C5-834E-FA86B591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3B31-3706-4C81-9CEB-03E42566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8BF4-2744-4FC7-8F5A-068D9EB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190B-03ED-4F1C-A218-29CF5155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FB6E-706B-44D7-BA4A-7E0ED021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E3C5-9EA7-476F-8D7F-39123BC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0B63-F40D-404D-84F6-A35E02C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7C4DA-19BA-4B86-882B-7CD6584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B0239-3F94-4552-B63B-7BACEB5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048E-0EA0-4D17-B941-ADB5E67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650-DF45-41D6-B44D-B5062B0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C906-C753-4DAA-9C1C-A8F13A9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702C-A18D-4CF8-92C8-BD15BD36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9B05-6404-4299-80FC-1E86C064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41FC-2351-4FD1-AF78-71E32C44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6376-9C85-476B-ADD6-A70E028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C577-9145-4A26-AE68-889FDDE8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66DD-CD8F-425E-80BE-AD23BA7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53A2-496F-4CEF-862D-61786113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AF73-8B2B-4F4C-9ADD-DAFFDC6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19024-E9EF-4E3C-896A-7C2E5BC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BD3-C278-407B-8C22-CEBD40D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8634B-BE7D-4062-809E-6A06773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E1F6D-1784-440B-86D9-8DAA297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0DA1-34F9-4FB9-B8E4-35AD9E48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0A97-9529-4B95-A5A3-C437EE21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D60F-9354-4511-B307-EEAF5A4E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1BC4-1DD6-4DB0-91FA-E7285363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C9EA2-98D9-4D1A-9E48-065A296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D6945-88C8-4E9F-920B-4B58E2B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D4B2-7F81-45E2-AC86-431A306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1187E-B823-4D60-80B6-8552D39A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2E1-D39C-4225-BA65-9F7990A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7B03-9FE9-4EFE-93FC-ABCD4CAD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871B4-32AC-4E22-BF74-224D3C9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E09B-3A59-4514-819D-299B867F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BC0A-9949-4041-8C46-E5A5EB1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4E9D-4108-44FC-8C5F-798CCC4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EF68-98C3-422B-AC62-31D16DC5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AA97-F24F-4573-8B70-3D57C0D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010B-BDC0-459F-97CD-F0E53286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DD5B8-2FBB-4CA7-B351-839C248D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B6120-2261-443D-BC64-3D4F95E1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BF7-E6D3-4BC8-A484-21EE5AFC2B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5B0-123F-42CA-B509-BA6C2BB4F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E58F-EF6B-42C8-B353-EC1E051F1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D76F-0EE2-4295-B050-A7A197981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BF82-1D22-469E-A82C-14B4E8B67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DDB3-1280-4153-AC98-E98D4B2092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35D-BFC5-4FA8-B6DE-ED94892F5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1EC-87FE-40B8-B132-DFCE51B74E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64C-F2FC-4C98-A8A6-FCEE966C3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785-E524-4B9C-84E7-0EB90AEFB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992-3887-4861-B2EF-C8CE67FB43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B785-F488-4664-8ABB-0DFDB5C831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B082-9AE8-44A7-8F26-EA0CE3278A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D7B-47A4-4433-89EE-4F9FA5326C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716-D6C2-474F-B0DF-556A6DFAB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1E4-3927-4908-A88A-4F0B46FB87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E47-2F11-4C01-AECF-3B38D4C95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ED6-BC44-4777-912A-4B5C5841CD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photo.penzadom.ru/albums/03/normal_5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ybolov-ohotnik.ucoz.ru/dizSaita/nornue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ischool8.ru/old/netproject/sunsystem/Galary/1/zemli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gpi.biysk.ru/encicl/articles/21/1002118/0586_00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rk.cross-ipk.ru/body/pie-5/6/climate_change/4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udmurtneft.ru/news/new46files/bony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as.baikal.tv/news/nimg/2003_02_07/big/R%20-%20EuroProNeft1594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ivmiv.narod.ru/Things/forrester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rane.ru/files/274645/climatechange1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o-ladoga.narod.ru/ladoga/images/stoki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mignews.com.ua/data/Articles/MainPhoto/303103.JPE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osconcert.com/ic/images.newsru.com/pict/id/large/917142_20061226002015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flexcom.ru/2008/10/10/bimg35035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ubzone.ru/forum/uploads/post-2125-117706894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oday.ru/2007/07/11/donghu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 Загрязнение окружающей сред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0" descr="ecology2"/>
          <p:cNvPicPr/>
          <p:nvPr/>
        </p:nvPicPr>
        <p:blipFill>
          <a:blip r:embed="rId1"/>
          <a:stretch/>
        </p:blipFill>
        <p:spPr>
          <a:xfrm>
            <a:off x="1619280" y="981000"/>
            <a:ext cx="59752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ы под орех разделали плане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4" descr="cherep"/>
          <p:cNvPicPr/>
          <p:nvPr/>
        </p:nvPicPr>
        <p:blipFill>
          <a:blip r:embed="rId1"/>
          <a:stretch/>
        </p:blipFill>
        <p:spPr>
          <a:xfrm>
            <a:off x="395280" y="1552680"/>
            <a:ext cx="828036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5276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леса н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5" descr="berezov_les"/>
          <p:cNvPicPr/>
          <p:nvPr/>
        </p:nvPicPr>
        <p:blipFill>
          <a:blip r:embed="rId1"/>
          <a:stretch/>
        </p:blipFill>
        <p:spPr>
          <a:xfrm>
            <a:off x="52560" y="0"/>
            <a:ext cx="4998960" cy="32590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Картинка 30 из 59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98720" y="2421000"/>
            <a:ext cx="48675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зверя н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4" descr="New%20Forest%20Glade"/>
          <p:cNvPicPr/>
          <p:nvPr/>
        </p:nvPicPr>
        <p:blipFill>
          <a:blip r:embed="rId1"/>
          <a:stretch/>
        </p:blipFill>
        <p:spPr>
          <a:xfrm>
            <a:off x="460440" y="1473120"/>
            <a:ext cx="2960640" cy="44658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Картинка 60 из 30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417680"/>
            <a:ext cx="511164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РЫБЫ 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Объект 6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возиться с этим старым шар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268360" y="1557000"/>
            <a:ext cx="5050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4" descr="Картинка 44 из 6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34136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ет вокруг – полно! И всё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700360" y="162864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4" descr="Картинка 13 из 25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341360"/>
            <a:ext cx="3936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788000" y="1196640"/>
            <a:ext cx="37447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Картинка 106 из 7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125360"/>
            <a:ext cx="3810240" cy="2714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" descr="Картинка 282 из 49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197000"/>
            <a:ext cx="3958920" cy="26352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7" descr="Картинка 4 из 80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938760"/>
            <a:ext cx="3959280" cy="26622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1214994408_sputnik"/>
          <p:cNvPicPr/>
          <p:nvPr/>
        </p:nvPicPr>
        <p:blipFill>
          <a:blip r:embed="rId7"/>
          <a:stretch/>
        </p:blipFill>
        <p:spPr>
          <a:xfrm>
            <a:off x="684360" y="3938760"/>
            <a:ext cx="3887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468360" y="620280"/>
            <a:ext cx="4038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3573000"/>
            <a:ext cx="40402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4" descr="Картинка 100 из 7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11760" y="692280"/>
            <a:ext cx="3774960" cy="56163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9" descr="Картинка 100 из 8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620640"/>
            <a:ext cx="3816360" cy="28591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3" descr="47427_20071129090939"/>
          <p:cNvPicPr/>
          <p:nvPr/>
        </p:nvPicPr>
        <p:blipFill>
          <a:blip r:embed="rId5"/>
          <a:stretch/>
        </p:blipFill>
        <p:spPr>
          <a:xfrm>
            <a:off x="539640" y="3645000"/>
            <a:ext cx="3959280" cy="264636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водое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1" descr="Картинка 2 из 4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413000"/>
            <a:ext cx="3816360" cy="46083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6" descr="Картинка 87 из 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484280"/>
            <a:ext cx="41148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Картинка 118 из 7676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49705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водо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л поутру, умылся, привел себя в порядок – и сразу приведи в порядок свою плане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1"/>
          <p:cNvPicPr/>
          <p:nvPr/>
        </p:nvPicPr>
        <p:blipFill>
          <a:blip r:embed="rId1"/>
          <a:stretch/>
        </p:blipFill>
        <p:spPr>
          <a:xfrm>
            <a:off x="539640" y="2492280"/>
            <a:ext cx="813600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ры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Картинка 1 из 695"/>
          <p:cNvPicPr/>
          <p:nvPr/>
        </p:nvPicPr>
        <p:blipFill>
          <a:blip r:embed="rId1"/>
          <a:stretch/>
        </p:blipFill>
        <p:spPr>
          <a:xfrm>
            <a:off x="468360" y="1773360"/>
            <a:ext cx="4030560" cy="3743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" descr="Картинка 230 из 685"/>
          <p:cNvPicPr/>
          <p:nvPr/>
        </p:nvPicPr>
        <p:blipFill>
          <a:blip r:embed="rId2"/>
          <a:stretch/>
        </p:blipFill>
        <p:spPr>
          <a:xfrm>
            <a:off x="4716360" y="1700280"/>
            <a:ext cx="36846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нефтью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5" descr="Картинка 25 из 1046"/>
          <p:cNvPicPr/>
          <p:nvPr/>
        </p:nvPicPr>
        <p:blipFill>
          <a:blip r:embed="rId1"/>
          <a:stretch/>
        </p:blipFill>
        <p:spPr>
          <a:xfrm>
            <a:off x="468360" y="1628640"/>
            <a:ext cx="4895640" cy="40323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Картинка 14 из 1046"/>
          <p:cNvPicPr/>
          <p:nvPr/>
        </p:nvPicPr>
        <p:blipFill>
          <a:blip r:embed="rId2"/>
          <a:stretch/>
        </p:blipFill>
        <p:spPr>
          <a:xfrm>
            <a:off x="5580000" y="1700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4" descr="Картинка 7 из 4959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рушение озонового сл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25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" descr="Картинка 15 из 1044"/>
          <p:cNvPicPr/>
          <p:nvPr/>
        </p:nvPicPr>
        <p:blipFill>
          <a:blip r:embed="rId1"/>
          <a:stretch/>
        </p:blipFill>
        <p:spPr>
          <a:xfrm>
            <a:off x="1908000" y="1484280"/>
            <a:ext cx="511200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5" descr="Картинка 31 из 63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соление поч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" descr="Картинка 265 из 7537"/>
          <p:cNvPicPr/>
          <p:nvPr/>
        </p:nvPicPr>
        <p:blipFill>
          <a:blip r:embed="rId1"/>
          <a:stretch/>
        </p:blipFill>
        <p:spPr>
          <a:xfrm>
            <a:off x="395280" y="1413000"/>
            <a:ext cx="820908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поч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476360" y="2276640"/>
            <a:ext cx="6408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8" descr="Картинка 48 из 236"/>
          <p:cNvPicPr/>
          <p:nvPr/>
        </p:nvPicPr>
        <p:blipFill>
          <a:blip r:embed="rId1"/>
          <a:stretch/>
        </p:blipFill>
        <p:spPr>
          <a:xfrm>
            <a:off x="1547640" y="2205000"/>
            <a:ext cx="6266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5" descr="Картинка 3 из 315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жары из нефтяных скваж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сами можем сделать для сохранение мира от экологической катастроф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Картинка 131 из 8092"/>
          <p:cNvPicPr/>
          <p:nvPr/>
        </p:nvPicPr>
        <p:blipFill>
          <a:blip r:embed="rId1"/>
          <a:stretch/>
        </p:blipFill>
        <p:spPr>
          <a:xfrm>
            <a:off x="1619280" y="1557360"/>
            <a:ext cx="5616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торая жизнь мус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2935726_large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ые проблемы челове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68360" y="587664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на планете живут  6 миллиардов 800 миллионов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6" descr="Картинка 5 из 5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4842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мушки из пластиковых буты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4" descr="кормушка 3"/>
          <p:cNvPicPr/>
          <p:nvPr/>
        </p:nvPicPr>
        <p:blipFill>
          <a:blip r:embed="rId1"/>
          <a:stretch/>
        </p:blipFill>
        <p:spPr>
          <a:xfrm>
            <a:off x="755640" y="1628640"/>
            <a:ext cx="3403440" cy="4537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8" descr="кормушка 4"/>
          <p:cNvPicPr/>
          <p:nvPr/>
        </p:nvPicPr>
        <p:blipFill>
          <a:blip r:embed="rId2"/>
          <a:stretch/>
        </p:blipFill>
        <p:spPr>
          <a:xfrm>
            <a:off x="4775040" y="1557360"/>
            <a:ext cx="37832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се задаро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05160" y="1413000"/>
            <a:ext cx="349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Гамаз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042920" y="2349000"/>
            <a:ext cx="2952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" descr="041218b1"/>
          <p:cNvPicPr/>
          <p:nvPr/>
        </p:nvPicPr>
        <p:blipFill>
          <a:blip r:embed="rId1"/>
          <a:stretch/>
        </p:blipFill>
        <p:spPr>
          <a:xfrm>
            <a:off x="1042920" y="2276640"/>
            <a:ext cx="29926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это лес, ребята, это красотищ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Dubovaya_roshcha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ядите, дуб! В обед - сто лет! А может – тыщ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6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2225020"/>
          <p:cNvPicPr/>
          <p:nvPr/>
        </p:nvPicPr>
        <p:blipFill>
          <a:blip r:embed="rId1"/>
          <a:stretch/>
        </p:blipFill>
        <p:spPr>
          <a:xfrm>
            <a:off x="1476360" y="1557360"/>
            <a:ext cx="64324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у-ка, свалим этот дуб одним ударом! В лесу всего полно, и все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3" descr="Картинка 95 из 25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, с этими учеными – умора! Чего стесняться, ведь живем у мор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4" descr="Картинка 28 из 103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57360"/>
            <a:ext cx="5724360" cy="4295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j0283125"/>
          <p:cNvPicPr/>
          <p:nvPr/>
        </p:nvPicPr>
        <p:blipFill>
          <a:blip r:embed="rId3"/>
          <a:stretch/>
        </p:blipFill>
        <p:spPr>
          <a:xfrm>
            <a:off x="684360" y="1844640"/>
            <a:ext cx="2655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ви, тащи, нащупывай радаром! В морях всего полно, и все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Картинка 141 из 80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7632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06:07:54Z</dcterms:created>
  <dc:creator>Лена Данилова</dc:creator>
  <dc:description/>
  <dc:language>en-US</dc:language>
  <cp:lastModifiedBy>123</cp:lastModifiedBy>
  <dcterms:modified xsi:type="dcterms:W3CDTF">2018-03-26T11:59:55Z</dcterms:modified>
  <cp:revision>34</cp:revision>
  <dc:subject/>
  <dc:title>Виды Москвы с Останкинской башни</dc:title>
</cp:coreProperties>
</file>