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413-D6E8-4436-8EA3-FEB93F0C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763-A6F4-451D-8F35-670F0621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12324-963B-484E-B8D8-462DE3A4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C562C-F1BE-4DCF-8A59-89373A13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502FF-AC6C-43F3-BC4F-F9181264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33743-E10B-4C00-BA38-6FD70D1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8BAEF-5626-4CF4-857D-9763E3B4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E0668-9433-4A27-B20A-4EAA0439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73E6D-39EC-4CBE-8F08-D2D9FCFA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707FD-5B50-46C2-B228-21F76EB9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619B2-39CF-4E50-8EBE-549B24F3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C8060-7745-4670-9524-1539995D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038-DA07-49DE-ACFB-73446261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49BB1-88F9-4A7C-8A54-D374B313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ACA3C-3B25-4B5F-8EEE-E4AE9653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9AAFF-8F4B-4D9D-AA2A-679CE5F8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7C3A6-50E7-4C57-A667-34C17114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A911E-05F6-4519-B0F1-69934216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845F9-CFD4-4F78-97AB-6FF03B76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82357-6FE2-4AE9-8152-2C050094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3EB0B-6882-4A61-A553-D2F387BE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9C3F8-7483-49A3-98A9-6307C49F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F0513-D8F5-48B2-8B28-DC4CBA06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CB5-16F5-4001-A36D-206E1623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C300A-F4EA-485E-87C7-B4F85D51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B0651-85B6-4970-9AA9-FCD701A9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062A8-2E79-4A9C-868D-BE520970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9A8F9-2000-47E8-942D-A0B2FE72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B7936-54FC-4146-B540-F555BB14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749AD-AD79-4B99-9D1C-496776DF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A7EC3-2009-4605-B500-909FBECD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69B18-4D36-474F-BD5B-6421CF2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0B1C2-3FEB-46AB-B349-8681529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795EE-3CF8-4E82-82AE-208185E5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E529-6E49-4FA1-9A27-8961C86B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57595-4D5C-49E4-B0C0-0355E75F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316A7-C0EF-4201-B771-870AB7CD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4B483-3694-4039-8351-5E955342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61588-6FD1-436D-8249-2A51D690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4D449-00C8-4A93-8E80-7A34FFAA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91E28-47E4-4149-B23D-A92874E4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69AB2-0DB7-4E9B-83A5-8A90E6A8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F4111-DC3F-4F49-ABC1-2BB49E5B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7E469-F6D3-4525-9507-0F0FB233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1106D-2C36-4994-A7FB-A668CCF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BA92-7A7D-47AE-8D37-62003531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852C6-C380-42A7-B107-27E46F37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895AA-6595-4CAA-BDA2-5953BB96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54518-68A3-4A72-9680-0C9D1791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260F8-8F17-4905-A66F-7E048101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C73A8-920F-4DB3-A0F3-9740B8D3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924A5-444E-4610-9B52-F9368CA5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401FA-73C4-45D9-BAF7-809CC84A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F9BE9-B6A7-48DB-9967-2459C7F9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27182-F9A9-47EF-B112-20BB67B8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C58E2-50CD-4ACF-B2A4-5608989C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1BAA-A923-498A-877A-B9D91087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4A83E-BA3E-4A17-A568-68983625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308E7-105B-437B-855A-B24CC95B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2A4D7-B7AE-4110-BD09-7F4F6AB4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BC1D0-5583-4FE2-9F5B-E0D07A8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24B6F-3FF8-4973-9A7D-C0BB3D0E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B990C-48EE-4610-9C7A-03772C8F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B08B3-620E-481E-B4BB-220E732F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884DE-E6FF-4307-817D-12D75782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1ECDD-FADC-4D71-A7C0-AAA382EA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F33EB-B45C-48B8-B63E-8443347B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318E-7A5C-4190-AF63-1CCCB757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345A5-8BC3-4DC8-8750-50C992E4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34B94-1E5A-4C9D-A4DF-3EF64463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8DCD9-F2C6-4F64-955D-4A8F320E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F092E-C3BD-4402-894E-0E1DAD53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0B617-972E-4507-966D-A610FE3B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DA1C3-5C55-45DA-AC0E-FB61D982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9A801-013E-4531-9ECD-3ADDC9F3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6C17B-243B-465F-B1BB-B71979AB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8401D-FEC2-46E9-93FD-20752CF2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E62AE-8005-44C0-8CD0-350A9EF0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F6BF-3E3B-4890-9E35-B8E52020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099EA-6AFD-4585-80E5-B209ED03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E5DDC-D2ED-4CF9-B0CB-B3554E92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AB0A4-24AC-4039-B85F-5EC3390A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D37B2A-2B23-4808-A75C-97FDC65C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C2366-6F80-4D75-A0B6-3D1E5744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7D0F8-1067-43B2-8481-A8E6315B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75686-7390-4413-A793-84FE699D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0A0DC-B2FA-4B73-86E3-2F953A1D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69161-E640-49B9-9D22-12ADADC8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34C7D-63EA-41D6-91C9-561A2050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05F2-DBFE-44B9-9815-ED855A1C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DC273-E8CB-48D3-93A1-670AB126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8C36A-4ADB-4AF9-8AAD-D35EE495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180BF2-B4DD-4C04-A823-65073A42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3B564-51C0-4801-A12B-C63EAD2B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7F074-4560-4963-9D3B-A7B71939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F83A3-7A88-4024-BBF5-F72E9D4B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8F154-7BAC-478C-97FE-50BF46A0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B73CE-7EFC-4319-B3FC-DC79F21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F4C13-9397-44B8-904E-96553D28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7F6E75-47C2-4006-B282-FCAA612A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D281-744F-46F7-978E-522C9A4E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99EDAF-6C98-4041-AB04-B5806E84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1EF0F-A008-482F-B2E1-D53EF176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47465-01CE-49C8-988A-4C2B1C88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BBADD-580F-4961-891F-DB49AF4F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EE2A7-573F-4926-9EB5-2C1A3338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370B1-D94D-48E6-B673-0D796C2A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A28FF1-4156-48D9-BCB2-FD824CB7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E6DBC-F4BC-4069-ABC7-5D036E91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3BE06-DF85-4612-8273-68D71013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AD223-45DC-4BE1-9B70-071BFDD6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68D-EC46-4E74-ACE6-8684B213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FC7A-01B9-4259-B2D0-D9BEBA46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E929D-9D22-4D9E-9C00-1F27B58F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01ECC-9158-403A-B851-FBEA545F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B70A3-EE2F-49DF-960E-4C2BAD7C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66F7E-679B-4874-96EE-B7E697ED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E6288-430A-46D0-B2BB-49A257CB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5DD7A-C890-422C-BB77-2A9810B5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DD7AE-F94D-4D95-99C3-CB34B838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E1AB4E-2C67-477E-AEA3-74E94A85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66BD5-BF69-4F54-A3EE-EF9B0CF7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F39D7-A7F7-4D0A-832A-025766C9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5083-64F1-4AC5-A9E4-2419253F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34DC34-46A7-4CCE-9293-B5BC905B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26AD09-2625-4F02-AA2D-F13E7CF8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3D7EB2-B661-4257-BDE1-1D6905F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8819A1-667E-4FF8-86F0-410CF971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0B2732-C20F-4047-A00A-B8CA97A9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0C2DA-29EE-4D0A-A697-88E0CC7E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85A713-4242-48AA-AB59-E7BE75F9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3F92-CD80-404C-B559-3A14860D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B14F-1BC6-4BD9-B538-53B7AC22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A0BD-588F-41E7-83A1-67C6BA59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1184-4B8F-45F9-BD33-EDAE9678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18F1-60B0-4342-BC86-10581A3E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D5E50-0C01-4724-90EC-6C46C061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E28B-76FC-46B3-9954-7A9FF1F0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CFE28-1313-41AD-80DE-B2611906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CB1-ECEF-4D53-9D7F-32FBB1C9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F3CBA-A1B1-45FB-979F-48B45688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81B1-6C78-4472-83E4-EA56D3EF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E6644-8489-4772-A833-CB1648D7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59075-2CDA-44F0-B373-FB59639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47BD-7DDF-43E7-B6A9-D6BFA504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07C6-A02D-4D2D-A47E-47A66B92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B987-4B02-413E-9D06-ED399B41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D4F7B-6011-4C7B-9EDB-8BBF2907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1ED8-CC62-451F-AA39-E9F7DA9C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E34DD-7818-468A-BCB7-9C1F89A8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E3B-5360-47D6-80BB-A2EE511F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357D7-85B6-4F64-8E17-9948B99A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8351-90CB-4BA8-83D2-53495E9E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B46F4-D1F5-43D3-9170-0BAFB3AA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F7262-B172-4FA8-84F9-E1038E13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8950-C037-44D2-9CA6-7652DBA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DDFA0-843D-429B-BA09-1D4F2692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F090E-6F2C-4C80-84AE-61F9C9FE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3220E-5AF2-4245-9B2D-809606CB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B4A23-05E7-497D-83ED-76411648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46036-45D4-47AB-BAC3-D19979FD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245-6FD8-4990-B214-C373CFA5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3E94D-4BD8-4FED-B2B4-111BD173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1CEEF-95A6-4565-857E-182BCBFE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78026-66F0-4438-8E8E-92E56DC0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D661D-8CC7-4A73-91CF-F69A0632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6B8A8-6DF9-401B-AFC1-8C1FF8FF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2ACE9-4F7D-449C-9A8D-C246FA42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EDA83-D981-465F-97D4-8201146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390F1-5416-48E4-82AE-3A01CEBB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F0D67-32A9-4577-A2FD-54854599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6B7B6-EF03-477D-889B-0103226E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BE4-0305-4D29-B851-E7B95AB1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A045A-BA9A-4F2E-9E4B-076DCE28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58D00-15B0-4241-B784-629E8AF2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8B88F-3E31-483C-8B77-8353EF08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C90B6-7A0D-4A58-9672-7DF819A8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27E33-2407-4CBF-966C-F7E8079F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645E7-B59F-421A-A310-1E56C1DA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7236F-BC16-48A1-808A-BFC96DA4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61477-635D-4689-8A7E-662C29FD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9E81D-9055-4A50-9DD8-0801531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5D079-9C91-4A8A-A70C-3791793C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C2F-4A55-49E6-9EF5-C5BF814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C5B13-57EE-4802-AFF1-86AA486A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98F3D-5D11-4F36-9EFA-4AC899FD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6EDB3-46AB-41B3-8D9B-8C1D2F14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166B0-CC7B-4613-8718-B5DE4F20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B2216-63EC-45B6-A24F-2F5A5CBC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1CA7A-0E81-4864-8147-BB5FCB64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56B6F-32E7-4C6D-A997-12F59EDC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F23D9-A3B7-4114-85BF-C30737E8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E7C93-5013-44C8-8D51-D607C161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F3A78-F19C-4884-AE8F-E4C83C37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FB9-9F0E-4D65-8439-A649740B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3A997-E3F1-48EA-9174-2271B6A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E185A-2B69-4BE2-8E24-68B99472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9F5B0-5DBA-4BC9-B5F9-1CB50862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6567C-7E35-4D8F-B3B8-ABF9412C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3EC26-5C81-45D7-B542-FDE395D2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86E13-FE58-4C71-82EA-048497D8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89D4C-46C6-4778-87D4-DFE258F5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350F5-6FE0-4018-BAFF-A8394C49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AD15F-AAF2-404F-9C2D-67FA41B3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AEBB4-F470-4770-BDE1-9D588A45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B1B-1576-4EC8-B2A3-0BBBD171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A676C-E3F3-4C69-B587-A3A3F96F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A8A1-DEE6-4F8C-AEB5-0FBA3BA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324DE-703B-410A-A497-C6DFEFAD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CF652-64B6-4021-A0D0-BF2E10F1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9F9AF-38AD-4D0B-9B78-30B15614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F7D9C-D652-4F30-A91B-FC2358C2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2A232-1CB2-4E64-AB0E-6154F1FE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05AA1-F649-4435-9585-03B4FC66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6203A-E9F7-4668-87E5-0C23B4F4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CA493-35B7-48CB-945A-885F1D10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9C44-C283-42F2-A375-D64C42D24A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6531-3AE7-4D62-880E-3869165002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E41E-56EB-470A-8DE4-1930C14B6D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4C97-AED1-4AAE-AEC8-0ABE5F53D1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B9A3-B002-4141-8832-4E680199F9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9789-9CA5-49D6-A379-BAA5781090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9572-D5F0-4E66-9E09-4E03BD9648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0238-CB3D-4B23-AC20-51CEE775CA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CB86-4E86-4919-9C67-8CF6C20E4E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9896-FE77-422E-ACFB-0E82775D1F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408E-5061-4919-99EA-29C2B1053F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77EE-C9EE-403F-AA3F-995B11F867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09F8-BF0C-4F79-92E1-3BEA8B3167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AE6D-3904-45E5-B141-BD72B6DB0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2A23-E255-450C-B061-EC07630D75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B9C6-B1C0-4092-A5F2-39FD636CB3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4B60-EEF0-4BD8-89A5-14E2747F33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A05E-58DA-4A64-88B8-47C761B897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photo.penzadom.ru/albums/03/normal_5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rybolov-ohotnik.ucoz.ru/dizSaita/nornue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ischool8.ru/old/netproject/sunsystem/Galary/1/zemlia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igpi.biysk.ru/encicl/articles/21/1002118/0586_001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rk.cross-ipk.ru/body/pie-5/6/climate_change/4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udmurtneft.ru/news/new46files/bony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as.baikal.tv/news/nimg/2003_02_07/big/R%20-%20EuroProNeft1594.jp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ivmiv.narod.ru/Things/forrester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rane.ru/files/274645/climatechange1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o-ladoga.narod.ru/ladoga/images/stoki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mignews.com.ua/data/Articles/MainPhoto/303103.JPE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osconcert.com/ic/images.newsru.com/pict/id/large/917142_20061226002015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.flexcom.ru/2008/10/10/bimg35035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ubzone.ru/forum/uploads/post-2125-1177068949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today.ru/2007/07/11/donghu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: Загрязнение окружающей сред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10" descr="ecology2"/>
          <p:cNvPicPr/>
          <p:nvPr/>
        </p:nvPicPr>
        <p:blipFill>
          <a:blip r:embed="rId1"/>
          <a:stretch/>
        </p:blipFill>
        <p:spPr>
          <a:xfrm>
            <a:off x="1619280" y="981000"/>
            <a:ext cx="597528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ы под орех разделали планет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4" descr="cherep"/>
          <p:cNvPicPr/>
          <p:nvPr/>
        </p:nvPicPr>
        <p:blipFill>
          <a:blip r:embed="rId1"/>
          <a:stretch/>
        </p:blipFill>
        <p:spPr>
          <a:xfrm>
            <a:off x="395280" y="1552680"/>
            <a:ext cx="828036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55276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леса н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5" descr="berezov_les"/>
          <p:cNvPicPr/>
          <p:nvPr/>
        </p:nvPicPr>
        <p:blipFill>
          <a:blip r:embed="rId1"/>
          <a:stretch/>
        </p:blipFill>
        <p:spPr>
          <a:xfrm>
            <a:off x="52560" y="0"/>
            <a:ext cx="4998960" cy="325908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6" descr="Картинка 30 из 59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98720" y="2421000"/>
            <a:ext cx="48675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зверя н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4" descr="New%20Forest%20Glade"/>
          <p:cNvPicPr/>
          <p:nvPr/>
        </p:nvPicPr>
        <p:blipFill>
          <a:blip r:embed="rId1"/>
          <a:stretch/>
        </p:blipFill>
        <p:spPr>
          <a:xfrm>
            <a:off x="460440" y="1473120"/>
            <a:ext cx="2960640" cy="44658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Картинка 60 из 30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1417680"/>
            <a:ext cx="5111640" cy="46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РЫБЫ 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Объект 6" descr="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го возиться с этим старым шар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268360" y="1557000"/>
            <a:ext cx="5050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4" descr="Картинка 44 из 6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34136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ет вокруг – полно! И всё – за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700360" y="162864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4" descr="Картинка 13 из 251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341360"/>
            <a:ext cx="393696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4788000" y="1196640"/>
            <a:ext cx="37447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4" descr="Картинка 106 из 76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125360"/>
            <a:ext cx="3810240" cy="27147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" descr="Картинка 282 из 49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1197000"/>
            <a:ext cx="3958920" cy="26352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7" descr="Картинка 4 из 809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3938760"/>
            <a:ext cx="3959280" cy="26622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9" descr="1214994408_sputnik"/>
          <p:cNvPicPr/>
          <p:nvPr/>
        </p:nvPicPr>
        <p:blipFill>
          <a:blip r:embed="rId7"/>
          <a:stretch/>
        </p:blipFill>
        <p:spPr>
          <a:xfrm>
            <a:off x="684360" y="3938760"/>
            <a:ext cx="38876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468360" y="620280"/>
            <a:ext cx="4038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3573000"/>
            <a:ext cx="404028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14" descr="Картинка 100 из 76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11760" y="692280"/>
            <a:ext cx="3774960" cy="56163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9" descr="Картинка 100 из 80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620640"/>
            <a:ext cx="3816360" cy="285912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23" descr="47427_20071129090939"/>
          <p:cNvPicPr/>
          <p:nvPr/>
        </p:nvPicPr>
        <p:blipFill>
          <a:blip r:embed="rId5"/>
          <a:stretch/>
        </p:blipFill>
        <p:spPr>
          <a:xfrm>
            <a:off x="539640" y="3645000"/>
            <a:ext cx="3959280" cy="2646360"/>
          </a:xfrm>
          <a:prstGeom prst="rect">
            <a:avLst/>
          </a:prstGeom>
          <a:ln w="0">
            <a:noFill/>
          </a:ln>
        </p:spPr>
      </p:pic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водое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11" descr="Картинка 2 из 49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413000"/>
            <a:ext cx="3816360" cy="46083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6" descr="Картинка 87 из 1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484280"/>
            <a:ext cx="41148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2" descr="Картинка 118 из 7676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49705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ель водо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 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л поутру, умылся, привел себя в порядок – и сразу приведи в порядок свою планет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4" descr="1"/>
          <p:cNvPicPr/>
          <p:nvPr/>
        </p:nvPicPr>
        <p:blipFill>
          <a:blip r:embed="rId1"/>
          <a:stretch/>
        </p:blipFill>
        <p:spPr>
          <a:xfrm>
            <a:off x="539640" y="2492280"/>
            <a:ext cx="813600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ель ры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5" descr="Картинка 1 из 695"/>
          <p:cNvPicPr/>
          <p:nvPr/>
        </p:nvPicPr>
        <p:blipFill>
          <a:blip r:embed="rId1"/>
          <a:stretch/>
        </p:blipFill>
        <p:spPr>
          <a:xfrm>
            <a:off x="468360" y="1773360"/>
            <a:ext cx="4030560" cy="3743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6" descr="Картинка 230 из 685"/>
          <p:cNvPicPr/>
          <p:nvPr/>
        </p:nvPicPr>
        <p:blipFill>
          <a:blip r:embed="rId2"/>
          <a:stretch/>
        </p:blipFill>
        <p:spPr>
          <a:xfrm>
            <a:off x="4716360" y="1700280"/>
            <a:ext cx="368460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нефтью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5" descr="Картинка 25 из 1046"/>
          <p:cNvPicPr/>
          <p:nvPr/>
        </p:nvPicPr>
        <p:blipFill>
          <a:blip r:embed="rId1"/>
          <a:stretch/>
        </p:blipFill>
        <p:spPr>
          <a:xfrm>
            <a:off x="468360" y="1628640"/>
            <a:ext cx="4895640" cy="40323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6" descr="Картинка 14 из 1046"/>
          <p:cNvPicPr/>
          <p:nvPr/>
        </p:nvPicPr>
        <p:blipFill>
          <a:blip r:embed="rId2"/>
          <a:stretch/>
        </p:blipFill>
        <p:spPr>
          <a:xfrm>
            <a:off x="5580000" y="1700280"/>
            <a:ext cx="29527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атмосф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4" descr="Картинка 7 из 4959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рушение озонового сл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834920" y="1341360"/>
            <a:ext cx="525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7" descr="Картинка 15 из 1044"/>
          <p:cNvPicPr/>
          <p:nvPr/>
        </p:nvPicPr>
        <p:blipFill>
          <a:blip r:embed="rId1"/>
          <a:stretch/>
        </p:blipFill>
        <p:spPr>
          <a:xfrm>
            <a:off x="1908000" y="1484280"/>
            <a:ext cx="5112000" cy="48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жская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5" descr="Картинка 31 из 63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соление поч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5" descr="Картинка 265 из 7537"/>
          <p:cNvPicPr/>
          <p:nvPr/>
        </p:nvPicPr>
        <p:blipFill>
          <a:blip r:embed="rId1"/>
          <a:stretch/>
        </p:blipFill>
        <p:spPr>
          <a:xfrm>
            <a:off x="395280" y="1413000"/>
            <a:ext cx="8209080" cy="45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ель поч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476360" y="2276640"/>
            <a:ext cx="6408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8" descr="Картинка 48 из 236"/>
          <p:cNvPicPr/>
          <p:nvPr/>
        </p:nvPicPr>
        <p:blipFill>
          <a:blip r:embed="rId1"/>
          <a:stretch/>
        </p:blipFill>
        <p:spPr>
          <a:xfrm>
            <a:off x="1547640" y="2205000"/>
            <a:ext cx="62661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5" descr="Картинка 3 из 315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895640"/>
          </a:xfrm>
          <a:prstGeom prst="rect">
            <a:avLst/>
          </a:prstGeom>
          <a:ln w="0">
            <a:noFill/>
          </a:ln>
        </p:spPr>
      </p:pic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жары из нефтяных скважи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ы сами можем сделать для сохранение мира от экологической катастроф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4" descr="Картинка 131 из 8092"/>
          <p:cNvPicPr/>
          <p:nvPr/>
        </p:nvPicPr>
        <p:blipFill>
          <a:blip r:embed="rId1"/>
          <a:stretch/>
        </p:blipFill>
        <p:spPr>
          <a:xfrm>
            <a:off x="1619280" y="1557360"/>
            <a:ext cx="561672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торая жизнь мус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2935726_large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жные проблемы челове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68360" y="587664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на планете живут  6 миллиардов 800 миллионов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6" descr="Картинка 5 из 5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48428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мушки из пластиковых буты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4" descr="кормушка 3"/>
          <p:cNvPicPr/>
          <p:nvPr/>
        </p:nvPicPr>
        <p:blipFill>
          <a:blip r:embed="rId1"/>
          <a:stretch/>
        </p:blipFill>
        <p:spPr>
          <a:xfrm>
            <a:off x="755640" y="1628640"/>
            <a:ext cx="3403440" cy="45370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8" descr="кормушка 4"/>
          <p:cNvPicPr/>
          <p:nvPr/>
        </p:nvPicPr>
        <p:blipFill>
          <a:blip r:embed="rId2"/>
          <a:stretch/>
        </p:blipFill>
        <p:spPr>
          <a:xfrm>
            <a:off x="4775040" y="1557360"/>
            <a:ext cx="37832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Все задаром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05160" y="1413000"/>
            <a:ext cx="349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Гамаз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042920" y="2349000"/>
            <a:ext cx="2952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" descr="041218b1"/>
          <p:cNvPicPr/>
          <p:nvPr/>
        </p:nvPicPr>
        <p:blipFill>
          <a:blip r:embed="rId1"/>
          <a:stretch/>
        </p:blipFill>
        <p:spPr>
          <a:xfrm>
            <a:off x="1042920" y="2276640"/>
            <a:ext cx="29926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т это лес, ребята, это красотищ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Dubovaya_roshcha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ядите, дуб! В обед - сто лет! А может – тыщ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66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" descr="2225020"/>
          <p:cNvPicPr/>
          <p:nvPr/>
        </p:nvPicPr>
        <p:blipFill>
          <a:blip r:embed="rId1"/>
          <a:stretch/>
        </p:blipFill>
        <p:spPr>
          <a:xfrm>
            <a:off x="1476360" y="1557360"/>
            <a:ext cx="6432480" cy="42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ну-ка, свалим этот дуб одним ударом! В лесу всего полно, и все – за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3" descr="Картинка 95 из 25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628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у, с этими учеными – умора! Чего стесняться, ведь живем у мор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4" descr="Картинка 28 из 1035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557360"/>
            <a:ext cx="5724360" cy="42958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j0283125"/>
          <p:cNvPicPr/>
          <p:nvPr/>
        </p:nvPicPr>
        <p:blipFill>
          <a:blip r:embed="rId3"/>
          <a:stretch/>
        </p:blipFill>
        <p:spPr>
          <a:xfrm>
            <a:off x="684360" y="1844640"/>
            <a:ext cx="265572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ви, тащи, нащупывай радаром! В морях всего полно, и все – за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" descr="Картинка 141 из 80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7632720" cy="512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06:07:54Z</dcterms:created>
  <dc:creator>Лена Данилова</dc:creator>
  <dc:description/>
  <dc:language>en-US</dc:language>
  <cp:lastModifiedBy>123</cp:lastModifiedBy>
  <dcterms:modified xsi:type="dcterms:W3CDTF">2018-03-26T11:59:55Z</dcterms:modified>
  <cp:revision>34</cp:revision>
  <dc:subject/>
  <dc:title>Виды Москвы с Останкинской башни</dc:title>
</cp:coreProperties>
</file>