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ED6-1BF8-482E-A0C9-FF4B6CE1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D81-E0C5-4CC4-960C-CA6221AA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F8E4-654D-4ECD-B570-AB9F0B42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8B2-BD62-4536-B67D-DE6C2C40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252E-E787-4E2F-AEB2-373C6138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F664-2F39-4F94-AEE1-B0792489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3591-3627-40EF-A7A0-213A828E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0DDD-DCF2-4E0E-B584-85208664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02EA-63C5-48B6-90B3-42721AC8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D4EA-1132-4EFC-9E6C-82E8754D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0964-E05E-481B-8647-CB44B3EF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6D9-0A24-4ADC-B42B-5FD39E88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8D65-DA6C-4273-8A6D-D50E866F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05A0-D571-452B-B1F7-92FFAE06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A69A-8B89-4C7A-AB3A-E272A52C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9C4C-AA42-4745-947C-242F954E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21BA-93F8-49B8-BCAE-2584E8DE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0B5-6A23-489C-A79F-034442AF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B26-25CE-488B-8F78-6E2312CE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14C-E18B-4185-BB51-173A5FB9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B245-5393-4541-AD26-AFF23D55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2700-0FA6-46B0-ABB3-03DB744C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639-C176-4013-BFC2-4FFFC4FF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CD17-49BD-4F9E-BD8F-C124EFA8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9FB7-36D1-4F51-A438-4984D17DF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74CA-28A1-4826-A299-DF07C5943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3132000" y="4797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втор: Истомина Окса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итатель МБДОУ ДС КВ № 3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гт. Иль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60720" y="1170000"/>
            <a:ext cx="4824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МАСТЕР-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 ИСПОЛЬЗОВАНИЕМ ТЕХНОЛОГИИ РАЗВИТИЯ ИЗОБРАЗИТЕЛЬН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ТРИЗ, как средство развития воображения старших дошкольников в ИЗО деятельности в соответствии ФГОС ДО. Арт-мастерская - рисование клеем ПВА и блёстка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967120" y="2513160"/>
            <a:ext cx="311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1067760"/>
            <a:ext cx="7099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я рисования клеем и блёстками объёмной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Цель мастер-класс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актическое освоение технологии ТР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сновные зада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Воспитать качества творческой л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Формировать навыки творческой работы, включающей следующие компоненты: развитие воображения, оригинальность мышления, способность приспосабливаться к неожиданным изменениям ситу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Знакомить с основными графическими изображениями в нетрадиционной технике работы с помощью нетрадиционных инструментов и матери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048760" y="907560"/>
            <a:ext cx="57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9933"/>
                </a:solidFill>
                <a:uFillTx/>
                <a:latin typeface="Arial"/>
              </a:rPr>
              <a:t>Материалы и оборудование</a:t>
            </a: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ПВА, плотная бумага или цветной картон,блёст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2924280"/>
            <a:ext cx="76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Актуальность: Воспитание, построенное на усвоение конкретных фактов изжило себя, ибо факты быстро устаревают, а их объем стремится к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Новизна: идеал системы образования 21 века заключается в том, что в основе воспитания дошкольников будет лежать развитие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1640" y="756720"/>
            <a:ext cx="7632720" cy="52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Обоснование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99"/>
                </a:solidFill>
                <a:latin typeface="Arial"/>
              </a:rPr>
              <a:t>Обоснованием данного мастер-класса является психолого-педагогическая направленность, основанная на принципах инновационности и педагогике сотрудничества. Я отношу себя к умеренным инноваторам, который совершенствует свой прежний опы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Arial"/>
              </a:rPr>
              <a:t>Лучше всего использовать клей ПВА с выступающим носиком и маленьким отверстием, чтобы рисовать контурные линии. Именно этой насадкой надо сначала нарисовать свой рисунок на плотной бумаге, а затем сверху тщательно посыпать блёст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Arial"/>
              </a:rPr>
              <a:t>Волшебство начинается!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Arial"/>
              </a:rPr>
              <a:t>Добавляя постепенно блёстки с помощью сухой кисти, вы достигнете оригинальности рисунка. Таким способом можно сотворить настоящий объёмный пейзаж или даже портрет, если предварительно наметить линии рис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Arial"/>
              </a:rPr>
              <a:t>Таким образом, покрываем всю картонку толстым слоем блёсток. Затем аккуратно наклоняем и трясём картонку — лишние блёстки осыпаются с картины, и остаётся заданный контур на базе кле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Как только клей полностью высохнет, ваша картина заиграет красивым объемом. Чтобы ее потом зафиксировать на память - покройте несколько раз с промежуточной просушкой акриловым ла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9933"/>
                </a:solidFill>
                <a:latin typeface="Arial"/>
              </a:rPr>
              <a:t>А еще лучше, если Вы сделаете свой самодельный состав из  клея ПВА + немного акрилового лака и немного кукурузного крахмала и все это подогреть в микроволновке в течение 15 секунд с 2 остановки для перемешивания, такой состав будет более прочный и сохранится на многие г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9933"/>
                </a:solidFill>
                <a:latin typeface="Arial"/>
              </a:rPr>
              <a:t>Вот и всё! Готовую картину можно поместить в красивую рамочку и преподнести в подарок бабушке или дедуш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498920" y="620640"/>
            <a:ext cx="4321080" cy="5761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84360" y="3573360"/>
            <a:ext cx="3693960" cy="2770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84360" y="638280"/>
            <a:ext cx="36716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7655040" cy="5742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00000" y="549360"/>
            <a:ext cx="765504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4321440" cy="3241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211640" y="32130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292720" y="609480"/>
            <a:ext cx="327996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3600360" cy="208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0000" y="476280"/>
            <a:ext cx="4608720" cy="3457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794120" y="476280"/>
            <a:ext cx="38815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Microsoft Office</cp:lastModifiedBy>
  <dcterms:modified xsi:type="dcterms:W3CDTF">2018-03-26T11:52:07Z</dcterms:modified>
  <cp:revision>32</cp:revision>
  <dc:subject/>
  <dc:title>Слайд 1</dc:title>
</cp:coreProperties>
</file>