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704-6353-4B73-A82D-D5546109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228-AC91-4C91-80A2-27786FC1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44D-ECFC-420B-98E7-8EA7BB97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83F-1A5A-42F6-95EE-AF0FB86B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10B1-0DA6-493D-82A3-A5B81EA2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84C6-A66F-4FEB-9C78-43E9C6CC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FDFC-967E-4B91-9491-B6858AA6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1D87-32F6-4EAE-AFB0-CCA6F6EA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0DEC-5C9A-45D4-A9DA-8DCCAA21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288B-593D-43DC-BF9B-937031C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080E-AA34-4167-A9A7-78731933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53F-2C48-42A2-8708-85A06CE0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D474-D55B-4E6A-97EC-5DC0BE3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927-55EB-4148-B26F-6F0385BF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8B97-D945-4FFC-B3A4-B951AF10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32F6-E628-4709-B581-0457DC5B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844A-347E-4888-8394-F67F4DEA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803-AB94-413B-8CCB-A36C5132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2A7-C29A-4849-8A10-027840C2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408-A4FF-462B-9733-016F432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FFF-7FE4-423F-81CE-B45FF137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ECF-4926-4C65-9516-5E50772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91C-C086-48AD-93F2-814227E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5CB-A3CF-4607-9074-7088CA96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405E-C5C7-404C-B531-8C1C1C9DC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289C-35B0-4455-8607-2158FF470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3132000" y="47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Истомина Окс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атель МБДОУ ДС КВ № 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гт. Иль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60720" y="1170000"/>
            <a:ext cx="482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МАСТЕР-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 ИСПОЛЬЗОВАНИЕМ ТЕХНОЛОГИИ РАЗВИТИЯ ИЗОБРАЗИТЕЛЬ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ТРИЗ, как средство развития воображения старших дошкольников в ИЗО деятельности в соответствии ФГОС ДО. Арт-мастерская - рисование клеем ПВА и блёстк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967120" y="2513160"/>
            <a:ext cx="311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1067760"/>
            <a:ext cx="709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 рисования клеем и блёстками объёмной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мастер-класс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актическое освоение технологии ТР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ые зада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Воспитать качества творческой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Формировать навыки творческой работы, включающей следующие компоненты: развитие воображения, оригинальность мышления, способность приспосабливаться к неожиданным изменениям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Знакомить с основными графическими изображениями в нетрадиционной технике работы с помощью нетрадиционных инструментов и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48760" y="907560"/>
            <a:ext cx="57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9933"/>
                </a:solidFill>
                <a:uFillTx/>
                <a:latin typeface="Arial"/>
              </a:rPr>
              <a:t>Материалы и оборудование</a:t>
            </a: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ПВА, плотная бумага или цветной картон,блёст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2924280"/>
            <a:ext cx="76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Актуальность: Воспитание, построенное на усвоение конкретных фактов изжило себя, ибо факты быстро устаревают, а их объем стремится к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Новизна: идеал системы образования 21 века заключается в том, что в основе воспитания дошкольников будет лежать развитие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756720"/>
            <a:ext cx="763272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Обоснование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99"/>
                </a:solidFill>
                <a:latin typeface="Arial"/>
              </a:rPr>
              <a:t>Обоснованием данного мастер-класса является психолого-педагогическая направленность, основанная на принципах инновационности и педагогике сотрудничества. Я отношу себя к умеренным инноваторам, который совершенствует свой прежний опы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Arial"/>
              </a:rPr>
              <a:t>Лучше всего использовать клей ПВА с выступающим носиком и маленьким отверстием, чтобы рисовать контурные линии. Именно этой насадкой надо сначала нарисовать свой рисунок на плотной бумаге, а затем сверху тщательно посыпать блёст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Arial"/>
              </a:rPr>
              <a:t>Волшебство начинается!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Добавляя постепенно блёстки с помощью сухой кисти, вы достигнете оригинальности рисунка. Таким способом можно сотворить настоящий объёмный пейзаж или даже портрет, если предварительно наметить линии рис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Таким образом, покрываем всю картонку толстым слоем блёсток. Затем аккуратно наклоняем и трясём картонку — лишние блёстки осыпаются с картины, и остаётся заданный контур на базе кле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Как только клей полностью высохнет, ваша картина заиграет красивым объемом. Чтобы ее потом зафиксировать на память - покройте несколько раз с промежуточной просушкой акриловым ла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33"/>
                </a:solidFill>
                <a:latin typeface="Arial"/>
              </a:rPr>
              <a:t>А еще лучше, если Вы сделаете свой самодельный состав из  клея ПВА + немного акрилового лака и немного кукурузного крахмала и все это подогреть в микроволновке в течение 15 секунд с 2 остановки для перемешивания, такой состав будет более прочный и сохранится на многие г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33"/>
                </a:solidFill>
                <a:latin typeface="Arial"/>
              </a:rPr>
              <a:t>Вот и всё! Готовую картину можно поместить в красивую рамочку и преподнести в подарок бабушке или деду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98920" y="620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3693960" cy="277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84360" y="638280"/>
            <a:ext cx="36716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655040" cy="574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00000" y="549360"/>
            <a:ext cx="76550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4321440" cy="3241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211640" y="3213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292720" y="609480"/>
            <a:ext cx="32799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3600360" cy="208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4608720" cy="345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794120" y="476280"/>
            <a:ext cx="38815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Microsoft Office</cp:lastModifiedBy>
  <dcterms:modified xsi:type="dcterms:W3CDTF">2018-03-26T11:52:07Z</dcterms:modified>
  <cp:revision>32</cp:revision>
  <dc:subject/>
  <dc:title>Слайд 1</dc:title>
</cp:coreProperties>
</file>