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1FA-78C4-4B63-8AD1-4A6F8DB842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680-BB70-44A8-A157-047A6D6A98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251-0CCC-464C-B598-77A0737D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5B2-AFC7-4DAF-83E2-3FB2AE3C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615-3A5D-47C3-A229-D54A045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021-C5E0-4BDA-94DB-39A9D92A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66BE-20F0-46BF-874A-EEE7F53C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F1F1-5543-4BBC-88A5-8147E8C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CED7-CC4C-4E49-B73F-A9EF263D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5F30-6174-4D67-8653-E1D7F56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099A-9EE0-43F6-990C-5E2B43F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B1E-31CF-4588-B2BB-5CA1C6DD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8BC-D86F-4D45-B5E3-A641E22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2D5-241F-437B-B673-9FBA020D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0E6-E3DF-42C1-BF72-86FEF9F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62B-CB09-42A6-B4D6-BE1A1FC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C34A-8776-4F28-AF57-75A7533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831-B2E8-417D-A8CA-259F48F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53B-8D3C-4928-B3A7-4F215E4E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1C1-F2ED-496D-8F99-A2C936E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57-D977-477A-B8FE-EAA08AF8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1BF-2D24-4824-9290-528CF63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FBC-DCBA-4E86-97F7-1ED3E777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13A-46F6-4480-9DBC-D26AAF0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5C3-A883-4E57-85CF-42093D0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BD-4BB4-49EE-B6A1-9C2FEFA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917-BD2B-4FA2-B140-1BC48E340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7072-265C-4EA4-8260-E19A5915B0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00040"/>
            <a:ext cx="77774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Monotype Corsiva"/>
              </a:rPr>
              <a:t>Спички – не игруш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8000" y="357120"/>
            <a:ext cx="8856720" cy="631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8000" y="260280"/>
            <a:ext cx="8928000" cy="626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8000" y="260280"/>
            <a:ext cx="8928000" cy="626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3000240"/>
            <a:ext cx="854388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1643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08000" y="142920"/>
            <a:ext cx="8928000" cy="6572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42920" y="285840"/>
            <a:ext cx="8748720" cy="6429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8643960" cy="614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89080"/>
            <a:ext cx="8291520" cy="632736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txBody>
          <a:bodyPr lIns="134280" rIns="134280" tIns="91080" b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Рисунок 10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15560" cy="600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Monotype Corsiv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643040" y="542916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4:22:31Z</dcterms:created>
  <dc:creator>1</dc:creator>
  <dc:description/>
  <dc:language>en-US</dc:language>
  <cp:lastModifiedBy>МБДОУ 8</cp:lastModifiedBy>
  <dcterms:modified xsi:type="dcterms:W3CDTF">2018-03-02T05:55:18Z</dcterms:modified>
  <cp:revision>63</cp:revision>
  <dc:subject/>
  <dc:title>Современные подходы к социально-личностному развитию дошкольников</dc:title>
</cp:coreProperties>
</file>