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D1F-7992-457C-9392-3F38D6578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049-B44B-4FCC-8693-B8BF2DECB4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794-B174-4048-A04F-42929DE8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5D8-6F50-462A-9688-EC0377E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F20-0606-4D66-A640-E6620A8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F5C-61DF-4101-9C10-107792BC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528-AD26-4626-AF2D-6B3FC0F2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8FE-792D-4C10-AFA4-F731256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869-9B40-4080-BF45-E299B82F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1855-3647-4870-BEA0-0954DB6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AF56-4761-46FD-8643-7C5B6A95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3DB-ACB8-4B12-A699-E129250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76EC-CD85-4677-9230-8CBA26E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FCE-8315-4C28-BCEA-AB22241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FA1D-96FC-44FB-ABC2-60FDF74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552-0BEC-4C4E-8878-C309C27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3254-250A-4D53-A3C0-01F32AA9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C64-A648-4EAF-98CB-9EEF9778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A2E0-657A-4EE9-9B69-13D74F5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F0D-A3F2-43D8-8A84-B657C60B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42C-6088-4C23-B33B-F740E0D5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75D-73B1-4638-944E-A42EC51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754-D280-49DD-B060-8C58933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06B-1CD2-403C-A264-764CDF0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C78-F647-46FC-9502-5D411D9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E8C-0509-4C51-8C49-18112A7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B75-C8A8-426A-B67D-6C1A19684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51C-092E-43A4-BE9F-2CB659E24F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00040"/>
            <a:ext cx="77774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Monotype Corsiva"/>
              </a:rPr>
              <a:t>Спички – не игруш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8000" y="357120"/>
            <a:ext cx="8856720" cy="631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8000" y="260280"/>
            <a:ext cx="8928000" cy="626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8000" y="260280"/>
            <a:ext cx="8928000" cy="626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3000240"/>
            <a:ext cx="854388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1643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08000" y="142920"/>
            <a:ext cx="8928000" cy="6572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42920" y="285840"/>
            <a:ext cx="8748720" cy="6429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8643960" cy="614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89080"/>
            <a:ext cx="8291520" cy="632736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txBody>
          <a:bodyPr lIns="134280" rIns="134280" tIns="91080" b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Рисунок 10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15560" cy="600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Monotype Corsiv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643040" y="542916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08000" y="189000"/>
            <a:ext cx="8785080" cy="645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4:22:31Z</dcterms:created>
  <dc:creator>1</dc:creator>
  <dc:description/>
  <dc:language>en-US</dc:language>
  <cp:lastModifiedBy>МБДОУ 8</cp:lastModifiedBy>
  <dcterms:modified xsi:type="dcterms:W3CDTF">2018-03-02T05:55:18Z</dcterms:modified>
  <cp:revision>63</cp:revision>
  <dc:subject/>
  <dc:title>Современные подходы к социально-личностному развитию дошкольников</dc:title>
</cp:coreProperties>
</file>