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398-2715-4274-9760-24CF249D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400-BE80-457C-9AA2-E072C72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14B0F-887F-41D8-A096-26E00A8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C82CF-B9CF-4882-A398-05EEE834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6F18E-3E2E-49B9-AA64-5D964892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0354-588D-41BB-A654-33A1DBB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5AE6C-0794-429C-939E-3AF844C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35BE9-7101-4E15-A3A3-1849289E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29DF7-E295-4B2A-9174-B950C1DA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7F630-1467-45D1-9FAA-603ABF9D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113EF-461B-40C1-B2B8-330A323F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D0B3A-2D73-455A-9316-63F824C8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336-F3A4-4B16-8917-0A7BA8C7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BBFEE-9BB7-4FB7-A889-5EBE4595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DED04-9293-4469-B061-125CBFB9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49A83-0121-4F7A-B15C-B2771064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B9A98-D9BA-484D-BC93-3CC9727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CABE5-00A0-4782-BAB9-60E18CB6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EFDF5-B3DD-4245-ADE7-F0AE88C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F2F05-3F13-4468-B39A-1BF2D84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9AEA5-9AE0-4288-AF04-3E872617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30257-EEC2-4198-B70D-49928D4B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B41DE-2DF5-4C34-9739-6B5913F9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331-FA47-4202-9F74-FD942E13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7F92D-11A2-4FD2-84CB-80EC2ADD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D8884-98FC-44D5-9DA1-38CB2720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84579-8125-49E0-A86D-0B774C23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D2F4-2FC7-4A4B-B9E7-573309D0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C2332-0230-4F61-8229-8D8F19E1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4B1D4-F760-411A-B4E4-2E4561C2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5CDF7-4661-49FB-8FA6-6CA4BC5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1D138-7C55-4855-B100-72ED08F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1AA9-ECC5-4802-A798-D74650DA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9DCE9-1170-4CB4-AC32-01AC40B6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8784-5B09-47DF-8716-0482DA98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B2C2B-0BDD-4C69-A4B0-580A28F5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2F080-ECD7-4C67-A607-69AA623E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0DB2B-E7A5-4FF2-9DFD-ACF4AC34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8ECE6-4D9E-4C4D-A8B5-DB69C9A0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06C97-7972-4B29-BADF-6A615871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16AD6-8FAE-4372-983E-9D516CD7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9E2ED-3215-4672-A2D4-553E2DB1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700A4-A857-4F79-834D-3515527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46FFF-58E0-4B2E-B2B5-780DF5B2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03CE6-6C95-4670-BBFF-7277C0C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AE8B-E3E3-4B55-A1CA-76D34F1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8F2AB-BD34-4940-9EDB-A3A0D8D8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55B1D-921D-4AE7-9CCC-257DA304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C3E88-C448-4612-93BF-A55945AC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87878-E4C4-40CC-AE86-4E000A82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6ABF3-563B-492E-9F7C-90B679B0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79BC-3903-4CCB-94CD-10A96842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E7AF-4F2D-4657-909E-E33EA2D6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8031-2D7E-4C22-A78A-B99C2DE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1740-CC89-49F1-8656-D3C01A7C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D2A-3B41-4EB7-82D4-F6FABF16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97F-6A55-4A6C-8233-B243BC7E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70AA-9841-43A9-A9DB-B88DCD6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40A8-A9C6-41AF-9D8B-2920C40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EE03-E00D-4C5E-8BBE-FA0313E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D941-0211-4111-9F8E-D35BF011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2C96-274C-48CB-92CD-DC2E8612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0F8F4-6BDC-4915-9ACB-2C974DCB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B0CB-5BA6-4993-9C91-4295A2C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C292-38AD-4358-836A-B13A616B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A488-7B26-48E3-9BE1-30F16765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7437-D5F6-4BF6-AB23-71873257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AE0-78C6-4E47-B948-E6BA5FC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113F-A697-428E-BD2B-AE1E18D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6A4B-1F67-42C5-9A6F-B5BC2126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3ECA-CA74-46BF-96DB-28EBF2DD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D3D0-02B5-493C-9C6E-C540EF92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1F12-0F6B-43F8-AEE3-8F0A1282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8F03-FF90-4B52-A7D6-1F20673E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A733-7B38-40BD-93A9-2007C4A4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6D98-6C18-433D-9BF4-7C43B161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AF4D-9708-44D2-BEFC-66DA0A67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B179-E788-4BF7-9AC2-000DB1A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E68-2258-48C9-8C66-EC4AFB7E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EBD9-ADF1-423A-9289-2E82BBB2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B5DB-646C-4F26-BB4A-AFC08E28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769D-D0D4-4474-8D02-B4AC3528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2516-11DF-4BCF-BB58-8A0F486A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478C-DA70-40DE-B91E-D99BC741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11D5-279C-45E9-BBA1-893476A7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519A-80B5-43DE-97CB-50778F09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C8165-C994-45CE-8803-4151CE75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5E951-4BC3-48F9-B00A-5DCE5046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D5D4B-B6BC-46E1-AF90-F0EB01D2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87A-6F56-4914-9A53-F1BA742E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D370C-4E05-459C-986E-7321E703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30983-E219-47C9-9A17-710563F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A1252-5763-4B3C-80B2-6476CCD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9774-7EA6-45CB-848F-B04FC85A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6E98-ECF6-4569-B164-7555E52D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A53B-AB88-4AD9-AEEF-3A255B1C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7712-F8A8-49BA-BB28-8F44C81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5C4C0-6A4B-45F1-8FBE-452F9C0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129F-9EC4-44E3-A359-055EBC46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CA614-1CD6-499A-8C71-4EB0751E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2E7-476B-486D-9E61-2BD2470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D43C-32FF-4E34-BCBC-A55592B1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0C8F3-090B-47E6-8798-99E400D0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DC0F9-D622-4D8E-B5BF-F8258E5D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320A4-50E7-42AF-9D99-176A5F1D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FE3B5-95B7-4246-95C5-85998020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26DFA-458F-44CD-A62A-15829D9B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25C54-4901-4791-99E2-6B4F6C2A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907AB-6040-4705-95E5-4786887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A5BC-258C-42B3-BCD1-0398AEB4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849D-A8BF-462F-96BF-BE62D8CE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FF4-B386-4E18-93A9-C1DA082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54D5C-BC06-46B7-98E7-E9466E49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31205-1F23-471D-AECF-DB64B2B3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57349-A9CA-431A-91B2-078267AA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0E134-7FC2-4D75-9CA6-158B3B14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94D83-2A70-459E-8AEB-36BED453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E2332-34F3-491D-A280-9D2D710A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73274-DA9F-4036-AE9A-F52C6F12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29ED0-22AC-4290-A432-5D850DE3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ECD9-1313-4282-9495-5A4B1D93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DA1F4-1AAE-4A58-A512-19A23334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40A-FEF6-48B7-A15F-5C53D2C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C878-C847-4800-A460-34724B36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05E5-6E74-44B9-B9FD-4FF5C884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1EAB6-AF44-429C-8439-74F911FD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69413-816B-4D2B-8CEA-1A9C4F2E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C28B-55D8-4122-ACC6-C854AB6F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3CC35-F1E1-4113-8533-0E48C9FF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28D21-88E6-41AC-9029-BE4D0060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21186-668D-41B3-BEA5-863321AD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38562-1ED3-402F-A0E7-06592AD4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A374-AD98-4239-90A4-F3424001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44D-907D-458D-8544-203F03F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EA5CD-6F2F-42FE-88C0-C4316F3D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6FCF1-011A-4868-BB33-9E9AE20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A49ED-2A4E-4C80-8CDD-B048955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23165-3945-4125-9FE3-BC9AA5CB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6FDCA-C9FC-4D2D-85DD-1A704038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B6498-BA80-496C-8AFB-19C62676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7BA85-E070-4E28-9529-7048C3B2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1DBB4-CB75-492E-91A4-E4537A24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FA2AA-6E97-442B-8312-5BC7081D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FB016-69FD-4579-A567-0BC9C65B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F50D-553C-47F8-93C1-7FA0BBDCF6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69EE-ED7B-45D6-B6D0-EC1563103D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152C-A2D6-49DF-86D6-78EA15DC75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9EC-3EE0-4507-9AB3-7944D923D4E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882F-E478-4EFC-98FF-BE310F17C2E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3BD3-52E9-478F-AA19-8BEA14C29E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40BA-0106-4EDE-8722-249B2451E1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7C31-EDFF-43B8-B2CC-DDD2553C58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BFEC-ED4E-42F6-B41F-1F8ADC86F3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D060-4DE8-4466-BC56-126A04EC99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E71-E00F-412A-9199-F8708490A7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C09A-5232-4F99-B672-4D33E7D695F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yshared.ru/slide/322984/" TargetMode="External"/><Relationship Id="rId2" Type="http://schemas.openxmlformats.org/officeDocument/2006/relationships/hyperlink" Target="http://nsportal.ru/shkola/inostrannye-yazyki/library/2014/01/13/tekhnologiya-problemnogo-obucheniya-na-urokakh" TargetMode="External"/><Relationship Id="rId3" Type="http://schemas.openxmlformats.org/officeDocument/2006/relationships/hyperlink" Target="https://infourok.ru/konkurs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86480" cy="31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оект на тему: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ТЕХНОЛОГИЯ ПРОБЛЕМНОГО ОБУЧЕНИЯ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на уроках английского языка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285480" y="3929040"/>
            <a:ext cx="81738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ыполнила:Немзорова Ю.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Учитель английского язы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Candara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36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Candara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Нижний колонтитул 1"/>
          <p:cNvSpPr/>
          <p:nvPr/>
        </p:nvSpPr>
        <p:spPr>
          <a:xfrm>
            <a:off x="3492360" y="609300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73e87"/>
                </a:solidFill>
                <a:latin typeface="Verdana"/>
              </a:rPr>
              <a:t>2018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Box 1"/>
          <p:cNvSpPr/>
          <p:nvPr/>
        </p:nvSpPr>
        <p:spPr>
          <a:xfrm>
            <a:off x="179280" y="765000"/>
            <a:ext cx="885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рагмент урока в 8 класс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а: «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st Continuou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после объяснения способа образования времени Past Continuous Tense , ученикам предлагается самостоятельно выявить правила его употребл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Прочитайте и сравните: в каких случаях употребляется the Past Continuous Tense, Past Simple and Past Continu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e played video games yesterd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играл в видео-игры вчера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e was watching TV at 6 o'clock yesterday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чера в 6 часов вечера он смотрел телевизо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When I came she was cooking dinn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гда я пришел, она готовила обе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Найдите маркеры («сигналы/указатели» времени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Проанализируйте и составьте формулу каждого из време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Сформулируйте правила образования Прошедших времен, обоснуете 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Спрогнозируйте случаи употребления време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Напишите предложения в отрицательной, вопросительной форм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 Дополните предложения, используя  то или иное врем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Список используемой литерату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826920" y="2637000"/>
            <a:ext cx="74901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акулина И.В. Примеры создания проблемных ситуац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U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Verdana"/>
                <a:hlinkClick r:id="rId1"/>
              </a:rPr>
              <a:t>http://www.myshared.ru/slide/322984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1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арких Е.В. Технология проблемного обучения на уроках английского языка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RL: 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http://nsportal.ru/shkola/inostrannye-yazyki/library/2014/01/13/tekhnologiya-problemnogo-obucheniya-na-urokak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1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хова К.В. Проблемное обучение на уроках английского языка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RL: 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Verdana"/>
                <a:hlinkClick r:id="rId3"/>
              </a:rPr>
              <a:t>https://infourok.ru/konk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1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358920" y="333360"/>
            <a:ext cx="878508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84000" y="47520"/>
            <a:ext cx="8647200" cy="60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57120" y="3625920"/>
            <a:ext cx="8429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Box 1"/>
          <p:cNvSpPr/>
          <p:nvPr/>
        </p:nvSpPr>
        <p:spPr>
          <a:xfrm>
            <a:off x="971640" y="907920"/>
            <a:ext cx="590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роблемное обучение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тип развивающего обучения, содержание которого представлено системой проблемных задач различного уровня сложности, в процессе решения которых учащиеся овладевают новыми знаниями и способами действия, а через это происходит формирование творческих способностей: продуктивного мышления, воображения, познавательной мотивации, интеллектуальных эмо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Рисунок 1" descr=""/>
          <p:cNvPicPr/>
          <p:nvPr/>
        </p:nvPicPr>
        <p:blipFill>
          <a:blip r:embed="rId1"/>
          <a:stretch/>
        </p:blipFill>
        <p:spPr>
          <a:xfrm>
            <a:off x="6012000" y="4091040"/>
            <a:ext cx="2662200" cy="236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395280" y="476280"/>
          <a:ext cx="8280360" cy="17384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173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ель создания проблемной ситуац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Скругленный прямоугольник 4"/>
          <p:cNvSpPr/>
          <p:nvPr/>
        </p:nvSpPr>
        <p:spPr>
          <a:xfrm>
            <a:off x="395280" y="2133720"/>
            <a:ext cx="6697800" cy="394812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сознание и разрешение этих ситуаций в ходе совместной деятельности обучающихся и учителя, при оптимальной самостоятельности учеников и под общим направляющим руководством учителя, а так же в овладении учащимися в процессе такой деятельности знаниями и общими принципами решения проблемных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3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560600" cy="150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"/>
          <p:cNvSpPr/>
          <p:nvPr/>
        </p:nvSpPr>
        <p:spPr>
          <a:xfrm>
            <a:off x="1835280" y="1889280"/>
            <a:ext cx="8358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1692360" y="83664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емы создания проблемной ситу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88" name="Прямая со стрелкой 4"/>
          <p:cNvCxnSpPr/>
          <p:nvPr/>
        </p:nvCxnSpPr>
        <p:spPr>
          <a:xfrm flipH="1">
            <a:off x="1692000" y="1628280"/>
            <a:ext cx="1080000" cy="8643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589" name="Прямая со стрелкой 6"/>
          <p:cNvCxnSpPr/>
          <p:nvPr/>
        </p:nvCxnSpPr>
        <p:spPr>
          <a:xfrm>
            <a:off x="4463640" y="1628280"/>
            <a:ext cx="72360" cy="8643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590" name="Прямая со стрелкой 8"/>
          <p:cNvCxnSpPr/>
          <p:nvPr/>
        </p:nvCxnSpPr>
        <p:spPr>
          <a:xfrm>
            <a:off x="6443640" y="1628640"/>
            <a:ext cx="721440" cy="6724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591" name="TextBox 9"/>
          <p:cNvSpPr/>
          <p:nvPr/>
        </p:nvSpPr>
        <p:spPr>
          <a:xfrm>
            <a:off x="539640" y="2852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чес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11"/>
          <p:cNvSpPr/>
          <p:nvPr/>
        </p:nvSpPr>
        <p:spPr>
          <a:xfrm>
            <a:off x="3492360" y="4581360"/>
            <a:ext cx="2016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12"/>
          <p:cNvSpPr/>
          <p:nvPr/>
        </p:nvSpPr>
        <p:spPr>
          <a:xfrm>
            <a:off x="6084720" y="2817720"/>
            <a:ext cx="2305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Скругленный прямоугольник 13"/>
          <p:cNvSpPr/>
          <p:nvPr/>
        </p:nvSpPr>
        <p:spPr>
          <a:xfrm>
            <a:off x="539640" y="2886120"/>
            <a:ext cx="2087640" cy="54288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класс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Скругленный прямоугольник 14"/>
          <p:cNvSpPr/>
          <p:nvPr/>
        </p:nvSpPr>
        <p:spPr>
          <a:xfrm>
            <a:off x="3132000" y="271296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сокраще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Скругленный прямоугольник 15"/>
          <p:cNvSpPr/>
          <p:nvPr/>
        </p:nvSpPr>
        <p:spPr>
          <a:xfrm>
            <a:off x="6264360" y="2546280"/>
            <a:ext cx="2305080" cy="5414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отивирующ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Скругленный прямоугольник 16"/>
          <p:cNvSpPr/>
          <p:nvPr/>
        </p:nvSpPr>
        <p:spPr>
          <a:xfrm>
            <a:off x="563400" y="4149720"/>
            <a:ext cx="1800360" cy="2016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016000"/>
              <a:gd name="textAreaBottom" fmla="*/ 1928160 h 2016000"/>
            </a:gdLst>
            <a:ahLst/>
            <a:rect l="textAreaLeft" t="textAreaTop" r="textAreaRight" b="textAreaBottom"/>
            <a:pathLst>
              <a:path w="21600" h="24187">
                <a:moveTo>
                  <a:pt x="3600" y="0"/>
                </a:moveTo>
                <a:arcTo wR="3600" hR="3600" stAng="16200000" swAng="-5400000"/>
                <a:lnTo>
                  <a:pt x="0" y="20587"/>
                </a:lnTo>
                <a:arcTo wR="3600" hR="3600" stAng="10800000" swAng="-5400000"/>
                <a:lnTo>
                  <a:pt x="18000" y="24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Скругленный прямоугольник 17"/>
          <p:cNvSpPr/>
          <p:nvPr/>
        </p:nvSpPr>
        <p:spPr>
          <a:xfrm>
            <a:off x="3348000" y="4005360"/>
            <a:ext cx="2303640" cy="2386080"/>
          </a:xfrm>
          <a:custGeom>
            <a:avLst/>
            <a:gdLst>
              <a:gd name="textAreaLeft" fmla="*/ 112320 w 2303640"/>
              <a:gd name="textAreaRight" fmla="*/ 2191320 w 2303640"/>
              <a:gd name="textAreaTop" fmla="*/ 112320 h 2386080"/>
              <a:gd name="textAreaBottom" fmla="*/ 2273760 h 2386080"/>
            </a:gdLst>
            <a:ahLst/>
            <a:rect l="textAreaLeft" t="textAreaTop" r="textAreaRight" b="textAreaBottom"/>
            <a:pathLst>
              <a:path w="21600" h="22373">
                <a:moveTo>
                  <a:pt x="3600" y="0"/>
                </a:moveTo>
                <a:arcTo wR="3600" hR="3600" stAng="16200000" swAng="-5400000"/>
                <a:lnTo>
                  <a:pt x="0" y="18773"/>
                </a:lnTo>
                <a:arcTo wR="3600" hR="3600" stAng="10800000" swAng="-5400000"/>
                <a:lnTo>
                  <a:pt x="18000" y="22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Скругленный прямоугольник 18"/>
          <p:cNvSpPr/>
          <p:nvPr/>
        </p:nvSpPr>
        <p:spPr>
          <a:xfrm>
            <a:off x="5867280" y="3541680"/>
            <a:ext cx="2881440" cy="2849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Стрелка вниз 19"/>
          <p:cNvSpPr/>
          <p:nvPr/>
        </p:nvSpPr>
        <p:spPr>
          <a:xfrm>
            <a:off x="1187280" y="3500280"/>
            <a:ext cx="5050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Стрелка вниз 20"/>
          <p:cNvSpPr/>
          <p:nvPr/>
        </p:nvSpPr>
        <p:spPr>
          <a:xfrm>
            <a:off x="4319640" y="3429000"/>
            <a:ext cx="468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Стрелка вниз 21"/>
          <p:cNvSpPr/>
          <p:nvPr/>
        </p:nvSpPr>
        <p:spPr>
          <a:xfrm>
            <a:off x="7128000" y="3218040"/>
            <a:ext cx="576000" cy="250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Box 22"/>
          <p:cNvSpPr/>
          <p:nvPr/>
        </p:nvSpPr>
        <p:spPr>
          <a:xfrm>
            <a:off x="563400" y="4559400"/>
            <a:ext cx="16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Проблемная ситуация «с удивлением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Проблемная ситуация «с затруднением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Box 23"/>
          <p:cNvSpPr/>
          <p:nvPr/>
        </p:nvSpPr>
        <p:spPr>
          <a:xfrm>
            <a:off x="3635280" y="4141800"/>
            <a:ext cx="1728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Побуждающий диалог от проблемной ситу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Подводящий к проблеме диало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Подводящий от проблемы диало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TextBox 24"/>
          <p:cNvSpPr/>
          <p:nvPr/>
        </p:nvSpPr>
        <p:spPr>
          <a:xfrm>
            <a:off x="6084720" y="3641760"/>
            <a:ext cx="2484720" cy="26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бщение темы урока с использованием прием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ркое пятн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монстрация непонятных яв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бщение темы урока с использованием прием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ктуализация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0071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«Классические» приемы создания проблемной ситуации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79280" y="1197000"/>
          <a:ext cx="8856720" cy="5791320"/>
        </p:xfrm>
        <a:graphic>
          <a:graphicData uri="http://schemas.openxmlformats.org/drawingml/2006/table">
            <a:tbl>
              <a:tblPr/>
              <a:tblGrid>
                <a:gridCol w="1687680"/>
                <a:gridCol w="2184480"/>
                <a:gridCol w="4984560"/>
              </a:tblGrid>
              <a:tr h="824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Тип проблем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Тип 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иемы создания проблем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447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 уди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 затрудн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ежду житейским представлением учащихся и научным фак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ежду необходимостью выполнить задание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. Обнажить житейское представление учащихся вопросом или практическим заданием «с ловушко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. Предъявить научный факт сообщением, экспериментом или наглядность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. Дать практическое задание, не выполнимое вообщ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. Дать практическое задание, не сходное с предыдущи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. Доказать, что задание учениками не выполне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«Сокращенные» приемы постановки проблемной ситуа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9" name="Скругленный прямоугольник 2"/>
          <p:cNvSpPr/>
          <p:nvPr/>
        </p:nvSpPr>
        <p:spPr>
          <a:xfrm>
            <a:off x="826920" y="2611440"/>
            <a:ext cx="7561440" cy="165564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.Побуждающий диалог — это «экскаватор», который выкапывает проблему, вопрос, трудность, т.е. помогает формулировать учебную задачу. Используется дл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побуждения к созданию противореч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побуждения к формулированию учебной пробл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Скругленный прямоугольник 3"/>
          <p:cNvSpPr/>
          <p:nvPr/>
        </p:nvSpPr>
        <p:spPr>
          <a:xfrm>
            <a:off x="755640" y="4653000"/>
            <a:ext cx="7632720" cy="194472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2.Подводящий диалог — это логически выстроенная цепочка заданий и вопросов — «локомотив», движущийся к новому знанию, способу действия; система посильных ученику вопросов и заданий, которые шаг за шагом приводят ученика к созданию темы урока. Данный прием не требует создания проблемной ситуации, хорошо выстраивается «от повторени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«Мотивирующие» приемы постановки проблемной ситуа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2" name="Скругленный прямоугольник 2"/>
          <p:cNvSpPr/>
          <p:nvPr/>
        </p:nvSpPr>
        <p:spPr>
          <a:xfrm>
            <a:off x="468360" y="2205000"/>
            <a:ext cx="7704000" cy="158436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.«Яркое пятно» — сообщение интригующего материала (исторических фактов, легенд и т.п.): сказки, легенды, фрагменты из художественной литературы, случаи из истории науки, культуры и повседневной жизни, шутки и др. интригующий материа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Скругленный прямоугольник 3"/>
          <p:cNvSpPr/>
          <p:nvPr/>
        </p:nvSpPr>
        <p:spPr>
          <a:xfrm>
            <a:off x="468360" y="4221000"/>
            <a:ext cx="7848720" cy="79236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2.Демонстрация непонятных явлений (эксперимент, наглядно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Скругленный прямоугольник 4"/>
          <p:cNvSpPr/>
          <p:nvPr/>
        </p:nvSpPr>
        <p:spPr>
          <a:xfrm>
            <a:off x="539640" y="5300640"/>
            <a:ext cx="8064720" cy="1368360"/>
          </a:xfrm>
          <a:prstGeom prst="roundRect">
            <a:avLst>
              <a:gd name="adj" fmla="val 16667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3.«Актуализация» — обнаружение смысла, значимости проблемы для учащихся: обнаружение смысла, значимости предлагаемой темы урока для самих учащих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1"/>
          <p:cNvSpPr/>
          <p:nvPr/>
        </p:nvSpPr>
        <p:spPr>
          <a:xfrm>
            <a:off x="357120" y="428760"/>
            <a:ext cx="842976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Некоторые виды проблемных ситуац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Побужде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к истолкованию и объяснению явлений, фактов, событий путем использования аналогии или противопоставления в объяснении нового в сравнении с уже известным, установления причинно-следственных связ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Чередова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и сочетание анализа и синтеза явлений, фактов, событий, поступ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Развертыва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различных ситуаций в речи для создания необходимых смысловых опор и расстановки акце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Ассоциирова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частных проблем с общими, объяснение их характера аргументацией общеизвестных полож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ndara"/>
              </a:rPr>
              <a:t>Ознакомле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слушателей с фактами, которые требуют объяснения, предположения, формирования гипотезы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3"/>
          <p:cNvSpPr/>
          <p:nvPr/>
        </p:nvSpPr>
        <p:spPr>
          <a:xfrm>
            <a:off x="179280" y="836640"/>
            <a:ext cx="8425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рагмент урока английского языка в 3 класс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а «Счет от 13 до 19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и повторяют счет до 12, этот материал им знаком. На доске записан числовой ряд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436b"/>
                </a:solidFill>
                <a:latin typeface="Verdana"/>
              </a:rPr>
              <a:t>13,…,….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спрашивает, как восстановить счет, ведь мы еще не умеем считать до 19, но нам даны 2 числа 13 и 19. Мы видим, что 13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e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3, 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-10. Nineteen-nine-9, ten-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но, что первое и последнее число одинаковы, может быть есть какая-нибудь закономерность. Попробуй образовать числительные согласно закономер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436b"/>
                </a:solidFill>
                <a:latin typeface="Verdana"/>
              </a:rPr>
              <a:t>14- </a:t>
            </a: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fourt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15-fift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16-sixt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436b"/>
                </a:solidFill>
                <a:latin typeface="Verdana"/>
              </a:rPr>
              <a:t>18-eight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ям предлагается проверить результат по словар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02:48Z</dcterms:created>
  <dc:creator>Admin</dc:creator>
  <dc:description/>
  <dc:language>en-US</dc:language>
  <cp:lastModifiedBy>user</cp:lastModifiedBy>
  <dcterms:modified xsi:type="dcterms:W3CDTF">2018-03-26T05:19:05Z</dcterms:modified>
  <cp:revision>46</cp:revision>
  <dc:subject/>
  <dc:title>ТЕХНОЛОГИЯ ПРОБЛЕМНОГО ОБУЧЕНИЯ</dc:title>
</cp:coreProperties>
</file>