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90B-0615-40B1-A89F-CC14FBE1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B257-CE6E-4A82-849B-1AC77014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ED7C2-9D5E-4139-8D66-A43CBCE4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38F81-BD92-4E28-8469-E41F7C03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028DF-EA73-479D-8788-17E947F6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BD26C-0BF8-4BF3-AFDD-ABFDE224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0A140-CCBC-4FAD-AA5C-2F247C44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A5F2E-77D1-4C0A-A35D-90DBA935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253A1-CD7B-4029-AC81-64CC2DE2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6A345-27B0-4505-9CFD-FD8599C8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AB88D-E2C9-4CFB-944F-53AA88AF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58C88-9C34-4B5F-B312-9EABB798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A2F0-6052-47CB-A19F-6D66F085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2F782-7AC0-4C3A-A5CE-BF63293D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B7193-C86A-4BFD-BC0B-1476B077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87722-ADA8-460C-B1D9-CA68BFCD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1ED45-DA69-4864-9BD7-58F8AE7D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93945-C437-4E07-919A-5BF02EFA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28D70-24B8-4B28-B329-4101697B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87EB8-5379-45BE-ACA1-B5868EB0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32310-8563-4902-B7C6-685D1950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60596-C040-4337-AC9A-2A4DBF1C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EC04D-1441-466F-9362-8A4A9C43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AC8-E48A-4FC9-974C-404204B2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0D005-2BF1-41ED-AC02-96E9AC19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86528-E27F-4E7B-A108-66C75AF5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CD859-2B4D-478B-A61D-3E0A75F1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D9958-3957-4B58-BF3A-E2F887AD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CD31E-4E49-4C63-A0CB-29BEA64B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1B3B7-38A1-4508-ADE2-1AF4D53E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1A74F-2663-43A9-8A99-BE7AC00E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56E45-C39C-46A6-B228-2E8297A2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59167-92E8-42C5-92BD-252FFCA8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346F4-33F7-4738-82FF-582315DD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2713-9DDE-42F6-ADEE-439F3D9D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FEF28-2984-43D2-B0FD-15DB438D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D379D-45F9-47C1-83F7-6AED0DC0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0B40C-2ABA-4940-B4F5-96EF1E51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EAF8D-33CE-4D84-89B7-3E0170F7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00C53-21AA-4180-B73C-3838DF01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20B89-6A48-45B2-B277-FC4FC5FD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158B9-5461-4A77-9F32-A48334D0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BF993-B04A-4E5B-A137-E316061E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551CB-BA8B-4AFD-A16F-51131E70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E6798-3B52-4B7D-A206-C510A0D7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19BC-6FD1-4364-91EB-B2B03ECC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6ECDD-3128-4B23-9AAD-DEDD7EA8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D33AD-8EA5-48DA-8104-1DA5B7BD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E1387-5E4C-4A1D-8DDF-DD824A65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5CEA3-495A-47BD-8CF1-81A3EF89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E75D4-E63C-423C-8094-178C98F3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187A-2F0E-474E-8391-6B97A31D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2E27-C5FD-4B96-B1B5-0A85E91B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90AC-71FB-4370-BC50-9ACC4350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0DC7-ED9E-488E-86CD-231E4C4E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F38B-C37D-40D9-92CA-04441348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CDC-D01E-4CCA-A179-292C38C1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2362-E54C-4118-B43C-9229B293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69AF-8A8E-4EAF-977C-DF2A9C02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8365-BAD6-4948-ABF5-E636F99D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E55D-6CC5-4DF1-88E0-D21E9499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9450-C294-41BB-9E2D-F7A0F6D0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04B2A-8E07-4B09-B0CA-F62617A0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AD452-3592-4E93-A5A5-211FF4AA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8C483-DFC9-4A52-A545-43073D08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ABA94-6088-4EDA-854F-866DB54B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90817-8C99-4A73-8BCA-32E153A8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8AC-EDDB-4D40-9741-B4CCC2CC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5BB26-FAE5-4AE0-8CF3-FC4E3367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A5A10-F431-430B-A71C-B8B86660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7A75B-E175-4CC7-93C6-A9F96A94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7BCF5-DC5A-4FAB-BA82-7741527B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7BAC-2E4C-4EFF-A9B8-11F0AAA2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FD980-695C-4387-97BD-5662A4A2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C3F9E-BC48-4DFA-B917-4DD41166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FEB32-8BDF-4F48-A1B8-793F59EA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76EB6-0CD1-4C24-9F16-74476373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47B50-364E-41AB-B9C2-BFA315B5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9E8-4E85-4990-9207-B0D8E7B1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AA468-3894-46CA-AB27-C94E3980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4D38B-A254-4EA0-96E2-7E0395D6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72DB3-EC21-4CFF-BF5F-912309DC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D9205-23F8-439F-8EDB-3D5E18FB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FDE79-CA5E-40DA-9E32-349C6B4F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42755-8AA2-4D23-AC1C-ADE0A405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FA4BD-0FD2-4AC5-AF35-BDB7A413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E3A8E-AECA-4D77-8EFB-56581033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B99B0-6E99-4834-9563-911E3729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C60F1-35A6-418A-B6B2-87B83FA0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D0B-08C9-4009-9E11-F6057C5E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25AF1-6490-4228-8FD3-D0999F76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698A2-ED4B-4A00-AD13-C4BFE6C3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29602-9F4B-48B4-9E2F-5602764F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9CD09-BA3C-4471-A86D-6ECF48F2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E3AA0-E571-48FD-8624-5FB25A27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AFE9D-7649-4204-8CDC-499458C0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9714D-7815-48CF-9377-EE99FDC9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1F598-CEDD-40E7-95D7-466991A2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1D538-EFB1-4C56-B09F-38126FF3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CF65E-4B2C-49FE-8E43-0C41328D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230-D2BB-49ED-9B72-78035830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735A7-4F26-4426-8CE8-79CE9FE9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2CE6F-9DE7-4065-AFD8-72D8A258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D19F7-3D2F-4DC0-857A-63B20208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707A5-64F8-485A-82FA-3CF4DE03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E9300-057E-4970-8C67-4C6BBE1E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6BDB6-4976-4143-BEF7-BDFE8564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F27B6-933E-4F0F-8796-DEE5CAE2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B458B-5C71-40E6-AD1B-B1980BEA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25CA4-5942-4EAD-B874-7D382C30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F9881-9E04-4365-AC2D-FC69C2BD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888-FAF6-4494-BB9F-C38C9D72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DC2FC-A0F6-4251-97B7-231DD90C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3CE87-6B34-4495-BD58-745D1632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4797F-9DF2-47A1-B7E3-723A246B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ADEEC-8960-4399-9C53-320CD0F6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0734D-51C7-498C-A0F2-422CA472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4857B-C79C-4B6F-B149-068263BE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6F93B-656E-41BD-9E4A-69B573F0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3219B-9708-4860-88BD-BD491956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27756-A3E4-4601-AA84-8CE61043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58FB9-61AD-4A7E-B2A7-9A8DF5A5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45E-D4F0-4FA9-92B6-0854A64F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9C1D2-9FB2-4488-9123-2263DF74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A78BD-9B76-4CC3-B45F-63FFB7B1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BB6F2-586F-474F-9FF8-0D754D4B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E1045-34CF-47D6-9727-3F10F5C6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7E6C0-6A78-4FB8-ADDB-EC709B6D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ADCA5-2CC3-4D57-9169-62F2E014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183EE-3A47-427E-AEC4-7512C145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AECEF-03B4-4C48-9051-6AEBB29E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7330A-BBDC-4762-9E90-F9D6A1B2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8A276-0E90-4C83-8719-98DEF9F3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354-68C5-4C02-80A4-218D4392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A40AE-FDC0-46BC-A2B1-F7F3757E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7DBA0-970C-44D8-8E06-5093EEB0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A4A46-C288-42AB-B124-2F7E43C2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1C3E3-5594-4AE4-ADE1-7CA976DE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0DF8A-35B8-4CD8-8D9F-91B8EFFA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A16C5-1C60-4370-A3C2-313049BC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FBE11-6224-41E3-8FAF-A2DFE721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929B0-62E8-4791-9FDF-581BD223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5D3C4-9721-4487-83F3-1DFCA5DE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E9130-B089-4344-90C7-A65C39D7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2C5B-76D3-4EF1-9D82-46054A074B7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0C2B-48BA-4DB6-9209-BFEEF394B3B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224E-849F-4098-B6CC-14753DD9A1E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438C-F617-4FDE-B7C2-CF32BD0BE75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D492-3305-4D09-B713-61409DF4405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A787-B3C0-4722-92DF-918B928595F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4A84-E658-4B0B-A7D4-49700A8C235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2AC4-D6ED-412C-947D-845E7F17105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928A-99BD-46D7-8E46-DFE89A70DA4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AFC3-9C3F-4E70-9F80-E5FD890EDC9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D01F-1406-4AB6-BA9F-E30CAEB0E2F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D730-8E1B-4631-993C-604D9ACBACD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yshared.ru/slide/322984/" TargetMode="External"/><Relationship Id="rId2" Type="http://schemas.openxmlformats.org/officeDocument/2006/relationships/hyperlink" Target="http://nsportal.ru/shkola/inostrannye-yazyki/library/2014/01/13/tekhnologiya-problemnogo-obucheniya-na-urokakh" TargetMode="External"/><Relationship Id="rId3" Type="http://schemas.openxmlformats.org/officeDocument/2006/relationships/hyperlink" Target="https://infourok.ru/konkurs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86480" cy="314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Проект на тему:</a:t>
            </a: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”</a:t>
            </a: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ТЕХНОЛОГИЯ ПРОБЛЕМНОГО ОБУЧЕНИЯ</a:t>
            </a: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на уроках английского языка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285480" y="3929040"/>
            <a:ext cx="817380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Выполнила:Немзорова Ю.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Учитель английского язык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636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Candara"/>
              </a:rPr>
              <a:t>                                                              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636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Candara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7" name="Нижний колонтитул 1"/>
          <p:cNvSpPr/>
          <p:nvPr/>
        </p:nvSpPr>
        <p:spPr>
          <a:xfrm>
            <a:off x="3492360" y="6093000"/>
            <a:ext cx="228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Verdana"/>
              </a:rPr>
              <a:t>          </a:t>
            </a:r>
            <a:r>
              <a:rPr b="0" lang="ru-RU" sz="1400" spc="-1" strike="noStrike">
                <a:solidFill>
                  <a:srgbClr val="073e87"/>
                </a:solidFill>
                <a:latin typeface="Verdana"/>
              </a:rPr>
              <a:t>2018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Box 1"/>
          <p:cNvSpPr/>
          <p:nvPr/>
        </p:nvSpPr>
        <p:spPr>
          <a:xfrm>
            <a:off x="179280" y="765000"/>
            <a:ext cx="8856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рагмент урока в 8 класс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ма: «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st Continuous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пример, после объяснения способа образования времени Past Continuous Tense , ученикам предлагается самостоятельно выявить правила его употребл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Прочитайте и сравните: в каких случаях употребляется the Past Continuous Tense, Past Simple and Past Continuo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He played video games yesterd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 играл в видео-игры вчера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He was watching TV at 6 o'clock yesterday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чера в 6 часов вечера он смотрел телевизо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When I came she was cooking dinn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гда я пришел, она готовила обе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Найдите маркеры («сигналы/указатели» времени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Проанализируйте и составьте формулу каждого из времен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Сформулируйте правила образования Прошедших времен, обоснуете и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 Спрогнозируйте случаи употребления времен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. Напишите предложения в отрицательной, вопросительной форм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7. Дополните предложения, используя  то или иное врем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Список используемой литературы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9" name="TextBox 3"/>
          <p:cNvSpPr/>
          <p:nvPr/>
        </p:nvSpPr>
        <p:spPr>
          <a:xfrm>
            <a:off x="826920" y="2637000"/>
            <a:ext cx="7490160" cy="35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акулина И.В. Примеры создания проблемных ситуаци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U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 u="sng">
                <a:solidFill>
                  <a:srgbClr val="0080ff"/>
                </a:solidFill>
                <a:uFillTx/>
                <a:latin typeface="Verdana"/>
                <a:hlinkClick r:id="rId1"/>
              </a:rPr>
              <a:t>http://www.myshared.ru/slide/322984/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1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арких Е.В. Технология проблемного обучения на уроках английского языка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RL: </a:t>
            </a:r>
            <a:r>
              <a:rPr b="0" lang="en-US" sz="2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http://nsportal.ru/shkola/inostrannye-yazyki/library/2014/01/13/tekhnologiya-problemnogo-obucheniya-na-urokak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1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хова К.В. Проблемное обучение на уроках английского языка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RL: </a:t>
            </a:r>
            <a:r>
              <a:rPr b="0" lang="en-US" sz="2000" spc="-1" strike="noStrike" u="sng">
                <a:solidFill>
                  <a:srgbClr val="0080ff"/>
                </a:solidFill>
                <a:uFillTx/>
                <a:latin typeface="Verdana"/>
                <a:hlinkClick r:id="rId3"/>
              </a:rPr>
              <a:t>https://infourok.ru/konku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15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3"/>
          <p:cNvSpPr/>
          <p:nvPr/>
        </p:nvSpPr>
        <p:spPr>
          <a:xfrm>
            <a:off x="358920" y="333360"/>
            <a:ext cx="878508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11484000" y="47520"/>
            <a:ext cx="8647200" cy="60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357120" y="3625920"/>
            <a:ext cx="8429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Box 1"/>
          <p:cNvSpPr/>
          <p:nvPr/>
        </p:nvSpPr>
        <p:spPr>
          <a:xfrm>
            <a:off x="971640" y="907920"/>
            <a:ext cx="590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роблемное обучение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 тип развивающего обучения, содержание которого представлено системой проблемных задач различного уровня сложности, в процессе решения которых учащиеся овладевают новыми знаниями и способами действия, а через это происходит формирование творческих способностей: продуктивного мышления, воображения, познавательной мотивации, интеллектуальных эмо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2" name="Рисунок 1" descr=""/>
          <p:cNvPicPr/>
          <p:nvPr/>
        </p:nvPicPr>
        <p:blipFill>
          <a:blip r:embed="rId1"/>
          <a:stretch/>
        </p:blipFill>
        <p:spPr>
          <a:xfrm>
            <a:off x="6012000" y="4091040"/>
            <a:ext cx="2662200" cy="2362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3" name=""/>
          <p:cNvGraphicFramePr/>
          <p:nvPr/>
        </p:nvGraphicFramePr>
        <p:xfrm>
          <a:off x="395280" y="476280"/>
          <a:ext cx="8280360" cy="173844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173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Цель создания проблемной ситуац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4" name="Скругленный прямоугольник 4"/>
          <p:cNvSpPr/>
          <p:nvPr/>
        </p:nvSpPr>
        <p:spPr>
          <a:xfrm>
            <a:off x="395280" y="2133720"/>
            <a:ext cx="6697800" cy="3948120"/>
          </a:xfrm>
          <a:prstGeom prst="roundRect">
            <a:avLst>
              <a:gd name="adj" fmla="val 16667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сознание и разрешение этих ситуаций в ходе совместной деятельности обучающихся и учителя, при оптимальной самостоятельности учеников и под общим направляющим руководством учителя, а так же в овладении учащимися в процессе такой деятельности знаниями и общими принципами решения проблемных задач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5" name="Picture 3" descr=""/>
          <p:cNvPicPr/>
          <p:nvPr/>
        </p:nvPicPr>
        <p:blipFill>
          <a:blip r:embed="rId1"/>
          <a:stretch/>
        </p:blipFill>
        <p:spPr>
          <a:xfrm>
            <a:off x="7164360" y="4941720"/>
            <a:ext cx="1560600" cy="1500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"/>
          <p:cNvSpPr/>
          <p:nvPr/>
        </p:nvSpPr>
        <p:spPr>
          <a:xfrm>
            <a:off x="1835280" y="1889280"/>
            <a:ext cx="8358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"/>
          <p:cNvSpPr/>
          <p:nvPr/>
        </p:nvSpPr>
        <p:spPr>
          <a:xfrm>
            <a:off x="1692360" y="83664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емы создания проблемной ситу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88" name="Прямая со стрелкой 4"/>
          <p:cNvCxnSpPr/>
          <p:nvPr/>
        </p:nvCxnSpPr>
        <p:spPr>
          <a:xfrm flipH="1">
            <a:off x="1692000" y="1628280"/>
            <a:ext cx="1080000" cy="86436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589" name="Прямая со стрелкой 6"/>
          <p:cNvCxnSpPr/>
          <p:nvPr/>
        </p:nvCxnSpPr>
        <p:spPr>
          <a:xfrm>
            <a:off x="4463640" y="1628280"/>
            <a:ext cx="72360" cy="86436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590" name="Прямая со стрелкой 8"/>
          <p:cNvCxnSpPr/>
          <p:nvPr/>
        </p:nvCxnSpPr>
        <p:spPr>
          <a:xfrm>
            <a:off x="6443640" y="1628640"/>
            <a:ext cx="721440" cy="67248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sp>
        <p:nvSpPr>
          <p:cNvPr id="591" name="TextBox 9"/>
          <p:cNvSpPr/>
          <p:nvPr/>
        </p:nvSpPr>
        <p:spPr>
          <a:xfrm>
            <a:off x="539640" y="285264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чес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11"/>
          <p:cNvSpPr/>
          <p:nvPr/>
        </p:nvSpPr>
        <p:spPr>
          <a:xfrm>
            <a:off x="3492360" y="4581360"/>
            <a:ext cx="20163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12"/>
          <p:cNvSpPr/>
          <p:nvPr/>
        </p:nvSpPr>
        <p:spPr>
          <a:xfrm>
            <a:off x="6084720" y="2817720"/>
            <a:ext cx="2305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Скругленный прямоугольник 13"/>
          <p:cNvSpPr/>
          <p:nvPr/>
        </p:nvSpPr>
        <p:spPr>
          <a:xfrm>
            <a:off x="539640" y="2886120"/>
            <a:ext cx="2087640" cy="54288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классическ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Скругленный прямоугольник 14"/>
          <p:cNvSpPr/>
          <p:nvPr/>
        </p:nvSpPr>
        <p:spPr>
          <a:xfrm>
            <a:off x="3132000" y="2712960"/>
            <a:ext cx="2376720" cy="57636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сокращен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Скругленный прямоугольник 15"/>
          <p:cNvSpPr/>
          <p:nvPr/>
        </p:nvSpPr>
        <p:spPr>
          <a:xfrm>
            <a:off x="6264360" y="2546280"/>
            <a:ext cx="2305080" cy="54144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мотивирующ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Скругленный прямоугольник 16"/>
          <p:cNvSpPr/>
          <p:nvPr/>
        </p:nvSpPr>
        <p:spPr>
          <a:xfrm>
            <a:off x="563400" y="4149720"/>
            <a:ext cx="1800360" cy="201600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016000"/>
              <a:gd name="textAreaBottom" fmla="*/ 1928160 h 2016000"/>
            </a:gdLst>
            <a:ahLst/>
            <a:rect l="textAreaLeft" t="textAreaTop" r="textAreaRight" b="textAreaBottom"/>
            <a:pathLst>
              <a:path w="21600" h="24187">
                <a:moveTo>
                  <a:pt x="3600" y="0"/>
                </a:moveTo>
                <a:arcTo wR="3600" hR="3600" stAng="16200000" swAng="-5400000"/>
                <a:lnTo>
                  <a:pt x="0" y="20587"/>
                </a:lnTo>
                <a:arcTo wR="3600" hR="3600" stAng="10800000" swAng="-5400000"/>
                <a:lnTo>
                  <a:pt x="18000" y="24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Скругленный прямоугольник 17"/>
          <p:cNvSpPr/>
          <p:nvPr/>
        </p:nvSpPr>
        <p:spPr>
          <a:xfrm>
            <a:off x="3348000" y="4005360"/>
            <a:ext cx="2303640" cy="2386080"/>
          </a:xfrm>
          <a:custGeom>
            <a:avLst/>
            <a:gdLst>
              <a:gd name="textAreaLeft" fmla="*/ 112320 w 2303640"/>
              <a:gd name="textAreaRight" fmla="*/ 2191320 w 2303640"/>
              <a:gd name="textAreaTop" fmla="*/ 112320 h 2386080"/>
              <a:gd name="textAreaBottom" fmla="*/ 2273760 h 2386080"/>
            </a:gdLst>
            <a:ahLst/>
            <a:rect l="textAreaLeft" t="textAreaTop" r="textAreaRight" b="textAreaBottom"/>
            <a:pathLst>
              <a:path w="21600" h="22373">
                <a:moveTo>
                  <a:pt x="3600" y="0"/>
                </a:moveTo>
                <a:arcTo wR="3600" hR="3600" stAng="16200000" swAng="-5400000"/>
                <a:lnTo>
                  <a:pt x="0" y="18773"/>
                </a:lnTo>
                <a:arcTo wR="3600" hR="3600" stAng="10800000" swAng="-5400000"/>
                <a:lnTo>
                  <a:pt x="18000" y="22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Скругленный прямоугольник 18"/>
          <p:cNvSpPr/>
          <p:nvPr/>
        </p:nvSpPr>
        <p:spPr>
          <a:xfrm>
            <a:off x="5867280" y="3541680"/>
            <a:ext cx="2881440" cy="2849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Стрелка вниз 19"/>
          <p:cNvSpPr/>
          <p:nvPr/>
        </p:nvSpPr>
        <p:spPr>
          <a:xfrm>
            <a:off x="1187280" y="3500280"/>
            <a:ext cx="50508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Стрелка вниз 20"/>
          <p:cNvSpPr/>
          <p:nvPr/>
        </p:nvSpPr>
        <p:spPr>
          <a:xfrm>
            <a:off x="4319640" y="3429000"/>
            <a:ext cx="4683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Стрелка вниз 21"/>
          <p:cNvSpPr/>
          <p:nvPr/>
        </p:nvSpPr>
        <p:spPr>
          <a:xfrm>
            <a:off x="7128000" y="3218040"/>
            <a:ext cx="576000" cy="250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TextBox 22"/>
          <p:cNvSpPr/>
          <p:nvPr/>
        </p:nvSpPr>
        <p:spPr>
          <a:xfrm>
            <a:off x="563400" y="4559400"/>
            <a:ext cx="165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. Проблемная ситуация «с удивлением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. Проблемная ситуация «с затруднением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TextBox 23"/>
          <p:cNvSpPr/>
          <p:nvPr/>
        </p:nvSpPr>
        <p:spPr>
          <a:xfrm>
            <a:off x="3635280" y="4141800"/>
            <a:ext cx="1728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.Побуждающий диалог от проблемной ситу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. Подводящий к проблеме диало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.Подводящий от проблемы диало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TextBox 24"/>
          <p:cNvSpPr/>
          <p:nvPr/>
        </p:nvSpPr>
        <p:spPr>
          <a:xfrm>
            <a:off x="6084720" y="3641760"/>
            <a:ext cx="2484720" cy="26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общение темы урока с использованием приема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яркое пятно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емонстрация непонятных явл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общение темы урока с использованием приема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ктуализация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0071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«Классические» приемы создания проблемной ситуации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179280" y="1197000"/>
          <a:ext cx="8856720" cy="5791320"/>
        </p:xfrm>
        <a:graphic>
          <a:graphicData uri="http://schemas.openxmlformats.org/drawingml/2006/table">
            <a:tbl>
              <a:tblPr/>
              <a:tblGrid>
                <a:gridCol w="1687680"/>
                <a:gridCol w="2184480"/>
                <a:gridCol w="4984560"/>
              </a:tblGrid>
              <a:tr h="824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Тип проблемной ситу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Тип противоре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Приемы создания проблемной ситу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5447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 удивл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 затрудн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ежду житейским представлением учащихся и научным фак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ежду необходимостью выполнить задание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. Обнажить житейское представление учащихся вопросом или практическим заданием «с ловушкой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. Предъявить научный факт сообщением, экспериментом или наглядность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. Дать практическое задание, не выполнимое вообщ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. Дать практическое задание, не сходное с предыдущи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. Доказать, что задание учениками не выполне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«Сокращенные» приемы постановки проблемной ситуац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9" name="Скругленный прямоугольник 2"/>
          <p:cNvSpPr/>
          <p:nvPr/>
        </p:nvSpPr>
        <p:spPr>
          <a:xfrm>
            <a:off x="826920" y="2611440"/>
            <a:ext cx="7561440" cy="1655640"/>
          </a:xfrm>
          <a:prstGeom prst="roundRect">
            <a:avLst>
              <a:gd name="adj" fmla="val 16667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1.Побуждающий диалог — это «экскаватор», который выкапывает проблему, вопрос, трудность, т.е. помогает формулировать учебную задачу. Используется дл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побуждения к созданию противореч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побуждения к формулированию учебной пробл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Скругленный прямоугольник 3"/>
          <p:cNvSpPr/>
          <p:nvPr/>
        </p:nvSpPr>
        <p:spPr>
          <a:xfrm>
            <a:off x="755640" y="4653000"/>
            <a:ext cx="7632720" cy="1944720"/>
          </a:xfrm>
          <a:prstGeom prst="roundRect">
            <a:avLst>
              <a:gd name="adj" fmla="val 16667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2.Подводящий диалог — это логически выстроенная цепочка заданий и вопросов — «локомотив», движущийся к новому знанию, способу действия; система посильных ученику вопросов и заданий, которые шаг за шагом приводят ученика к созданию темы урока. Данный прием не требует создания проблемной ситуации, хорошо выстраивается «от повторени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«Мотивирующие» приемы постановки проблемной ситуац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2" name="Скругленный прямоугольник 2"/>
          <p:cNvSpPr/>
          <p:nvPr/>
        </p:nvSpPr>
        <p:spPr>
          <a:xfrm>
            <a:off x="468360" y="2205000"/>
            <a:ext cx="7704000" cy="1584360"/>
          </a:xfrm>
          <a:prstGeom prst="roundRect">
            <a:avLst>
              <a:gd name="adj" fmla="val 16667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1.«Яркое пятно» — сообщение интригующего материала (исторических фактов, легенд и т.п.): сказки, легенды, фрагменты из художественной литературы, случаи из истории науки, культуры и повседневной жизни, шутки и др. интригующий материа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Скругленный прямоугольник 3"/>
          <p:cNvSpPr/>
          <p:nvPr/>
        </p:nvSpPr>
        <p:spPr>
          <a:xfrm>
            <a:off x="468360" y="4221000"/>
            <a:ext cx="7848720" cy="792360"/>
          </a:xfrm>
          <a:prstGeom prst="roundRect">
            <a:avLst>
              <a:gd name="adj" fmla="val 16667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2.Демонстрация непонятных явлений (эксперимент, наглядно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Скругленный прямоугольник 4"/>
          <p:cNvSpPr/>
          <p:nvPr/>
        </p:nvSpPr>
        <p:spPr>
          <a:xfrm>
            <a:off x="539640" y="5300640"/>
            <a:ext cx="8064720" cy="1368360"/>
          </a:xfrm>
          <a:prstGeom prst="roundRect">
            <a:avLst>
              <a:gd name="adj" fmla="val 16667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3.«Актуализация» — обнаружение смысла, значимости проблемы для учащихся: обнаружение смысла, значимости предлагаемой темы урока для самих учащих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Прямоугольник 1"/>
          <p:cNvSpPr/>
          <p:nvPr/>
        </p:nvSpPr>
        <p:spPr>
          <a:xfrm>
            <a:off x="357120" y="428760"/>
            <a:ext cx="842976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Некоторые виды проблемных ситуаци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ndara"/>
              </a:rPr>
              <a:t>Побуждение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к истолкованию и объяснению явлений, фактов, событий путем использования аналогии или противопоставления в объяснении нового в сравнении с уже известным, установления причинно-следственных связ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ndara"/>
              </a:rPr>
              <a:t>Чередование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и сочетание анализа и синтеза явлений, фактов, событий, поступ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ndara"/>
              </a:rPr>
              <a:t>Развертывание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различных ситуаций в речи для создания необходимых смысловых опор и расстановки акцен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ndara"/>
              </a:rPr>
              <a:t>Ассоциирование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частных проблем с общими, объяснение их характера аргументацией общеизвестных полож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ndara"/>
              </a:rPr>
              <a:t>Ознакомление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слушателей с фактами, которые требуют объяснения, предположения, формирования гипотезы и д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Box 3"/>
          <p:cNvSpPr/>
          <p:nvPr/>
        </p:nvSpPr>
        <p:spPr>
          <a:xfrm>
            <a:off x="179280" y="836640"/>
            <a:ext cx="8425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рагмент урока английского языка в 3 класс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ма «Счет от 13 до 19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ти повторяют счет до 12, этот материал им знаком. На доске записан числовой ряд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436b"/>
                </a:solidFill>
                <a:latin typeface="Verdana"/>
              </a:rPr>
              <a:t>13,…,….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спрашивает, как восстановить счет, ведь мы еще не умеем считать до 19, но нам даны 2 числа 13 и 19. Мы видим, что 13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ree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3, 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n-10. Nineteen-nine-9, ten-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идно, что первое и последнее число одинаковы, может быть есть какая-нибудь закономерность. Попробуй образовать числительные согласно закономер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436b"/>
                </a:solidFill>
                <a:latin typeface="Verdana"/>
              </a:rPr>
              <a:t>14- </a:t>
            </a:r>
            <a:r>
              <a:rPr b="0" lang="en-US" sz="1800" spc="-1" strike="noStrike">
                <a:solidFill>
                  <a:srgbClr val="06436b"/>
                </a:solidFill>
                <a:latin typeface="Verdana"/>
              </a:rPr>
              <a:t>fourte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436b"/>
                </a:solidFill>
                <a:latin typeface="Verdana"/>
              </a:rPr>
              <a:t>15-fifte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436b"/>
                </a:solidFill>
                <a:latin typeface="Verdana"/>
              </a:rPr>
              <a:t>16-sixte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436b"/>
                </a:solidFill>
                <a:latin typeface="Verdana"/>
              </a:rPr>
              <a:t>…</a:t>
            </a:r>
            <a:r>
              <a:rPr b="0" lang="en-US" sz="1800" spc="-1" strike="noStrike">
                <a:solidFill>
                  <a:srgbClr val="06436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436b"/>
                </a:solidFill>
                <a:latin typeface="Verdana"/>
              </a:rPr>
              <a:t>18-eighte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тям предлагается проверить результат по словар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6:02:48Z</dcterms:created>
  <dc:creator>Admin</dc:creator>
  <dc:description/>
  <dc:language>en-US</dc:language>
  <cp:lastModifiedBy>user</cp:lastModifiedBy>
  <dcterms:modified xsi:type="dcterms:W3CDTF">2018-03-26T05:19:05Z</dcterms:modified>
  <cp:revision>46</cp:revision>
  <dc:subject/>
  <dc:title>ТЕХНОЛОГИЯ ПРОБЛЕМНОГО ОБУЧЕНИЯ</dc:title>
</cp:coreProperties>
</file>