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6A0-4F69-4BC6-8AA6-1D037CD4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9F6-B681-4D2A-83F8-FB76A18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963-CB3A-4EAB-8C70-9D5ED3AA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1FC-50E1-4B0A-A324-9AB593CA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57E-CC2E-4308-8688-E67149C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7C2-BE4B-4B11-98B2-87C5C24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E03-07CC-4374-96A5-13E7498A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BE6-EA9F-4437-8055-DCEDF1ED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F5C-39A2-4AB8-BAF3-5FD7D6DC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80C-1FD0-4DD5-B438-9CC157B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EB0-A51A-4DEB-AD57-36B5BCC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885-798F-45D1-A406-A80D02D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07B-894F-4BF1-92EE-7E73D875FB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Проек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-прирожденные исследователи,неутомимые и старательные. Только нуж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-настоящему увлечь их предметом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4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учение сходных и отличительных признаков народных и авторских сказ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5" descr="колобок"/>
          <p:cNvPicPr/>
          <p:nvPr/>
        </p:nvPicPr>
        <p:blipFill>
          <a:blip r:embed="rId2"/>
          <a:stretch/>
        </p:blipFill>
        <p:spPr>
          <a:xfrm>
            <a:off x="971640" y="2349360"/>
            <a:ext cx="3057480" cy="394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004780458"/>
          <p:cNvPicPr/>
          <p:nvPr/>
        </p:nvPicPr>
        <p:blipFill>
          <a:blip r:embed="rId3"/>
          <a:stretch/>
        </p:blipFill>
        <p:spPr>
          <a:xfrm>
            <a:off x="4932360" y="2349360"/>
            <a:ext cx="3129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бота по развитию реч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539640" y="1413000"/>
            <a:ext cx="8425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никаю в тайну слова (работа с толковым словарем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539640" y="2276640"/>
            <a:ext cx="842508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выделять из текста этапы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539640" y="3141720"/>
            <a:ext cx="8425080" cy="57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связно и последовательно излагать матери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539640" y="4005360"/>
            <a:ext cx="84250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 с признаками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539640" y="5013360"/>
            <a:ext cx="8425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раскрыть и показать чему учит сказ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539640" y="6021360"/>
            <a:ext cx="842508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 с пословиц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обогащение лексики детей новыми словами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Презентация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728640" y="4581360"/>
            <a:ext cx="2306520" cy="172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708360" y="2637000"/>
            <a:ext cx="2395440" cy="319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443640" y="2521080"/>
            <a:ext cx="1835280" cy="206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403200" y="2276640"/>
            <a:ext cx="2631960" cy="197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6"/>
          <a:stretch/>
        </p:blipFill>
        <p:spPr>
          <a:xfrm>
            <a:off x="7020000" y="5264280"/>
            <a:ext cx="1395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5:48:48Z</dcterms:created>
  <dc:creator>Яна</dc:creator>
  <dc:description/>
  <dc:language>en-US</dc:language>
  <cp:lastModifiedBy>Яна</cp:lastModifiedBy>
  <dcterms:modified xsi:type="dcterms:W3CDTF">2018-03-26T17:28:50Z</dcterms:modified>
  <cp:revision>11</cp:revision>
  <dc:subject/>
  <dc:title>Проектная деятельность при работе со сказками.</dc:title>
</cp:coreProperties>
</file>