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423-1C31-4E96-9E36-F698B93F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230-EE87-4F1B-A88E-88CE1C69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64F-37F8-4419-A573-62F52C59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AE4-BADA-46A0-8709-BE266BCE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C03-25BF-4389-BB2B-D5625DC6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E12-FE17-470F-AB37-01328C11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39D-97A0-4122-AB10-75E6D8EF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EB6-280F-4935-AF1B-549AB7A9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38B-C7AF-499A-882D-CD902222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8E2-F097-4414-B5DE-D295DFB3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279-6AA8-4DC3-BF30-C72F59AD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064-524B-4922-AC76-925B726C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5B64-8AC9-4067-ACF0-26F836D334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Проектная деятельн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ти-прирожденные исследователи,неутомимые и старательные. Только нуж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-настоящему увлечь их предметом исслед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64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зучение сходных и отличительных признаков народных и авторских сказок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5" descr="колобок"/>
          <p:cNvPicPr/>
          <p:nvPr/>
        </p:nvPicPr>
        <p:blipFill>
          <a:blip r:embed="rId2"/>
          <a:stretch/>
        </p:blipFill>
        <p:spPr>
          <a:xfrm>
            <a:off x="971640" y="2349360"/>
            <a:ext cx="3057480" cy="394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1004780458"/>
          <p:cNvPicPr/>
          <p:nvPr/>
        </p:nvPicPr>
        <p:blipFill>
          <a:blip r:embed="rId3"/>
          <a:stretch/>
        </p:blipFill>
        <p:spPr>
          <a:xfrm>
            <a:off x="4932360" y="2349360"/>
            <a:ext cx="31291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абота по развитию реч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Rectangle 29"/>
          <p:cNvSpPr/>
          <p:nvPr/>
        </p:nvSpPr>
        <p:spPr>
          <a:xfrm>
            <a:off x="539640" y="1413000"/>
            <a:ext cx="84250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никаю в тайну слова (работа с толковым словарем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34"/>
          <p:cNvSpPr/>
          <p:nvPr/>
        </p:nvSpPr>
        <p:spPr>
          <a:xfrm>
            <a:off x="539640" y="2276640"/>
            <a:ext cx="842508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мение выделять из текста этапы сказ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5"/>
          <p:cNvSpPr/>
          <p:nvPr/>
        </p:nvSpPr>
        <p:spPr>
          <a:xfrm>
            <a:off x="539640" y="3141720"/>
            <a:ext cx="8425080" cy="57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мение связно и последовательно излагать матери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539640" y="4005360"/>
            <a:ext cx="842508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бота с признаками сказ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539640" y="5013360"/>
            <a:ext cx="842508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мение раскрыть и показать чему учит сказ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539640" y="6021360"/>
            <a:ext cx="842508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бота с пословиц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обогащение лексики детей новыми словами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Презентация проек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728640" y="4581360"/>
            <a:ext cx="2306520" cy="172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708360" y="2637000"/>
            <a:ext cx="2395440" cy="3195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6443640" y="2521080"/>
            <a:ext cx="1835280" cy="206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5"/>
          <a:stretch/>
        </p:blipFill>
        <p:spPr>
          <a:xfrm>
            <a:off x="403200" y="2276640"/>
            <a:ext cx="2631960" cy="197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6"/>
          <a:stretch/>
        </p:blipFill>
        <p:spPr>
          <a:xfrm>
            <a:off x="7020000" y="5264280"/>
            <a:ext cx="1395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5:48:48Z</dcterms:created>
  <dc:creator>Яна</dc:creator>
  <dc:description/>
  <dc:language>en-US</dc:language>
  <cp:lastModifiedBy>Яна</cp:lastModifiedBy>
  <dcterms:modified xsi:type="dcterms:W3CDTF">2018-03-26T17:28:50Z</dcterms:modified>
  <cp:revision>11</cp:revision>
  <dc:subject/>
  <dc:title>Проектная деятельность при работе со сказками.</dc:title>
</cp:coreProperties>
</file>