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67D-EF2D-4B03-A3DC-BAF40F92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3648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7C1-E8E6-471F-BAC6-D000E68C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2648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416-633B-46D0-BE8A-A946CE42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82268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18780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82268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318780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2A9-91F0-4D43-A7CA-D3DC984D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32BA-F132-4ED1-9B71-1A64E621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1119-2A38-42A8-B1FE-BA702F38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6001-B2D7-4DA7-A00A-BBE4C180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BB95-10E6-4529-831B-04D1DA1C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EBAD-48A4-41BD-A427-C6EECC53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6E0B-2B37-4963-91B2-D03F9BE6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2717-3594-486F-8C04-F0CCC483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86F-4B32-4326-A93A-9765650D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2648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FCC3-72DC-4A36-9951-982FFDD6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1D82-A2F0-4340-BDA2-61C9C15E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3648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89E0-CA62-4679-B010-E3BA2508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2648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9627-3467-403C-BF2A-9DEDEAB5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82268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8780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182268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318780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F58D-5B32-4A95-9194-5F981A83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8510-D7E9-4CA1-B53A-F7E8781C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28A97-F1E7-4A82-8902-41F2AF68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2E7EE-FEDB-4F17-BAC2-ABD49CC9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C7886-5CBE-4FB7-B01F-B2BE24C1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4AE1D-628A-4B9B-A933-411EAF7A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E26-6C21-4968-AFF3-769A48E6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84F6-CD0C-49A2-ACCF-007AE66C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64EB-6D7C-43DD-A58E-5BF69AC8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2648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0FFE4-8100-4AEA-9DA1-6E68455D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71050-B661-4585-BAA5-EBDFDAF2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23648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FE662-34EE-42F9-B38E-E83928B9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52648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684E-2690-48D2-B842-4D096B69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82268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18780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182268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318780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BA43A-08F6-4AE7-A552-37CB19CE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6CC-91E2-4CB1-BD5B-16134A26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7BB-9A55-4931-AE4A-F1D1D2FB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686-43FE-4E7B-B473-FEBB9BD6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6A4-EB59-410F-AC83-88963341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2648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A3B-4FCD-4E92-95DF-57F646EC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7AF-E798-435E-A557-7B62396B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AD15B3-4E04-4594-AD13-024F28963CFF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2F719D-3044-4DEC-AD24-D62FA380EB63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208709-6B32-41A8-82E7-F7F81F337684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928800"/>
            <a:ext cx="7851240" cy="2714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Times New Roman"/>
              </a:rPr>
              <a:t>Семинар - практику</a:t>
            </a: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м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71360" y="44290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onstantia"/>
              </a:rPr>
              <a:t>ЭТИКЕ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240" cy="56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i="1" lang="ru-RU" sz="6600" spc="-1" strike="noStrike">
                <a:solidFill>
                  <a:srgbClr val="ff0000"/>
                </a:solidFill>
                <a:latin typeface="Times New Roman"/>
              </a:rPr>
              <a:t>«Все добродетели имеют своим источником этикет» </a:t>
            </a:r>
            <a:endParaRPr b="0" lang="ru-RU" sz="6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endParaRPr b="0" lang="ru-RU" sz="6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2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onstantia"/>
              </a:rPr>
              <a:t>Современный этикет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своеобразный кодекс  хороших манер и правил поведения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вила поведения возникли очень давно, когда появилась потребность мирного сосуществования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вые упоминания о правилах хорошего тона были в египетских, римских рукописях 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оссии возникновение и развитие этикета связано с эпохой Петра.  «Домострой» - первый «учебник» по этикету,  со сводом правил поведения, ведения хозяйства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 rot="20397600">
            <a:off x="-265320" y="2187720"/>
            <a:ext cx="493272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155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7800" spc="-1" strike="noStrike">
                <a:solidFill>
                  <a:srgbClr val="ff0000"/>
                </a:solidFill>
                <a:latin typeface="Constantia"/>
              </a:rPr>
              <a:t>Виды этикета</a:t>
            </a:r>
            <a:endParaRPr b="0" lang="ru-RU" sz="7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857160"/>
            <a:ext cx="4038120" cy="54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вседневный,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фициальный,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емейный,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остевой,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толовый,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ипломатический,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ветский,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фессиональный,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дарочный,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ечевой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 даже траурный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9" name="Объект 4" descr="правила этике для детей"/>
          <p:cNvPicPr/>
          <p:nvPr/>
        </p:nvPicPr>
        <p:blipFill>
          <a:blip r:embed="rId1"/>
          <a:stretch/>
        </p:blipFill>
        <p:spPr>
          <a:xfrm>
            <a:off x="457200" y="2922120"/>
            <a:ext cx="4038120" cy="2430720"/>
          </a:xfrm>
          <a:prstGeom prst="rect">
            <a:avLst/>
          </a:prstGeom>
          <a:ln w="9525">
            <a:noFill/>
          </a:ln>
        </p:spPr>
      </p:pic>
      <p:pic>
        <p:nvPicPr>
          <p:cNvPr id="150" name="Объект 7" descr="http://lh5.ggpht.com/-9hwpcWHf7BE/UU-DA9sa22I/AAAAAAABwqE/4WEN-NUbW00/goods_249_2_thumb%25255B1%25255D.jpg?imgmax=800"/>
          <p:cNvPicPr/>
          <p:nvPr/>
        </p:nvPicPr>
        <p:blipFill>
          <a:blip r:embed="rId2"/>
          <a:stretch/>
        </p:blipFill>
        <p:spPr>
          <a:xfrm>
            <a:off x="4648320" y="2118600"/>
            <a:ext cx="4038120" cy="4038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08640"/>
            <a:ext cx="4038120" cy="54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ежливые формулы помогают людям,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делают их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жизнь добрее, человечнее.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5400" spc="-1" strike="noStrike">
                <a:solidFill>
                  <a:srgbClr val="ff0000"/>
                </a:solidFill>
                <a:latin typeface="Constantia"/>
              </a:rPr>
              <a:t>«Доброе слово слаще мягкого пирога».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ловиц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7640" y="191700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Constantia"/>
              </a:rPr>
              <a:t>Телефон доверия</a:t>
            </a:r>
            <a:endParaRPr b="0" lang="ru-RU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Объект 4" descr=""/>
          <p:cNvPicPr/>
          <p:nvPr/>
        </p:nvPicPr>
        <p:blipFill>
          <a:blip r:embed="rId1"/>
          <a:stretch/>
        </p:blipFill>
        <p:spPr>
          <a:xfrm>
            <a:off x="4284000" y="2493000"/>
            <a:ext cx="4402440" cy="258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8" name="Объект 4" descr=""/>
          <p:cNvPicPr/>
          <p:nvPr/>
        </p:nvPicPr>
        <p:blipFill>
          <a:blip r:embed="rId1"/>
          <a:stretch/>
        </p:blipFill>
        <p:spPr>
          <a:xfrm>
            <a:off x="739080" y="2156760"/>
            <a:ext cx="3474360" cy="39621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12000" y="1920240"/>
            <a:ext cx="447444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i="1" lang="ru-RU" sz="5400" spc="-1" strike="noStrike">
                <a:solidFill>
                  <a:srgbClr val="0070c0"/>
                </a:solidFill>
                <a:latin typeface="Constantia"/>
              </a:rPr>
              <a:t>Презентация столовых приборов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  <Words>135</Words>
  <Paragraphs>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5:57:38Z</dcterms:created>
  <dc:creator>Кирилл</dc:creator>
  <dc:description/>
  <dc:language>en-US</dc:language>
  <cp:lastModifiedBy>user</cp:lastModifiedBy>
  <dcterms:modified xsi:type="dcterms:W3CDTF">2016-01-20T17:41:56Z</dcterms:modified>
  <cp:revision>9</cp:revision>
  <dc:subject/>
  <dc:title>Семинар - практику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