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AFB-524C-4CCA-8DCF-153C4A81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4C6-ECA9-4ACD-A6CD-913742E4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8AF-1B62-4227-8838-9AA874C3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82268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1878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82268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31878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1A2-8DA3-49AD-843F-A47EBC14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5522-FBA6-4EEC-A607-8D9D4E67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BA6D-C9A3-4C1A-9F5C-35CE0AF8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11D9-3E35-4E97-9F4B-1C0D464F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74BB-DA03-4BD4-BFBF-FA93B754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3425-FA52-4E9A-98DF-E02732FE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A1A8-4772-4298-BF9B-42112F56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4AA0-84EA-493F-866B-21A23BC3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18B-0D7D-40FD-ACBC-4765FA1B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A743-BAD8-4076-8682-7AFDD94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0CE7-FE6B-4A1A-BDFB-25A2D347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E7B1-9DA0-4A2F-A4BD-9A08B4BC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EB15-4B36-4D6B-B85D-CB7D83ED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268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78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268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878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01D5-4BD7-430A-912D-D398AD92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1A2A-4F0D-4C2B-8533-37120299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1FCB-646B-4407-9584-4743A11A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10BE-C216-4732-A08B-B7BFB162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9F15-B1C9-451F-B258-31BC9B3A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F6B6-CA35-4C6A-AEA9-20DDBA53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A36-F8A9-4605-AF40-616B2E5C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95F71-24B9-4A79-93BA-D69872D9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154D5-CE74-4D3D-9B67-2BEDFC4D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C783-0785-47BC-9B18-84BE1BCC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9FCE-D991-4B32-ADD7-043EA668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3864-3DAD-4693-9112-5F6E3953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F86E-53F4-48F5-AB61-AD0F4AA7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268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87800" y="192024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82268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3187800" y="4236480"/>
            <a:ext cx="129996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4488-C75D-43F3-AAC7-98DFCFD7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3ED-E0BF-4285-ADB1-F62C1056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866-0834-475D-A6D8-22231299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E22-2123-4CFF-88CF-D7552314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098-AE02-49DF-8B0C-3731E2D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44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26480" y="423648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B94-7A9F-4DD5-BE5F-3BF674E8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26480" y="1920240"/>
            <a:ext cx="197028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36480"/>
            <a:ext cx="4038120" cy="21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44E-5B76-4437-8A8F-53D4360C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8EAE5D-5AD9-45B1-A778-2C41E89C3592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7180F7-A6F8-405C-9E66-815E3365C917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7B3C03-C33A-4D19-B617-6D88E63F174C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928800"/>
            <a:ext cx="7851240" cy="2714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Times New Roman"/>
              </a:rPr>
              <a:t>Семинар - практику</a:t>
            </a: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м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71360" y="44290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nstantia"/>
              </a:rPr>
              <a:t>ЭТИКЕ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6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Times New Roman"/>
              </a:rPr>
              <a:t>«Все добродетели имеют своим источником этикет» </a:t>
            </a:r>
            <a:endParaRPr b="0" lang="ru-RU" sz="6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2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nstantia"/>
              </a:rPr>
              <a:t>Современный этикет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своеобразный кодекс  хороших манер и правил поведения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а поведения возникли очень давно, когда появилась потребность мирного сосуществования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вые упоминания о правилах хорошего тона были в египетских, римских рукописях 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оссии возникновение и развитие этикета связано с эпохой Петра.  «Домострой» - первый «учебник» по этикету,  со сводом правил поведения, ведения хозяйства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 rot="20397600">
            <a:off x="-265320" y="2187720"/>
            <a:ext cx="493272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155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7800" spc="-1" strike="noStrike">
                <a:solidFill>
                  <a:srgbClr val="ff0000"/>
                </a:solidFill>
                <a:latin typeface="Constantia"/>
              </a:rPr>
              <a:t>Виды этикета</a:t>
            </a:r>
            <a:endParaRPr b="0" lang="ru-RU" sz="7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857160"/>
            <a:ext cx="4038120" cy="54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вседневны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фициальный,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емейны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остево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оловы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ипломатически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ветски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фессиональный,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арочный,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чевой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даже траурный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9" name="Объект 4" descr="правила этике для детей"/>
          <p:cNvPicPr/>
          <p:nvPr/>
        </p:nvPicPr>
        <p:blipFill>
          <a:blip r:embed="rId1"/>
          <a:stretch/>
        </p:blipFill>
        <p:spPr>
          <a:xfrm>
            <a:off x="457200" y="2922120"/>
            <a:ext cx="4038120" cy="2430720"/>
          </a:xfrm>
          <a:prstGeom prst="rect">
            <a:avLst/>
          </a:prstGeom>
          <a:ln w="9525">
            <a:noFill/>
          </a:ln>
        </p:spPr>
      </p:pic>
      <p:pic>
        <p:nvPicPr>
          <p:cNvPr id="150" name="Объект 7" descr="http://lh5.ggpht.com/-9hwpcWHf7BE/UU-DA9sa22I/AAAAAAABwqE/4WEN-NUbW00/goods_249_2_thumb%25255B1%25255D.jpg?imgmax=800"/>
          <p:cNvPicPr/>
          <p:nvPr/>
        </p:nvPicPr>
        <p:blipFill>
          <a:blip r:embed="rId2"/>
          <a:stretch/>
        </p:blipFill>
        <p:spPr>
          <a:xfrm>
            <a:off x="4648320" y="2118600"/>
            <a:ext cx="4038120" cy="4038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4038120" cy="54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ежливые формулы помогают людям,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делают их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жизнь добрее, человечнее.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5400" spc="-1" strike="noStrike">
                <a:solidFill>
                  <a:srgbClr val="ff0000"/>
                </a:solidFill>
                <a:latin typeface="Constantia"/>
              </a:rPr>
              <a:t>«Доброе слово слаще мягкого пирога».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ловиц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7640" y="191700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70c0"/>
                </a:solidFill>
                <a:latin typeface="Constantia"/>
              </a:rPr>
              <a:t>Телефон доверия</a:t>
            </a:r>
            <a:endParaRPr b="0" lang="ru-RU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Объект 4" descr=""/>
          <p:cNvPicPr/>
          <p:nvPr/>
        </p:nvPicPr>
        <p:blipFill>
          <a:blip r:embed="rId1"/>
          <a:stretch/>
        </p:blipFill>
        <p:spPr>
          <a:xfrm>
            <a:off x="4284000" y="2493000"/>
            <a:ext cx="4402440" cy="258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8" name="Объект 4" descr=""/>
          <p:cNvPicPr/>
          <p:nvPr/>
        </p:nvPicPr>
        <p:blipFill>
          <a:blip r:embed="rId1"/>
          <a:stretch/>
        </p:blipFill>
        <p:spPr>
          <a:xfrm>
            <a:off x="739080" y="2156760"/>
            <a:ext cx="3474360" cy="39621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12000" y="1920240"/>
            <a:ext cx="447444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i="1" lang="ru-RU" sz="5400" spc="-1" strike="noStrike">
                <a:solidFill>
                  <a:srgbClr val="0070c0"/>
                </a:solidFill>
                <a:latin typeface="Constantia"/>
              </a:rPr>
              <a:t>Презентация столовых приборов</a:t>
            </a:r>
            <a:endParaRPr b="0" lang="ru-RU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  <Words>135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5:57:38Z</dcterms:created>
  <dc:creator>Кирилл</dc:creator>
  <dc:description/>
  <dc:language>en-US</dc:language>
  <cp:lastModifiedBy>user</cp:lastModifiedBy>
  <dcterms:modified xsi:type="dcterms:W3CDTF">2016-01-20T17:41:56Z</dcterms:modified>
  <cp:revision>9</cp:revision>
  <dc:subject/>
  <dc:title>Семинар - практику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