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305D-615F-46DA-AD44-A36838B4B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A672-B87B-40D6-9627-87AD0ADF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AB1D-FB3F-46ED-A222-5B0784E13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9B95-4EEF-4D96-89CF-B6F4411CB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C43F-1384-4A15-9C37-1D2855D5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5E92-39BA-4018-A888-FB52D0EA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B875-0893-449D-B753-3AA9500B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9C01-4D55-4469-A9D8-84EA22D7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0588-B1D9-40B1-830A-FEF19991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79B3-C69E-40F5-A3F1-2EFD5B9F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714C-F7CD-46FA-A460-922FCEE2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10FB-E404-49B7-A56B-FED3FBB7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3EC3-E746-4246-99B7-E3F19DC4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A5E4-1BBF-425A-864B-2D7B9199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24F2-585B-43E4-B67D-D666DDD2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348C-D364-44D0-BAAD-AC31BFCA7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AF48-2467-478C-ACC7-0CCCB2B12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DA74A-DE27-4A9A-8D47-F22A71C8B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A1C51-E857-4F47-89CE-2CFB15FA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6A000-73CD-4B26-BD0C-23DC709C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894E1-6B48-42C4-B2A0-EAFCF028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5503E-35C9-405B-809E-05AD56B5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FCDA-D8A0-433A-B100-9F27BEE9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42296-689A-4871-8FFD-710102CE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80825-5D8E-46A9-9935-4F236749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2B025-922E-4168-B8D9-CA8F8595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BC8CD-D11F-43A8-B2C1-55F7BFF6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8D50C-69CD-4CB5-859C-65162D17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0B25A-8AF8-42D7-B9CD-80EEC0541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6CF01-A311-4850-955C-655729D55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71A09-9C21-4A65-B330-8A9D843B7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70985-AFF9-4277-8129-0A577282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4BB60-B613-4410-83C7-6C3613E2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2702-FEF5-4BD5-956B-16753C2A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C6138-2372-4E15-A587-A74DF805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105AA-0869-4C13-879C-26133B8E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C6D8D-9AE3-41AF-AD45-1A1AD087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CF4E7-BCA1-481E-99AD-2BDEA891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C2E21-D32F-4B22-A180-C05DC012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2AB72-1CA7-40D4-8EC5-A39FF875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048E7-C9B5-4577-88AC-E16B2220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51EDA-2214-4AB9-9768-AE033D30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6B0E0-1060-4B8D-A9BC-1BC52DAF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500E5-0CB8-4191-97AA-16C6A0CC5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3E34-207D-4E19-B931-20C6DB81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E8C18-0143-431B-B344-9631199E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CBC48-73C8-4E83-8742-D46FD107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2A8B1-ED0D-43C2-8F38-4DCB9878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5D312-08C4-4205-98CC-9FAFBDB9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1503E-56C1-4A2E-9EAA-55AD80D7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2E5AA-29C4-4C45-B833-034EF37D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98DF7-AE74-4BF9-B2F3-2A4D15F8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3EABC-585B-4DCF-9E55-5348E33B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F9B4C-8F83-4BF4-BE96-A81FFA47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21097-D739-497B-8EEB-CD601BA4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E9C8-1410-4F80-B33B-A6BC03B6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CFDEE-CAFB-43E2-BEA5-0E93688C2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91E46-99B3-4A86-8CE3-8D7B06BB7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7B344-2300-42B0-B733-506FA4B2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F4FF8-C269-4B96-97E7-FC994E0B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44D6A-EBE9-487B-9E19-3AC295ED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CF8A2-4A71-4C86-9C50-99B3D25D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BE123-A4BF-487A-8ACC-0D3E2EF6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FD4C3-4B79-4460-863C-BBB35B40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4C9ED-05DE-4527-888F-46536FF8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21399-834E-4497-8415-F3E955A3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32CE-CFCC-4402-BE0B-0EE8DCA7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A1669-6A67-4A12-BF96-44E12D9E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D5C2F-0A00-4040-84F9-3FC4B4B13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4EF50-BFAC-4158-B05F-12308885B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2E3AF-E200-49E2-9A56-DD580B584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FB053-E9AF-4388-97C7-F2081919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207DA-D4B6-47CB-B8A9-859E0730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6D560-4F54-4FE8-B380-4839A0ED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A5977-5B98-4D11-8C10-A6F4B8FB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DE7F9-A738-4CF3-A4AA-6ECDB5C6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55786-9280-4CCF-A414-A0258D1A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A306-DDBF-40EF-BF03-1C1FF454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983F0-940F-44AF-BAFF-C1912885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7D5A9-39A1-4D55-8C71-A2804084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87165-AC52-4242-960F-90B39BBD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F356E-76E8-487C-A475-F9C1DA78A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77262-BBA7-4EB9-AFBA-F5900BD1F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A49DF-3D7C-48BB-BA2B-772858365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2A003-8BF0-44C6-9607-815F3100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B1B38-E099-4C54-918F-DA072A31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3B645-2609-407D-ABED-ECEB6E71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27F58-E9D8-4362-AAC8-BE430393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DDA6-B9D4-445B-887C-1F3A57AD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92229-1EA6-4694-8D7F-C25288A7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E9A10-96F2-4FDE-A216-B4335B9D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60301-204D-4021-AFC0-BF09D04E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067F4-25A0-4EF3-964B-C5F19BBD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D6127-9065-429B-85F5-E39D5FA5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5A72B-638B-4271-B97A-D685B17DF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DF2BB-818F-459D-913D-886E972FF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B659-2BB8-42E1-93E4-9D2774E69E4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155C-118D-4C90-A01E-A3C8005BA3E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BB61-74CB-40A7-A3EF-47C0A4ADB3F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E76C-4345-42CB-9622-DB778BB16F2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CFE7-C649-46CD-82B8-CAC931F2275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2213-51B8-4AE6-BD1B-8D3F50EF688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0796-5B0D-4EB7-B937-06E5F17D200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3BC6-3C07-441C-9DCB-6CC9BFB2531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5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6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4" descr=""/>
          <p:cNvPicPr/>
          <p:nvPr/>
        </p:nvPicPr>
        <p:blipFill>
          <a:blip r:embed="rId1"/>
          <a:srcRect l="0" t="3319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6"/>
          <p:cNvSpPr/>
          <p:nvPr/>
        </p:nvSpPr>
        <p:spPr>
          <a:xfrm>
            <a:off x="1403280" y="2133720"/>
            <a:ext cx="684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Урок-путешествие в страну положительных и отрицательных чис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3"/>
          <p:cNvSpPr/>
          <p:nvPr/>
        </p:nvSpPr>
        <p:spPr>
          <a:xfrm>
            <a:off x="1042920" y="33336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№2 с/п «Село Пиван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4"/>
          <p:cNvSpPr/>
          <p:nvPr/>
        </p:nvSpPr>
        <p:spPr>
          <a:xfrm>
            <a:off x="5651640" y="522936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ате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ипикова А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32" name="Picture 3" descr=""/>
          <p:cNvPicPr/>
          <p:nvPr/>
        </p:nvPicPr>
        <p:blipFill>
          <a:blip r:embed="rId1"/>
          <a:srcRect l="0" t="3319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8" descr=""/>
          <p:cNvPicPr/>
          <p:nvPr/>
        </p:nvPicPr>
        <p:blipFill>
          <a:blip r:embed="rId2"/>
          <a:stretch/>
        </p:blipFill>
        <p:spPr>
          <a:xfrm>
            <a:off x="1403280" y="1052640"/>
            <a:ext cx="6639120" cy="503856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9"/>
          <p:cNvSpPr/>
          <p:nvPr/>
        </p:nvSpPr>
        <p:spPr>
          <a:xfrm>
            <a:off x="829800" y="620640"/>
            <a:ext cx="36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ни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ветьте на вопро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Fizkul_tminutka-saundtrek (mp3cut.ru).mp3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mediacall" presetID="1">
                                  <p:stCondLst>
                                    <p:cond delay="17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" dur="50947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37" name="Picture 3" descr=""/>
          <p:cNvPicPr/>
          <p:nvPr/>
        </p:nvPicPr>
        <p:blipFill>
          <a:blip r:embed="rId1"/>
          <a:srcRect l="0" t="3319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ANd9GcQEStkBpFtGEL4DIxJDnwL1fMbtYmvAZEw5k_LMqtYBnN5-GXIW_w"/>
          <p:cNvPicPr/>
          <p:nvPr/>
        </p:nvPicPr>
        <p:blipFill>
          <a:blip r:embed="rId2"/>
          <a:stretch/>
        </p:blipFill>
        <p:spPr>
          <a:xfrm>
            <a:off x="1619280" y="981000"/>
            <a:ext cx="6084720" cy="45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5" name="Picture 4" descr=""/>
          <p:cNvPicPr/>
          <p:nvPr/>
        </p:nvPicPr>
        <p:blipFill>
          <a:blip r:embed="rId1"/>
          <a:srcRect l="0" t="3319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"/>
          <p:cNvPicPr/>
          <p:nvPr/>
        </p:nvPicPr>
        <p:blipFill>
          <a:blip r:embed="rId2"/>
          <a:stretch/>
        </p:blipFill>
        <p:spPr>
          <a:xfrm>
            <a:off x="857160" y="2571840"/>
            <a:ext cx="4535640" cy="3701880"/>
          </a:xfrm>
          <a:prstGeom prst="rect">
            <a:avLst/>
          </a:prstGeom>
          <a:ln w="0">
            <a:noFill/>
          </a:ln>
        </p:spPr>
      </p:pic>
      <p:pic>
        <p:nvPicPr>
          <p:cNvPr id="377" name="Zvuk-poezda-Stuk-koles-gudok (mp3cut.ru).mp3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7037E-007 L 1.075 -0.01528 E">
                                      <p:cBhvr>
                                        <p:cTn id="6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" dur="3200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9" name="Zvuk-poezda-Stuk-koles-gudok (mp3cut.ru).mp3" descr=""/>
          <p:cNvPicPr/>
          <p:nvPr/>
        </p:nvPicPr>
        <p:blipFill>
          <a:blip r:embed="rId1"/>
          <a:stretch/>
        </p:blipFill>
        <p:spPr>
          <a:xfrm>
            <a:off x="2324160" y="359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"/>
          <p:cNvPicPr/>
          <p:nvPr/>
        </p:nvPicPr>
        <p:blipFill>
          <a:blip r:embed="rId2"/>
          <a:srcRect l="0" t="3319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"/>
          <p:cNvPicPr/>
          <p:nvPr/>
        </p:nvPicPr>
        <p:blipFill>
          <a:blip r:embed="rId3"/>
          <a:stretch/>
        </p:blipFill>
        <p:spPr>
          <a:xfrm>
            <a:off x="468360" y="4076640"/>
            <a:ext cx="2485800" cy="20289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"/>
          <p:cNvPicPr/>
          <p:nvPr/>
        </p:nvPicPr>
        <p:blipFill>
          <a:blip r:embed="rId4"/>
          <a:stretch/>
        </p:blipFill>
        <p:spPr>
          <a:xfrm>
            <a:off x="5867280" y="2349360"/>
            <a:ext cx="2828880" cy="3753000"/>
          </a:xfrm>
          <a:prstGeom prst="rect">
            <a:avLst/>
          </a:prstGeom>
          <a:ln w="0">
            <a:noFill/>
          </a:ln>
        </p:spPr>
      </p:pic>
      <p:pic>
        <p:nvPicPr>
          <p:cNvPr id="383" name="Rectangle 2" descr=""/>
          <p:cNvPicPr/>
          <p:nvPr/>
        </p:nvPicPr>
        <p:blipFill>
          <a:blip r:embed="rId5"/>
          <a:srcRect l="0" t="0" r="24535" b="0"/>
          <a:stretch/>
        </p:blipFill>
        <p:spPr>
          <a:xfrm>
            <a:off x="1476360" y="260280"/>
            <a:ext cx="5977080" cy="11527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"/>
          <p:cNvPicPr/>
          <p:nvPr/>
        </p:nvPicPr>
        <p:blipFill>
          <a:blip r:embed="rId6"/>
          <a:stretch/>
        </p:blipFill>
        <p:spPr>
          <a:xfrm>
            <a:off x="684360" y="1773360"/>
            <a:ext cx="7657920" cy="119052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12"/>
          <p:cNvSpPr/>
          <p:nvPr/>
        </p:nvSpPr>
        <p:spPr>
          <a:xfrm>
            <a:off x="826920" y="141300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ни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ставь в окно с номером задания «+», если согласен с утверждением, и «- », если с утверждением не соглас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Zvuk-poezda-Stuk-koles-gudok (mp3cut.ru).mp3" descr=""/>
          <p:cNvPicPr/>
          <p:nvPr/>
        </p:nvPicPr>
        <p:blipFill>
          <a:blip r:embed="rId7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3200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8" name="Picture 3" descr=""/>
          <p:cNvPicPr/>
          <p:nvPr/>
        </p:nvPicPr>
        <p:blipFill>
          <a:blip r:embed="rId1"/>
          <a:srcRect l="0" t="3319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6" descr=""/>
          <p:cNvPicPr/>
          <p:nvPr/>
        </p:nvPicPr>
        <p:blipFill>
          <a:blip r:embed="rId2"/>
          <a:stretch/>
        </p:blipFill>
        <p:spPr>
          <a:xfrm>
            <a:off x="468360" y="4076640"/>
            <a:ext cx="2485800" cy="20289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9" descr=""/>
          <p:cNvPicPr/>
          <p:nvPr/>
        </p:nvPicPr>
        <p:blipFill>
          <a:blip r:embed="rId3"/>
          <a:stretch/>
        </p:blipFill>
        <p:spPr>
          <a:xfrm>
            <a:off x="5867280" y="2349360"/>
            <a:ext cx="2828880" cy="3753000"/>
          </a:xfrm>
          <a:prstGeom prst="rect">
            <a:avLst/>
          </a:prstGeom>
          <a:ln w="0">
            <a:noFill/>
          </a:ln>
        </p:spPr>
      </p:pic>
      <p:pic>
        <p:nvPicPr>
          <p:cNvPr id="391" name="Rectangle 2" descr=""/>
          <p:cNvPicPr/>
          <p:nvPr/>
        </p:nvPicPr>
        <p:blipFill>
          <a:blip r:embed="rId4"/>
          <a:stretch/>
        </p:blipFill>
        <p:spPr>
          <a:xfrm>
            <a:off x="646200" y="333360"/>
            <a:ext cx="8497800" cy="115884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8"/>
          <p:cNvSpPr/>
          <p:nvPr/>
        </p:nvSpPr>
        <p:spPr>
          <a:xfrm>
            <a:off x="826920" y="1413000"/>
            <a:ext cx="72439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ние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д вами ряд чис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5,6;  11,8;  -0,5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3,7;  7 ;  -19;  0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7" descr=""/>
          <p:cNvPicPr/>
          <p:nvPr/>
        </p:nvPicPr>
        <p:blipFill>
          <a:blip r:embed="rId5"/>
          <a:srcRect l="2046" t="26340" r="1101" b="15773"/>
          <a:stretch/>
        </p:blipFill>
        <p:spPr>
          <a:xfrm>
            <a:off x="1187280" y="3141720"/>
            <a:ext cx="6048720" cy="792000"/>
          </a:xfrm>
          <a:prstGeom prst="rect">
            <a:avLst/>
          </a:prstGeom>
          <a:ln w="0">
            <a:noFill/>
          </a:ln>
        </p:spPr>
      </p:pic>
      <p:pic>
        <p:nvPicPr>
          <p:cNvPr id="394" name="Zvuk-poezda-Stuk-koles-gudok (mp3cut.ru).mp3" descr=""/>
          <p:cNvPicPr/>
          <p:nvPr/>
        </p:nvPicPr>
        <p:blipFill>
          <a:blip r:embed="rId6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15"/>
          <p:cNvSpPr/>
          <p:nvPr/>
        </p:nvSpPr>
        <p:spPr>
          <a:xfrm>
            <a:off x="902880" y="2421000"/>
            <a:ext cx="70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кно с номером задания запиши правильный ответ на вопр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3200" fill="hold"/>
                                        <p:tgtEl>
                                          <p:spTgt spid="3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7" name="Picture 3" descr=""/>
          <p:cNvPicPr/>
          <p:nvPr/>
        </p:nvPicPr>
        <p:blipFill>
          <a:blip r:embed="rId1"/>
          <a:srcRect l="0" t="3319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6" descr=""/>
          <p:cNvPicPr/>
          <p:nvPr/>
        </p:nvPicPr>
        <p:blipFill>
          <a:blip r:embed="rId2"/>
          <a:stretch/>
        </p:blipFill>
        <p:spPr>
          <a:xfrm>
            <a:off x="468360" y="4076640"/>
            <a:ext cx="2485800" cy="20289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9" descr=""/>
          <p:cNvPicPr/>
          <p:nvPr/>
        </p:nvPicPr>
        <p:blipFill>
          <a:blip r:embed="rId3"/>
          <a:stretch/>
        </p:blipFill>
        <p:spPr>
          <a:xfrm>
            <a:off x="5867280" y="2349360"/>
            <a:ext cx="2828880" cy="3753000"/>
          </a:xfrm>
          <a:prstGeom prst="rect">
            <a:avLst/>
          </a:prstGeom>
          <a:ln w="0">
            <a:noFill/>
          </a:ln>
        </p:spPr>
      </p:pic>
      <p:pic>
        <p:nvPicPr>
          <p:cNvPr id="400" name="Rectangle 2" descr=""/>
          <p:cNvPicPr/>
          <p:nvPr/>
        </p:nvPicPr>
        <p:blipFill>
          <a:blip r:embed="rId4"/>
          <a:stretch/>
        </p:blipFill>
        <p:spPr>
          <a:xfrm>
            <a:off x="395280" y="260280"/>
            <a:ext cx="8497800" cy="115884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11"/>
          <p:cNvSpPr/>
          <p:nvPr/>
        </p:nvSpPr>
        <p:spPr>
          <a:xfrm>
            <a:off x="-468360" y="1554120"/>
            <a:ext cx="38149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-2,5+3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-4,7+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 3,6-6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 -2,1+(-0,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 5,6+(-0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) 3,1+(-3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,3-(-2,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) -5+7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2"/>
          <p:cNvSpPr/>
          <p:nvPr/>
        </p:nvSpPr>
        <p:spPr>
          <a:xfrm>
            <a:off x="756720" y="148428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ни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числ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Zvuk-poezda-Stuk-koles-gudok (mp3cut.ru).mp3" descr=""/>
          <p:cNvPicPr/>
          <p:nvPr/>
        </p:nvPicPr>
        <p:blipFill>
          <a:blip r:embed="rId5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3200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7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05" name="Picture 3" descr=""/>
          <p:cNvPicPr/>
          <p:nvPr/>
        </p:nvPicPr>
        <p:blipFill>
          <a:blip r:embed="rId1"/>
          <a:srcRect l="0" t="3319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6" descr=""/>
          <p:cNvPicPr/>
          <p:nvPr/>
        </p:nvPicPr>
        <p:blipFill>
          <a:blip r:embed="rId2"/>
          <a:stretch/>
        </p:blipFill>
        <p:spPr>
          <a:xfrm>
            <a:off x="468360" y="4076640"/>
            <a:ext cx="2485800" cy="20289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9" descr=""/>
          <p:cNvPicPr/>
          <p:nvPr/>
        </p:nvPicPr>
        <p:blipFill>
          <a:blip r:embed="rId3"/>
          <a:stretch/>
        </p:blipFill>
        <p:spPr>
          <a:xfrm>
            <a:off x="5867280" y="2349360"/>
            <a:ext cx="2828880" cy="3753000"/>
          </a:xfrm>
          <a:prstGeom prst="rect">
            <a:avLst/>
          </a:prstGeom>
          <a:ln w="0">
            <a:noFill/>
          </a:ln>
        </p:spPr>
      </p:pic>
      <p:pic>
        <p:nvPicPr>
          <p:cNvPr id="408" name="Zvuk-poezda-Stuk-koles-gudok (mp3cut.ru).mp3" descr=""/>
          <p:cNvPicPr/>
          <p:nvPr/>
        </p:nvPicPr>
        <p:blipFill>
          <a:blip r:embed="rId4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09" name="Rectangle 2" descr=""/>
          <p:cNvPicPr/>
          <p:nvPr/>
        </p:nvPicPr>
        <p:blipFill>
          <a:blip r:embed="rId5"/>
          <a:srcRect l="0" t="0" r="19503" b="0"/>
          <a:stretch/>
        </p:blipFill>
        <p:spPr>
          <a:xfrm>
            <a:off x="1187280" y="333360"/>
            <a:ext cx="684072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Fizkul_tminutka-saundtrek (mp3cut.ru).mp3" descr=""/>
          <p:cNvPicPr/>
          <p:nvPr/>
        </p:nvPicPr>
        <p:blipFill>
          <a:blip r:embed="rId6"/>
          <a:stretch/>
        </p:blipFill>
        <p:spPr>
          <a:xfrm>
            <a:off x="25092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3200" fill="hold"/>
                                        <p:tgtEl>
                                          <p:spTgt spid="4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5" dur="2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20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50947" fill="hold"/>
                                        <p:tgtEl>
                                          <p:spTgt spid="4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2" name="Picture 3" descr=""/>
          <p:cNvPicPr/>
          <p:nvPr/>
        </p:nvPicPr>
        <p:blipFill>
          <a:blip r:embed="rId1"/>
          <a:srcRect l="0" t="3319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"/>
          <p:cNvPicPr/>
          <p:nvPr/>
        </p:nvPicPr>
        <p:blipFill>
          <a:blip r:embed="rId2"/>
          <a:stretch/>
        </p:blipFill>
        <p:spPr>
          <a:xfrm>
            <a:off x="468360" y="4076640"/>
            <a:ext cx="2485800" cy="20289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"/>
          <p:cNvPicPr/>
          <p:nvPr/>
        </p:nvPicPr>
        <p:blipFill>
          <a:blip r:embed="rId3"/>
          <a:stretch/>
        </p:blipFill>
        <p:spPr>
          <a:xfrm>
            <a:off x="5867280" y="2349360"/>
            <a:ext cx="2828880" cy="375300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8"/>
          <p:cNvSpPr/>
          <p:nvPr/>
        </p:nvSpPr>
        <p:spPr>
          <a:xfrm>
            <a:off x="3277800" y="148428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ни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числ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Zvuk-poezda-Stuk-koles-gudok (mp3cut.ru).mp3" descr=""/>
          <p:cNvPicPr/>
          <p:nvPr/>
        </p:nvPicPr>
        <p:blipFill>
          <a:blip r:embed="rId4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7" name="Rectangle 2" descr=""/>
          <p:cNvPicPr/>
          <p:nvPr/>
        </p:nvPicPr>
        <p:blipFill>
          <a:blip r:embed="rId5"/>
          <a:srcRect l="0" t="0" r="8673" b="0"/>
          <a:stretch/>
        </p:blipFill>
        <p:spPr>
          <a:xfrm>
            <a:off x="826920" y="260280"/>
            <a:ext cx="7755120" cy="11588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3" descr=""/>
          <p:cNvPicPr/>
          <p:nvPr/>
        </p:nvPicPr>
        <p:blipFill>
          <a:blip r:embed="rId6"/>
          <a:stretch/>
        </p:blipFill>
        <p:spPr>
          <a:xfrm>
            <a:off x="684360" y="1989000"/>
            <a:ext cx="3816360" cy="17701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4" descr=""/>
          <p:cNvPicPr/>
          <p:nvPr/>
        </p:nvPicPr>
        <p:blipFill>
          <a:blip r:embed="rId7"/>
          <a:stretch/>
        </p:blipFill>
        <p:spPr>
          <a:xfrm>
            <a:off x="4572000" y="1989000"/>
            <a:ext cx="388764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200" fill="hold"/>
                                        <p:tgtEl>
                                          <p:spTgt spid="4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6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21" name="Picture 3" descr=""/>
          <p:cNvPicPr/>
          <p:nvPr/>
        </p:nvPicPr>
        <p:blipFill>
          <a:blip r:embed="rId1"/>
          <a:srcRect l="0" t="3319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"/>
          <p:cNvPicPr/>
          <p:nvPr/>
        </p:nvPicPr>
        <p:blipFill>
          <a:blip r:embed="rId2"/>
          <a:stretch/>
        </p:blipFill>
        <p:spPr>
          <a:xfrm>
            <a:off x="468360" y="4076640"/>
            <a:ext cx="2485800" cy="20289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9" descr=""/>
          <p:cNvPicPr/>
          <p:nvPr/>
        </p:nvPicPr>
        <p:blipFill>
          <a:blip r:embed="rId3"/>
          <a:stretch/>
        </p:blipFill>
        <p:spPr>
          <a:xfrm>
            <a:off x="5867280" y="2349360"/>
            <a:ext cx="2828880" cy="3753000"/>
          </a:xfrm>
          <a:prstGeom prst="rect">
            <a:avLst/>
          </a:prstGeom>
          <a:ln w="0">
            <a:noFill/>
          </a:ln>
        </p:spPr>
      </p:pic>
      <p:pic>
        <p:nvPicPr>
          <p:cNvPr id="424" name="Zvuk-poezda-Stuk-koles-gudok (mp3cut.ru).mp3" descr=""/>
          <p:cNvPicPr/>
          <p:nvPr/>
        </p:nvPicPr>
        <p:blipFill>
          <a:blip r:embed="rId4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5" name="Rectangle 2" descr=""/>
          <p:cNvPicPr/>
          <p:nvPr/>
        </p:nvPicPr>
        <p:blipFill>
          <a:blip r:embed="rId5"/>
          <a:srcRect l="0" t="0" r="31368" b="0"/>
          <a:stretch/>
        </p:blipFill>
        <p:spPr>
          <a:xfrm>
            <a:off x="1619280" y="333360"/>
            <a:ext cx="58323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3200" fill="hold"/>
                                        <p:tgtEl>
                                          <p:spTgt spid="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7" dur="2000" fill="hold"/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27" name="Picture 3" descr=""/>
          <p:cNvPicPr/>
          <p:nvPr/>
        </p:nvPicPr>
        <p:blipFill>
          <a:blip r:embed="rId1"/>
          <a:srcRect l="0" t="3319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468000" y="836640"/>
            <a:ext cx="817236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Числа отрицательные, новые для нас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Лишь совсем недавно изучил наш класс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разу поприбавилось всем теперь мороки –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Учат-учат правила дети все урок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Если уж захочется очень всем сложит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Числа отрицательные, нечего тужить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Надо сумму модулей быстренько узнать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К ней потом знак « минус» взять да приписать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Если числа с разными знаками дадут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Чтоб найти их сумму, все мы тут как тут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Больший модуль быстро очень выбираем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Из него мы меньший модуль вычитаем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амое же главное – знак не позабыть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- Вы какой поставите? – мы хотим спросить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- Вам секрет откроем. Проще дела нет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Знак, где модуль больше, запиши в ответ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9" name="Остров Невезения (mp3cut.ru).mp3" descr=""/>
          <p:cNvPicPr/>
          <p:nvPr/>
        </p:nvPicPr>
        <p:blipFill>
          <a:blip r:embed="rId2"/>
          <a:stretch/>
        </p:blipFill>
        <p:spPr>
          <a:xfrm>
            <a:off x="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0" name="Rectangle 2" descr=""/>
          <p:cNvPicPr/>
          <p:nvPr/>
        </p:nvPicPr>
        <p:blipFill>
          <a:blip r:embed="rId3"/>
          <a:srcRect l="0" t="0" r="31368" b="0"/>
          <a:stretch/>
        </p:blipFill>
        <p:spPr>
          <a:xfrm>
            <a:off x="1763640" y="0"/>
            <a:ext cx="58327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59816" fill="hold"/>
                                        <p:tgtEl>
                                          <p:spTgt spid="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7">
                                  <p:stCondLst>
                                    <p:cond delay="3400"/>
                                  </p:stCondLst>
                                  <p:iterate type="lt">
                                    <p:tmAbs val="53.3333282470703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1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1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7">
                                  <p:stCondLst>
                                    <p:cond delay="5100"/>
                                  </p:stCondLst>
                                  <p:iterate type="lt">
                                    <p:tmAbs val="48.3871002197266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1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1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7">
                                  <p:stCondLst>
                                    <p:cond delay="6700"/>
                                  </p:stCondLst>
                                  <p:iterate type="lt">
                                    <p:tmAbs val="44.7058837890625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7">
                                  <p:stCondLst>
                                    <p:cond delay="8300"/>
                                  </p:stCondLst>
                                  <p:iterate type="lt">
                                    <p:tmAbs val="54.2857116699219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7">
                                  <p:stCondLst>
                                    <p:cond delay="9800"/>
                                  </p:stCondLst>
                                  <p:iterate type="lt">
                                    <p:tmAbs val="57.3333312988281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7">
                                  <p:stCondLst>
                                    <p:cond delay="11500"/>
                                  </p:stCondLst>
                                  <p:iterate type="lt">
                                    <p:tmAbs val="55.4838806152344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7">
                                  <p:stCondLst>
                                    <p:cond delay="13300"/>
                                  </p:stCondLst>
                                  <p:iterate type="lt">
                                    <p:tmAbs val="53.75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7">
                                  <p:stCondLst>
                                    <p:cond delay="15000"/>
                                  </p:stCondLst>
                                  <p:iterate type="lt">
                                    <p:tmAbs val="42.2222290039062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7">
                                  <p:stCondLst>
                                    <p:cond delay="16500"/>
                                  </p:stCondLst>
                                  <p:iterate type="lt">
                                    <p:tmAbs val="55.8620788574219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7">
                                  <p:stCondLst>
                                    <p:cond delay="18100"/>
                                  </p:stCondLst>
                                  <p:iterate type="lt">
                                    <p:tmAbs val="45.8064605712891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4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4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4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7">
                                  <p:stCondLst>
                                    <p:cond delay="19600"/>
                                  </p:stCondLst>
                                  <p:iterate type="lt">
                                    <p:tmAbs val="52.2580627441406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4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4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4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7">
                                  <p:stCondLst>
                                    <p:cond delay="21300"/>
                                  </p:stCondLst>
                                  <p:iterate type="lt">
                                    <p:tmAbs val="52.4138061523437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4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4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4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7">
                                  <p:stCondLst>
                                    <p:cond delay="23000"/>
                                  </p:stCondLst>
                                  <p:iterate type="lt">
                                    <p:tmAbs val="52.413793945312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4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4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4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7">
                                  <p:stCondLst>
                                    <p:cond delay="24500"/>
                                  </p:stCondLst>
                                  <p:iterate type="lt">
                                    <p:tmAbs val="47.6470550537109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4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4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4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7">
                                  <p:stCondLst>
                                    <p:cond delay="26200"/>
                                  </p:stCondLst>
                                  <p:iterate type="lt">
                                    <p:tmAbs val="47.3333465576172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4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4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4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7">
                                  <p:stCondLst>
                                    <p:cond delay="27700"/>
                                  </p:stCondLst>
                                  <p:iterate type="lt">
                                    <p:tmAbs val="52.121240234375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4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4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4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8:53:31Z</dcterms:created>
  <dc:creator>home</dc:creator>
  <dc:description/>
  <dc:language>en-US</dc:language>
  <cp:lastModifiedBy>kms_home</cp:lastModifiedBy>
  <dcterms:modified xsi:type="dcterms:W3CDTF">2018-03-25T06:32:58Z</dcterms:modified>
  <cp:revision>10</cp:revision>
  <dc:subject/>
  <dc:title>Урок-путешествие в страну положительных и отрицательных чисел </dc:title>
</cp:coreProperties>
</file>