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C76-CE36-4D16-A3D5-D354E04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756-F614-4D07-A468-B6BDF39C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C54-E931-4313-B2B7-3D0EC709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4AC-58A7-41D8-825F-68F02AFD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81B0-8B42-4893-8E34-F0661714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D38-9333-4747-8D85-B6EE219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69D-22C1-49EE-9FED-725D817B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7335-0DC1-4788-B061-01719071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3AD8-FB8E-4FF2-A244-750FA33B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C43-F2A8-4B8D-9767-DE361F3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868C-E51D-4294-B767-54AE423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C9E-2BD5-4454-BAEB-F7A21EA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C052-F07C-4CB2-9F82-341D579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377E-3806-42BD-BC5E-BF0840A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3017-D1C9-4D57-B84B-BDC136C8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96B-0D19-4C17-BF81-CFDF2467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E6F-5AEF-4529-BE2A-0337456C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0437-76EA-4D5F-9630-E0358CC3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4D7A-0E88-400D-9E27-D660C15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A579-B303-437C-9AC8-A59B5ED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3252-27A9-43FA-9331-3B7559E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CEB3-992A-4DF7-B237-53F6192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50A-F3E4-4626-82B8-D1010B5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1895-9B2B-483D-9952-59EDEBD4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D26A-A6F0-4EE2-99DC-C4B46D2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FC93-9050-47DA-9946-911F8C35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D5C0-B91D-42CF-96B1-9FB9F05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3C39-560B-4AFD-83FD-18B2D517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8DC1-7A85-468A-89BD-76C2AFA8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C72F-CCA1-45D6-8E6B-664C1376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7A47-A36B-4AFA-B1ED-44D478F7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5CA0-5106-485C-AC9B-97ED1B72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BC2F-B596-4E9E-B00D-CF5783C2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88F-8238-45F5-9299-E0ECB157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D315-B57B-4ED4-AC77-871A7D4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61AB-C934-486A-9DBD-248828D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3F52-D350-4425-A912-1AC5576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9C61-C367-4A8A-9A37-7F7F698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77C8-A8A9-4750-AABB-909A062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310A-AB4C-4A8C-9D31-333441F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994C-7AE7-46AD-BE2C-20C05568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8DDF-FA4F-4914-AD11-A660FD5E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1A31-93C9-486D-B5C1-18F22195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3C83-D7EE-47B9-BBB0-5B43E353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8BD-7C55-46F7-A20A-EA13B9A3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E2AFB-FC67-44A6-A4BB-FC0C4FF3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1035-8E03-4FB8-B893-1136EC5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2E5F-A534-4A62-BBED-328262FD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16EE6-936D-44A6-8799-589C3F3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1995-59B3-4421-9F3E-BE77BFF2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FB4D-59D9-4F43-9DCF-4397A0C2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AD39-854D-4E17-B8E3-182A852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2987-8DB8-4B85-8D13-6EF5C46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E37D-4C4F-4F02-A1CA-D1BDA68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A13C-85FA-4479-BA8B-3902CD2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E9C-BD12-47FD-A927-F5B0FC1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7252-C2B6-4C93-ADB8-93E34A44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A95B5-3FED-430E-8A1C-1C88127E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6E99-8C64-40FC-809F-14168342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3D0B-6753-40E8-B9F9-9404CFD9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1813-4940-4004-B8DB-70AE77DF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AB48C-6984-4B58-83B7-E400F68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0429D-40EA-428B-974F-D2EAFDFE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7FF4-AC5C-40EF-A334-C3BCB3F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6E39-BFE1-4ABD-B4F9-A00B80A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DD3D-D0AD-4A5E-A655-2A4D4E3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484-CB97-4F1D-963D-23D07C8E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AB046-A026-405D-A669-F9346F1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3C55-50F7-4BD5-9E8B-7BCC1677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CBCE-3841-4805-8BF5-602B9E24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E6E2-C1D9-4E78-B835-A0E3EA40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F7182-57A9-4A3B-957D-F15896F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73356-2CF2-4FEF-A627-641DDCC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BF537-723E-4EA8-BE16-8C2D995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2082-EC2C-4F68-B560-DF6EB593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2CDD-43E1-4A1D-AF22-6927685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ADD8C-05EA-407F-ADEF-B6365C6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2D6-5A6A-4CFD-BEA6-7C4AA0C2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B42C3-E560-4028-9A95-41651FA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EBA4-40BF-4B64-A4AA-7034FA3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2C85-7C0B-41A5-82D6-734E75F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54ED-D9E6-44C2-8E16-21983855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D7CD-7C82-4D91-BC71-2D715A5E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16A36-7AB8-4C60-A880-C07FBA94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EED3-5215-4FE6-B34B-0CC77F7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2B25F-7BE8-42A7-80E5-59F923AD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6528-1E1D-42A6-9740-52A3CDF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CB7C-5519-4EF6-B554-C34ECC7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E46-FAAF-4C1B-A6F5-024C85C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6253-24EC-4012-BA2A-8AF2003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0009-1DB5-4B1D-AF8A-B0D1DDC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EF2A6-AF3B-4D3D-B74E-5E0221A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A556-2D6C-43B4-8F5F-90FDC80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D4B2E-737D-4588-9F45-47E03B8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7EE69-00CF-4983-9550-871D5DF5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B0297-9A82-4A03-942C-284CA3C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55C-0C67-4338-9B81-0C6ED0BB1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73D-2E13-4491-8CF4-BBBD30A3FE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E0F-A33C-4C64-A67B-2E107FDA1F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0FE-83AE-4A10-83C6-13D5AE7C63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8D91-260C-49E4-9B5A-9E56259DF3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239B-E62D-44E3-B8AC-E581F353BE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A8F2-2171-4A61-9DC9-621C399A4D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6E7-7DB3-40B5-A9A8-8C74A6CF61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6"/>
          <p:cNvSpPr/>
          <p:nvPr/>
        </p:nvSpPr>
        <p:spPr>
          <a:xfrm>
            <a:off x="1403280" y="2133720"/>
            <a:ext cx="68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рок-путешествие в страну положительных и отрица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04292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 с/п «Село Пив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5651640" y="522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пикова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639120" cy="5038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829800" y="620640"/>
            <a:ext cx="36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тьте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Fizkul_tminutka-saundtrek (mp3cut.ru)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17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50947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ANd9GcQEStkBpFtGEL4DIxJDnwL1fMbtYmvAZEw5k_LMqtYBnN5-GXIW_w"/>
          <p:cNvPicPr/>
          <p:nvPr/>
        </p:nvPicPr>
        <p:blipFill>
          <a:blip r:embed="rId2"/>
          <a:stretch/>
        </p:blipFill>
        <p:spPr>
          <a:xfrm>
            <a:off x="1619280" y="981000"/>
            <a:ext cx="608472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857160" y="2571840"/>
            <a:ext cx="4535640" cy="3701880"/>
          </a:xfrm>
          <a:prstGeom prst="rect">
            <a:avLst/>
          </a:prstGeom>
          <a:ln w="0">
            <a:noFill/>
          </a:ln>
        </p:spPr>
      </p:pic>
      <p:pic>
        <p:nvPicPr>
          <p:cNvPr id="377" name="Zvuk-poezda-Stuk-koles-gudok (mp3cut.ru)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1.075 -0.01528 E">
                                      <p:cBhvr>
                                        <p:cTn id="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320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Zvuk-poezda-Stuk-koles-gudok (mp3cut.ru).mp3" descr=""/>
          <p:cNvPicPr/>
          <p:nvPr/>
        </p:nvPicPr>
        <p:blipFill>
          <a:blip r:embed="rId1"/>
          <a:stretch/>
        </p:blipFill>
        <p:spPr>
          <a:xfrm>
            <a:off x="2324160" y="359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2" descr=""/>
          <p:cNvPicPr/>
          <p:nvPr/>
        </p:nvPicPr>
        <p:blipFill>
          <a:blip r:embed="rId5"/>
          <a:srcRect l="0" t="0" r="24535" b="0"/>
          <a:stretch/>
        </p:blipFill>
        <p:spPr>
          <a:xfrm>
            <a:off x="1476360" y="260280"/>
            <a:ext cx="597708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"/>
          <p:cNvPicPr/>
          <p:nvPr/>
        </p:nvPicPr>
        <p:blipFill>
          <a:blip r:embed="rId6"/>
          <a:stretch/>
        </p:blipFill>
        <p:spPr>
          <a:xfrm>
            <a:off x="684360" y="1773360"/>
            <a:ext cx="7657920" cy="11905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12"/>
          <p:cNvSpPr/>
          <p:nvPr/>
        </p:nvSpPr>
        <p:spPr>
          <a:xfrm>
            <a:off x="826920" y="1413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авь в окно с номером задания «+», если согласен с утверждением, и «- », если с утверждением не соглас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Zvuk-poezda-Stuk-koles-gudok (mp3cut.ru).mp3" descr=""/>
          <p:cNvPicPr/>
          <p:nvPr/>
        </p:nvPicPr>
        <p:blipFill>
          <a:blip r:embed="rId7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0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2" descr=""/>
          <p:cNvPicPr/>
          <p:nvPr/>
        </p:nvPicPr>
        <p:blipFill>
          <a:blip r:embed="rId4"/>
          <a:stretch/>
        </p:blipFill>
        <p:spPr>
          <a:xfrm>
            <a:off x="646200" y="33336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26920" y="1413000"/>
            <a:ext cx="7243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вами ряд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5,6;  11,8;  -0,5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,7;  7 ;  -19;  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5"/>
          <a:srcRect l="2046" t="26340" r="1101" b="15773"/>
          <a:stretch/>
        </p:blipFill>
        <p:spPr>
          <a:xfrm>
            <a:off x="1187280" y="3141720"/>
            <a:ext cx="6048720" cy="792000"/>
          </a:xfrm>
          <a:prstGeom prst="rect">
            <a:avLst/>
          </a:prstGeom>
          <a:ln w="0">
            <a:noFill/>
          </a:ln>
        </p:spPr>
      </p:pic>
      <p:pic>
        <p:nvPicPr>
          <p:cNvPr id="394" name="Zvuk-poezda-Stuk-koles-gudok (mp3cut.ru)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5"/>
          <p:cNvSpPr/>
          <p:nvPr/>
        </p:nvSpPr>
        <p:spPr>
          <a:xfrm>
            <a:off x="902880" y="2421000"/>
            <a:ext cx="70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о с номером задания запиши правильный ответ на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2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1"/>
          <p:cNvSpPr/>
          <p:nvPr/>
        </p:nvSpPr>
        <p:spPr>
          <a:xfrm>
            <a:off x="-468360" y="1554120"/>
            <a:ext cx="38149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-2,5+3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-4,7+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3,6-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-2,1+(-0,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5,6+(-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3,1+(-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3-(-2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-5+7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756720" y="14842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Zvuk-poezda-Stuk-koles-gudok (mp3cut.ru)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200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08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2" descr=""/>
          <p:cNvPicPr/>
          <p:nvPr/>
        </p:nvPicPr>
        <p:blipFill>
          <a:blip r:embed="rId5"/>
          <a:srcRect l="0" t="0" r="19503" b="0"/>
          <a:stretch/>
        </p:blipFill>
        <p:spPr>
          <a:xfrm>
            <a:off x="1187280" y="333360"/>
            <a:ext cx="684072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Fizkul_tminutka-saundtrek (mp3cut.ru).mp3" descr=""/>
          <p:cNvPicPr/>
          <p:nvPr/>
        </p:nvPicPr>
        <p:blipFill>
          <a:blip r:embed="rId6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200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5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2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0947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8"/>
          <p:cNvSpPr/>
          <p:nvPr/>
        </p:nvSpPr>
        <p:spPr>
          <a:xfrm>
            <a:off x="3277800" y="14842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Rectangle 2" descr=""/>
          <p:cNvPicPr/>
          <p:nvPr/>
        </p:nvPicPr>
        <p:blipFill>
          <a:blip r:embed="rId5"/>
          <a:srcRect l="0" t="0" r="8673" b="0"/>
          <a:stretch/>
        </p:blipFill>
        <p:spPr>
          <a:xfrm>
            <a:off x="826920" y="260280"/>
            <a:ext cx="775512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"/>
          <p:cNvPicPr/>
          <p:nvPr/>
        </p:nvPicPr>
        <p:blipFill>
          <a:blip r:embed="rId6"/>
          <a:stretch/>
        </p:blipFill>
        <p:spPr>
          <a:xfrm>
            <a:off x="684360" y="1989000"/>
            <a:ext cx="3816360" cy="1770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7"/>
          <a:stretch/>
        </p:blipFill>
        <p:spPr>
          <a:xfrm>
            <a:off x="4572000" y="1989000"/>
            <a:ext cx="3887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20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485800" cy="2028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28880" cy="3753000"/>
          </a:xfrm>
          <a:prstGeom prst="rect">
            <a:avLst/>
          </a:prstGeom>
          <a:ln w="0">
            <a:noFill/>
          </a:ln>
        </p:spPr>
      </p:pic>
      <p:pic>
        <p:nvPicPr>
          <p:cNvPr id="424" name="Zvuk-poezda-Stuk-koles-gudok (mp3cut.ru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2" descr=""/>
          <p:cNvPicPr/>
          <p:nvPr/>
        </p:nvPicPr>
        <p:blipFill>
          <a:blip r:embed="rId5"/>
          <a:srcRect l="0" t="0" r="31368" b="0"/>
          <a:stretch/>
        </p:blipFill>
        <p:spPr>
          <a:xfrm>
            <a:off x="1619280" y="333360"/>
            <a:ext cx="583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20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rcRect l="0" t="33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8000" y="836640"/>
            <a:ext cx="817236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исла отрицательные, новые для нас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Лишь совсем недавно изучил наш клас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разу поприбавилось всем теперь мороки –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т-учат правила дети все урок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уж захочется очень всем сложи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исла отрицательные, нечего тужить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до сумму модулей быстренько узна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 ней потом знак « минус» взять да приписа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сли числа с разными знаками дадут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Чтоб найти их сумму, все мы тут как т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Больший модуль быстро очень выбира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з него мы меньший модуль вычитае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мое же главное – знак не позабы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Вы какой поставите? – мы хотим спросит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Вам секрет откроем. Проще дела нет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нак, где модуль больше, запиши в отв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Остров Невезения (mp3cut.ru).mp3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2" descr=""/>
          <p:cNvPicPr/>
          <p:nvPr/>
        </p:nvPicPr>
        <p:blipFill>
          <a:blip r:embed="rId3"/>
          <a:srcRect l="0" t="0" r="31368" b="0"/>
          <a:stretch/>
        </p:blipFill>
        <p:spPr>
          <a:xfrm>
            <a:off x="1763640" y="0"/>
            <a:ext cx="5832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9816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3400"/>
                                  </p:stCondLst>
                                  <p:iterate type="lt">
                                    <p:tmAbs val="53.3333282470703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5100"/>
                                  </p:stCondLst>
                                  <p:iterate type="lt">
                                    <p:tmAbs val="48.387100219726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6700"/>
                                  </p:stCondLst>
                                  <p:iterate type="lt">
                                    <p:tmAbs val="44.705883789062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8300"/>
                                  </p:stCondLst>
                                  <p:iterate type="lt">
                                    <p:tmAbs val="54.2857116699219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9800"/>
                                  </p:stCondLst>
                                  <p:iterate type="lt">
                                    <p:tmAbs val="57.3333312988281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11500"/>
                                  </p:stCondLst>
                                  <p:iterate type="lt">
                                    <p:tmAbs val="55.4838806152344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13300"/>
                                  </p:stCondLst>
                                  <p:iterate type="lt">
                                    <p:tmAbs val="53.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15000"/>
                                  </p:stCondLst>
                                  <p:iterate type="lt">
                                    <p:tmAbs val="42.222229003906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16500"/>
                                  </p:stCondLst>
                                  <p:iterate type="lt">
                                    <p:tmAbs val="55.8620788574219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18100"/>
                                  </p:stCondLst>
                                  <p:iterate type="lt">
                                    <p:tmAbs val="45.8064605712891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19600"/>
                                  </p:stCondLst>
                                  <p:iterate type="lt">
                                    <p:tmAbs val="52.258062744140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21300"/>
                                  </p:stCondLst>
                                  <p:iterate type="lt">
                                    <p:tmAbs val="52.4138061523437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23000"/>
                                  </p:stCondLst>
                                  <p:iterate type="lt">
                                    <p:tmAbs val="52.413793945312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24500"/>
                                  </p:stCondLst>
                                  <p:iterate type="lt">
                                    <p:tmAbs val="47.6470550537109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26200"/>
                                  </p:stCondLst>
                                  <p:iterate type="lt">
                                    <p:tmAbs val="47.333346557617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7">
                                  <p:stCondLst>
                                    <p:cond delay="27700"/>
                                  </p:stCondLst>
                                  <p:iterate type="lt">
                                    <p:tmAbs val="52.1212402343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8:53:31Z</dcterms:created>
  <dc:creator>home</dc:creator>
  <dc:description/>
  <dc:language>en-US</dc:language>
  <cp:lastModifiedBy>kms_home</cp:lastModifiedBy>
  <dcterms:modified xsi:type="dcterms:W3CDTF">2018-03-25T06:32:58Z</dcterms:modified>
  <cp:revision>10</cp:revision>
  <dc:subject/>
  <dc:title>Урок-путешествие в страну положительных и отрицательных чисел </dc:title>
</cp:coreProperties>
</file>