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gif" ContentType="image/gif"/>
  <Override PartName="/ppt/media/image51.jpeg" ContentType="image/jpeg"/>
  <Override PartName="/ppt/media/image26.gif" ContentType="image/gif"/>
  <Override PartName="/ppt/media/image24.jpeg" ContentType="image/jpeg"/>
  <Override PartName="/ppt/media/image22.png" ContentType="image/png"/>
  <Override PartName="/ppt/media/image21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28.gif" ContentType="image/gif"/>
  <Override PartName="/ppt/media/image59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20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25.jpeg" ContentType="image/jpeg"/>
  <Override PartName="/ppt/media/image4.jpeg" ContentType="image/jpeg"/>
  <Override PartName="/ppt/media/image18.jpeg" ContentType="image/jpeg"/>
  <Override PartName="/ppt/media/image8.gif" ContentType="image/gif"/>
  <Override PartName="/ppt/media/image16.png" ContentType="image/png"/>
  <Override PartName="/ppt/media/image49.jpeg" ContentType="image/jpeg"/>
  <Override PartName="/ppt/media/image13.gif" ContentType="image/gif"/>
  <Override PartName="/ppt/media/image48.jpeg" ContentType="image/jpeg"/>
  <Override PartName="/ppt/media/image6.jpeg" ContentType="image/jpeg"/>
  <Override PartName="/ppt/media/image7.jpeg" ContentType="image/jpeg"/>
  <Override PartName="/ppt/media/image36.png" ContentType="image/png"/>
  <Override PartName="/ppt/media/image39.png" ContentType="image/png"/>
  <Override PartName="/ppt/media/image44.jpeg" ContentType="image/jpeg"/>
  <Override PartName="/ppt/media/image40.jpeg" ContentType="image/jpeg"/>
  <Override PartName="/ppt/media/image46.jpeg" ContentType="image/jpeg"/>
  <Override PartName="/ppt/media/image45.jpeg" ContentType="image/jpeg"/>
  <Override PartName="/ppt/media/image50.jpeg" ContentType="image/jpeg"/>
  <Override PartName="/ppt/media/image12.jpeg" ContentType="image/jpeg"/>
  <Override PartName="/ppt/media/image53.jpeg" ContentType="image/jpeg"/>
  <Override PartName="/ppt/media/image54.jpeg" ContentType="image/jpeg"/>
  <Override PartName="/ppt/media/image38.png" ContentType="image/png"/>
  <Override PartName="/ppt/media/image9.jpeg" ContentType="image/jpeg"/>
  <Override PartName="/ppt/media/image11.jpeg" ContentType="image/jpeg"/>
  <Override PartName="/ppt/media/image55.jpeg" ContentType="image/jpeg"/>
  <Override PartName="/ppt/media/image57.jpeg" ContentType="image/jpeg"/>
  <Override PartName="/ppt/media/image58.jpeg" ContentType="image/jpeg"/>
  <Override PartName="/ppt/media/image47.png" ContentType="image/png"/>
  <Override PartName="/ppt/media/image35.jpeg" ContentType="image/jpeg"/>
  <Override PartName="/ppt/media/image10.jpeg" ContentType="image/jpeg"/>
  <Override PartName="/ppt/media/image37.png" ContentType="image/pn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0425-78FF-4BBA-9625-5F1EE2BC2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AD9B-45F5-4758-9802-67993484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5776-932F-485F-9F8D-10D2F8CB2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1BC6-C783-45A1-8341-89F74F134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A6FD-E99D-4786-919C-49F3F5455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712A-12B5-4096-8CF6-F6C4F8FE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12D40-A71A-45C8-B230-EB0D28C8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034E-A7B2-4432-B7BD-940495FF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10F7C-3C2E-425F-A568-AF3CB0B1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8E77-4A1D-412E-A433-A6BA4EC9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A5E8-AE7B-4D36-9166-856D7987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8D40-0BCB-4956-AF75-4B17A731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A1080-13A4-4E5D-995E-27500989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CA3C2-8084-489C-90C7-41DDEB01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F5F9-65AB-47DB-95B0-A1B8E1CA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BD13-5AE6-4471-AEF0-F8127E9A3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20239-0B9C-4BD7-9AF6-F16646CAA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CF30-2482-4926-9D1E-5DD105E9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0180-6B91-4A7F-83A7-C98ED6AC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2766-6036-4837-ABA7-138792DD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3565-A931-4D06-9BC3-6051259E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8016-6E0A-4D74-A0AB-1ED4A330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0F70-4680-4C64-B6EE-804E98C5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DA75-9D2F-4190-80F6-A906871C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09FD-81E7-40C1-BE4C-7DB4BE0E9B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4CA9-FC26-4964-9983-7B627DB9B5D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gif"/><Relationship Id="rId4" Type="http://schemas.openxmlformats.org/officeDocument/2006/relationships/image" Target="../media/image27.gif"/><Relationship Id="rId5" Type="http://schemas.openxmlformats.org/officeDocument/2006/relationships/image" Target="../media/image28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jpe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image" Target="../media/image52.jpe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slide" Target="slide2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9.xml"/><Relationship Id="rId3" Type="http://schemas.openxmlformats.org/officeDocument/2006/relationships/image" Target="../media/image10.jpeg"/><Relationship Id="rId4" Type="http://schemas.openxmlformats.org/officeDocument/2006/relationships/slide" Target="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1" descr="e4404eced2f23a5fde3f48c7232c2b30 - копия"/>
          <p:cNvPicPr/>
          <p:nvPr/>
        </p:nvPicPr>
        <p:blipFill>
          <a:blip r:embed="rId1"/>
          <a:stretch/>
        </p:blipFill>
        <p:spPr>
          <a:xfrm>
            <a:off x="4932360" y="5516640"/>
            <a:ext cx="3456000" cy="419040"/>
          </a:xfrm>
          <a:prstGeom prst="rect">
            <a:avLst/>
          </a:prstGeom>
          <a:ln w="0">
            <a:noFill/>
          </a:ln>
        </p:spPr>
      </p:pic>
      <p:sp>
        <p:nvSpPr>
          <p:cNvPr id="83" name="WordArt 2"/>
          <p:cNvSpPr txBox="1"/>
          <p:nvPr/>
        </p:nvSpPr>
        <p:spPr>
          <a:xfrm>
            <a:off x="611280" y="549360"/>
            <a:ext cx="828180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     г о с т и  </a:t>
            </a:r>
            <a:endParaRPr b="1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              </a:t>
            </a:r>
            <a:r>
              <a:rPr b="1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     в е с н е</a:t>
            </a:r>
            <a:endParaRPr b="1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4" name="Picture 3" descr="w09"/>
          <p:cNvPicPr/>
          <p:nvPr/>
        </p:nvPicPr>
        <p:blipFill>
          <a:blip r:embed="rId2"/>
          <a:stretch/>
        </p:blipFill>
        <p:spPr>
          <a:xfrm>
            <a:off x="324000" y="3429000"/>
            <a:ext cx="4248000" cy="3181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e4404eced2f23a5fde3f48c7232c2b30 - копия"/>
          <p:cNvPicPr/>
          <p:nvPr/>
        </p:nvPicPr>
        <p:blipFill>
          <a:blip r:embed="rId3"/>
          <a:stretch/>
        </p:blipFill>
        <p:spPr>
          <a:xfrm>
            <a:off x="5076720" y="234936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e4404eced2f23a5fde3f48c7232c2b30 - копия"/>
          <p:cNvPicPr/>
          <p:nvPr/>
        </p:nvPicPr>
        <p:blipFill>
          <a:blip r:embed="rId4"/>
          <a:stretch/>
        </p:blipFill>
        <p:spPr>
          <a:xfrm>
            <a:off x="179280" y="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e4404eced2f23a5fde3f48c7232c2b30 - копия"/>
          <p:cNvPicPr/>
          <p:nvPr/>
        </p:nvPicPr>
        <p:blipFill>
          <a:blip r:embed="rId5"/>
          <a:stretch/>
        </p:blipFill>
        <p:spPr>
          <a:xfrm>
            <a:off x="2916360" y="1125360"/>
            <a:ext cx="1238040" cy="1714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e4404eced2f23a5fde3f48c7232c2b30 - копия"/>
          <p:cNvPicPr/>
          <p:nvPr/>
        </p:nvPicPr>
        <p:blipFill>
          <a:blip r:embed="rId6"/>
          <a:stretch/>
        </p:blipFill>
        <p:spPr>
          <a:xfrm>
            <a:off x="900000" y="1197000"/>
            <a:ext cx="1238400" cy="1714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e4404eced2f23a5fde3f48c7232c2b30 - копия"/>
          <p:cNvPicPr/>
          <p:nvPr/>
        </p:nvPicPr>
        <p:blipFill>
          <a:blip r:embed="rId7"/>
          <a:stretch/>
        </p:blipFill>
        <p:spPr>
          <a:xfrm>
            <a:off x="7380360" y="4653000"/>
            <a:ext cx="1238040" cy="1714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e4404eced2f23a5fde3f48c7232c2b30 - копия"/>
          <p:cNvPicPr/>
          <p:nvPr/>
        </p:nvPicPr>
        <p:blipFill>
          <a:blip r:embed="rId8"/>
          <a:stretch/>
        </p:blipFill>
        <p:spPr>
          <a:xfrm>
            <a:off x="7524720" y="549360"/>
            <a:ext cx="1238400" cy="1714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e4404eced2f23a5fde3f48c7232c2b30 - копия"/>
          <p:cNvPicPr/>
          <p:nvPr/>
        </p:nvPicPr>
        <p:blipFill>
          <a:blip r:embed="rId9"/>
          <a:stretch/>
        </p:blipFill>
        <p:spPr>
          <a:xfrm>
            <a:off x="7093080" y="2924280"/>
            <a:ext cx="1238040" cy="1714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5" descr="7h"/>
          <p:cNvPicPr/>
          <p:nvPr/>
        </p:nvPicPr>
        <p:blipFill>
          <a:blip r:embed="rId10"/>
          <a:stretch/>
        </p:blipFill>
        <p:spPr>
          <a:xfrm>
            <a:off x="2124000" y="206064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7" descr="7h"/>
          <p:cNvPicPr/>
          <p:nvPr/>
        </p:nvPicPr>
        <p:blipFill>
          <a:blip r:embed="rId11"/>
          <a:stretch/>
        </p:blipFill>
        <p:spPr>
          <a:xfrm>
            <a:off x="6877080" y="465300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8" descr="7h"/>
          <p:cNvPicPr/>
          <p:nvPr/>
        </p:nvPicPr>
        <p:blipFill>
          <a:blip r:embed="rId12"/>
          <a:stretch/>
        </p:blipFill>
        <p:spPr>
          <a:xfrm>
            <a:off x="4859280" y="3213000"/>
            <a:ext cx="1104840" cy="7430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787640" y="5732280"/>
            <a:ext cx="367164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тандаева Наталья Тимофе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БОУ Целинная ОШИ №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половодье 6"/>
          <p:cNvPicPr/>
          <p:nvPr/>
        </p:nvPicPr>
        <p:blipFill>
          <a:blip r:embed="rId1"/>
          <a:stretch/>
        </p:blipFill>
        <p:spPr>
          <a:xfrm>
            <a:off x="250920" y="115920"/>
            <a:ext cx="8604000" cy="61880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3611880" y="640080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</a:rPr>
              <a:t>половод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3657960" y="93600"/>
            <a:ext cx="176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Arial Black"/>
              </a:rPr>
              <a:t>М а 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424240" y="907920"/>
            <a:ext cx="3605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99"/>
                </a:solidFill>
                <a:uFillTx/>
                <a:latin typeface="Arial Black"/>
              </a:rPr>
              <a:t>травень</a:t>
            </a:r>
            <a:r>
              <a:rPr b="1" lang="ru-RU" sz="2800" spc="-1" strike="noStrike">
                <a:solidFill>
                  <a:srgbClr val="333399"/>
                </a:solidFill>
                <a:latin typeface="Arial Black"/>
              </a:rPr>
              <a:t> – </a:t>
            </a:r>
            <a:r>
              <a:rPr b="1" lang="ru-RU" sz="2800" spc="-1" strike="noStrike" u="sng">
                <a:solidFill>
                  <a:srgbClr val="333399"/>
                </a:solidFill>
                <a:uFillTx/>
                <a:latin typeface="Arial Black"/>
              </a:rPr>
              <a:t>цвет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Nature_314"/>
          <p:cNvPicPr/>
          <p:nvPr/>
        </p:nvPicPr>
        <p:blipFill>
          <a:blip r:embed="rId1"/>
          <a:stretch/>
        </p:blipFill>
        <p:spPr>
          <a:xfrm>
            <a:off x="1116000" y="2295360"/>
            <a:ext cx="6912000" cy="4319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normal_DSCN7640"/>
          <p:cNvPicPr/>
          <p:nvPr/>
        </p:nvPicPr>
        <p:blipFill>
          <a:blip r:embed="rId1"/>
          <a:stretch/>
        </p:blipFill>
        <p:spPr>
          <a:xfrm>
            <a:off x="179280" y="189000"/>
            <a:ext cx="4176720" cy="3583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ni_19"/>
          <p:cNvPicPr/>
          <p:nvPr/>
        </p:nvPicPr>
        <p:blipFill>
          <a:blip r:embed="rId2"/>
          <a:stretch/>
        </p:blipFill>
        <p:spPr>
          <a:xfrm>
            <a:off x="4356000" y="3068640"/>
            <a:ext cx="4600800" cy="36259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4591440" y="217440"/>
            <a:ext cx="459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 Black"/>
              </a:rPr>
              <a:t>Май-месяц первой зелен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</a:rPr>
              <a:t>первых цветов, перв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</a:rPr>
              <a:t>весенних гро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85435ed910a89086e844166fd42433f8"/>
          <p:cNvPicPr/>
          <p:nvPr/>
        </p:nvPicPr>
        <p:blipFill>
          <a:blip r:embed="rId3"/>
          <a:stretch/>
        </p:blipFill>
        <p:spPr>
          <a:xfrm>
            <a:off x="1258920" y="4941720"/>
            <a:ext cx="1871640" cy="16891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prir51"/>
          <p:cNvPicPr/>
          <p:nvPr/>
        </p:nvPicPr>
        <p:blipFill>
          <a:blip r:embed="rId4"/>
          <a:stretch/>
        </p:blipFill>
        <p:spPr>
          <a:xfrm>
            <a:off x="7164360" y="1413000"/>
            <a:ext cx="1660680" cy="1457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prir732"/>
          <p:cNvPicPr/>
          <p:nvPr/>
        </p:nvPicPr>
        <p:blipFill>
          <a:blip r:embed="rId5"/>
          <a:stretch/>
        </p:blipFill>
        <p:spPr>
          <a:xfrm>
            <a:off x="468360" y="3971880"/>
            <a:ext cx="1295280" cy="930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ni_17"/>
          <p:cNvPicPr/>
          <p:nvPr/>
        </p:nvPicPr>
        <p:blipFill>
          <a:blip r:embed="rId1"/>
          <a:stretch/>
        </p:blipFill>
        <p:spPr>
          <a:xfrm>
            <a:off x="1116000" y="549360"/>
            <a:ext cx="2951280" cy="2232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мать и мачеха"/>
          <p:cNvPicPr/>
          <p:nvPr/>
        </p:nvPicPr>
        <p:blipFill>
          <a:blip r:embed="rId2"/>
          <a:stretch/>
        </p:blipFill>
        <p:spPr>
          <a:xfrm>
            <a:off x="4643280" y="549360"/>
            <a:ext cx="3168720" cy="2232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хохлатка"/>
          <p:cNvPicPr/>
          <p:nvPr/>
        </p:nvPicPr>
        <p:blipFill>
          <a:blip r:embed="rId3"/>
          <a:stretch/>
        </p:blipFill>
        <p:spPr>
          <a:xfrm>
            <a:off x="1042920" y="3429000"/>
            <a:ext cx="3168720" cy="244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медуница2"/>
          <p:cNvPicPr/>
          <p:nvPr/>
        </p:nvPicPr>
        <p:blipFill>
          <a:blip r:embed="rId4"/>
          <a:stretch/>
        </p:blipFill>
        <p:spPr>
          <a:xfrm>
            <a:off x="4788000" y="3429000"/>
            <a:ext cx="3097080" cy="244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8"/>
          <p:cNvSpPr/>
          <p:nvPr/>
        </p:nvSpPr>
        <p:spPr>
          <a:xfrm>
            <a:off x="3110040" y="6278400"/>
            <a:ext cx="314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дснеж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1510920" y="0"/>
            <a:ext cx="21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omic Sans MS"/>
              </a:rPr>
              <a:t>ветре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4777200" y="0"/>
            <a:ext cx="29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omic Sans MS"/>
              </a:rPr>
              <a:t>мать-и-маче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1543320" y="292428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omic Sans MS"/>
              </a:rPr>
              <a:t>хохла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5425920" y="2924280"/>
            <a:ext cx="19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omic Sans MS"/>
              </a:rPr>
              <a:t>меду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5"/>
          <p:cNvSpPr/>
          <p:nvPr/>
        </p:nvSpPr>
        <p:spPr>
          <a:xfrm rot="5400000">
            <a:off x="4139280" y="2348280"/>
            <a:ext cx="720720" cy="7345440"/>
          </a:xfrm>
          <a:custGeom>
            <a:avLst/>
            <a:gdLst>
              <a:gd name="textAreaLeft" fmla="*/ 0 w 720720"/>
              <a:gd name="textAreaRight" fmla="*/ 260280 w 720720"/>
              <a:gd name="textAreaTop" fmla="*/ 191520 h 7345440"/>
              <a:gd name="textAreaBottom" fmla="*/ 7153920 h 734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463"/>
                </a:lnTo>
                <a:cubicBezTo>
                  <a:pt x="10800" y="9363"/>
                  <a:pt x="16200" y="10263"/>
                  <a:pt x="21600" y="10263"/>
                </a:cubicBezTo>
                <a:cubicBezTo>
                  <a:pt x="16200" y="10263"/>
                  <a:pt x="10800" y="11163"/>
                  <a:pt x="10800" y="12063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click?url=http%3A%2F%2Fwww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348000" y="620640"/>
            <a:ext cx="2502000" cy="3024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p20-4-2"/>
          <p:cNvPicPr/>
          <p:nvPr/>
        </p:nvPicPr>
        <p:blipFill>
          <a:blip r:embed="rId2"/>
          <a:stretch/>
        </p:blipFill>
        <p:spPr>
          <a:xfrm>
            <a:off x="6370560" y="620640"/>
            <a:ext cx="2773440" cy="3024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flowers_43"/>
          <p:cNvPicPr/>
          <p:nvPr/>
        </p:nvPicPr>
        <p:blipFill>
          <a:blip r:embed="rId3"/>
          <a:stretch/>
        </p:blipFill>
        <p:spPr>
          <a:xfrm>
            <a:off x="250920" y="620640"/>
            <a:ext cx="2806560" cy="30243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1385640" y="6083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4356000" y="6093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7434000" y="6083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835280" y="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Расставь по поряд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85 -0.31468 L -0.33368 0.44694 E">
                                      <p:cBhvr>
                                        <p:cTn id="111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89 -0.30428 L -0.34045 0.45734 E">
                                      <p:cBhvr>
                                        <p:cTn id="115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246 -0.16255 L 0.64983 0.44578 E">
                                      <p:cBhvr>
                                        <p:cTn id="119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2 родители"/>
          <p:cNvPicPr/>
          <p:nvPr/>
        </p:nvPicPr>
        <p:blipFill>
          <a:blip r:embed="rId1"/>
          <a:stretch/>
        </p:blipFill>
        <p:spPr>
          <a:xfrm>
            <a:off x="5651640" y="1916280"/>
            <a:ext cx="3743280" cy="540036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3"/>
          <p:cNvSpPr/>
          <p:nvPr/>
        </p:nvSpPr>
        <p:spPr>
          <a:xfrm>
            <a:off x="539640" y="189000"/>
            <a:ext cx="5400720" cy="2160360"/>
          </a:xfrm>
          <a:prstGeom prst="cloudCallout">
            <a:avLst>
              <a:gd name="adj1" fmla="val 70194"/>
              <a:gd name="adj2" fmla="val 67046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550160" y="496800"/>
            <a:ext cx="390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ята, скажите, а к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носит весн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крыльях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250920" y="0"/>
            <a:ext cx="8066160" cy="1989000"/>
          </a:xfrm>
          <a:prstGeom prst="cloudCallout">
            <a:avLst>
              <a:gd name="adj1" fmla="val -25416"/>
              <a:gd name="adj2" fmla="val 102356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9" descr="abimage0045"/>
          <p:cNvPicPr/>
          <p:nvPr/>
        </p:nvPicPr>
        <p:blipFill>
          <a:blip r:embed="rId2"/>
          <a:stretch/>
        </p:blipFill>
        <p:spPr>
          <a:xfrm rot="364800">
            <a:off x="971640" y="3428640"/>
            <a:ext cx="1904760" cy="25146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0"/>
          <p:cNvSpPr/>
          <p:nvPr/>
        </p:nvSpPr>
        <p:spPr>
          <a:xfrm>
            <a:off x="1258920" y="189000"/>
            <a:ext cx="583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дравствуйте, ребя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я зовут Мудрая С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 расскажу вам о жизни птиц весной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6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jiv417"/>
          <p:cNvPicPr/>
          <p:nvPr/>
        </p:nvPicPr>
        <p:blipFill>
          <a:blip r:embed="rId1"/>
          <a:stretch/>
        </p:blipFill>
        <p:spPr>
          <a:xfrm>
            <a:off x="9144000" y="0"/>
            <a:ext cx="1114560" cy="857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jiv417"/>
          <p:cNvPicPr/>
          <p:nvPr/>
        </p:nvPicPr>
        <p:blipFill>
          <a:blip r:embed="rId2"/>
          <a:stretch/>
        </p:blipFill>
        <p:spPr>
          <a:xfrm>
            <a:off x="9468000" y="620640"/>
            <a:ext cx="1114200" cy="857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jiv417"/>
          <p:cNvPicPr/>
          <p:nvPr/>
        </p:nvPicPr>
        <p:blipFill>
          <a:blip r:embed="rId3"/>
          <a:stretch/>
        </p:blipFill>
        <p:spPr>
          <a:xfrm>
            <a:off x="9396360" y="1341360"/>
            <a:ext cx="1114560" cy="8571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abimage003v"/>
          <p:cNvPicPr/>
          <p:nvPr/>
        </p:nvPicPr>
        <p:blipFill>
          <a:blip r:embed="rId4"/>
          <a:stretch/>
        </p:blipFill>
        <p:spPr>
          <a:xfrm>
            <a:off x="9612360" y="5661000"/>
            <a:ext cx="1666800" cy="1000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click?url=http%3A%2F%2Fpoozerie"/>
          <p:cNvPicPr/>
          <p:nvPr/>
        </p:nvPicPr>
        <p:blipFill>
          <a:blip r:embed="rId5"/>
          <a:stretch/>
        </p:blipFill>
        <p:spPr>
          <a:xfrm>
            <a:off x="9468000" y="2205000"/>
            <a:ext cx="3240000" cy="32418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8"/>
          <p:cNvSpPr/>
          <p:nvPr/>
        </p:nvSpPr>
        <p:spPr>
          <a:xfrm>
            <a:off x="3240" y="-1035000"/>
            <a:ext cx="418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вращаются перелёт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т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9326160" y="4365720"/>
            <a:ext cx="232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тицы строя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ремонтиру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и гнёзд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9973080" y="6035760"/>
            <a:ext cx="213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ладыв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й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1692360" y="-3124080"/>
            <a:ext cx="6626160" cy="2449440"/>
          </a:xfrm>
          <a:prstGeom prst="cloudCallout">
            <a:avLst>
              <a:gd name="adj1" fmla="val -53402"/>
              <a:gd name="adj2" fmla="val 39111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2556000" y="-2692440"/>
            <a:ext cx="515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ята, подумайте и скажи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почему это стало возмо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сной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3" descr="abimage0045"/>
          <p:cNvPicPr/>
          <p:nvPr/>
        </p:nvPicPr>
        <p:blipFill>
          <a:blip r:embed="rId6"/>
          <a:stretch/>
        </p:blipFill>
        <p:spPr>
          <a:xfrm>
            <a:off x="324000" y="4005360"/>
            <a:ext cx="1904760" cy="25146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94 -0.00347 L -0.50573 0.04878 E">
                                      <p:cBhvr>
                                        <p:cTn id="159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9 -0.09387 L -0.41527 -0.03098 E">
                                      <p:cBhvr>
                                        <p:cTn id="161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9 -0.09387 L -0.27361 -0.13595 E">
                                      <p:cBhvr>
                                        <p:cTn id="163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09827E-006 L 0.03941 0.20971 E">
                                      <p:cBhvr>
                                        <p:cTn id="165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71 -0.03145 L -0.44271 -0.0474 E">
                                      <p:cBhvr>
                                        <p:cTn id="169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82 -0.10751 L -0.78855 -0.16 E">
                                      <p:cBhvr>
                                        <p:cTn id="171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92 -0.09387 L -0.30382 -0.02058 E">
                                      <p:cBhvr>
                                        <p:cTn id="175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725 -0.10382 L -0.65226 -0.04093 E">
                                      <p:cBhvr>
                                        <p:cTn id="177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800"/>
                            </p:stCondLst>
                            <p:childTnLst>
                              <p:par>
                                <p:cTn id="186" nodeType="after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800"/>
                            </p:stCondLst>
                            <p:childTnLst>
                              <p:par>
                                <p:cTn id="189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53541 -0.06312 L 0.05503 0.50196 E">
                                      <p:cBhvr>
                                        <p:cTn id="190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0.13873 L 0.08004 0.50104 E">
                                      <p:cBhvr>
                                        <p:cTn id="192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и от Мудрой Сов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ждая перелетная птица возвращается в родные края в определенное врем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х перелетных птиц черн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тит он пашню от черв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ад-вперед по пашне вскач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зовется птица..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(Грач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рт — время прилета грачей в Росс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гра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4" descr="Картинки по запросу"/>
          <p:cNvPicPr/>
          <p:nvPr/>
        </p:nvPicPr>
        <p:blipFill>
          <a:blip r:embed="rId1"/>
          <a:stretch/>
        </p:blipFill>
        <p:spPr>
          <a:xfrm>
            <a:off x="457200" y="1773360"/>
            <a:ext cx="4038480" cy="4319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280" y="5084640"/>
            <a:ext cx="35276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скворец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36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 прилетает каждый г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уда, где домик жд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ужие песни петь умее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все же голос свой имеет.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(Скворец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3635280" y="1890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648320" y="1196640"/>
            <a:ext cx="4194000" cy="1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8" descr=""/>
          <p:cNvPicPr/>
          <p:nvPr/>
        </p:nvPicPr>
        <p:blipFill>
          <a:blip r:embed="rId1"/>
          <a:stretch/>
        </p:blipFill>
        <p:spPr>
          <a:xfrm>
            <a:off x="4932360" y="1125360"/>
            <a:ext cx="3552840" cy="5334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летает к нам с тепло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уть проделав длинны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пит домик под окн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 травы и глины.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(Ласточк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ремя прилета в родные края — ма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648320" y="1676160"/>
            <a:ext cx="419400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648320" y="3933360"/>
            <a:ext cx="4194000" cy="21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  <a:ea typeface="Aharoni"/>
              </a:rPr>
              <a:t>ласточ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4427640" y="1557360"/>
            <a:ext cx="4392360" cy="2509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4932360" y="476280"/>
            <a:ext cx="4211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о шла она тайком от ветров и стуж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егодня — прямиком шлепает по лужа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нит талые снега с гомоном и звон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выстелить луга бархатом зелен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коро, скоро быть теплу!» — эту новость перв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абанит по стеклу серой лапкой верб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 тысячи скворцов с домиком подружа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 множество птенцов выглянут наруж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чи по небу пройдут, и тебе вперв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ладошку упадут капли дожде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каком времени года говорится в стихотворен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ледостав"/>
          <p:cNvPicPr/>
          <p:nvPr/>
        </p:nvPicPr>
        <p:blipFill>
          <a:blip r:embed="rId1"/>
          <a:stretch/>
        </p:blipFill>
        <p:spPr>
          <a:xfrm>
            <a:off x="0" y="404640"/>
            <a:ext cx="4633920" cy="6120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5148360" y="537372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 Black"/>
              </a:rPr>
              <a:t>о вес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2 родители"/>
          <p:cNvPicPr/>
          <p:nvPr/>
        </p:nvPicPr>
        <p:blipFill>
          <a:blip r:embed="rId2"/>
          <a:stretch/>
        </p:blipFill>
        <p:spPr>
          <a:xfrm>
            <a:off x="8964720" y="1962000"/>
            <a:ext cx="3564000" cy="5354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208 0.02104 L -0.36215 0.02104 E">
                                      <p:cBhvr>
                                        <p:cTn id="22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ец марта — время прилета скворц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ое гнездо он в поле вье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де тянутся раст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го и песня и пол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шли в стихотворения!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(Жаворо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648320" y="3963600"/>
            <a:ext cx="419400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ремя прилета жаворонков - начало апре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4802040" y="1197000"/>
            <a:ext cx="3886200" cy="3095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летел к нам, наконец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учший наш певец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ни и ночи напрол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 поет.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(Соловей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ловьи прилетают в середине ма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648320" y="3963600"/>
            <a:ext cx="419400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3995640" y="1268280"/>
            <a:ext cx="4105440" cy="5069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435640" y="333360"/>
            <a:ext cx="3168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соловей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летел к нам, наконец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учший наш певец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ни и ночи напрол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 поет.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(Соловей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ловьи прилетают в середине ма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3348000" y="26028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648320" y="1676160"/>
            <a:ext cx="419400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Содержимое 4" descr="CAWVUNUZ.jpg"/>
          <p:cNvPicPr/>
          <p:nvPr/>
        </p:nvPicPr>
        <p:blipFill>
          <a:blip r:embed="rId1"/>
          <a:stretch/>
        </p:blipFill>
        <p:spPr>
          <a:xfrm>
            <a:off x="4716360" y="2133720"/>
            <a:ext cx="4103640" cy="43923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4716000" y="5876640"/>
            <a:ext cx="4125960" cy="22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3"/>
          <p:cNvSpPr/>
          <p:nvPr/>
        </p:nvSpPr>
        <p:spPr>
          <a:xfrm>
            <a:off x="2846520" y="189000"/>
            <a:ext cx="303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Запомните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1111680" y="1197000"/>
            <a:ext cx="7389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тревожьте и не беспокойте пт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гнёздах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3276720" y="2492280"/>
            <a:ext cx="56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звесь скворечник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26520" y="3500280"/>
            <a:ext cx="500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 разоряйте гнёзд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4144320" y="5734080"/>
            <a:ext cx="334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 встречи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9" descr="abimage0045"/>
          <p:cNvPicPr/>
          <p:nvPr/>
        </p:nvPicPr>
        <p:blipFill>
          <a:blip r:embed="rId1"/>
          <a:stretch/>
        </p:blipFill>
        <p:spPr>
          <a:xfrm rot="500400">
            <a:off x="610920" y="3357360"/>
            <a:ext cx="2622600" cy="3160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2 родители"/>
          <p:cNvPicPr/>
          <p:nvPr/>
        </p:nvPicPr>
        <p:blipFill>
          <a:blip r:embed="rId1"/>
          <a:stretch/>
        </p:blipFill>
        <p:spPr>
          <a:xfrm>
            <a:off x="5651640" y="1916280"/>
            <a:ext cx="3743280" cy="540036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3"/>
          <p:cNvSpPr/>
          <p:nvPr/>
        </p:nvSpPr>
        <p:spPr>
          <a:xfrm>
            <a:off x="539640" y="189000"/>
            <a:ext cx="5400720" cy="2160360"/>
          </a:xfrm>
          <a:prstGeom prst="cloudCallout">
            <a:avLst>
              <a:gd name="adj1" fmla="val 70194"/>
              <a:gd name="adj2" fmla="val 67046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550160" y="496800"/>
            <a:ext cx="3598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ята, а кто зна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встречают вес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ери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5" descr="042056"/>
          <p:cNvPicPr/>
          <p:nvPr/>
        </p:nvPicPr>
        <p:blipFill>
          <a:blip r:embed="rId2"/>
          <a:stretch/>
        </p:blipFill>
        <p:spPr>
          <a:xfrm>
            <a:off x="0" y="4797360"/>
            <a:ext cx="2916360" cy="2060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f_0568"/>
          <p:cNvPicPr/>
          <p:nvPr/>
        </p:nvPicPr>
        <p:blipFill>
          <a:blip r:embed="rId3"/>
          <a:stretch/>
        </p:blipFill>
        <p:spPr>
          <a:xfrm>
            <a:off x="3059280" y="4768920"/>
            <a:ext cx="2374560" cy="20890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f_0572"/>
          <p:cNvPicPr/>
          <p:nvPr/>
        </p:nvPicPr>
        <p:blipFill>
          <a:blip r:embed="rId4"/>
          <a:stretch/>
        </p:blipFill>
        <p:spPr>
          <a:xfrm>
            <a:off x="2627280" y="2781360"/>
            <a:ext cx="2521080" cy="1969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animals_10"/>
          <p:cNvPicPr/>
          <p:nvPr/>
        </p:nvPicPr>
        <p:blipFill>
          <a:blip r:embed="rId5"/>
          <a:stretch/>
        </p:blipFill>
        <p:spPr>
          <a:xfrm>
            <a:off x="0" y="2492280"/>
            <a:ext cx="2592360" cy="2151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ЛИСА~1"/>
          <p:cNvPicPr/>
          <p:nvPr/>
        </p:nvPicPr>
        <p:blipFill>
          <a:blip r:embed="rId6"/>
          <a:stretch/>
        </p:blipFill>
        <p:spPr>
          <a:xfrm>
            <a:off x="6299280" y="0"/>
            <a:ext cx="2844720" cy="2133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МЕДВЕД~1"/>
          <p:cNvPicPr/>
          <p:nvPr/>
        </p:nvPicPr>
        <p:blipFill>
          <a:blip r:embed="rId1"/>
          <a:stretch/>
        </p:blipFill>
        <p:spPr>
          <a:xfrm>
            <a:off x="0" y="0"/>
            <a:ext cx="4140360" cy="3500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ЛИСА~1"/>
          <p:cNvPicPr/>
          <p:nvPr/>
        </p:nvPicPr>
        <p:blipFill>
          <a:blip r:embed="rId2"/>
          <a:stretch/>
        </p:blipFill>
        <p:spPr>
          <a:xfrm>
            <a:off x="4716360" y="0"/>
            <a:ext cx="4427640" cy="3500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Заяц-русак"/>
          <p:cNvPicPr/>
          <p:nvPr/>
        </p:nvPicPr>
        <p:blipFill>
          <a:blip r:embed="rId3"/>
          <a:stretch/>
        </p:blipFill>
        <p:spPr>
          <a:xfrm>
            <a:off x="2627280" y="3573360"/>
            <a:ext cx="3456000" cy="3284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5" descr="barany39"/>
          <p:cNvPicPr/>
          <p:nvPr/>
        </p:nvPicPr>
        <p:blipFill>
          <a:blip r:embed="rId1"/>
          <a:stretch/>
        </p:blipFill>
        <p:spPr>
          <a:xfrm>
            <a:off x="4932360" y="260280"/>
            <a:ext cx="3960720" cy="3168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barany81"/>
          <p:cNvPicPr/>
          <p:nvPr/>
        </p:nvPicPr>
        <p:blipFill>
          <a:blip r:embed="rId2"/>
          <a:stretch/>
        </p:blipFill>
        <p:spPr>
          <a:xfrm>
            <a:off x="1000080" y="214200"/>
            <a:ext cx="3816360" cy="3168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bears32"/>
          <p:cNvPicPr/>
          <p:nvPr/>
        </p:nvPicPr>
        <p:blipFill>
          <a:blip r:embed="rId3"/>
          <a:stretch/>
        </p:blipFill>
        <p:spPr>
          <a:xfrm>
            <a:off x="4932360" y="3645000"/>
            <a:ext cx="3960720" cy="2952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bears20"/>
          <p:cNvPicPr/>
          <p:nvPr/>
        </p:nvPicPr>
        <p:blipFill>
          <a:blip r:embed="rId4"/>
          <a:stretch/>
        </p:blipFill>
        <p:spPr>
          <a:xfrm>
            <a:off x="971640" y="3573360"/>
            <a:ext cx="3816360" cy="295272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9">
            <a:hlinkClick r:id="rId5" action="ppaction://hlinksldjump"/>
          </p:cNvPr>
          <p:cNvSpPr/>
          <p:nvPr/>
        </p:nvSpPr>
        <p:spPr>
          <a:xfrm>
            <a:off x="0" y="5778360"/>
            <a:ext cx="1332000" cy="1079640"/>
          </a:xfrm>
          <a:prstGeom prst="leftArrow">
            <a:avLst>
              <a:gd name="adj1" fmla="val 50000"/>
              <a:gd name="adj2" fmla="val 30844"/>
            </a:avLst>
          </a:prstGeom>
          <a:solidFill>
            <a:srgbClr val="00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 Black"/>
                <a:hlinkClick r:id="rId6" action="ppaction://hlinksldjump"/>
              </a:rPr>
              <a:t>наза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608760" y="225360"/>
            <a:ext cx="309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9900"/>
                </a:solidFill>
                <a:uFillTx/>
                <a:latin typeface="Century Gothic"/>
              </a:rPr>
              <a:t>живая 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5019120" y="189000"/>
            <a:ext cx="353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ff"/>
                </a:solidFill>
                <a:uFillTx/>
                <a:latin typeface="Century Gothic"/>
              </a:rPr>
              <a:t>неживая 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3474720" y="4076640"/>
            <a:ext cx="175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3399"/>
                </a:solidFill>
                <a:uFillTx/>
                <a:latin typeface="Comic Sans MS"/>
              </a:rPr>
              <a:t>я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4430880" y="5157720"/>
            <a:ext cx="16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п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182520" y="5862600"/>
            <a:ext cx="2847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я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снеж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83240" y="4316400"/>
            <a:ext cx="28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прилёт пт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2774880" y="5827680"/>
            <a:ext cx="296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первые гро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2"/>
          <p:cNvSpPr/>
          <p:nvPr/>
        </p:nvSpPr>
        <p:spPr>
          <a:xfrm>
            <a:off x="6230520" y="5877000"/>
            <a:ext cx="22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теп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3"/>
          <p:cNvSpPr/>
          <p:nvPr/>
        </p:nvSpPr>
        <p:spPr>
          <a:xfrm>
            <a:off x="183240" y="5324400"/>
            <a:ext cx="39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таивание поч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4"/>
          <p:cNvSpPr/>
          <p:nvPr/>
        </p:nvSpPr>
        <p:spPr>
          <a:xfrm>
            <a:off x="4659480" y="4581360"/>
            <a:ext cx="448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явление насеком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5"/>
          <p:cNvSpPr/>
          <p:nvPr/>
        </p:nvSpPr>
        <p:spPr>
          <a:xfrm>
            <a:off x="4287960" y="6278400"/>
            <a:ext cx="403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цветение раст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6"/>
          <p:cNvSpPr/>
          <p:nvPr/>
        </p:nvSpPr>
        <p:spPr>
          <a:xfrm>
            <a:off x="6518520" y="5035680"/>
            <a:ext cx="2320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линь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8"/>
          <p:cNvSpPr/>
          <p:nvPr/>
        </p:nvSpPr>
        <p:spPr>
          <a:xfrm>
            <a:off x="326880" y="4892760"/>
            <a:ext cx="276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аяние сне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29 -0.13241 L 0.0401 -0.5419 E">
                                      <p:cBhvr>
                                        <p:cTn id="295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07 -0.10092 L 0.54115 -0.62592 E">
                                      <p:cBhvr>
                                        <p:cTn id="297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41 -0.09028 L 0.5434 -0.6257 E">
                                      <p:cBhvr>
                                        <p:cTn id="299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0.09514 L 0.0408 -0.71458 E">
                                      <p:cBhvr>
                                        <p:cTn id="301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34 -0.13218 L 0.27135 -0.63612 E">
                                      <p:cBhvr>
                                        <p:cTn id="303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965 -0.09017 L 0.08421 -0.45734 E">
                                      <p:cBhvr>
                                        <p:cTn id="305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549 -0.08972 L -0.65469 -0.46451 E">
                                      <p:cBhvr>
                                        <p:cTn id="307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073 -0.0911 L -0.44167 -0.51121 E">
                                      <p:cBhvr>
                                        <p:cTn id="309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8 -0.1007 L -0.47518 -0.18473 E">
                                      <p:cBhvr>
                                        <p:cTn id="311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74 -0.16393 L -0.1165 -0.50358 E">
                                      <p:cBhvr>
                                        <p:cTn id="313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2 родители"/>
          <p:cNvPicPr/>
          <p:nvPr/>
        </p:nvPicPr>
        <p:blipFill>
          <a:blip r:embed="rId1"/>
          <a:stretch/>
        </p:blipFill>
        <p:spPr>
          <a:xfrm>
            <a:off x="5651640" y="1916280"/>
            <a:ext cx="3743280" cy="5400360"/>
          </a:xfrm>
          <a:prstGeom prst="rect">
            <a:avLst/>
          </a:prstGeom>
          <a:ln w="0">
            <a:noFill/>
          </a:ln>
        </p:spPr>
      </p:pic>
      <p:sp>
        <p:nvSpPr>
          <p:cNvPr id="237" name="WordArt 7"/>
          <p:cNvSpPr txBox="1"/>
          <p:nvPr/>
        </p:nvSpPr>
        <p:spPr>
          <a:xfrm>
            <a:off x="684360" y="5229360"/>
            <a:ext cx="460836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 встречи!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DSCN4861"/>
          <p:cNvPicPr/>
          <p:nvPr/>
        </p:nvPicPr>
        <p:blipFill>
          <a:blip r:embed="rId1"/>
          <a:stretch/>
        </p:blipFill>
        <p:spPr>
          <a:xfrm>
            <a:off x="0" y="3357720"/>
            <a:ext cx="4238640" cy="3097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DSCN4804"/>
          <p:cNvPicPr/>
          <p:nvPr/>
        </p:nvPicPr>
        <p:blipFill>
          <a:blip r:embed="rId2"/>
          <a:stretch/>
        </p:blipFill>
        <p:spPr>
          <a:xfrm>
            <a:off x="4788000" y="3573360"/>
            <a:ext cx="4105080" cy="3063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bird10"/>
          <p:cNvPicPr/>
          <p:nvPr/>
        </p:nvPicPr>
        <p:blipFill>
          <a:blip r:embed="rId3"/>
          <a:stretch/>
        </p:blipFill>
        <p:spPr>
          <a:xfrm>
            <a:off x="6588000" y="620640"/>
            <a:ext cx="1486080" cy="1189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bird10"/>
          <p:cNvPicPr/>
          <p:nvPr/>
        </p:nvPicPr>
        <p:blipFill>
          <a:blip r:embed="rId4"/>
          <a:stretch/>
        </p:blipFill>
        <p:spPr>
          <a:xfrm>
            <a:off x="6372360" y="1700280"/>
            <a:ext cx="1485720" cy="1189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bird10"/>
          <p:cNvPicPr/>
          <p:nvPr/>
        </p:nvPicPr>
        <p:blipFill>
          <a:blip r:embed="rId5"/>
          <a:stretch/>
        </p:blipFill>
        <p:spPr>
          <a:xfrm>
            <a:off x="7451640" y="1341360"/>
            <a:ext cx="1486080" cy="11890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0"/>
          <p:cNvSpPr/>
          <p:nvPr/>
        </p:nvSpPr>
        <p:spPr>
          <a:xfrm>
            <a:off x="468360" y="765000"/>
            <a:ext cx="568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сна - это прекрасное время года. Это пробуждение природы. Как вы думаете, почему говорят. Что природа весной пробуждается? А вы заметили какие нибудь изменения  на улиц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22"/>
          <p:cNvPicPr/>
          <p:nvPr/>
        </p:nvPicPr>
        <p:blipFill>
          <a:blip r:embed="rId1"/>
          <a:stretch/>
        </p:blipFill>
        <p:spPr>
          <a:xfrm>
            <a:off x="0" y="549360"/>
            <a:ext cx="2736720" cy="3384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половодье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987640" y="981000"/>
            <a:ext cx="3024360" cy="3382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f_1035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659640" y="2637000"/>
            <a:ext cx="2808360" cy="3528720"/>
          </a:xfrm>
          <a:prstGeom prst="rect">
            <a:avLst/>
          </a:prstGeom>
          <a:ln w="0">
            <a:noFill/>
          </a:ln>
        </p:spPr>
      </p:pic>
      <p:sp>
        <p:nvSpPr>
          <p:cNvPr id="109" name="WordArt 7"/>
          <p:cNvSpPr txBox="1"/>
          <p:nvPr/>
        </p:nvSpPr>
        <p:spPr>
          <a:xfrm>
            <a:off x="1619280" y="5589720"/>
            <a:ext cx="259236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дания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8226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37r3"/>
          <p:cNvPicPr/>
          <p:nvPr/>
        </p:nvPicPr>
        <p:blipFill>
          <a:blip r:embed="rId2"/>
          <a:stretch/>
        </p:blipFill>
        <p:spPr>
          <a:xfrm>
            <a:off x="7236000" y="2492280"/>
            <a:ext cx="1434960" cy="1440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396720" y="5589720"/>
            <a:ext cx="2006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66"/>
                </a:solidFill>
                <a:latin typeface="Arial"/>
              </a:rPr>
              <a:t>мар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6289 L -0.76372 -0.31445 E">
                                      <p:cBhvr>
                                        <p:cTn id="28" dur="5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март"/>
          <p:cNvPicPr/>
          <p:nvPr/>
        </p:nvPicPr>
        <p:blipFill>
          <a:blip r:embed="rId1"/>
          <a:stretch/>
        </p:blipFill>
        <p:spPr>
          <a:xfrm>
            <a:off x="179280" y="836640"/>
            <a:ext cx="4105440" cy="568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"/>
          <p:cNvSpPr/>
          <p:nvPr/>
        </p:nvSpPr>
        <p:spPr>
          <a:xfrm>
            <a:off x="510840" y="0"/>
            <a:ext cx="298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ротал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120untitled"/>
          <p:cNvPicPr/>
          <p:nvPr/>
        </p:nvPicPr>
        <p:blipFill>
          <a:blip r:embed="rId2"/>
          <a:stretch/>
        </p:blipFill>
        <p:spPr>
          <a:xfrm>
            <a:off x="4572000" y="836640"/>
            <a:ext cx="4392720" cy="56167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7"/>
          <p:cNvSpPr/>
          <p:nvPr/>
        </p:nvSpPr>
        <p:spPr>
          <a:xfrm>
            <a:off x="5728680" y="0"/>
            <a:ext cx="232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теп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untitlу55ed"/>
          <p:cNvPicPr/>
          <p:nvPr/>
        </p:nvPicPr>
        <p:blipFill>
          <a:blip r:embed="rId1"/>
          <a:stretch/>
        </p:blipFill>
        <p:spPr>
          <a:xfrm>
            <a:off x="0" y="1773360"/>
            <a:ext cx="3924360" cy="50846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756360" y="907920"/>
            <a:ext cx="21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п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щ"/>
          <p:cNvPicPr/>
          <p:nvPr/>
        </p:nvPicPr>
        <p:blipFill>
          <a:blip r:embed="rId2"/>
          <a:stretch/>
        </p:blipFill>
        <p:spPr>
          <a:xfrm>
            <a:off x="4140360" y="1773360"/>
            <a:ext cx="5003640" cy="50846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9"/>
          <p:cNvSpPr/>
          <p:nvPr/>
        </p:nvSpPr>
        <p:spPr>
          <a:xfrm>
            <a:off x="5652360" y="907920"/>
            <a:ext cx="255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едох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0"/>
          <p:cNvSpPr/>
          <p:nvPr/>
        </p:nvSpPr>
        <p:spPr>
          <a:xfrm>
            <a:off x="7956720" y="2565360"/>
            <a:ext cx="936360" cy="865080"/>
          </a:xfrm>
          <a:custGeom>
            <a:avLst/>
            <a:gdLst>
              <a:gd name="textAreaLeft" fmla="*/ 137160 w 936360"/>
              <a:gd name="textAreaRight" fmla="*/ 799200 w 936360"/>
              <a:gd name="textAreaTop" fmla="*/ 126720 h 865080"/>
              <a:gd name="textAreaBottom" fmla="*/ 7383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27600" y="217440"/>
            <a:ext cx="365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</a:rPr>
              <a:t>К маме - речке я бег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</a:rPr>
              <a:t>И молчать не мо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</a:rPr>
              <a:t>Я её сын родн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</a:rPr>
              <a:t>А родился вес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untiтает снег2"/>
          <p:cNvPicPr/>
          <p:nvPr/>
        </p:nvPicPr>
        <p:blipFill>
          <a:blip r:embed="rId1"/>
          <a:stretch/>
        </p:blipFill>
        <p:spPr>
          <a:xfrm>
            <a:off x="5003640" y="189000"/>
            <a:ext cx="3781440" cy="2592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"/>
          <p:cNvSpPr/>
          <p:nvPr/>
        </p:nvSpPr>
        <p:spPr>
          <a:xfrm>
            <a:off x="3382920" y="184464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</a:rPr>
              <a:t>руч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click?url=http%3A%2F%2Fzorjukov"/>
          <p:cNvPicPr/>
          <p:nvPr/>
        </p:nvPicPr>
        <p:blipFill>
          <a:blip r:embed="rId2"/>
          <a:stretch/>
        </p:blipFill>
        <p:spPr>
          <a:xfrm>
            <a:off x="179280" y="2924280"/>
            <a:ext cx="4969080" cy="3537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 родители"/>
          <p:cNvPicPr/>
          <p:nvPr/>
        </p:nvPicPr>
        <p:blipFill>
          <a:blip r:embed="rId3"/>
          <a:stretch/>
        </p:blipFill>
        <p:spPr>
          <a:xfrm>
            <a:off x="3635280" y="2565360"/>
            <a:ext cx="6986520" cy="4753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Winter_229"/>
          <p:cNvPicPr/>
          <p:nvPr/>
        </p:nvPicPr>
        <p:blipFill>
          <a:blip r:embed="rId1"/>
          <a:stretch/>
        </p:blipFill>
        <p:spPr>
          <a:xfrm>
            <a:off x="428760" y="1214280"/>
            <a:ext cx="8351640" cy="54025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2290680" y="333360"/>
            <a:ext cx="469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 Black"/>
              </a:rPr>
              <a:t>Апрель -водо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04:45:41Z</dcterms:created>
  <dc:creator>*</dc:creator>
  <dc:description/>
  <dc:language>en-US</dc:language>
  <cp:lastModifiedBy>777</cp:lastModifiedBy>
  <dcterms:modified xsi:type="dcterms:W3CDTF">2018-03-26T08:24:00Z</dcterms:modified>
  <cp:revision>54</cp:revision>
  <dc:subject/>
  <dc:title>Слайд 1</dc:title>
</cp:coreProperties>
</file>