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gif" ContentType="image/gif"/>
  <Override PartName="/ppt/media/image51.jpeg" ContentType="image/jpeg"/>
  <Override PartName="/ppt/media/image26.gif" ContentType="image/gif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28.gif" ContentType="image/gif"/>
  <Override PartName="/ppt/media/image59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18.jpeg" ContentType="image/jpeg"/>
  <Override PartName="/ppt/media/image8.gif" ContentType="image/gif"/>
  <Override PartName="/ppt/media/image16.png" ContentType="image/png"/>
  <Override PartName="/ppt/media/image49.jpeg" ContentType="image/jpeg"/>
  <Override PartName="/ppt/media/image13.gif" ContentType="image/gif"/>
  <Override PartName="/ppt/media/image48.jpeg" ContentType="image/jpeg"/>
  <Override PartName="/ppt/media/image6.jpeg" ContentType="image/jpeg"/>
  <Override PartName="/ppt/media/image7.jpeg" ContentType="image/jpeg"/>
  <Override PartName="/ppt/media/image36.png" ContentType="image/png"/>
  <Override PartName="/ppt/media/image39.png" ContentType="image/png"/>
  <Override PartName="/ppt/media/image44.jpeg" ContentType="image/jpeg"/>
  <Override PartName="/ppt/media/image40.jpeg" ContentType="image/jpeg"/>
  <Override PartName="/ppt/media/image46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53.jpeg" ContentType="image/jpeg"/>
  <Override PartName="/ppt/media/image54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37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97E-B53C-4B75-BF4B-586DFE24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456-A692-415A-A0C6-688F11F2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BEA-B9E7-4342-B957-E582CDAE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6FE-40A3-4278-B19A-F5C5DC91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9F17-55CD-4870-AC3A-C844E0D5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29D1-20B2-4FEE-A2A5-3F05721D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2424-846E-4909-9A85-29D06604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E692-F0F1-4579-B702-12DAC9CD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DADB-E758-45BB-B0E5-586E4A94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0D46-8414-43F6-8DB0-6A69ECB6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E927-4C08-4AE8-B378-C4939A2B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F18-F12B-4F72-8227-A992FCC8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4144-76EA-4923-B438-2D4BAEAB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126F-8E28-4807-A93C-477D40A7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3BB2-2EA9-4525-802B-30548D11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521A-A3FC-4419-93F1-EE70D5EE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FAEB-CFBC-45E1-834D-D6056914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CCB-4741-4B80-9EF8-AFCD9FEB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089-3DC7-4CEC-BF03-612BD081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FDD-4CDC-4BE3-BB0C-643BA618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BC7-809D-4008-9B45-4AC9EFE4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6A3-D74B-463F-9221-8B6FE49B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347-371F-4613-AEA6-3670EF3C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E5D-EE45-4468-9F98-E04D4EAD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D3F4-68CD-43D1-810C-76E9BB041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3B26-6469-4476-AA30-8E5124C51C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9.xml"/><Relationship Id="rId3" Type="http://schemas.openxmlformats.org/officeDocument/2006/relationships/image" Target="../media/image10.jpeg"/><Relationship Id="rId4" Type="http://schemas.openxmlformats.org/officeDocument/2006/relationships/slide" Target="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e4404eced2f23a5fde3f48c7232c2b30 - копия"/>
          <p:cNvPicPr/>
          <p:nvPr/>
        </p:nvPicPr>
        <p:blipFill>
          <a:blip r:embed="rId1"/>
          <a:stretch/>
        </p:blipFill>
        <p:spPr>
          <a:xfrm>
            <a:off x="4932360" y="5516640"/>
            <a:ext cx="3456000" cy="419040"/>
          </a:xfrm>
          <a:prstGeom prst="rect">
            <a:avLst/>
          </a:prstGeom>
          <a:ln w="0">
            <a:noFill/>
          </a:ln>
        </p:spPr>
      </p:pic>
      <p:sp>
        <p:nvSpPr>
          <p:cNvPr id="83" name="WordArt 2"/>
          <p:cNvSpPr txBox="1"/>
          <p:nvPr/>
        </p:nvSpPr>
        <p:spPr>
          <a:xfrm>
            <a:off x="611280" y="549360"/>
            <a:ext cx="82818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    г о с т и  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</a:t>
            </a: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    в е с н е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w09"/>
          <p:cNvPicPr/>
          <p:nvPr/>
        </p:nvPicPr>
        <p:blipFill>
          <a:blip r:embed="rId2"/>
          <a:stretch/>
        </p:blipFill>
        <p:spPr>
          <a:xfrm>
            <a:off x="324000" y="3429000"/>
            <a:ext cx="424800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7h"/>
          <p:cNvPicPr/>
          <p:nvPr/>
        </p:nvPicPr>
        <p:blipFill>
          <a:blip r:embed="rId10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7h"/>
          <p:cNvPicPr/>
          <p:nvPr/>
        </p:nvPicPr>
        <p:blipFill>
          <a:blip r:embed="rId11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7h"/>
          <p:cNvPicPr/>
          <p:nvPr/>
        </p:nvPicPr>
        <p:blipFill>
          <a:blip r:embed="rId12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787640" y="5732280"/>
            <a:ext cx="367164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тандаева Наталья Тимофе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Целинная ОШИ №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половодье 6"/>
          <p:cNvPicPr/>
          <p:nvPr/>
        </p:nvPicPr>
        <p:blipFill>
          <a:blip r:embed="rId1"/>
          <a:stretch/>
        </p:blipFill>
        <p:spPr>
          <a:xfrm>
            <a:off x="250920" y="115920"/>
            <a:ext cx="8604000" cy="6188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611880" y="64008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57960" y="93600"/>
            <a:ext cx="17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 Black"/>
              </a:rPr>
              <a:t>М а 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424240" y="907920"/>
            <a:ext cx="360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 Black"/>
              </a:rPr>
              <a:t>травень</a:t>
            </a:r>
            <a:r>
              <a:rPr b="1" lang="ru-RU" sz="2800" spc="-1" strike="noStrike">
                <a:solidFill>
                  <a:srgbClr val="333399"/>
                </a:solidFill>
                <a:latin typeface="Arial Black"/>
              </a:rPr>
              <a:t> –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 Black"/>
              </a:rPr>
              <a:t>цве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Nature_314"/>
          <p:cNvPicPr/>
          <p:nvPr/>
        </p:nvPicPr>
        <p:blipFill>
          <a:blip r:embed="rId1"/>
          <a:stretch/>
        </p:blipFill>
        <p:spPr>
          <a:xfrm>
            <a:off x="1116000" y="2295360"/>
            <a:ext cx="691200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normal_DSCN7640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3583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ni_19"/>
          <p:cNvPicPr/>
          <p:nvPr/>
        </p:nvPicPr>
        <p:blipFill>
          <a:blip r:embed="rId2"/>
          <a:stretch/>
        </p:blipFill>
        <p:spPr>
          <a:xfrm>
            <a:off x="4356000" y="3068640"/>
            <a:ext cx="4600800" cy="3625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4591440" y="217440"/>
            <a:ext cx="45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Май-месяц первой зеле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первых цветов, пер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весенних г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85435ed910a89086e844166fd42433f8"/>
          <p:cNvPicPr/>
          <p:nvPr/>
        </p:nvPicPr>
        <p:blipFill>
          <a:blip r:embed="rId3"/>
          <a:stretch/>
        </p:blipFill>
        <p:spPr>
          <a:xfrm>
            <a:off x="1258920" y="4941720"/>
            <a:ext cx="1871640" cy="1689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prir51"/>
          <p:cNvPicPr/>
          <p:nvPr/>
        </p:nvPicPr>
        <p:blipFill>
          <a:blip r:embed="rId4"/>
          <a:stretch/>
        </p:blipFill>
        <p:spPr>
          <a:xfrm>
            <a:off x="7164360" y="1413000"/>
            <a:ext cx="1660680" cy="1457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prir732"/>
          <p:cNvPicPr/>
          <p:nvPr/>
        </p:nvPicPr>
        <p:blipFill>
          <a:blip r:embed="rId5"/>
          <a:stretch/>
        </p:blipFill>
        <p:spPr>
          <a:xfrm>
            <a:off x="468360" y="3971880"/>
            <a:ext cx="1295280" cy="93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ni_17"/>
          <p:cNvPicPr/>
          <p:nvPr/>
        </p:nvPicPr>
        <p:blipFill>
          <a:blip r:embed="rId1"/>
          <a:stretch/>
        </p:blipFill>
        <p:spPr>
          <a:xfrm>
            <a:off x="1116000" y="549360"/>
            <a:ext cx="2951280" cy="223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мать и мачеха"/>
          <p:cNvPicPr/>
          <p:nvPr/>
        </p:nvPicPr>
        <p:blipFill>
          <a:blip r:embed="rId2"/>
          <a:stretch/>
        </p:blipFill>
        <p:spPr>
          <a:xfrm>
            <a:off x="4643280" y="54936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хохлатка"/>
          <p:cNvPicPr/>
          <p:nvPr/>
        </p:nvPicPr>
        <p:blipFill>
          <a:blip r:embed="rId3"/>
          <a:stretch/>
        </p:blipFill>
        <p:spPr>
          <a:xfrm>
            <a:off x="1042920" y="342900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медуница2"/>
          <p:cNvPicPr/>
          <p:nvPr/>
        </p:nvPicPr>
        <p:blipFill>
          <a:blip r:embed="rId4"/>
          <a:stretch/>
        </p:blipFill>
        <p:spPr>
          <a:xfrm>
            <a:off x="4788000" y="3429000"/>
            <a:ext cx="3097080" cy="244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3110040" y="627840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снеж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510920" y="0"/>
            <a:ext cx="21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ветр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4777200" y="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мать-и-мач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1543320" y="292428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хохл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5425920" y="292428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меду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 rot="5400000">
            <a:off x="4139280" y="2348280"/>
            <a:ext cx="720720" cy="7345440"/>
          </a:xfrm>
          <a:custGeom>
            <a:avLst/>
            <a:gdLst>
              <a:gd name="textAreaLeft" fmla="*/ 0 w 720720"/>
              <a:gd name="textAreaRight" fmla="*/ 260280 w 720720"/>
              <a:gd name="textAreaTop" fmla="*/ 191520 h 7345440"/>
              <a:gd name="textAreaBottom" fmla="*/ 7153920 h 734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63"/>
                </a:lnTo>
                <a:cubicBezTo>
                  <a:pt x="10800" y="9363"/>
                  <a:pt x="16200" y="10263"/>
                  <a:pt x="21600" y="10263"/>
                </a:cubicBezTo>
                <a:cubicBezTo>
                  <a:pt x="16200" y="10263"/>
                  <a:pt x="10800" y="11163"/>
                  <a:pt x="10800" y="1206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lick?url=http%3A%2F%2Fwww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348000" y="620640"/>
            <a:ext cx="250200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p20-4-2"/>
          <p:cNvPicPr/>
          <p:nvPr/>
        </p:nvPicPr>
        <p:blipFill>
          <a:blip r:embed="rId2"/>
          <a:stretch/>
        </p:blipFill>
        <p:spPr>
          <a:xfrm>
            <a:off x="6370560" y="620640"/>
            <a:ext cx="2773440" cy="302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flowers_43"/>
          <p:cNvPicPr/>
          <p:nvPr/>
        </p:nvPicPr>
        <p:blipFill>
          <a:blip r:embed="rId3"/>
          <a:stretch/>
        </p:blipFill>
        <p:spPr>
          <a:xfrm>
            <a:off x="250920" y="620640"/>
            <a:ext cx="2806560" cy="3024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385640" y="6083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356000" y="609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7434000" y="6083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835280" y="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асставь по по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85 -0.31468 L -0.33368 0.44694 E">
                                      <p:cBhvr>
                                        <p:cTn id="11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-0.30428 L -0.34045 0.45734 E">
                                      <p:cBhvr>
                                        <p:cTn id="11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46 -0.16255 L 0.64983 0.44578 E">
                                      <p:cBhvr>
                                        <p:cTn id="11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2 родители"/>
          <p:cNvPicPr/>
          <p:nvPr/>
        </p:nvPicPr>
        <p:blipFill>
          <a:blip r:embed="rId1"/>
          <a:stretch/>
        </p:blipFill>
        <p:spPr>
          <a:xfrm>
            <a:off x="5651640" y="1916280"/>
            <a:ext cx="3743280" cy="54003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3"/>
          <p:cNvSpPr/>
          <p:nvPr/>
        </p:nvSpPr>
        <p:spPr>
          <a:xfrm>
            <a:off x="539640" y="189000"/>
            <a:ext cx="5400720" cy="2160360"/>
          </a:xfrm>
          <a:prstGeom prst="cloudCallout">
            <a:avLst>
              <a:gd name="adj1" fmla="val 70194"/>
              <a:gd name="adj2" fmla="val 6704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50160" y="496800"/>
            <a:ext cx="390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скажите, а к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осит вес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рыльях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250920" y="0"/>
            <a:ext cx="8066160" cy="1989000"/>
          </a:xfrm>
          <a:prstGeom prst="cloudCallout">
            <a:avLst>
              <a:gd name="adj1" fmla="val -25416"/>
              <a:gd name="adj2" fmla="val 10235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abimage0045"/>
          <p:cNvPicPr/>
          <p:nvPr/>
        </p:nvPicPr>
        <p:blipFill>
          <a:blip r:embed="rId2"/>
          <a:stretch/>
        </p:blipFill>
        <p:spPr>
          <a:xfrm rot="364800">
            <a:off x="971640" y="3428640"/>
            <a:ext cx="1904760" cy="2514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1258920" y="18900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равствуйте, ребя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я зовут Мудрая С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расскажу вам о жизни птиц весно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jiv417"/>
          <p:cNvPicPr/>
          <p:nvPr/>
        </p:nvPicPr>
        <p:blipFill>
          <a:blip r:embed="rId1"/>
          <a:stretch/>
        </p:blipFill>
        <p:spPr>
          <a:xfrm>
            <a:off x="9144000" y="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jiv417"/>
          <p:cNvPicPr/>
          <p:nvPr/>
        </p:nvPicPr>
        <p:blipFill>
          <a:blip r:embed="rId2"/>
          <a:stretch/>
        </p:blipFill>
        <p:spPr>
          <a:xfrm>
            <a:off x="9468000" y="620640"/>
            <a:ext cx="1114200" cy="857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jiv417"/>
          <p:cNvPicPr/>
          <p:nvPr/>
        </p:nvPicPr>
        <p:blipFill>
          <a:blip r:embed="rId3"/>
          <a:stretch/>
        </p:blipFill>
        <p:spPr>
          <a:xfrm>
            <a:off x="9396360" y="134136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bimage003v"/>
          <p:cNvPicPr/>
          <p:nvPr/>
        </p:nvPicPr>
        <p:blipFill>
          <a:blip r:embed="rId4"/>
          <a:stretch/>
        </p:blipFill>
        <p:spPr>
          <a:xfrm>
            <a:off x="9612360" y="5661000"/>
            <a:ext cx="1666800" cy="1000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lick?url=http%3A%2F%2Fpoozerie"/>
          <p:cNvPicPr/>
          <p:nvPr/>
        </p:nvPicPr>
        <p:blipFill>
          <a:blip r:embed="rId5"/>
          <a:stretch/>
        </p:blipFill>
        <p:spPr>
          <a:xfrm>
            <a:off x="9468000" y="2205000"/>
            <a:ext cx="3240000" cy="3241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3240" y="-1035000"/>
            <a:ext cx="418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аются перелё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9326160" y="436572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цы стро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емонтир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и гнёз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9973080" y="6035760"/>
            <a:ext cx="21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ад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й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1692360" y="-3124080"/>
            <a:ext cx="6626160" cy="2449440"/>
          </a:xfrm>
          <a:prstGeom prst="cloudCallout">
            <a:avLst>
              <a:gd name="adj1" fmla="val -53402"/>
              <a:gd name="adj2" fmla="val 3911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556000" y="-2692440"/>
            <a:ext cx="515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, подумайте и скаж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чему это стало воз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ной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3" descr="abimage0045"/>
          <p:cNvPicPr/>
          <p:nvPr/>
        </p:nvPicPr>
        <p:blipFill>
          <a:blip r:embed="rId6"/>
          <a:stretch/>
        </p:blipFill>
        <p:spPr>
          <a:xfrm>
            <a:off x="324000" y="4005360"/>
            <a:ext cx="190476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94 -0.00347 L -0.50573 0.04878 E">
                                      <p:cBhvr>
                                        <p:cTn id="159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9387 L -0.41527 -0.03098 E">
                                      <p:cBhvr>
                                        <p:cTn id="16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9387 L -0.27361 -0.13595 E">
                                      <p:cBhvr>
                                        <p:cTn id="16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09827E-006 L 0.03941 0.20971 E">
                                      <p:cBhvr>
                                        <p:cTn id="16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71 -0.03145 L -0.44271 -0.0474 E">
                                      <p:cBhvr>
                                        <p:cTn id="16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82 -0.10751 L -0.78855 -0.16 E">
                                      <p:cBhvr>
                                        <p:cTn id="17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-0.09387 L -0.30382 -0.02058 E">
                                      <p:cBhvr>
                                        <p:cTn id="17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25 -0.10382 L -0.65226 -0.04093 E">
                                      <p:cBhvr>
                                        <p:cTn id="177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8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53541 -0.06312 L 0.05503 0.50196 E">
                                      <p:cBhvr>
                                        <p:cTn id="19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13873 L 0.08004 0.50104 E">
                                      <p:cBhvr>
                                        <p:cTn id="19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от Мудрой Сов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ждая перелетная птица возвращается в родные края в определенн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х перелетных птиц чер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тит он пашню от чер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д-вперед по пашне вска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овется птица..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Гра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т — время прилета грачей в Росс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4" descr="Картинки по запросу"/>
          <p:cNvPicPr/>
          <p:nvPr/>
        </p:nvPicPr>
        <p:blipFill>
          <a:blip r:embed="rId1"/>
          <a:stretch/>
        </p:blipFill>
        <p:spPr>
          <a:xfrm>
            <a:off x="457200" y="1773360"/>
            <a:ext cx="403848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5084640"/>
            <a:ext cx="3527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кворец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прилетает каждый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уда, где домик жд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ужие песни петь уме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все же голос свой имеет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Скворец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635280" y="18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1196640"/>
            <a:ext cx="4194000" cy="1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55284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летает к нам с тепл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ть проделав дли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пит домик под окн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травы и глины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Ласточ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 прилета в родные края — ма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48320" y="3933360"/>
            <a:ext cx="419400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haroni"/>
              </a:rPr>
              <a:t>ласто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557360"/>
            <a:ext cx="4392360" cy="2509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932360" y="476280"/>
            <a:ext cx="421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шла она тайком от ветров и стуж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годня — прямиком шлепает по лужа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т талые снега с гомоном и звон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ыстелить луга бархатом зеле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оро, скоро быть теплу!» — эту новость пер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банит по стеклу серой лапкой вер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тысячи скворцов с домиком подруж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множество птенцов выглянут наруж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и по небу пройдут, и тебе впер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адошку упадут капли дожде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каком времени года говорится в стихотворен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ледостав"/>
          <p:cNvPicPr/>
          <p:nvPr/>
        </p:nvPicPr>
        <p:blipFill>
          <a:blip r:embed="rId1"/>
          <a:stretch/>
        </p:blipFill>
        <p:spPr>
          <a:xfrm>
            <a:off x="0" y="404640"/>
            <a:ext cx="4633920" cy="6120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48360" y="53737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о вес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2 родители"/>
          <p:cNvPicPr/>
          <p:nvPr/>
        </p:nvPicPr>
        <p:blipFill>
          <a:blip r:embed="rId2"/>
          <a:stretch/>
        </p:blipFill>
        <p:spPr>
          <a:xfrm>
            <a:off x="8964720" y="1962000"/>
            <a:ext cx="3564000" cy="535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0.02104 L -0.36215 0.02104 E">
                                      <p:cBhvr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ец марта — время прилета скворц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е гнездо он в поле вь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тяну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го и песня и по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шли в стихотворения!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Жаворо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прилета жаворонков - начало апр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4802040" y="1197000"/>
            <a:ext cx="388620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летел к нам, наконец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ший наш певе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ни и ночи напро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поет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Солове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овьи прилетают в середине м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995640" y="1268280"/>
            <a:ext cx="4105440" cy="5069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35640" y="333360"/>
            <a:ext cx="316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солове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летел к нам, наконец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ший наш певе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ни и ночи напро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поет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Солове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овьи прилетают в середине м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348000" y="260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Содержимое 4" descr="CAWVUNUZ.jpg"/>
          <p:cNvPicPr/>
          <p:nvPr/>
        </p:nvPicPr>
        <p:blipFill>
          <a:blip r:embed="rId1"/>
          <a:stretch/>
        </p:blipFill>
        <p:spPr>
          <a:xfrm>
            <a:off x="4716360" y="2133720"/>
            <a:ext cx="4103640" cy="4392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716000" y="5876640"/>
            <a:ext cx="4125960" cy="2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2846520" y="189000"/>
            <a:ext cx="30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помните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111680" y="1197000"/>
            <a:ext cx="738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тревожьте и не беспокойте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гнёздах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276720" y="2492280"/>
            <a:ext cx="56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есь скворечни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26520" y="3500280"/>
            <a:ext cx="50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 разоряйте гнёз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144320" y="573408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 встречи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abimage0045"/>
          <p:cNvPicPr/>
          <p:nvPr/>
        </p:nvPicPr>
        <p:blipFill>
          <a:blip r:embed="rId1"/>
          <a:stretch/>
        </p:blipFill>
        <p:spPr>
          <a:xfrm rot="500400">
            <a:off x="610920" y="3357360"/>
            <a:ext cx="2622600" cy="3160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2 родители"/>
          <p:cNvPicPr/>
          <p:nvPr/>
        </p:nvPicPr>
        <p:blipFill>
          <a:blip r:embed="rId1"/>
          <a:stretch/>
        </p:blipFill>
        <p:spPr>
          <a:xfrm>
            <a:off x="5651640" y="1916280"/>
            <a:ext cx="3743280" cy="54003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3"/>
          <p:cNvSpPr/>
          <p:nvPr/>
        </p:nvSpPr>
        <p:spPr>
          <a:xfrm>
            <a:off x="539640" y="189000"/>
            <a:ext cx="5400720" cy="2160360"/>
          </a:xfrm>
          <a:prstGeom prst="cloudCallout">
            <a:avLst>
              <a:gd name="adj1" fmla="val 70194"/>
              <a:gd name="adj2" fmla="val 6704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550160" y="496800"/>
            <a:ext cx="359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а кто зн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стречают вес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ри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042056"/>
          <p:cNvPicPr/>
          <p:nvPr/>
        </p:nvPicPr>
        <p:blipFill>
          <a:blip r:embed="rId2"/>
          <a:stretch/>
        </p:blipFill>
        <p:spPr>
          <a:xfrm>
            <a:off x="0" y="4797360"/>
            <a:ext cx="2916360" cy="2060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f_0568"/>
          <p:cNvPicPr/>
          <p:nvPr/>
        </p:nvPicPr>
        <p:blipFill>
          <a:blip r:embed="rId3"/>
          <a:stretch/>
        </p:blipFill>
        <p:spPr>
          <a:xfrm>
            <a:off x="3059280" y="4768920"/>
            <a:ext cx="2374560" cy="2089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f_0572"/>
          <p:cNvPicPr/>
          <p:nvPr/>
        </p:nvPicPr>
        <p:blipFill>
          <a:blip r:embed="rId4"/>
          <a:stretch/>
        </p:blipFill>
        <p:spPr>
          <a:xfrm>
            <a:off x="2627280" y="2781360"/>
            <a:ext cx="2521080" cy="1969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animals_10"/>
          <p:cNvPicPr/>
          <p:nvPr/>
        </p:nvPicPr>
        <p:blipFill>
          <a:blip r:embed="rId5"/>
          <a:stretch/>
        </p:blipFill>
        <p:spPr>
          <a:xfrm>
            <a:off x="0" y="2492280"/>
            <a:ext cx="2592360" cy="215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ЛИСА~1"/>
          <p:cNvPicPr/>
          <p:nvPr/>
        </p:nvPicPr>
        <p:blipFill>
          <a:blip r:embed="rId6"/>
          <a:stretch/>
        </p:blipFill>
        <p:spPr>
          <a:xfrm>
            <a:off x="6299280" y="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МЕДВЕД~1"/>
          <p:cNvPicPr/>
          <p:nvPr/>
        </p:nvPicPr>
        <p:blipFill>
          <a:blip r:embed="rId1"/>
          <a:stretch/>
        </p:blipFill>
        <p:spPr>
          <a:xfrm>
            <a:off x="0" y="0"/>
            <a:ext cx="4140360" cy="3500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ЛИСА~1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500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Заяц-русак"/>
          <p:cNvPicPr/>
          <p:nvPr/>
        </p:nvPicPr>
        <p:blipFill>
          <a:blip r:embed="rId3"/>
          <a:stretch/>
        </p:blipFill>
        <p:spPr>
          <a:xfrm>
            <a:off x="2627280" y="3573360"/>
            <a:ext cx="3456000" cy="328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barany39"/>
          <p:cNvPicPr/>
          <p:nvPr/>
        </p:nvPicPr>
        <p:blipFill>
          <a:blip r:embed="rId1"/>
          <a:stretch/>
        </p:blipFill>
        <p:spPr>
          <a:xfrm>
            <a:off x="4932360" y="260280"/>
            <a:ext cx="3960720" cy="3168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barany81"/>
          <p:cNvPicPr/>
          <p:nvPr/>
        </p:nvPicPr>
        <p:blipFill>
          <a:blip r:embed="rId2"/>
          <a:stretch/>
        </p:blipFill>
        <p:spPr>
          <a:xfrm>
            <a:off x="1000080" y="21420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bears32"/>
          <p:cNvPicPr/>
          <p:nvPr/>
        </p:nvPicPr>
        <p:blipFill>
          <a:blip r:embed="rId3"/>
          <a:stretch/>
        </p:blipFill>
        <p:spPr>
          <a:xfrm>
            <a:off x="4932360" y="3645000"/>
            <a:ext cx="3960720" cy="2952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bears20"/>
          <p:cNvPicPr/>
          <p:nvPr/>
        </p:nvPicPr>
        <p:blipFill>
          <a:blip r:embed="rId4"/>
          <a:stretch/>
        </p:blipFill>
        <p:spPr>
          <a:xfrm>
            <a:off x="971640" y="3573360"/>
            <a:ext cx="3816360" cy="29527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9">
            <a:hlinkClick r:id="rId5" action="ppaction://hlinksldjump"/>
          </p:cNvPr>
          <p:cNvSpPr/>
          <p:nvPr/>
        </p:nvSpPr>
        <p:spPr>
          <a:xfrm>
            <a:off x="0" y="5778360"/>
            <a:ext cx="1332000" cy="1079640"/>
          </a:xfrm>
          <a:prstGeom prst="leftArrow">
            <a:avLst>
              <a:gd name="adj1" fmla="val 50000"/>
              <a:gd name="adj2" fmla="val 30844"/>
            </a:avLst>
          </a:prstGeom>
          <a:solidFill>
            <a:srgbClr val="00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 Black"/>
                <a:hlinkClick r:id="rId6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608760" y="2253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Century Gothic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019120" y="18900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entury Gothic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474720" y="40766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99"/>
                </a:solidFill>
                <a:uFillTx/>
                <a:latin typeface="Comic Sans MS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430880" y="5157720"/>
            <a:ext cx="16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182520" y="5862600"/>
            <a:ext cx="284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83240" y="431640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рилёт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774880" y="582768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ервые 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6230520" y="5877000"/>
            <a:ext cx="22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е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183240" y="532440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аивание 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4659480" y="4581360"/>
            <a:ext cx="44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 насеко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287960" y="6278400"/>
            <a:ext cx="40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ветение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518520" y="5035680"/>
            <a:ext cx="2320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ин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326880" y="4892760"/>
            <a:ext cx="27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яние сн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-0.13241 L 0.0401 -0.5419 E">
                                      <p:cBhvr>
                                        <p:cTn id="29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10092 L 0.54115 -0.62592 E">
                                      <p:cBhvr>
                                        <p:cTn id="29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9028 L 0.5434 -0.6257 E">
                                      <p:cBhvr>
                                        <p:cTn id="299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9514 L 0.0408 -0.71458 E">
                                      <p:cBhvr>
                                        <p:cTn id="301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-0.13218 L 0.27135 -0.63612 E">
                                      <p:cBhvr>
                                        <p:cTn id="30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65 -0.09017 L 0.08421 -0.45734 E">
                                      <p:cBhvr>
                                        <p:cTn id="305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49 -0.08972 L -0.65469 -0.46451 E">
                                      <p:cBhvr>
                                        <p:cTn id="307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73 -0.0911 L -0.44167 -0.51121 E">
                                      <p:cBhvr>
                                        <p:cTn id="309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8 -0.1007 L -0.47518 -0.18473 E">
                                      <p:cBhvr>
                                        <p:cTn id="31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4 -0.16393 L -0.1165 -0.50358 E">
                                      <p:cBhvr>
                                        <p:cTn id="313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2 родители"/>
          <p:cNvPicPr/>
          <p:nvPr/>
        </p:nvPicPr>
        <p:blipFill>
          <a:blip r:embed="rId1"/>
          <a:stretch/>
        </p:blipFill>
        <p:spPr>
          <a:xfrm>
            <a:off x="5651640" y="1916280"/>
            <a:ext cx="3743280" cy="5400360"/>
          </a:xfrm>
          <a:prstGeom prst="rect">
            <a:avLst/>
          </a:prstGeom>
          <a:ln w="0">
            <a:noFill/>
          </a:ln>
        </p:spPr>
      </p:pic>
      <p:sp>
        <p:nvSpPr>
          <p:cNvPr id="237" name="WordArt 7"/>
          <p:cNvSpPr txBox="1"/>
          <p:nvPr/>
        </p:nvSpPr>
        <p:spPr>
          <a:xfrm>
            <a:off x="684360" y="5229360"/>
            <a:ext cx="4608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 встречи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DSCN4861"/>
          <p:cNvPicPr/>
          <p:nvPr/>
        </p:nvPicPr>
        <p:blipFill>
          <a:blip r:embed="rId1"/>
          <a:stretch/>
        </p:blipFill>
        <p:spPr>
          <a:xfrm>
            <a:off x="0" y="3357720"/>
            <a:ext cx="4238640" cy="309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DSCN4804"/>
          <p:cNvPicPr/>
          <p:nvPr/>
        </p:nvPicPr>
        <p:blipFill>
          <a:blip r:embed="rId2"/>
          <a:stretch/>
        </p:blipFill>
        <p:spPr>
          <a:xfrm>
            <a:off x="4788000" y="3573360"/>
            <a:ext cx="4105080" cy="306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bird10"/>
          <p:cNvPicPr/>
          <p:nvPr/>
        </p:nvPicPr>
        <p:blipFill>
          <a:blip r:embed="rId3"/>
          <a:stretch/>
        </p:blipFill>
        <p:spPr>
          <a:xfrm>
            <a:off x="6588000" y="62064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bird10"/>
          <p:cNvPicPr/>
          <p:nvPr/>
        </p:nvPicPr>
        <p:blipFill>
          <a:blip r:embed="rId4"/>
          <a:stretch/>
        </p:blipFill>
        <p:spPr>
          <a:xfrm>
            <a:off x="6372360" y="1700280"/>
            <a:ext cx="1485720" cy="1189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bird10"/>
          <p:cNvPicPr/>
          <p:nvPr/>
        </p:nvPicPr>
        <p:blipFill>
          <a:blip r:embed="rId5"/>
          <a:stretch/>
        </p:blipFill>
        <p:spPr>
          <a:xfrm>
            <a:off x="7451640" y="1341360"/>
            <a:ext cx="1486080" cy="1189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468360" y="765000"/>
            <a:ext cx="56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а - это прекрасное время года. Это пробуждение природы. Как вы думаете, почему говорят. Что природа весной пробуждается? А вы заметили какие нибудь изменения  на ули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22"/>
          <p:cNvPicPr/>
          <p:nvPr/>
        </p:nvPicPr>
        <p:blipFill>
          <a:blip r:embed="rId1"/>
          <a:stretch/>
        </p:blipFill>
        <p:spPr>
          <a:xfrm>
            <a:off x="0" y="549360"/>
            <a:ext cx="2736720" cy="338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половодье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87640" y="981000"/>
            <a:ext cx="3024360" cy="3382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f_103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59640" y="2637000"/>
            <a:ext cx="2808360" cy="35287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7"/>
          <p:cNvSpPr txBox="1"/>
          <p:nvPr/>
        </p:nvSpPr>
        <p:spPr>
          <a:xfrm>
            <a:off x="1619280" y="5589720"/>
            <a:ext cx="25923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822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37r3"/>
          <p:cNvPicPr/>
          <p:nvPr/>
        </p:nvPicPr>
        <p:blipFill>
          <a:blip r:embed="rId2"/>
          <a:stretch/>
        </p:blipFill>
        <p:spPr>
          <a:xfrm>
            <a:off x="7236000" y="2492280"/>
            <a:ext cx="1434960" cy="1440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396720" y="5589720"/>
            <a:ext cx="200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Arial"/>
              </a:rPr>
              <a:t>мар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6289 L -0.76372 -0.31445 E">
                                      <p:cBhvr>
                                        <p:cTn id="28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март"/>
          <p:cNvPicPr/>
          <p:nvPr/>
        </p:nvPicPr>
        <p:blipFill>
          <a:blip r:embed="rId1"/>
          <a:stretch/>
        </p:blipFill>
        <p:spPr>
          <a:xfrm>
            <a:off x="179280" y="836640"/>
            <a:ext cx="4105440" cy="568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510840" y="0"/>
            <a:ext cx="298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тал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20untitled"/>
          <p:cNvPicPr/>
          <p:nvPr/>
        </p:nvPicPr>
        <p:blipFill>
          <a:blip r:embed="rId2"/>
          <a:stretch/>
        </p:blipFill>
        <p:spPr>
          <a:xfrm>
            <a:off x="4572000" y="836640"/>
            <a:ext cx="4392720" cy="5616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5728680" y="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теп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untitlу55ed"/>
          <p:cNvPicPr/>
          <p:nvPr/>
        </p:nvPicPr>
        <p:blipFill>
          <a:blip r:embed="rId1"/>
          <a:stretch/>
        </p:blipFill>
        <p:spPr>
          <a:xfrm>
            <a:off x="0" y="1773360"/>
            <a:ext cx="3924360" cy="5084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756360" y="907920"/>
            <a:ext cx="21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п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щ"/>
          <p:cNvPicPr/>
          <p:nvPr/>
        </p:nvPicPr>
        <p:blipFill>
          <a:blip r:embed="rId2"/>
          <a:stretch/>
        </p:blipFill>
        <p:spPr>
          <a:xfrm>
            <a:off x="4140360" y="1773360"/>
            <a:ext cx="5003640" cy="5084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5652360" y="907920"/>
            <a:ext cx="25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до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7956720" y="2565360"/>
            <a:ext cx="936360" cy="865080"/>
          </a:xfrm>
          <a:custGeom>
            <a:avLst/>
            <a:gdLst>
              <a:gd name="textAreaLeft" fmla="*/ 137160 w 936360"/>
              <a:gd name="textAreaRight" fmla="*/ 799200 w 936360"/>
              <a:gd name="textAreaTop" fmla="*/ 126720 h 865080"/>
              <a:gd name="textAreaBottom" fmla="*/ 7383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7600" y="217440"/>
            <a:ext cx="365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К маме - речке я бе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И молчать не м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Я её сын род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А родился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untiтает снег2"/>
          <p:cNvPicPr/>
          <p:nvPr/>
        </p:nvPicPr>
        <p:blipFill>
          <a:blip r:embed="rId1"/>
          <a:stretch/>
        </p:blipFill>
        <p:spPr>
          <a:xfrm>
            <a:off x="5003640" y="189000"/>
            <a:ext cx="3781440" cy="2592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3382920" y="18446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ру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lick?url=http%3A%2F%2Fzorjukov"/>
          <p:cNvPicPr/>
          <p:nvPr/>
        </p:nvPicPr>
        <p:blipFill>
          <a:blip r:embed="rId2"/>
          <a:stretch/>
        </p:blipFill>
        <p:spPr>
          <a:xfrm>
            <a:off x="179280" y="2924280"/>
            <a:ext cx="4969080" cy="3537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 родители"/>
          <p:cNvPicPr/>
          <p:nvPr/>
        </p:nvPicPr>
        <p:blipFill>
          <a:blip r:embed="rId3"/>
          <a:stretch/>
        </p:blipFill>
        <p:spPr>
          <a:xfrm>
            <a:off x="3635280" y="2565360"/>
            <a:ext cx="6986520" cy="475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Winter_229"/>
          <p:cNvPicPr/>
          <p:nvPr/>
        </p:nvPicPr>
        <p:blipFill>
          <a:blip r:embed="rId1"/>
          <a:stretch/>
        </p:blipFill>
        <p:spPr>
          <a:xfrm>
            <a:off x="428760" y="1214280"/>
            <a:ext cx="8351640" cy="5402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290680" y="333360"/>
            <a:ext cx="469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 Black"/>
              </a:rPr>
              <a:t>Апрель -водо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45:41Z</dcterms:created>
  <dc:creator>*</dc:creator>
  <dc:description/>
  <dc:language>en-US</dc:language>
  <cp:lastModifiedBy>777</cp:lastModifiedBy>
  <dcterms:modified xsi:type="dcterms:W3CDTF">2018-03-26T08:24:00Z</dcterms:modified>
  <cp:revision>54</cp:revision>
  <dc:subject/>
  <dc:title>Слайд 1</dc:title>
</cp:coreProperties>
</file>