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03B4-FE03-4D4D-9D13-C051DBA93F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8A42-696A-481F-8C7D-01FA668FFA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4066-B153-44F9-8E31-F3DBFF3C56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C86-2F2D-4392-BBF7-BDA97CF4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E11-4584-41A0-B2F5-342CC70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C8D7A-D4B2-4B3E-8E4F-822F560A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937E0-1C32-40BF-95E4-0D0954A1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7F6F0-917D-483B-96A3-6F066DFD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4C885-9C74-4A9E-B9C4-A5B77437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675F7-4E93-4961-87AB-262503BB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05847-F6F9-465A-B89A-7961E57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50D6F-4940-4129-9365-6E81A70F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CB678-6921-449E-9C94-DDB35A1C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301A0-9718-4F67-86FC-E0331306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B594D-A2F3-4861-B9B4-71E51621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18E-2C99-48E2-B0D1-C7B996E2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133A7-C3DF-4C67-B197-44D5147C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60DC2-D1A2-46AA-A679-E69825A7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0143A-249D-4E14-A724-84A6438B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3F309-40A1-4A25-909A-000CEA38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24835-6429-4E3F-9EEC-51F43885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0EDB0-4A42-4060-B5A2-BF3A5966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84C31-E347-4CEB-95DE-D0996F48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87636-DEC5-4151-A8FC-339F3480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3F2C0-792B-44E1-804D-6DA6921C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EC968-9DAC-4B6D-A520-EC25C56E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CDA-DF66-483F-A74D-7CFB7B5D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DABCF-EEDB-479C-948E-2BEEC671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DA87A-EF37-4A8E-A4E2-9BA95610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2E45B-6752-43FB-9C59-A8532BB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CB876-E815-4769-BA0C-BC919D0C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22BD4-4161-486E-82BE-43490752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75B37-D5A0-4E8A-AA4B-679E4432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344A9-F207-4FE2-929D-BC1D7654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AD5C3-EAC6-4351-8120-EBC7411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0D8EB-EEC6-4557-9CF4-D695DF2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D8EE6-CD18-4581-A472-614E22D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A91F-996C-48BF-BA82-D43F8CBB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2A1ED-AC2D-4B77-B934-B05F62A7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8056D-36B0-4A60-8E26-1211C721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4A528-2417-487E-B6C1-1C436D33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2E589-87BA-4025-9642-F6B1C06A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89894-0040-4792-ADC9-2A457797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BCE14-77DC-4459-B7AF-A6E8B95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E2AC0-8E0D-444F-8F30-0E18395C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4119F-DB20-4C45-9200-7F93D5BC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5FFEB-5F73-4372-9680-6A9F369F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6B42A-EE15-4EBC-B983-C192C10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633B-7BB0-4209-96EF-D785B09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D54FF-2DFC-4BE6-AE2C-6251EDB5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66853-0155-469F-901A-DA88D92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15292-D5CA-4669-A230-316A6CAB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130B9-1AE0-4265-A0D1-C7A12A03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5703D-7E50-4141-A867-986CA7F8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AEC89-4CEF-4C59-BDDF-1E47ADBF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C49F1-1181-4031-B095-C80870FC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CD9FE-87D9-4D07-9752-3DC26440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A0CB8-4018-479A-818C-7EB70A57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F7314-A459-4C9A-A210-E73D6DFB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5B65-7CC6-4EF8-B271-30894B8E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D30BE-93B3-4462-8211-A22EE44D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F3571-7554-4F71-AFB0-83ABFAE4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2E993-4062-488C-812C-139B2747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CAEC3-F00B-4088-8AB0-6B7A29E7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86B1F-33A7-42FF-98C8-D139850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034F3-ACE1-40AD-B647-D07022F9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ECDC4-42F6-4156-B9AC-76B76774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83656-80C2-44C0-A989-8837B90B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32ADA-4D7E-44CD-9029-819A7B3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F39D5-D64E-4F9F-BC53-D11D9C52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4BED-4521-46FB-A0E0-A326F7D7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AD33B-C477-497C-9E0D-D69219E2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74F2C-88F7-42B4-805C-7920A540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938D6-DDDF-4B94-95E8-243C649B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ED581-58B9-494A-9B53-6498D276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C6CF3-9172-4F57-A261-AD3B8C2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7AB48-47B7-4C7F-AD1F-AF7BEB32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60237-480A-4F2B-B184-B2800486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37F99-1D44-4B78-A0B5-56E4BF53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40ACC-CA4F-40A6-9461-F971572F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026A-16C1-450E-94E1-B885D31A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5886-A9FD-4AC6-801C-17844CE7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F3E-959E-4255-818F-5F6F5438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F28-C74A-48BC-A70A-79711743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6D7F-DCDA-4949-9089-E32C52E4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3A30-DFA0-4979-8A1D-F5A4313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92E5-7C7C-4FD1-A956-6C8BD53D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F547-DAF5-4670-84F9-786F32AA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534D-E6C1-4918-ADAC-18842E39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D34F-8674-4A9B-B899-9719AA1E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A1D6-C27C-4F86-AF08-E4FB218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3CA8-60E0-4F13-82F7-0D915DE2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C77C-B1AD-4439-AF92-6B92037A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21CA-DA32-4E10-B6D2-6C8F82F3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EF6-339E-4F16-B284-DF380FCA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FA18-FDEE-498D-8160-921A3A2B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7C10-311F-47AE-AE83-7B9F99BB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292E-9454-436C-9A1D-6B6E5562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AEA9-C88A-4C00-A704-51774557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2551-A594-4C05-9E47-1D2FBB5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2FE0-F993-47FF-9547-E68BD967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03227-A270-4F29-953D-A04758F7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0A1F3-786F-4CFD-B140-8CE17645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3B0C2-26BE-4836-952E-3D3E3F3E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82C0A-C4C0-488E-9E04-93D9ABA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2E6-7E1C-4C2C-9666-8527A6C9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8402E-E241-40C5-BD79-245A140A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A1C77-7B3C-4AA2-920D-330D5879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2C29D-8589-4F0C-B6FD-DC9758E0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2124B-CC97-48F8-943B-48116812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684E3-6D67-4EF8-9D11-44795998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E910E-4F28-4BB0-8B5D-59F2BCE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AC9B6-6739-4074-B10F-D6E93D27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5C19E-9E24-45D6-AF2D-85F3DC78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056DF-1C33-4238-B39B-0FF90688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48832-F53E-44C8-8749-1E77ADED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049-F22D-4D7B-894F-7809558F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A3EC9-DC8A-4547-9F36-E6E55E33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7CB3D-4090-4818-99BD-8EA30E8E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E3155-511F-4AE1-9F9E-24AC1794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007F-F99C-4EDC-9A6E-9E2CD60F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89B0-1BD9-4C21-A3A0-26B97510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CDA4F-430D-4B2F-887C-666388DF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A45B-E047-4853-9D48-E9D9C64E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FC3A-79FA-4381-A8F5-A645597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7FB9-E19A-4C64-9C67-EFE779AB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021F5-039A-4158-8DCB-2A452017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0F0-2388-4599-A0F3-3FEA7B62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CDB8-1FBF-480D-BBFA-5C264E1A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E7E0E-3623-429A-838C-BCD721B3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E3443-9517-40EA-9D0F-66AE62CA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38B92-A5D9-4F74-96C2-EA33CCC6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59C58-61A1-4252-B724-984DB0D7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B5A0B-85BD-47BA-BD9E-CC243F9D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36515-2010-4F0F-8560-70AEDA64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5FCD8-2291-40DC-BA66-EC5137E1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3EC9-C8CC-456C-A4DC-F613AEDE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B8D73-5FDF-4A97-BB2A-58F3E02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82B-C92E-4BA2-97EA-5B5523AD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8B788-DD25-4516-8DD2-AE70ABF4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BA8E6-E610-485A-BBFF-B95DB501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7D30F-F51C-4E6B-BB14-142DE002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DD70B-D25F-4F94-A655-32872F7D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009E0-A1C5-4F3D-A65C-9F67B4C9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0FCF-D73F-4EF0-AEB8-BBE07F38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C1BD3-9ABA-4F9A-A4CD-50C184C6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F5EA0-574D-4759-AF8F-CC3B60CD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F3E9F-7EC9-4896-A567-5AD50344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7DACA-0002-4FF5-97D7-13BDA35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E2B-A42C-4E09-A758-948C21B4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2D146-2E61-4E52-B063-36086EB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7EE8E-5437-43E8-A0CE-C565362A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E798D-9D72-4FA3-AB13-78B22F96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FD543-237C-4EFB-B145-473EEA7A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A3903-EF2A-411C-A246-361518D2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CA513-DE16-48E4-8A96-13607EB5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11632-A32B-4854-BDB1-CB813C11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D29BF-2FB1-47B8-AE99-1F915EE5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F6C6D-8B67-48B2-8D70-13706202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28B9C-F952-40E3-BEB4-C5EBBA6A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AC9-3ECA-4319-946B-E931932D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D4D79-6ADB-44D8-A64D-2088E808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D7249-5A21-4F4C-9CE7-30ACD166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12360-49EA-48C4-AD9C-DE69589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2FB7-9CEF-4639-9AC9-D6BF690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61541-9081-421F-84AA-C1854258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EE2B-FB0C-4265-8A4A-76D3C703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A6CDE-E276-4803-9EF3-2A57788A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D8EFD-D3FD-4CF5-8A88-2CD16DE6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B556C-B58C-4A3D-A94D-7C568A1C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16C65-E3DB-4843-845C-887B808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61C1-D27B-43E4-8AAF-88407422E87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1DDC-F007-4719-8085-BC79D834C45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0266-ABF2-4232-8756-A8BADA67674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C81-938E-484F-97D8-C0B25156FB6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AE43-B105-4930-A3A0-D78E6737AF2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0090-EE84-4055-B686-1ABEA5CBF98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9E1E-59C4-410E-9BBA-A66615D7516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C5B1-2BCE-44CE-8439-E5A6094E40B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0637-3773-49E9-A7DE-9386A490A4F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72BF-C1C4-408E-B789-03EE48ADBC5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1C0C-1258-4DE6-94D0-FC1E5AB22D6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4E96-BFA1-478E-9FAC-65F24256617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DE61-6F1F-4CB2-89F5-65EBD66ADAC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2471-4C1F-46D6-98A6-6D6F437172C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6314"/>
                </a:solidFill>
                <a:latin typeface="Calibri"/>
              </a:rPr>
              <a:t>Закрепление сказки В.Катаева «Цветик- семицветик»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443640" y="4869000"/>
            <a:ext cx="2160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Подготовила Осипова Е.Ю. Воспитатель МБДОУ №175 г.Иркутска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618" name="Picture 2" descr="C:\Users\Ann\Downloads\цветик3.jpg"/>
          <p:cNvPicPr/>
          <p:nvPr/>
        </p:nvPicPr>
        <p:blipFill>
          <a:blip r:embed="rId2"/>
          <a:stretch/>
        </p:blipFill>
        <p:spPr>
          <a:xfrm>
            <a:off x="250920" y="1628640"/>
            <a:ext cx="60465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Перескажи сказку по картинкам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40" name="Picture 3" descr="C:\Users\Ann\Downloads\8842a906b763.jpg"/>
          <p:cNvPicPr/>
          <p:nvPr/>
        </p:nvPicPr>
        <p:blipFill>
          <a:blip r:embed="rId2"/>
          <a:stretch/>
        </p:blipFill>
        <p:spPr>
          <a:xfrm>
            <a:off x="2050920" y="907920"/>
            <a:ext cx="49993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846468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-747720"/>
            <a:ext cx="822960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онравилась тебе сказка?     Чему она тебя научила?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2195640" y="2708280"/>
            <a:ext cx="52909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6314"/>
                </a:solidFill>
                <a:latin typeface="Palatino Linotype"/>
              </a:rPr>
              <a:t>ЗАДАЧИ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779400" indent="-514440">
              <a:lnSpc>
                <a:spcPct val="100000"/>
              </a:lnSpc>
              <a:spcBef>
                <a:spcPts val="799"/>
              </a:spcBef>
              <a:buClr>
                <a:srgbClr val="475a8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6314"/>
                </a:solidFill>
                <a:latin typeface="Calibri"/>
              </a:rPr>
              <a:t>Образовательные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Закрепить содержание  авторской сказк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чить воспринимать на слух  сказк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чить отвечать на вопросы, направленные на развитие умения устанавливать причинно-следственные связ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Развивать умение высказывать своё отношение к героям сказкам, мотивировать его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чить самостоятельно рассказывать сказку с опорой на наглядный материа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2557440" y="620280"/>
            <a:ext cx="97423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95440" indent="0" algn="ctr">
              <a:lnSpc>
                <a:spcPts val="58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6314"/>
                </a:solidFill>
                <a:latin typeface="Calibri"/>
              </a:rPr>
              <a:t>2. Коррекционные:</a:t>
            </a:r>
            <a:br>
              <a:rPr sz="3600"/>
            </a:b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68360" y="12902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чить понимать смысл пословиц;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орректировать мышление, произвольное внимание;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звивать память, речь, воображение.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6314"/>
                </a:solidFill>
                <a:latin typeface="Calibri"/>
              </a:rPr>
              <a:t>3. Воспитательные: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чить детей понимать «намек» сказки, выносить из нее «урок» и учитывать его в жизни.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спитывать чувство милосердия,доброты.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9360">
            <a:solidFill>
              <a:srgbClr val="6076b4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6314"/>
                </a:solidFill>
                <a:latin typeface="Palatino Linotype"/>
                <a:ea typeface="Aharoni"/>
              </a:rPr>
              <a:t>Работа со словарём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Цветик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- семицветик - волшебный помощник девочки Жени, который исполнил семь её желани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Досада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 – обида, недовольств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Лепесток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- часть цветка , обычно яркоокрашенна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Полюс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 – район земного шара с самыми  низкими температурами воздух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Полярник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 – исследователь полярных стран.</a:t>
            </a:r>
            <a:br>
              <a:rPr sz="2400"/>
            </a:br>
            <a:r>
              <a:rPr b="0" lang="ru-RU" sz="24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5897"/>
                </a:solidFill>
                <a:latin typeface="Calibri"/>
              </a:rPr>
              <a:t>Пословицы и поговорки  о дружбе доброте: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ля милого дружка и серёжка из ушк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рузья познаются в бед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оброе братство милее богатств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Жизнь дана на добрые дел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обра желаешь – добро делай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е бросай друга в несчасть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обро не  лихо – ходит тихо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Хороший друг всегда приходит воврем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е имей сто рублей , а имей сто друзей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Давай выучим волшебные слова: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61945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en-US" sz="4000" spc="-1" strike="noStrike">
                <a:solidFill>
                  <a:srgbClr val="b26314"/>
                </a:solidFill>
                <a:latin typeface="Calibri"/>
              </a:rPr>
              <a:t>подумай и ответь на вопросы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836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звали главную героиню сказки « Цветик-семицветик» 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Что съела собака у девочки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то помог девочке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Что подарила старушка Жене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ие волшебные слова нужно сказать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колько желаний исполнил цветок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ие желания загадывала Женя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Чем закончилась сказка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Какая картинка здесь лишняя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2"/>
          <a:stretch/>
        </p:blipFill>
        <p:spPr>
          <a:xfrm>
            <a:off x="179280" y="1220760"/>
            <a:ext cx="3110040" cy="2222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C:\Users\Ann\Downloads\img8.jpg"/>
          <p:cNvPicPr/>
          <p:nvPr/>
        </p:nvPicPr>
        <p:blipFill>
          <a:blip r:embed="rId3"/>
          <a:stretch/>
        </p:blipFill>
        <p:spPr>
          <a:xfrm>
            <a:off x="6114960" y="1220760"/>
            <a:ext cx="2998800" cy="224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C:\Users\Ann\Downloads\imgh1562104.png"/>
          <p:cNvPicPr/>
          <p:nvPr/>
        </p:nvPicPr>
        <p:blipFill>
          <a:blip r:embed="rId4"/>
          <a:stretch/>
        </p:blipFill>
        <p:spPr>
          <a:xfrm>
            <a:off x="179280" y="3860640"/>
            <a:ext cx="3224160" cy="2579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5"/>
          <a:stretch/>
        </p:blipFill>
        <p:spPr>
          <a:xfrm>
            <a:off x="3203640" y="1112760"/>
            <a:ext cx="3292560" cy="24703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C:\Users\Ann\Downloads\емеля9.jpg"/>
          <p:cNvPicPr/>
          <p:nvPr/>
        </p:nvPicPr>
        <p:blipFill>
          <a:blip r:embed="rId6"/>
          <a:stretch/>
        </p:blipFill>
        <p:spPr>
          <a:xfrm>
            <a:off x="3575160" y="3673440"/>
            <a:ext cx="2361960" cy="3113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C:\Users\Ann\Downloads\skz3688.jpg"/>
          <p:cNvPicPr/>
          <p:nvPr/>
        </p:nvPicPr>
        <p:blipFill>
          <a:blip r:embed="rId7"/>
          <a:stretch/>
        </p:blipFill>
        <p:spPr>
          <a:xfrm>
            <a:off x="6365880" y="3290760"/>
            <a:ext cx="25588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92468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5T15:25:58Z</dcterms:created>
  <dc:creator>Ann</dc:creator>
  <dc:description/>
  <dc:language>en-US</dc:language>
  <cp:lastModifiedBy>Анна</cp:lastModifiedBy>
  <dcterms:modified xsi:type="dcterms:W3CDTF">2018-03-25T10:39:13Z</dcterms:modified>
  <cp:revision>28</cp:revision>
  <dc:subject/>
  <dc:title>Закрепление сказки «Цветик- семицветик»</dc:title>
</cp:coreProperties>
</file>