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AE7A-B20A-451B-9408-6218B8FC15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6640-B669-40A9-80C1-821924E50E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A2DD-2ABC-4751-B199-DE942888CE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479-7AD9-4D0B-91A5-541684E7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491-9A3F-418F-88D2-94C62C32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F02E2-45F2-45CF-A171-F99CB3AA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144FC-21BF-496E-A6A1-AE9FDFDC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B8719-65ED-42E9-B7A3-A5DCC4AC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C597D-2C31-4031-81A3-DD99B6E9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5FC42-1A29-4826-9062-D9AFA8A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C2A1F-515E-4F03-B53E-D06B261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699A1-2F09-4FB7-BE8E-61973DD5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203EF-A964-48C5-92A7-49DCDB88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ABFCA-0503-4D96-B4A8-DFDE0528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AB180-CEF4-4F21-B9C7-7F38CF71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D9F-8825-4278-AD14-8CDBB268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B5E50-A77D-401A-B9B8-E05E965B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9D0F0-B727-4A61-892E-F6A6BCB9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77C81-05C3-4FE9-9DD7-4A24FAC0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54EE7-F984-4926-AD09-C67C9C85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61073-BDA9-4042-81FE-42AA67CE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13105-6A45-41A4-92D1-AAFAA29A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B51E6-B5A0-4CF2-A836-0A061E16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5E441-AE16-41D7-A866-5B3A4608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CD546-CCD8-425B-8FE1-E5A98A79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F8930-56BD-4DEF-B67A-FA9693EC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9F1-D8BE-46E8-B98D-8790A5DA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526DF-7150-4035-B026-6A1FAC51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E9A38-1ABC-4282-A7F5-2D38894B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7F3D5-604A-4EBC-9E60-DE7B2D67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4F4B9-4364-48FB-962B-97D6D06C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7EE38-6F10-4380-9BEF-C05FBD43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15399-65F6-46FB-972C-2D07E49C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6A429-F62B-4ECF-9F27-94065A84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41918-D82C-4905-A217-91DF14D8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0E836-4D4B-49B7-8D90-267E4A1C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B905E-9CD8-43CC-999C-C02D5896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3438-089B-403F-8111-DDF07341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9939A-B8A7-4B61-8952-55E20FC8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DDB8D-3A19-471F-9551-15FA4F69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3A93E-7451-4DB3-8708-66B4FEF6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10012-C38A-461E-819D-CC4F60C9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4E972-02B4-4A64-AF2E-D0A644AB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BD5EB-7046-4093-ABD3-1EC58151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C9554-F37E-4990-969B-08F8DE8F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BB2DA-80EF-4711-AC65-F0BE3186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C46D0-29CB-4810-A4C6-2BF33513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DAB00-099A-4DDB-81AF-825334C0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135C-C385-492B-B24A-82C7574B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056C8-D457-4C1A-A7BA-AF35E528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8C16B-5DF2-42DB-817E-BF03935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457A2-661A-40FE-B691-FD4B0A6D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83A4D-4513-4966-A75B-DFFB32EC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56C60-1E32-4EE1-9595-3B6AF054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DFAE2-CF06-4BD3-A9E2-797CB770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DEBE5-76ED-49FA-8BDD-F8A8023E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9C09C-8FC0-4EC2-ACBE-015DF371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06D95-6170-4710-962E-A7B1D5CE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995BE-0AFD-4A88-AEB5-FE9DA617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3964-14FE-4345-9247-272D02C9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D3855-5DC6-403A-AFBF-85061379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AC4AF-FA34-4168-8300-AF718A59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F9461-3424-4452-840A-374FC79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A4F52-6F83-48DE-9AF6-B3DE2C9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0ACFE-DE81-4CD6-8F6F-3B7C3A38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01B2D-15F5-4B23-B28E-1F6F9C1E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E49EA-3573-4B80-A88D-A835ABF4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02B7D-5E40-497B-B2E0-ABAE76EF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BC240-ADAD-4532-BB27-873DF3EA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0C5E9-1419-46C5-A18D-ABE4057D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7DB8-BECC-41CE-85D4-ECB76DBA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611F6-0032-4A3D-8567-0CAF774B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E9201-B6DF-4802-82AC-4CFB4021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6E856-45D5-4819-8A52-62ABB242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17850-7677-48C6-80D4-41C1290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A76FC-3CFC-479D-834A-9258D2F3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0DCD0-F353-4721-A22B-ED193FE2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7AEE0-F920-4B23-BC08-FE500034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F2B25-9AD7-4E07-AFE2-F5DD518D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9D22ED-5FC3-4280-99B2-1E9431ED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F2CC-5DC8-422F-B334-F872E27A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F92A-2E57-42E7-A6E1-F4A081AB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BB47-9530-4D6F-8BD3-258F9B14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B23-880F-4EE7-8691-4B0049DF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C8C5-25D2-4852-8F6F-A448EBCE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2513-0F7B-49F7-ABDE-4133B886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FECA-247C-496F-A4CA-CCCBF49E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60B3-08FB-4B9D-80C5-5D5F70AD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4A48-78F0-43AE-9A53-5BA19AA4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DBB34-903B-4810-9746-8EBAB0ED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0A04F-C60C-4E2B-80E8-236394E4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C963-7E30-4AF8-89D6-9894630A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50D6-A850-40B5-B24A-A45A6ED6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0430-CC19-4E04-B8E5-9AEC68FD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554-F74F-44B7-9524-D8984ED9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8721-E783-4AF9-91F8-70143C20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7CDA-DEFE-422A-BB1B-4FA39855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F375-72A6-4EDD-9635-90584E5A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D848-BBDB-4EF6-B738-9A89E03F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5E89-A494-48B3-B823-F25744AA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49B5-F9F5-40CD-926B-DF766266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3D29-2CB5-4737-BF40-4772868A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13D61-A700-4642-A958-FBCEBBF6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81D47-4B9C-440E-94DB-4F1D5809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52534-633D-4B10-905B-DF56AF57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5ED-D335-4891-B6B8-13FFA008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0691D-6A0F-40FF-B1C8-9CCD3EB5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D6DCF-82C6-457C-A674-C36181D5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76F0D-BABF-4264-8C3D-6ABF0337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66FCA-FA4E-43F0-AACB-994B3B5E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363C6-3649-460A-96F6-DCA4F7A1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5FC2A-0526-4321-B090-A1DE5E91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BA622-E39A-4767-98FA-8922F651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8CDA4-5859-4329-AA51-FAD7C08B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5A040-41AD-4490-BED8-E03A0DE3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B45C3-643C-4923-84EE-D994CD93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286-19FF-4CDA-B7CD-27175A22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B0783-CBD5-4B82-B8B3-1F1964C5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CF800-D7C0-49C2-8AF2-9E2C8751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3765-4A63-4E3D-88EE-DDAD42A9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DD4F5-F365-48F6-8645-DAA515E0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69520-7FAD-42F8-B664-1050D0F3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4D40-983D-4606-91C6-FB61AD20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E84E-4482-4DD7-A929-F016C01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A5DFE-CFF4-4824-A29E-3EAFAC62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DDD3A-5658-4420-95B8-E3AAA47D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17FB7-8852-4A65-B107-ED0DEB9F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735-BA6E-4372-8F98-D38CD279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60966-CBE0-4E40-AE64-C7670CFC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82500-ED68-42B3-83AB-91E45F9A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3F1FC-AB26-4767-B69A-9643249C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EE66-16D7-4F7D-A743-C3239FC1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313EC-A182-42F5-A0D0-E0D1B838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4A8C3-438D-4025-8A1B-5A4FFFDF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A1A6D-C4CC-4DA1-B6BC-569FB227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6BEA1-39EB-4728-81CA-7465FFCA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81386-1B66-4557-AA45-C65E9CC7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96A4-66B0-4E3C-8EE4-87626E0F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AA3-DE0F-4A6B-B8BE-0B5D7EEB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32DDA-C1EC-4EF2-9494-FAD66127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3DE79-E542-4D44-A51D-0BADD41C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3B9FA-63C5-4E64-8E7B-5A58ABF0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30258-2126-49A8-9AFF-07D9E93C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51C31-AFC6-4A02-AACB-0FC98477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40798-5CA9-4CE8-AAB6-1195D6A6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D8CB9-0E23-4087-BEDD-58576BD1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21F17-A1BC-4794-A725-0DAF7EF9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8BE2F-D5F3-4A1A-8910-5DADBC9B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7010B-5847-4B4B-937F-D46C4D7B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36C-C07C-4C2F-A81D-CD13AB5B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0954B-DDF6-44C4-B1E3-8F90A4E8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3DAF6-5E57-47F5-9E08-F5065816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14B20-C9B5-418B-8341-F53D5D24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0A880-DE91-4015-80E4-88C76A53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F48C2-89C6-4C21-8F88-AC6E2B09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81CF8-F8A3-4163-9957-1AA8A122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D3C03-CA88-493A-B988-349BD5C1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E3627-D194-404F-82C4-5ED2837D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A09CB-E10B-4535-915F-94AA1EE2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DA207-BDCE-48D3-A9F3-E6D615BE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258-F8B6-41DE-8451-BA839635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1E7CE-E9F6-4A87-8A43-3CCB04DA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39AC9-AB50-44E5-883F-864368BB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C0F3D-55AB-441C-8B95-113847FC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50B65-EB5B-42D2-9915-CBDE3839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B638C-1B14-4042-9EAC-FAB5C1B8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3B69B-0B54-459A-B42D-F4D1354A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4A856-F625-4040-AF19-C4D572F6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E3701-5BBA-4D0D-83C8-9FC08C1A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44BB9-DB84-4055-B9C3-52342E5D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F7E96-8C18-451C-9191-FDDC2AF2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0899-4CBF-49F4-A576-81CD2137009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5261-9BAE-4C54-AE2D-7984E81225F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AD33-DA33-42E3-A6D9-631FB2735EA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49C9-BBA4-44A2-9FA1-A4DC7C61515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5453-DE50-495F-83BA-AF9D14140F2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6C74-9AA7-4250-884F-4120831161F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CF19-7E2B-4DFB-AD4A-2C671FBC384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31AF-299E-4294-A4FE-2B3C03AFAD9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B49B-7BCD-4601-984B-F569F49FC79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4BC0-C2AB-4C6C-84DF-0FCCA962007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0DE8-31DA-4EB0-BE5B-0F5068B0E0F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3E27-D614-4EC3-AF82-B793CD7EC12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8395-4A4A-486B-90A1-65BFC3A87BF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D44D-715E-4A1E-876F-F3112B16114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6314"/>
                </a:solidFill>
                <a:latin typeface="Calibri"/>
              </a:rPr>
              <a:t>Закрепление сказки В.Катаева «Цветик- семицветик»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443640" y="4869000"/>
            <a:ext cx="2160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Подготовила Осипова Е.Ю. Воспитатель МБДОУ №175 г.Иркутска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618" name="Picture 2" descr="C:\Users\Ann\Downloads\цветик3.jpg"/>
          <p:cNvPicPr/>
          <p:nvPr/>
        </p:nvPicPr>
        <p:blipFill>
          <a:blip r:embed="rId2"/>
          <a:stretch/>
        </p:blipFill>
        <p:spPr>
          <a:xfrm>
            <a:off x="250920" y="1628640"/>
            <a:ext cx="60465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Перескажи сказку по картинкам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640" name="Picture 3" descr="C:\Users\Ann\Downloads\8842a906b763.jpg"/>
          <p:cNvPicPr/>
          <p:nvPr/>
        </p:nvPicPr>
        <p:blipFill>
          <a:blip r:embed="rId2"/>
          <a:stretch/>
        </p:blipFill>
        <p:spPr>
          <a:xfrm>
            <a:off x="2050920" y="907920"/>
            <a:ext cx="49993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846468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-747720"/>
            <a:ext cx="822960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онравилась тебе сказка?     Чему она тебя научила?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2195640" y="2708280"/>
            <a:ext cx="52909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6314"/>
                </a:solidFill>
                <a:latin typeface="Palatino Linotype"/>
              </a:rPr>
              <a:t>ЗАДАЧИ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779400" indent="-514440">
              <a:lnSpc>
                <a:spcPct val="100000"/>
              </a:lnSpc>
              <a:spcBef>
                <a:spcPts val="799"/>
              </a:spcBef>
              <a:buClr>
                <a:srgbClr val="475a8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6314"/>
                </a:solidFill>
                <a:latin typeface="Calibri"/>
              </a:rPr>
              <a:t>Образовательные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Закрепить содержание  авторской сказк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Учить воспринимать на слух  сказк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Учить отвечать на вопросы, направленные на развитие умения устанавливать причинно-следственные связ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Развивать умение высказывать своё отношение к героям сказкам, мотивировать его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Учить самостоятельно рассказывать сказку с опорой на наглядный материа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2557440" y="620280"/>
            <a:ext cx="97423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95440" indent="0" algn="ctr">
              <a:lnSpc>
                <a:spcPts val="58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6314"/>
                </a:solidFill>
                <a:latin typeface="Calibri"/>
              </a:rPr>
              <a:t>2. Коррекционные:</a:t>
            </a:r>
            <a:br>
              <a:rPr sz="3600"/>
            </a:b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68360" y="12902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чить понимать смысл пословиц;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орректировать мышление, произвольное внимание;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азвивать память, речь, воображение.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6314"/>
                </a:solidFill>
                <a:latin typeface="Calibri"/>
              </a:rPr>
              <a:t>3. Воспитательные: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чить детей понимать «намек» сказки, выносить из нее «урок» и учитывать его в жизни.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спитывать чувство милосердия,доброты.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9360">
            <a:solidFill>
              <a:srgbClr val="6076b4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6314"/>
                </a:solidFill>
                <a:latin typeface="Palatino Linotype"/>
                <a:ea typeface="Aharoni"/>
              </a:rPr>
              <a:t>Работа со словарём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Цветик</a:t>
            </a:r>
            <a:r>
              <a:rPr b="0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- семицветик - волшебный помощник девочки Жени, который исполнил семь её желани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Досада</a:t>
            </a:r>
            <a:r>
              <a:rPr b="0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 – обида, недовольств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Лепесток</a:t>
            </a:r>
            <a:r>
              <a:rPr b="0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- часть цветка , обычно яркоокрашенна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Полюс</a:t>
            </a:r>
            <a:r>
              <a:rPr b="0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 – район земного шара с самыми  низкими температурами воздух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Полярник</a:t>
            </a:r>
            <a:r>
              <a:rPr b="0" lang="ru-RU" sz="2400" spc="-1" strike="noStrike">
                <a:solidFill>
                  <a:srgbClr val="7f7f7f"/>
                </a:solidFill>
                <a:latin typeface="Arial"/>
                <a:ea typeface="Arial"/>
              </a:rPr>
              <a:t> – исследователь полярных стран.</a:t>
            </a:r>
            <a:br>
              <a:rPr sz="2400"/>
            </a:br>
            <a:r>
              <a:rPr b="0" lang="ru-RU" sz="24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5897"/>
                </a:solidFill>
                <a:latin typeface="Calibri"/>
              </a:rPr>
              <a:t>Пословицы и поговорки  о дружбе доброте: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ля милого дружка и серёжка из ушк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рузья познаются в бед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оброе братство милее богатств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Жизнь дана на добрые дел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обра желаешь – добро делай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е бросай друга в несчасть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обро не  лихо – ходит тихо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Хороший друг всегда приходит воврем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е имей сто рублей , а имей сто друзей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Давай выучим волшебные слова: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61945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en-US" sz="4000" spc="-1" strike="noStrike">
                <a:solidFill>
                  <a:srgbClr val="b26314"/>
                </a:solidFill>
                <a:latin typeface="Calibri"/>
              </a:rPr>
              <a:t>подумай и ответь на вопросы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836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 звали главную героиню сказки « Цветик-семицветик» 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Что съела собака у девочки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то помог девочке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Что подарила старушка Жене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ие волшебные слова нужно сказать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колько желаний исполнил цветок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ие желания загадывала Женя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Чем закончилась сказка?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Какая картинка здесь лишняя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2"/>
          <a:stretch/>
        </p:blipFill>
        <p:spPr>
          <a:xfrm>
            <a:off x="179280" y="1220760"/>
            <a:ext cx="3110040" cy="22226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C:\Users\Ann\Downloads\img8.jpg"/>
          <p:cNvPicPr/>
          <p:nvPr/>
        </p:nvPicPr>
        <p:blipFill>
          <a:blip r:embed="rId3"/>
          <a:stretch/>
        </p:blipFill>
        <p:spPr>
          <a:xfrm>
            <a:off x="6114960" y="1220760"/>
            <a:ext cx="2998800" cy="2249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C:\Users\Ann\Downloads\imgh1562104.png"/>
          <p:cNvPicPr/>
          <p:nvPr/>
        </p:nvPicPr>
        <p:blipFill>
          <a:blip r:embed="rId4"/>
          <a:stretch/>
        </p:blipFill>
        <p:spPr>
          <a:xfrm>
            <a:off x="179280" y="3860640"/>
            <a:ext cx="3224160" cy="2579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5"/>
          <a:stretch/>
        </p:blipFill>
        <p:spPr>
          <a:xfrm>
            <a:off x="3203640" y="1112760"/>
            <a:ext cx="3292560" cy="24703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C:\Users\Ann\Downloads\емеля9.jpg"/>
          <p:cNvPicPr/>
          <p:nvPr/>
        </p:nvPicPr>
        <p:blipFill>
          <a:blip r:embed="rId6"/>
          <a:stretch/>
        </p:blipFill>
        <p:spPr>
          <a:xfrm>
            <a:off x="3575160" y="3673440"/>
            <a:ext cx="2361960" cy="3113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C:\Users\Ann\Downloads\skz3688.jpg"/>
          <p:cNvPicPr/>
          <p:nvPr/>
        </p:nvPicPr>
        <p:blipFill>
          <a:blip r:embed="rId7"/>
          <a:stretch/>
        </p:blipFill>
        <p:spPr>
          <a:xfrm>
            <a:off x="6365880" y="3290760"/>
            <a:ext cx="25588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792468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5T15:25:58Z</dcterms:created>
  <dc:creator>Ann</dc:creator>
  <dc:description/>
  <dc:language>en-US</dc:language>
  <cp:lastModifiedBy>Анна</cp:lastModifiedBy>
  <dcterms:modified xsi:type="dcterms:W3CDTF">2018-03-25T10:39:13Z</dcterms:modified>
  <cp:revision>28</cp:revision>
  <dc:subject/>
  <dc:title>Закрепление сказки «Цветик- семицветик»</dc:title>
</cp:coreProperties>
</file>