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493-947B-4133-985F-F25015CC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A59-683C-47FA-96E9-DABD2BE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08D-ABB6-4DCE-83A6-49C93AF2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F9F-8CB2-410B-B450-EA9A62FA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EBF8-EF7B-4DF8-8196-D433B6F6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243-6DF9-4E74-9BC6-4E4D6FB5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E771-3E60-43DA-9D08-1CBF1659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BE46-A64B-4D0C-A769-1B53EC42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D50-BAC5-47E9-BEE6-6E148B43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448A-101F-4013-A5CE-FA7ED789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35AC-8472-4C3D-BAFC-9EF7FFC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14C-576A-4E4A-AED4-C4D320A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4574-9262-4B5F-A7C5-857FBC8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E463-6CB3-4A00-8F8B-DCA8F168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564C-B2C0-4FAF-8222-A68AFAD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F812-0234-4612-AAA0-DC68A0CE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828A-4CB6-41F9-A80C-7063E8EE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4B5-56E8-4FE9-BBED-849D5B93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F66-402A-4942-B819-DDE18D3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E88-D20E-4161-93C4-448A570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637-7037-4E22-A475-E9E7F64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19D-9A74-4835-A890-74AC8E0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EE2-216A-42F8-B5EB-2DBED5E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6CD-A968-44BE-9A24-15277C0D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18C0-C67D-487A-A999-E4C18D5C2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046-8CA0-42F6-AD37-2EC6911EF47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5694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«Здоровый образ жизни»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ru-RU" sz="7200" spc="-1" strike="noStrike">
                <a:solidFill>
                  <a:srgbClr val="000099"/>
                </a:solidFill>
                <a:latin typeface="Tahoma"/>
              </a:rPr>
              <a:t>и</a:t>
            </a:r>
            <a:r>
              <a:rPr b="1" lang="ru-RU" sz="7200" spc="-1" strike="noStrike">
                <a:solidFill>
                  <a:srgbClr val="00ff99"/>
                </a:solidFill>
                <a:latin typeface="Tahoma"/>
              </a:rPr>
              <a:t>к</a:t>
            </a:r>
            <a:r>
              <a:rPr b="1" lang="ru-RU" sz="7200" spc="-1" strike="noStrike">
                <a:solidFill>
                  <a:srgbClr val="ffcf01"/>
                </a:solidFill>
                <a:latin typeface="Tahoma"/>
              </a:rPr>
              <a:t>т</a:t>
            </a:r>
            <a:r>
              <a:rPr b="1" lang="ru-RU" sz="72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1" lang="ru-RU" sz="7200" spc="-1" strike="noStrike">
                <a:solidFill>
                  <a:srgbClr val="6600cc"/>
                </a:solidFill>
                <a:latin typeface="Tahoma"/>
              </a:rPr>
              <a:t>р</a:t>
            </a:r>
            <a:r>
              <a:rPr b="1" lang="ru-RU" sz="72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7200" spc="-1" strike="noStrike">
                <a:solidFill>
                  <a:srgbClr val="ff9900"/>
                </a:solidFill>
                <a:latin typeface="Tahoma"/>
              </a:rPr>
              <a:t>а</a:t>
            </a:r>
            <a:br>
              <a:rPr sz="7200"/>
            </a:br>
            <a:r>
              <a:rPr b="1" lang="ru-RU" sz="4800" spc="-1" strike="noStrike">
                <a:solidFill>
                  <a:srgbClr val="ff9900"/>
                </a:solidFill>
                <a:latin typeface="Tahoma"/>
              </a:rPr>
              <a:t>для 3 «д»</a:t>
            </a:r>
            <a:br>
              <a:rPr sz="72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ahoma"/>
              </a:rPr>
              <a:t>6. Почему полезно есть овощи и фрукты сырым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В сырых овощах и фруктах больше витаминов, чем в вареных!!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вопр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зяйка покрошила для борща капусту, а кочерыжку съела. Правильно ли она поступила? 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Больше всего витамина С содержится в кочерыжке, поэтому ее не надо выбрасывать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10. Почему могут быть опасны для здоровья консервированные продукты?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https://im0-tub-ru.yandex.net/i?id=55281b58aec0d3d785f53aaf739b60a9-l&amp;n=13"/>
          <p:cNvPicPr/>
          <p:nvPr/>
        </p:nvPicPr>
        <p:blipFill>
          <a:blip r:embed="rId2"/>
          <a:stretch/>
        </p:blipFill>
        <p:spPr>
          <a:xfrm>
            <a:off x="1547640" y="2060640"/>
            <a:ext cx="62676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ожно отравиться ботулином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Ботулин – </a:t>
            </a:r>
            <a:r>
              <a:rPr b="1" i="1" lang="ru-RU" sz="6000" spc="-1" strike="noStrike">
                <a:solidFill>
                  <a:srgbClr val="3333cc"/>
                </a:solidFill>
                <a:latin typeface="Tahoma"/>
              </a:rPr>
              <a:t>это </a:t>
            </a:r>
            <a:r>
              <a:rPr b="1" i="1" lang="ru-RU" sz="5400" spc="-1" strike="noStrike">
                <a:solidFill>
                  <a:srgbClr val="3333cc"/>
                </a:solidFill>
                <a:latin typeface="Tahoma"/>
              </a:rPr>
              <a:t>сильнодействующий пищевой я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13. Водопроводную воду перед употреблением лучше отстаивать. Почему?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s://im0-tub-ru.yandex.net/i?id=81b92c55fa0671666cf203653ba1e571&amp;n=33&amp;h=215&amp;w=323"/>
          <p:cNvPicPr/>
          <p:nvPr/>
        </p:nvPicPr>
        <p:blipFill>
          <a:blip r:embed="rId2"/>
          <a:stretch/>
        </p:blipFill>
        <p:spPr>
          <a:xfrm>
            <a:off x="1258920" y="1916280"/>
            <a:ext cx="61214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842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Чтобы избавиться от хлора, который улетучивается через 2 ча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s://im0-tub-ru.yandex.net/i?id=c025ee065f5bc6c02dcd5324500a8867&amp;n=33&amp;h=215&amp;w=323"/>
          <p:cNvPicPr/>
          <p:nvPr/>
        </p:nvPicPr>
        <p:blipFill>
          <a:blip r:embed="rId2"/>
          <a:stretch/>
        </p:blipFill>
        <p:spPr>
          <a:xfrm>
            <a:off x="1187280" y="1989000"/>
            <a:ext cx="648036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3883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14. Из повседневных продуктов питания, какие самые опасные для здоровья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5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295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и саха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 rot="1009200">
            <a:off x="1182240" y="2491920"/>
            <a:ext cx="4397400" cy="3640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0924400">
            <a:off x="5724000" y="2565000"/>
            <a:ext cx="280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8362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Tahoma"/>
              </a:rPr>
              <a:t>- </a:t>
            </a:r>
            <a:r>
              <a:rPr b="1" lang="ru-RU" sz="4800" spc="-1" strike="noStrike">
                <a:solidFill>
                  <a:srgbClr val="008000"/>
                </a:solidFill>
                <a:latin typeface="Tahoma"/>
              </a:rPr>
              <a:t>Что нельзя купит ни за какие деньги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15. Какая поговорка учит нас правильному режиму питания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втрак съешь сам, обед раздели с другом, ужин отдай враг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 послов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2" descr="https://im0-tub-ru.yandex.net/i?id=c6817bf867f1dc9260dad41ae68b3e2e&amp;n=33&amp;h=215&amp;w=311"/>
          <p:cNvPicPr/>
          <p:nvPr/>
        </p:nvPicPr>
        <p:blipFill>
          <a:blip r:embed="rId1"/>
          <a:stretch/>
        </p:blipFill>
        <p:spPr>
          <a:xfrm>
            <a:off x="1692360" y="2060640"/>
            <a:ext cx="5543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2) Лучше средства от хвори нет - …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99972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2) Лучше средства от хвори нет: делай зарядку до старости лет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Picture 6" descr="https://im0-tub-ru.yandex.net/i?id=b74f2174d57cd62c060d0d69001ca436&amp;n=33&amp;h=215&amp;w=385"/>
          <p:cNvPicPr/>
          <p:nvPr/>
        </p:nvPicPr>
        <p:blipFill>
          <a:blip r:embed="rId1"/>
          <a:stretch/>
        </p:blipFill>
        <p:spPr>
          <a:xfrm>
            <a:off x="1258920" y="2492280"/>
            <a:ext cx="66978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3) Двигайся больше – 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3) Двигайся больше – проживешь дольше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s://im0-tub-ru.yandex.net/i?id=384e10804d5000908805c399a34f43eb&amp;n=33&amp;h=215&amp;w=167"/>
          <p:cNvPicPr/>
          <p:nvPr/>
        </p:nvPicPr>
        <p:blipFill>
          <a:blip r:embed="rId2"/>
          <a:stretch/>
        </p:blipFill>
        <p:spPr>
          <a:xfrm>
            <a:off x="2050920" y="1758960"/>
            <a:ext cx="39610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4) Держи голову в холоде, живот  в 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4) Держи голову в холоде, живот в голоде, а ноги в тепл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5) В здоровом теле -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7" descr="http://veganway.ru/wp-content/uploads/2016/06/pic-12-1024x479.jpg"/>
          <p:cNvPicPr/>
          <p:nvPr/>
        </p:nvPicPr>
        <p:blipFill>
          <a:blip r:embed="rId1"/>
          <a:stretch/>
        </p:blipFill>
        <p:spPr>
          <a:xfrm>
            <a:off x="1042920" y="1916280"/>
            <a:ext cx="748656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5) В здоровом теле - здоровый дух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ttps://im0-tub-ru.yandex.net/i?id=87d5d9fc2fcba5a9a46f17be4be23f79&amp;n=33&amp;h=215&amp;w=307"/>
          <p:cNvPicPr/>
          <p:nvPr/>
        </p:nvPicPr>
        <p:blipFill>
          <a:blip r:embed="rId2"/>
          <a:stretch/>
        </p:blipFill>
        <p:spPr>
          <a:xfrm>
            <a:off x="1116000" y="2060640"/>
            <a:ext cx="6551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а здорового образа жизн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1. Правильное пита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2. Сон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3. Активная деятельность и активный отд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4. Вредные привыч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ahoma"/>
              </a:rPr>
              <a:t>Желаю вам: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 А что такое здоровье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Здоровье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– это нормальная деятельность организма, его полное физическое и психическое благополуч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ahoma"/>
              </a:rPr>
              <a:t>1. Насколько сокращает жизнь одна выкуренная сигарета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s://image-gr.s3.envato.com/files/111961461/pv_590.jpg"/>
          <p:cNvPicPr/>
          <p:nvPr/>
        </p:nvPicPr>
        <p:blipFill>
          <a:blip r:embed="rId2"/>
          <a:stretch/>
        </p:blipFill>
        <p:spPr>
          <a:xfrm>
            <a:off x="1619280" y="1989000"/>
            <a:ext cx="56196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8172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 Narrow"/>
              </a:rPr>
              <a:t>Каждая сигарета отнимает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Arial Narrow"/>
              </a:rPr>
              <a:t>от 5 до 15 минут жизни!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s://im0-tub-ru.yandex.net/i?id=d3fd3b37bbe7f6f81ed643fe1612a760-l&amp;n=13"/>
          <p:cNvPicPr/>
          <p:nvPr/>
        </p:nvPicPr>
        <p:blipFill>
          <a:blip r:embed="rId2"/>
          <a:stretch/>
        </p:blipFill>
        <p:spPr>
          <a:xfrm>
            <a:off x="2916360" y="2205000"/>
            <a:ext cx="357192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00000" y="1844640"/>
            <a:ext cx="771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Запомни – человек не сла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Рожден свободным. Он не ра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Сегодня вечером. Как ляжешь спать т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олжен так себе сказа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b7e"/>
                </a:solidFill>
                <a:latin typeface="Tahoma"/>
              </a:rPr>
              <a:t>“</a:t>
            </a:r>
            <a:r>
              <a:rPr b="1" lang="ru-RU" sz="2800" spc="-1" strike="noStrike">
                <a:solidFill>
                  <a:srgbClr val="00ab7e"/>
                </a:solidFill>
                <a:latin typeface="Tahoma"/>
              </a:rPr>
              <a:t>Я выбрал сам дорогу к све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Я, презирая сигарет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Не стану ни за что кури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Я человек. Я должен сильным быть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ahoma"/>
              </a:rPr>
              <a:t>5. Что такое витамин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https://im0-tub-ru.yandex.net/i?id=a726de9cf89dc34cffe11a0c876e8ff2&amp;n=33&amp;h=215&amp;w=277"/>
          <p:cNvPicPr/>
          <p:nvPr/>
        </p:nvPicPr>
        <p:blipFill>
          <a:blip r:embed="rId2"/>
          <a:stretch/>
        </p:blipFill>
        <p:spPr>
          <a:xfrm>
            <a:off x="1476360" y="1989000"/>
            <a:ext cx="561672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лат. vita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— </a:t>
            </a:r>
            <a:r>
              <a:rPr b="1" lang="ru-RU" sz="6000" spc="-1" strike="noStrike">
                <a:solidFill>
                  <a:srgbClr val="00ff99"/>
                </a:solidFill>
                <a:latin typeface="Tahoma"/>
              </a:rPr>
              <a:t>жизнь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группа органических соединений, ускоряющих биологическую активность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3:39:17Z</dcterms:created>
  <dc:creator>R</dc:creator>
  <dc:description/>
  <dc:language>en-US</dc:language>
  <cp:lastModifiedBy>User</cp:lastModifiedBy>
  <dcterms:modified xsi:type="dcterms:W3CDTF">2017-03-22T03:08:47Z</dcterms:modified>
  <cp:revision>27</cp:revision>
  <dc:subject/>
  <dc:title>Слайд 1</dc:title>
</cp:coreProperties>
</file>