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6C6-26B7-41BB-A249-2A09BE08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716-603C-45D7-9BB1-2142A58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FB3-315C-4F2B-8AC7-4086872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B7C-428B-4B00-9B9A-79F1CAAE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FBE-8C75-4AE3-9C04-A15D5080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B41-9744-412C-BA97-E91AF22A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C1A-113D-4E4C-94B1-3CF1878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F76-601A-4349-96A0-20D6D7D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602-136C-4C53-AA17-C2A9B16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87F-5E2B-4C4D-B884-B864ED8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183-034B-4A1E-9FBC-CC60416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3B6-A118-4843-87B9-C2F5C8A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0DA8-5F07-4084-B8A5-40F514D02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  <a:ea typeface="Arial"/>
              </a:rPr>
              <a:t>Части реч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7"/>
          <p:cNvSpPr/>
          <p:nvPr/>
        </p:nvSpPr>
        <p:spPr>
          <a:xfrm>
            <a:off x="3286080" y="4643280"/>
            <a:ext cx="30006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2960" y="2928960"/>
            <a:ext cx="49291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Составитель: Т.А. Алёхи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ь письма и развития речи ГКОУ 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школы-интерната ст-цы Крыловс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предметов при счё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3000240" y="314316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3000240" y="171468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3000240" y="450072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. Какие части реч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сочетаются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 с друг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2857680" y="2857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лог + г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2857680" y="178596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л. + 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857680" y="5143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ислит. + 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2857680" y="4000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г. + ме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876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. Найд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чевую ошиб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1785960" y="378612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ссердечный 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1785960" y="250020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ропливое от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1785960" y="507204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бокое в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1785960" y="121428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сёлый см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480" y="214272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28440" y="521496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8 с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00084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42560" y="642960"/>
            <a:ext cx="9001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Исключи «лишнюю» часть речи в каждой стро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4643280" y="3000240"/>
            <a:ext cx="200052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50004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257184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671508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8"/>
          <p:cNvSpPr/>
          <p:nvPr/>
        </p:nvSpPr>
        <p:spPr>
          <a:xfrm>
            <a:off x="671508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257184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678672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б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643280" y="1643040"/>
            <a:ext cx="20718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ра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0004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сея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4643280" y="4429080"/>
            <a:ext cx="200052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257184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50004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85880" y="642960"/>
            <a:ext cx="778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ыбери словосочетани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прил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4857840" y="1928880"/>
            <a:ext cx="3500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дорная 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2"/>
          <p:cNvSpPr/>
          <p:nvPr/>
        </p:nvSpPr>
        <p:spPr>
          <a:xfrm>
            <a:off x="857160" y="3643200"/>
            <a:ext cx="3500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вая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5"/>
          <p:cNvSpPr/>
          <p:nvPr/>
        </p:nvSpPr>
        <p:spPr>
          <a:xfrm>
            <a:off x="857160" y="1928880"/>
            <a:ext cx="3500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ушать му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6"/>
          <p:cNvSpPr/>
          <p:nvPr/>
        </p:nvSpPr>
        <p:spPr>
          <a:xfrm>
            <a:off x="4857840" y="3714840"/>
            <a:ext cx="3500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идел 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928800" y="64296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 предложениях укаж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г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429240" y="2143080"/>
            <a:ext cx="23576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крыв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2"/>
          <p:cNvSpPr/>
          <p:nvPr/>
        </p:nvSpPr>
        <p:spPr>
          <a:xfrm>
            <a:off x="7643880" y="3500280"/>
            <a:ext cx="13572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4"/>
          <p:cNvSpPr/>
          <p:nvPr/>
        </p:nvSpPr>
        <p:spPr>
          <a:xfrm>
            <a:off x="2428920" y="3500280"/>
            <a:ext cx="14288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ч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5"/>
          <p:cNvSpPr/>
          <p:nvPr/>
        </p:nvSpPr>
        <p:spPr>
          <a:xfrm>
            <a:off x="4286160" y="2143080"/>
            <a:ext cx="1000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6"/>
          <p:cNvSpPr/>
          <p:nvPr/>
        </p:nvSpPr>
        <p:spPr>
          <a:xfrm>
            <a:off x="5286240" y="2143080"/>
            <a:ext cx="1143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3643200" y="3500280"/>
            <a:ext cx="15004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>
            <a:off x="5500800" y="3500280"/>
            <a:ext cx="1143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21"/>
          <p:cNvSpPr/>
          <p:nvPr/>
        </p:nvSpPr>
        <p:spPr>
          <a:xfrm>
            <a:off x="1928880" y="2143080"/>
            <a:ext cx="23572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крыв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2"/>
          <p:cNvSpPr/>
          <p:nvPr/>
        </p:nvSpPr>
        <p:spPr>
          <a:xfrm>
            <a:off x="142920" y="2143080"/>
            <a:ext cx="18572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не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23"/>
          <p:cNvSpPr/>
          <p:nvPr/>
        </p:nvSpPr>
        <p:spPr>
          <a:xfrm>
            <a:off x="1714680" y="3500280"/>
            <a:ext cx="85716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24"/>
          <p:cNvSpPr/>
          <p:nvPr/>
        </p:nvSpPr>
        <p:spPr>
          <a:xfrm>
            <a:off x="1000080" y="3500280"/>
            <a:ext cx="85716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25"/>
          <p:cNvSpPr/>
          <p:nvPr/>
        </p:nvSpPr>
        <p:spPr>
          <a:xfrm>
            <a:off x="142920" y="3500280"/>
            <a:ext cx="9288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26"/>
          <p:cNvSpPr/>
          <p:nvPr/>
        </p:nvSpPr>
        <p:spPr>
          <a:xfrm>
            <a:off x="6500880" y="3500280"/>
            <a:ext cx="12859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5072040" y="3500280"/>
            <a:ext cx="571680" cy="78588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785880"/>
              <a:gd name="textAreaBottom" fmla="*/ 758160 h 785880"/>
            </a:gdLst>
            <a:ahLst/>
            <a:rect l="textAreaLeft" t="textAreaTop" r="textAreaRight" b="textAreaBottom"/>
            <a:pathLst>
              <a:path w="21600" h="29688">
                <a:moveTo>
                  <a:pt x="3600" y="0"/>
                </a:moveTo>
                <a:arcTo wR="3600" hR="3600" stAng="16200000" swAng="-5400000"/>
                <a:lnTo>
                  <a:pt x="0" y="26088"/>
                </a:lnTo>
                <a:arcTo wR="3600" hR="3600" stAng="10800000" swAng="-5400000"/>
                <a:lnTo>
                  <a:pt x="18000" y="29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знак предм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2357280" y="314316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2357280" y="171468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357280" y="450072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числ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42960" y="571320"/>
            <a:ext cx="7858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знак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300024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000240" y="31431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3000240" y="45007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2920" y="571320"/>
            <a:ext cx="88581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жи часть речи, которая называет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2357280" y="442908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2357280" y="157176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2357280" y="300024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. Укажи часть речи, котор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предмет, 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называ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2286000" y="321480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2286000" y="185724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2286000" y="450072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7-10-02T18:37:52Z</dcterms:modified>
  <cp:revision>717</cp:revision>
  <dc:subject/>
  <dc:title>Слайд 1</dc:title>
</cp:coreProperties>
</file>