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E3D-C409-4CAD-BC7F-CA2B78A2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80D-48E8-4BCC-BEDB-CEF28832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E70-FAA5-41BC-9AA9-5B8DFB2A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EC6-4414-4A18-A5D2-B664914B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202-7515-44D7-A3EB-48D92E2A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5F7-0C2B-42D5-A72A-9A1009B1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DA1-B152-4366-ACD3-BFEAD3E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1DB-9820-4632-AFF3-822DF08C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260-B7E0-416F-8497-5355469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E03-F4E3-4E44-A766-1E3106B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224-8D99-4740-B0B7-DFA43D1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59E-8422-4F5F-9783-FDC3BB7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CF0-4EC0-4A23-B916-910A129A5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  <a:ea typeface="Arial"/>
              </a:rPr>
              <a:t>Части реч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7"/>
          <p:cNvSpPr/>
          <p:nvPr/>
        </p:nvSpPr>
        <p:spPr>
          <a:xfrm>
            <a:off x="3286080" y="4643280"/>
            <a:ext cx="30006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2960" y="2928960"/>
            <a:ext cx="49291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Составитель: Т.А. Алёхи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ь письма и развития речи ГКОУ 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школы-интерната ст-цы Крыловс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предметов при счё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3000240" y="314316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3000240" y="171468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3000240" y="4500720"/>
            <a:ext cx="3214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. Какие части реч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сочетаются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 с друг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2857680" y="2857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лог + г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2857680" y="178596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л. + 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857680" y="5143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ислит. + 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2857680" y="4000680"/>
            <a:ext cx="3286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г. + ме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876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. Найд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чевую ошиб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1785960" y="378612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ссердечный 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1785960" y="250020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ропливое от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1785960" y="507204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бокое в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1785960" y="1214280"/>
            <a:ext cx="5357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сёлый см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480" y="214272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28440" y="521496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8 с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00084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42560" y="642960"/>
            <a:ext cx="9001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Исключи «лишнюю» часть речи в каждой стро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4643280" y="3000240"/>
            <a:ext cx="200052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50004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257184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6715080" y="300024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8"/>
          <p:cNvSpPr/>
          <p:nvPr/>
        </p:nvSpPr>
        <p:spPr>
          <a:xfrm>
            <a:off x="671508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257184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678672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б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643280" y="1643040"/>
            <a:ext cx="20718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ра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00040" y="1643040"/>
            <a:ext cx="20001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сея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4643280" y="4429080"/>
            <a:ext cx="200052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257184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500040" y="442908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85880" y="642960"/>
            <a:ext cx="778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ыбери словосочетани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прил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4857840" y="1928880"/>
            <a:ext cx="3500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дорная 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2"/>
          <p:cNvSpPr/>
          <p:nvPr/>
        </p:nvSpPr>
        <p:spPr>
          <a:xfrm>
            <a:off x="857160" y="3643200"/>
            <a:ext cx="3500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вая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5"/>
          <p:cNvSpPr/>
          <p:nvPr/>
        </p:nvSpPr>
        <p:spPr>
          <a:xfrm>
            <a:off x="857160" y="1928880"/>
            <a:ext cx="3500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ушать му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6"/>
          <p:cNvSpPr/>
          <p:nvPr/>
        </p:nvSpPr>
        <p:spPr>
          <a:xfrm>
            <a:off x="4857840" y="3714840"/>
            <a:ext cx="3500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идел 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928800" y="642960"/>
            <a:ext cx="69292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 предложениях укаж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г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429240" y="2143080"/>
            <a:ext cx="23576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крыв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2"/>
          <p:cNvSpPr/>
          <p:nvPr/>
        </p:nvSpPr>
        <p:spPr>
          <a:xfrm>
            <a:off x="7643880" y="3500280"/>
            <a:ext cx="13572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4"/>
          <p:cNvSpPr/>
          <p:nvPr/>
        </p:nvSpPr>
        <p:spPr>
          <a:xfrm>
            <a:off x="2428920" y="3500280"/>
            <a:ext cx="14288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ч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5"/>
          <p:cNvSpPr/>
          <p:nvPr/>
        </p:nvSpPr>
        <p:spPr>
          <a:xfrm>
            <a:off x="4286160" y="2143080"/>
            <a:ext cx="10000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6"/>
          <p:cNvSpPr/>
          <p:nvPr/>
        </p:nvSpPr>
        <p:spPr>
          <a:xfrm>
            <a:off x="5286240" y="2143080"/>
            <a:ext cx="1143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3643200" y="3500280"/>
            <a:ext cx="15004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>
            <a:off x="5500800" y="3500280"/>
            <a:ext cx="1143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21"/>
          <p:cNvSpPr/>
          <p:nvPr/>
        </p:nvSpPr>
        <p:spPr>
          <a:xfrm>
            <a:off x="1928880" y="2143080"/>
            <a:ext cx="23572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крыв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2"/>
          <p:cNvSpPr/>
          <p:nvPr/>
        </p:nvSpPr>
        <p:spPr>
          <a:xfrm>
            <a:off x="142920" y="2143080"/>
            <a:ext cx="18572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не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23"/>
          <p:cNvSpPr/>
          <p:nvPr/>
        </p:nvSpPr>
        <p:spPr>
          <a:xfrm>
            <a:off x="1714680" y="3500280"/>
            <a:ext cx="85716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24"/>
          <p:cNvSpPr/>
          <p:nvPr/>
        </p:nvSpPr>
        <p:spPr>
          <a:xfrm>
            <a:off x="1000080" y="3500280"/>
            <a:ext cx="85716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25"/>
          <p:cNvSpPr/>
          <p:nvPr/>
        </p:nvSpPr>
        <p:spPr>
          <a:xfrm>
            <a:off x="142920" y="3500280"/>
            <a:ext cx="9288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26"/>
          <p:cNvSpPr/>
          <p:nvPr/>
        </p:nvSpPr>
        <p:spPr>
          <a:xfrm>
            <a:off x="6500880" y="3500280"/>
            <a:ext cx="12859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5072040" y="3500280"/>
            <a:ext cx="571680" cy="78588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785880"/>
              <a:gd name="textAreaBottom" fmla="*/ 758160 h 785880"/>
            </a:gdLst>
            <a:ahLst/>
            <a:rect l="textAreaLeft" t="textAreaTop" r="textAreaRight" b="textAreaBottom"/>
            <a:pathLst>
              <a:path w="21600" h="29688">
                <a:moveTo>
                  <a:pt x="3600" y="0"/>
                </a:moveTo>
                <a:arcTo wR="3600" hR="3600" stAng="16200000" swAng="-5400000"/>
                <a:lnTo>
                  <a:pt x="0" y="26088"/>
                </a:lnTo>
                <a:arcTo wR="3600" hR="3600" stAng="10800000" swAng="-5400000"/>
                <a:lnTo>
                  <a:pt x="18000" y="29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знак предм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2357280" y="314316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2357280" y="171468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357280" y="450072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числ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42960" y="571320"/>
            <a:ext cx="7858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Укажи часть речи, которая называет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знак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300024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000240" y="31431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3000240" y="45007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2920" y="571320"/>
            <a:ext cx="88581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жи часть речи, которая называет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2357280" y="442908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2357280" y="157176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2357280" y="3000240"/>
            <a:ext cx="4429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freeppt.ru/Fony/047.jpg"/>
          <p:cNvPicPr/>
          <p:nvPr/>
        </p:nvPicPr>
        <p:blipFill>
          <a:blip r:embed="rId1"/>
          <a:srcRect l="2343" t="3133" r="2937" b="208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. Укажи часть речи, котор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предмет, 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называ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2286000" y="321480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2286000" y="185724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е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2286000" y="4500720"/>
            <a:ext cx="4429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мя существ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7-10-02T18:37:52Z</dcterms:modified>
  <cp:revision>717</cp:revision>
  <dc:subject/>
  <dc:title>Слайд 1</dc:title>
</cp:coreProperties>
</file>