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09E-6620-4A80-86B4-F3C341BA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600-F879-4E7D-A5C7-4BAA4B91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855-2BE8-4994-B804-BAC68784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8E4-1489-4554-AB37-2DA9630B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EF8A-80CB-4359-BFFF-C8BBEBD7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6934-65EC-4BA8-809F-BBB425A2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2C33-F442-40B9-ACBB-184B62F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CEF6-162B-44E4-A539-F3334244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B7B0-9EB2-44B2-A985-91968E0C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ABA7-C917-468A-B98B-73B714D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D1F5-8C1C-45AC-A497-00693999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6C5-20DF-4D02-960C-38DD1F53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91AF-B0C9-43F0-BF5D-B774471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6508-07D8-4DE8-A6B7-AFC3394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DD61-BC44-441C-AC50-40111D6E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3F79-C43E-4A52-9AC2-92839716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14C6-66EC-495B-9B41-F0412F96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D02-1BD9-463E-BB50-C93B9DA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053-FCA1-4534-8BD9-9C3D3499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E3F-569B-4B60-B0C4-840936C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EE7-DBF7-4F8F-92FB-1BE290A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163-DB2E-4897-99F3-3E2EC9E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1FB-315E-4C17-AD90-971D560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767-9098-4F25-8ECD-3FC3371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A240-97B6-45B6-A9AC-BB52E1042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458-58EF-4D5D-8CA3-F9AC557C70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Monotype Corsiva"/>
              </a:rPr>
              <a:t>«Гиперссылки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Monotype Corsiva"/>
              </a:rPr>
              <a:t>Вставка графических       изображений. 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Monotype Corsiva"/>
              </a:rPr>
              <a:t>Бегущая строк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егущая ст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622440"/>
          <a:ext cx="9144000" cy="6172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7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, который мы помещаем в тэге </a:t>
                      </a:r>
                      <a:r>
                        <a:rPr b="1" lang="ru-RU" sz="2000" spc="-1" strike="noStrike">
                          <a:solidFill>
                            <a:srgbClr val="74f7fe"/>
                          </a:solidFill>
                          <a:latin typeface="Arial"/>
                        </a:rPr>
                        <a:t>&lt;marquee&gt;&lt;/marquee&gt;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тановится бегущей строкой.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4f7fe"/>
                          </a:solidFill>
                          <a:latin typeface="Arial Unicode MS"/>
                        </a:rPr>
                        <a:t>&lt;marquee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height="10" width="270" bgcolor="#99CCFF"&gt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Бегущая строка, высота - 10, ширина - 270 пикселов, фон - 99CCFF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6d1ec"/>
                          </a:solidFill>
                          <a:latin typeface="Arial Unicode MS"/>
                        </a:rPr>
                        <a:t>&lt;/marquee&gt;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атрибуты тэга &lt;marquee&gt;&lt;/marquee&gt; вам уже знакомы: bgcolor - цвет фона бегущей строки, height - высота строки, width - ширина строки.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рибут</a:t>
                      </a:r>
                      <a:r>
                        <a:rPr b="0" lang="ru-RU" sz="2000" spc="-1" strike="noStrike">
                          <a:solidFill>
                            <a:srgbClr val="74f7fe"/>
                          </a:solidFill>
                          <a:latin typeface="Arial"/>
                        </a:rPr>
                        <a:t> loop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задает количество раз прокрутки строки. В нашем примере указано </a:t>
                      </a:r>
                      <a:r>
                        <a:rPr b="1" lang="ru-RU" sz="2000" spc="-1" strike="noStrike">
                          <a:solidFill>
                            <a:srgbClr val="74f7fe"/>
                          </a:solidFill>
                          <a:latin typeface="Arial"/>
                        </a:rPr>
                        <a:t>loop="2"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2 раза, а это значит, что строка пробежит  только два раз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13"/>
          <p:cNvSpPr/>
          <p:nvPr/>
        </p:nvSpPr>
        <p:spPr>
          <a:xfrm>
            <a:off x="250920" y="3039480"/>
            <a:ext cx="85327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50920" y="565164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6"/>
          <p:cNvSpPr/>
          <p:nvPr/>
        </p:nvSpPr>
        <p:spPr>
          <a:xfrm>
            <a:off x="12708000" y="528804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8"/>
          <p:cNvSpPr/>
          <p:nvPr/>
        </p:nvSpPr>
        <p:spPr>
          <a:xfrm>
            <a:off x="12787200" y="5288040"/>
            <a:ext cx="972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9"/>
          <p:cNvSpPr/>
          <p:nvPr/>
        </p:nvSpPr>
        <p:spPr>
          <a:xfrm>
            <a:off x="12827160" y="528804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038480" cy="19908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9"/>
          <p:cNvSpPr/>
          <p:nvPr/>
        </p:nvSpPr>
        <p:spPr>
          <a:xfrm>
            <a:off x="1908000" y="4581360"/>
            <a:ext cx="2808360" cy="576360"/>
          </a:xfrm>
          <a:prstGeom prst="wedgeRoundRectCallout">
            <a:avLst>
              <a:gd name="adj1" fmla="val 94375"/>
              <a:gd name="adj2" fmla="val -107300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4"/>
          <p:cNvSpPr/>
          <p:nvPr/>
        </p:nvSpPr>
        <p:spPr>
          <a:xfrm>
            <a:off x="275112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8"/>
          <p:cNvSpPr/>
          <p:nvPr/>
        </p:nvSpPr>
        <p:spPr>
          <a:xfrm>
            <a:off x="5870520" y="40053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гущая ст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ак осуществляется переход от одной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Web -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траницы к друг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то такое гиперссыл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зовите теги для вставки рисунка н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Web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страниц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то означает тег-параметр </a:t>
            </a:r>
            <a:r>
              <a:rPr b="0" lang="en-US" sz="3200" spc="-1" strike="noStrike">
                <a:solidFill>
                  <a:srgbClr val="74f7fe"/>
                </a:solidFill>
                <a:latin typeface="Monotype Corsiva"/>
              </a:rPr>
              <a:t>alt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акой атрибут используется для прокрутки бегущей стро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000240" y="214200"/>
            <a:ext cx="42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00040" y="112536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Используя различные информационные ресурсы: книги, журналы , статьи,  </a:t>
            </a: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internet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, найти по своей тематике графические изображения, рисунки,   фотографии, анимации и составить текс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1052640"/>
            <a:ext cx="79930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и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Ознакомление с оформлением веб-страниц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Технология передачи управления между веб-страниц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20000" y="0"/>
            <a:ext cx="79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357880" cy="61815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 rot="10800000">
            <a:off x="3995640" y="549000"/>
            <a:ext cx="2951280" cy="720720"/>
          </a:xfrm>
          <a:prstGeom prst="wedgeRoundRectCallout">
            <a:avLst>
              <a:gd name="adj1" fmla="val -59254"/>
              <a:gd name="adj2" fmla="val 77310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908000" y="1268280"/>
            <a:ext cx="1944720" cy="1152720"/>
          </a:xfrm>
          <a:prstGeom prst="wedgeRoundRectCallout">
            <a:avLst>
              <a:gd name="adj1" fmla="val -85754"/>
              <a:gd name="adj2" fmla="val -63083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10000" y="51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835280" y="2492280"/>
            <a:ext cx="2016000" cy="2160720"/>
          </a:xfrm>
          <a:prstGeom prst="wedgeRoundRectCallout">
            <a:avLst>
              <a:gd name="adj1" fmla="val -90236"/>
              <a:gd name="adj2" fmla="val -53231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86160" y="198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 rot="10800000">
            <a:off x="3851280" y="1699560"/>
            <a:ext cx="2736720" cy="1871640"/>
          </a:xfrm>
          <a:prstGeom prst="wedgeRoundRectCallout">
            <a:avLst>
              <a:gd name="adj1" fmla="val -81092"/>
              <a:gd name="adj2" fmla="val 49319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434720" y="11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 rot="10800000">
            <a:off x="3924000" y="3644640"/>
            <a:ext cx="2881080" cy="936360"/>
          </a:xfrm>
          <a:prstGeom prst="wedgeRoundRectCallout">
            <a:avLst>
              <a:gd name="adj1" fmla="val -72481"/>
              <a:gd name="adj2" fmla="val 68981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750600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2987640" y="3716280"/>
            <a:ext cx="1079640" cy="217440"/>
          </a:xfrm>
          <a:prstGeom prst="wedgeRoundRectCallout">
            <a:avLst>
              <a:gd name="adj1" fmla="val -40000"/>
              <a:gd name="adj2" fmla="val 10255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129800" cy="57355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/>
          <p:cNvSpPr/>
          <p:nvPr/>
        </p:nvSpPr>
        <p:spPr>
          <a:xfrm>
            <a:off x="1403280" y="1413000"/>
            <a:ext cx="1873440" cy="2520720"/>
          </a:xfrm>
          <a:prstGeom prst="wedgeRoundRectCallout">
            <a:avLst>
              <a:gd name="adj1" fmla="val -37203"/>
              <a:gd name="adj2" fmla="val -74055"/>
              <a:gd name="adj3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103320"/>
            <a:ext cx="9144000" cy="71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Гипер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им  важное свойство HTML — возможность создавать гиперссылки. Допустим для примера, что мы хотим создать ссылку на сай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u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блон использования гиперссыл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&lt;A href=“</a:t>
            </a:r>
            <a:r>
              <a:rPr b="1" lang="ru-RU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Адрес ссылки</a:t>
            </a: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”&gt;</a:t>
            </a:r>
            <a:r>
              <a:rPr b="1" lang="ru-RU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текст для щелчка </a:t>
            </a: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&lt;/a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рибут </a:t>
            </a:r>
            <a:r>
              <a:rPr b="1" i="1" lang="en-US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</a:rPr>
              <a:t>href</a:t>
            </a:r>
            <a:r>
              <a:rPr b="0" i="1" lang="ru-RU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 указывать на ресурс Интернета, файл на текущем диске или на метку внутри текущей веб-стра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ы можем написать такой ко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title&gt;программы&lt;/tit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пление н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4f7fe"/>
                </a:solidFill>
                <a:latin typeface="Arial"/>
              </a:rPr>
              <a:t>&lt;a href="http://www.</a:t>
            </a:r>
            <a:r>
              <a:rPr b="1" i="1" lang="en-US" sz="2800" spc="-1" strike="noStrike">
                <a:solidFill>
                  <a:srgbClr val="74f7fe"/>
                </a:solidFill>
                <a:latin typeface="Arial"/>
              </a:rPr>
              <a:t>mail</a:t>
            </a:r>
            <a:r>
              <a:rPr b="1" i="1" lang="ru-RU" sz="2800" spc="-1" strike="noStrike">
                <a:solidFill>
                  <a:srgbClr val="74f7fe"/>
                </a:solidFill>
                <a:latin typeface="Arial"/>
              </a:rPr>
              <a:t>.ru/"&gt;</a:t>
            </a:r>
            <a:r>
              <a:rPr b="1" i="1" lang="en-US" sz="2800" spc="-1" strike="noStrike" u="sng">
                <a:solidFill>
                  <a:srgbClr val="74f7fe"/>
                </a:solidFill>
                <a:uFillTx/>
                <a:latin typeface="Arial"/>
              </a:rPr>
              <a:t>Soft</a:t>
            </a:r>
            <a:r>
              <a:rPr b="1" i="1" lang="ru-RU" sz="2800" spc="-1" strike="noStrike">
                <a:solidFill>
                  <a:srgbClr val="74f7fe"/>
                </a:solidFill>
                <a:latin typeface="Arial"/>
              </a:rPr>
              <a:t>&lt;/a&gt;</a:t>
            </a:r>
            <a:r>
              <a:rPr b="0" lang="en-US" sz="2400" spc="-1" strike="noStrike">
                <a:solidFill>
                  <a:srgbClr val="74f7f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4f7f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 образом,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гиперссыл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слово </a:t>
            </a:r>
            <a:r>
              <a:rPr b="0" lang="ru-RU" sz="2800" spc="-1" strike="noStrike">
                <a:solidFill>
                  <a:srgbClr val="74f7fe"/>
                </a:solidFill>
                <a:latin typeface="Arial"/>
              </a:rPr>
              <a:t>“</a:t>
            </a:r>
            <a:r>
              <a:rPr b="1" i="1" lang="en-US" sz="2800" spc="-1" strike="noStrike" u="sng">
                <a:solidFill>
                  <a:srgbClr val="74f7fe"/>
                </a:solidFill>
                <a:uFillTx/>
                <a:latin typeface="Arial"/>
              </a:rPr>
              <a:t>Soft</a:t>
            </a:r>
            <a:r>
              <a:rPr b="0" lang="ru-RU" sz="2800" spc="-1" strike="noStrike">
                <a:solidFill>
                  <a:srgbClr val="74f7fe"/>
                </a:solidFill>
                <a:latin typeface="Arial"/>
              </a:rPr>
              <a:t>”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иперссылка в HTML-виде начинается тегом </a:t>
            </a:r>
            <a:r>
              <a:rPr b="0" lang="ru-RU" sz="2800" spc="-1" strike="noStrike">
                <a:solidFill>
                  <a:srgbClr val="74f7fe"/>
                </a:solidFill>
                <a:latin typeface="Arial"/>
              </a:rPr>
              <a:t>“&lt;a”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десь мы встречаем новый элемент — не просто тег, а тег с парамет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тега </a:t>
            </a:r>
            <a:r>
              <a:rPr b="1" lang="ru-RU" sz="2800" spc="-1" strike="noStrike">
                <a:solidFill>
                  <a:srgbClr val="74f7fe"/>
                </a:solidFill>
                <a:latin typeface="Arial"/>
              </a:rPr>
              <a:t>“&lt;a</a:t>
            </a:r>
            <a:r>
              <a:rPr b="1" lang="en-US" sz="2800" spc="-1" strike="noStrike">
                <a:solidFill>
                  <a:srgbClr val="74f7fe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74f7fe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есть параметр </a:t>
            </a:r>
            <a:r>
              <a:rPr b="1" lang="ru-RU" sz="2800" spc="-1" strike="noStrike" u="sng">
                <a:solidFill>
                  <a:srgbClr val="74f7fe"/>
                </a:solidFill>
                <a:uFillTx/>
                <a:latin typeface="Arial"/>
              </a:rPr>
              <a:t>“href ”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начение которого – адрес, на который указывает ссыл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8"/>
          <a:stretch/>
        </p:blipFill>
        <p:spPr>
          <a:xfrm>
            <a:off x="4357800" y="571680"/>
            <a:ext cx="4500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иперссылка может указывать на документ на том ж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web-серве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&lt;a href="news/pc_news.htm"&gt;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новост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десь гиперссылка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“новости”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указывает на документ </a:t>
            </a:r>
            <a:r>
              <a:rPr b="0" i="1" lang="ru-RU" sz="2800" spc="-1" strike="noStrike">
                <a:solidFill>
                  <a:srgbClr val="74f7fe"/>
                </a:solidFill>
                <a:latin typeface="Arial"/>
              </a:rPr>
              <a:t>pc_news.htm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находящийся во вложенной папке </a:t>
            </a:r>
            <a:r>
              <a:rPr b="0" i="1" lang="ru-RU" sz="2800" spc="-1" strike="noStrike">
                <a:solidFill>
                  <a:srgbClr val="74f7fe"/>
                </a:solidFill>
                <a:latin typeface="Arial"/>
              </a:rPr>
              <a:t>news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акие гиперссылки называются </a:t>
            </a: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относительным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так как указывают не абсолютный адрес ресурса, а относительный в данном сайте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80550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тавка графических изобра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7224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ML-документ может содержать изобра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title&gt;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зображение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tit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&lt;img src="class.jpg" width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="180"</a:t>
            </a: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 height=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"136"</a:t>
            </a: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 alt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="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Учебная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аудитория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"&gt;</a:t>
            </a:r>
            <a:r>
              <a:rPr b="1" i="1" lang="en-US" sz="2000" spc="-1" strike="noStrike" u="sng">
                <a:solidFill>
                  <a:srgbClr val="66ccff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html5"/>
          <p:cNvPicPr/>
          <p:nvPr/>
        </p:nvPicPr>
        <p:blipFill>
          <a:blip r:embed="rId1"/>
          <a:stretch/>
        </p:blipFill>
        <p:spPr>
          <a:xfrm>
            <a:off x="0" y="3429000"/>
            <a:ext cx="399564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3995640" y="3071880"/>
            <a:ext cx="51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г </a:t>
            </a:r>
            <a:r>
              <a:rPr b="1" i="1" lang="ru-RU" sz="2400" spc="-1" strike="noStrike">
                <a:solidFill>
                  <a:srgbClr val="74f7fe"/>
                </a:solidFill>
                <a:latin typeface="Arial"/>
              </a:rPr>
              <a:t>“&lt;img</a:t>
            </a:r>
            <a:r>
              <a:rPr b="1" i="1" lang="en-US" sz="2400" spc="-1" strike="noStrike">
                <a:solidFill>
                  <a:srgbClr val="74f7fe"/>
                </a:solidFill>
                <a:latin typeface="Arial"/>
              </a:rPr>
              <a:t>&gt;</a:t>
            </a:r>
            <a:r>
              <a:rPr b="1" i="1" lang="ru-RU" sz="2400" spc="-1" strike="noStrike">
                <a:solidFill>
                  <a:srgbClr val="74f7fe"/>
                </a:solidFill>
                <a:latin typeface="Arial"/>
              </a:rPr>
              <a:t>”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же име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раметры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src="class.jpg"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указатель на файл с изобра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width="180"</a:t>
            </a:r>
            <a:r>
              <a:rPr b="0" i="1" lang="ru-RU" sz="2400" spc="-1" strike="noStrike">
                <a:solidFill>
                  <a:srgbClr val="74f7fe"/>
                </a:solidFill>
                <a:latin typeface="Arial"/>
              </a:rPr>
              <a:t> и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height="136"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— описывают размеры изоб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чень важен тег-параметр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alt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="Учебная аудитория"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42920" y="-768240"/>
            <a:ext cx="900108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место графического объекта 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видит текст, указанный в те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4f7fe"/>
                </a:solidFill>
                <a:latin typeface="Arial"/>
              </a:rPr>
              <a:t>al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альтернатива изображению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место пустого знач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н позволяет выводить текст в те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стах, где должны располага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ису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обенно важно, если изображение является кнопкой навигации, т.е. гиперссылкой </a:t>
            </a:r>
            <a:r>
              <a:rPr b="1" i="1" lang="ru-RU" sz="2400" spc="-1" strike="noStrike">
                <a:solidFill>
                  <a:srgbClr val="74f7fe"/>
                </a:solidFill>
                <a:latin typeface="Arial"/>
              </a:rPr>
              <a:t>class.htm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то HTML-текст выглядит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&lt;a href="class.htm"&gt;&lt;img src="class.gif" width="180" height="136" border="0"  </a:t>
            </a:r>
            <a:r>
              <a:rPr b="1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alt="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а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удитория</a:t>
            </a:r>
            <a:r>
              <a:rPr b="1" i="1" lang="en-US" sz="2400" spc="-1" strike="noStrike" u="sng">
                <a:solidFill>
                  <a:srgbClr val="74f7fe"/>
                </a:solidFill>
                <a:uFillTx/>
                <a:latin typeface="Arial"/>
              </a:rPr>
              <a:t>"&gt;&lt;/a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г гиперссылки</a:t>
            </a:r>
            <a:r>
              <a:rPr b="0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 &lt;a href="….."&gt;…&lt;/a&gt;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Тег вставки изображения </a:t>
            </a:r>
            <a:r>
              <a:rPr b="0" i="1" lang="ru-RU" sz="2400" spc="-1" strike="noStrike" u="sng">
                <a:solidFill>
                  <a:srgbClr val="74f7fe"/>
                </a:solidFill>
                <a:uFillTx/>
                <a:latin typeface="Arial"/>
              </a:rPr>
              <a:t>"&lt;img src="…."…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3075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9:33:45Z</dcterms:created>
  <dc:creator>Саша</dc:creator>
  <dc:description/>
  <dc:language>en-US</dc:language>
  <cp:lastModifiedBy>Admin</cp:lastModifiedBy>
  <dcterms:modified xsi:type="dcterms:W3CDTF">2011-01-10T08:45:06Z</dcterms:modified>
  <cp:revision>53</cp:revision>
  <dc:subject/>
  <dc:title>Слайд 1</dc:title>
</cp:coreProperties>
</file>