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343-89BA-4489-91DC-7183D3D1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2D8-4C62-424B-BD74-D00F3FC0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BB8-70BE-460B-AA59-592537CF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38F9-BF2F-4238-849A-BDEC79B0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9BF3-B6B0-43E7-B54D-69315F28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F4C3-24AB-4C8C-A059-36ECC496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B49A-44AA-4873-87DC-B3654A86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759A-70B0-4272-82F1-7BB09FDE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C0B4-18F3-4214-847F-75524F5E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B1BB-D96A-4C58-B3D9-BE00348D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288E-2F32-452B-8608-4B91959B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393-D43F-4A7F-A4E5-EB7311FE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3A34-3970-47F1-AC3A-6BA98D5C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967F-B7CF-4654-96BA-E403AAC7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05FE-21AF-45D4-8C93-D7B2FF8A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93B7-9A97-4BB7-863C-B6E88165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6BE8-3150-4332-8209-DE19A148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22C6-8A01-45C0-8085-BFAFD969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1DA-68EE-4232-BAF3-F4773B7E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EC9-5CC5-44EA-9C58-D92395BB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0FB8-7799-4B4D-A0F5-31FA554F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7B3-A446-44F7-AEAB-034727E6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F40-6BC6-421D-B581-1FC493A3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FEA-E372-4527-91E7-B4FA398F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A9D8-CA83-44CB-A0F3-001E878669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3E63-9666-479E-85A9-CA37A1C358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Тем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Monotype Corsiva"/>
              </a:rPr>
              <a:t>«Гиперссылки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Monotype Corsiva"/>
              </a:rPr>
              <a:t>Вставка графических       изображений. 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Monotype Corsiva"/>
              </a:rPr>
              <a:t>Бегущая строка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егущая ст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622440"/>
          <a:ext cx="9144000" cy="61722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17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кст, который мы помещаем в тэге </a:t>
                      </a:r>
                      <a:r>
                        <a:rPr b="1" lang="ru-RU" sz="2000" spc="-1" strike="noStrike">
                          <a:solidFill>
                            <a:srgbClr val="74f7fe"/>
                          </a:solidFill>
                          <a:latin typeface="Arial"/>
                        </a:rPr>
                        <a:t>&lt;marquee&gt;&lt;/marquee&gt;,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становится бегущей строкой.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4f7fe"/>
                          </a:solidFill>
                          <a:latin typeface="Arial Unicode MS"/>
                        </a:rPr>
                        <a:t>&lt;marquee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height="10" width="270" bgcolor="#99CCFF"&gt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Бегущая строка, высота - 10, ширина - 270 пикселов, фон - 99CCFF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6d1ec"/>
                          </a:solidFill>
                          <a:latin typeface="Arial Unicode MS"/>
                        </a:rPr>
                        <a:t>&lt;/marquee&gt;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 атрибуты тэга &lt;marquee&gt;&lt;/marquee&gt; вам уже знакомы: bgcolor - цвет фона бегущей строки, height - высота строки, width - ширина строки.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трибут</a:t>
                      </a:r>
                      <a:r>
                        <a:rPr b="0" lang="ru-RU" sz="2000" spc="-1" strike="noStrike">
                          <a:solidFill>
                            <a:srgbClr val="74f7fe"/>
                          </a:solidFill>
                          <a:latin typeface="Arial"/>
                        </a:rPr>
                        <a:t> loop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задает количество раз прокрутки строки. В нашем примере указано </a:t>
                      </a:r>
                      <a:r>
                        <a:rPr b="1" lang="ru-RU" sz="2000" spc="-1" strike="noStrike">
                          <a:solidFill>
                            <a:srgbClr val="74f7fe"/>
                          </a:solidFill>
                          <a:latin typeface="Arial"/>
                        </a:rPr>
                        <a:t>loop="2"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2 раза, а это значит, что строка пробежит  только два раза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13"/>
          <p:cNvSpPr/>
          <p:nvPr/>
        </p:nvSpPr>
        <p:spPr>
          <a:xfrm>
            <a:off x="250920" y="3039480"/>
            <a:ext cx="853272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250920" y="565164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36"/>
          <p:cNvSpPr/>
          <p:nvPr/>
        </p:nvSpPr>
        <p:spPr>
          <a:xfrm>
            <a:off x="12708000" y="5288040"/>
            <a:ext cx="936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8"/>
          <p:cNvSpPr/>
          <p:nvPr/>
        </p:nvSpPr>
        <p:spPr>
          <a:xfrm>
            <a:off x="12787200" y="5288040"/>
            <a:ext cx="972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39"/>
          <p:cNvSpPr/>
          <p:nvPr/>
        </p:nvSpPr>
        <p:spPr>
          <a:xfrm>
            <a:off x="12827160" y="5288040"/>
            <a:ext cx="936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73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038480" cy="199080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79"/>
          <p:cNvSpPr/>
          <p:nvPr/>
        </p:nvSpPr>
        <p:spPr>
          <a:xfrm>
            <a:off x="1908000" y="4581360"/>
            <a:ext cx="2808360" cy="576360"/>
          </a:xfrm>
          <a:prstGeom prst="wedgeRoundRectCallout">
            <a:avLst>
              <a:gd name="adj1" fmla="val 94375"/>
              <a:gd name="adj2" fmla="val -107300"/>
              <a:gd name="adj3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4"/>
          <p:cNvSpPr/>
          <p:nvPr/>
        </p:nvSpPr>
        <p:spPr>
          <a:xfrm>
            <a:off x="275112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88"/>
          <p:cNvSpPr/>
          <p:nvPr/>
        </p:nvSpPr>
        <p:spPr>
          <a:xfrm>
            <a:off x="5870520" y="400536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гущая ст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40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ак осуществляется переход от одной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Web -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траницы к друг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Что такое гиперссыл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Назовите теги для вставки рисунка н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Web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страниц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Что означает тег-параметр </a:t>
            </a:r>
            <a:r>
              <a:rPr b="0" lang="en-US" sz="3200" spc="-1" strike="noStrike">
                <a:solidFill>
                  <a:srgbClr val="74f7fe"/>
                </a:solidFill>
                <a:latin typeface="Monotype Corsiva"/>
              </a:rPr>
              <a:t>alt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акой атрибут используется для прокрутки бегущей стро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3000240" y="214200"/>
            <a:ext cx="42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500040" y="1125360"/>
            <a:ext cx="8001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Используя различные информационные ресурсы: книги, журналы , статьи,  </a:t>
            </a:r>
            <a:r>
              <a:rPr b="0" i="1" lang="en-US" sz="4000" spc="-1" strike="noStrike">
                <a:solidFill>
                  <a:srgbClr val="ffffff"/>
                </a:solidFill>
                <a:latin typeface="Monotype Corsiva"/>
              </a:rPr>
              <a:t>internet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, найти по своей тематике графические изображения, рисунки,   фотографии, анимации и составить текс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539640" y="1052640"/>
            <a:ext cx="799308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и уро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Ознакомление с оформлением веб-страниц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Технология передачи управления между веб-страниц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20000" y="0"/>
            <a:ext cx="792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357880" cy="618156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 rot="10800000">
            <a:off x="3995640" y="549000"/>
            <a:ext cx="2951280" cy="720720"/>
          </a:xfrm>
          <a:prstGeom prst="wedgeRoundRectCallout">
            <a:avLst>
              <a:gd name="adj1" fmla="val -59254"/>
              <a:gd name="adj2" fmla="val 77310"/>
              <a:gd name="adj3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908000" y="1268280"/>
            <a:ext cx="1944720" cy="1152720"/>
          </a:xfrm>
          <a:prstGeom prst="wedgeRoundRectCallout">
            <a:avLst>
              <a:gd name="adj1" fmla="val -85754"/>
              <a:gd name="adj2" fmla="val -63083"/>
              <a:gd name="adj3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810000" y="51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1835280" y="2492280"/>
            <a:ext cx="2016000" cy="2160720"/>
          </a:xfrm>
          <a:prstGeom prst="wedgeRoundRectCallout">
            <a:avLst>
              <a:gd name="adj1" fmla="val -90236"/>
              <a:gd name="adj2" fmla="val -53231"/>
              <a:gd name="adj3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686160" y="1989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 rot="10800000">
            <a:off x="3851280" y="1699560"/>
            <a:ext cx="2736720" cy="1871640"/>
          </a:xfrm>
          <a:prstGeom prst="wedgeRoundRectCallout">
            <a:avLst>
              <a:gd name="adj1" fmla="val -81092"/>
              <a:gd name="adj2" fmla="val 49319"/>
              <a:gd name="adj3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7434720" y="11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 rot="10800000">
            <a:off x="3924000" y="3644640"/>
            <a:ext cx="2881080" cy="936360"/>
          </a:xfrm>
          <a:prstGeom prst="wedgeRoundRectCallout">
            <a:avLst>
              <a:gd name="adj1" fmla="val -72481"/>
              <a:gd name="adj2" fmla="val 68981"/>
              <a:gd name="adj3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750600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2987640" y="3716280"/>
            <a:ext cx="1079640" cy="217440"/>
          </a:xfrm>
          <a:prstGeom prst="wedgeRoundRectCallout">
            <a:avLst>
              <a:gd name="adj1" fmla="val -40000"/>
              <a:gd name="adj2" fmla="val 10255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7129800" cy="57355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6"/>
          <p:cNvSpPr/>
          <p:nvPr/>
        </p:nvSpPr>
        <p:spPr>
          <a:xfrm>
            <a:off x="1403280" y="1413000"/>
            <a:ext cx="1873440" cy="2520720"/>
          </a:xfrm>
          <a:prstGeom prst="wedgeRoundRectCallout">
            <a:avLst>
              <a:gd name="adj1" fmla="val -37203"/>
              <a:gd name="adj2" fmla="val -74055"/>
              <a:gd name="adj3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0" y="103320"/>
            <a:ext cx="9144000" cy="71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Monotype Corsiva"/>
              </a:rPr>
              <a:t>Гиперссыл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мотрим  важное свойство HTML — возможность создавать гиперссылки. Допустим для примера, что мы хотим создать ссылку на сайт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ru/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блон использования гиперссыл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&lt;A href=“</a:t>
            </a:r>
            <a:r>
              <a:rPr b="1" lang="ru-RU" sz="2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Адрес ссылки</a:t>
            </a:r>
            <a:r>
              <a:rPr b="1" lang="en-US" sz="2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”&gt;</a:t>
            </a:r>
            <a:r>
              <a:rPr b="1" lang="ru-RU" sz="2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 текст для щелчка </a:t>
            </a:r>
            <a:r>
              <a:rPr b="1" lang="en-US" sz="2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&lt;/a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рибут </a:t>
            </a:r>
            <a:r>
              <a:rPr b="1" i="1" lang="en-US" sz="2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</a:rPr>
              <a:t>href</a:t>
            </a:r>
            <a:r>
              <a:rPr b="0" i="1" lang="ru-RU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т указывать на ресурс Интернета, файл на текущем диске или на метку внутри текущей веб-страни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ы можем написать такой код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&lt;title&gt;программы&lt;/tit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&lt;bod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упление нов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4f7fe"/>
                </a:solidFill>
                <a:latin typeface="Arial"/>
              </a:rPr>
              <a:t>&lt;a href="http://www.</a:t>
            </a:r>
            <a:r>
              <a:rPr b="1" i="1" lang="en-US" sz="2800" spc="-1" strike="noStrike">
                <a:solidFill>
                  <a:srgbClr val="74f7fe"/>
                </a:solidFill>
                <a:latin typeface="Arial"/>
              </a:rPr>
              <a:t>mail</a:t>
            </a:r>
            <a:r>
              <a:rPr b="1" i="1" lang="ru-RU" sz="2800" spc="-1" strike="noStrike">
                <a:solidFill>
                  <a:srgbClr val="74f7fe"/>
                </a:solidFill>
                <a:latin typeface="Arial"/>
              </a:rPr>
              <a:t>.ru/"&gt;</a:t>
            </a:r>
            <a:r>
              <a:rPr b="1" i="1" lang="en-US" sz="2800" spc="-1" strike="noStrike" u="sng">
                <a:solidFill>
                  <a:srgbClr val="74f7fe"/>
                </a:solidFill>
                <a:uFillTx/>
                <a:latin typeface="Arial"/>
              </a:rPr>
              <a:t>Soft</a:t>
            </a:r>
            <a:r>
              <a:rPr b="1" i="1" lang="ru-RU" sz="2800" spc="-1" strike="noStrike">
                <a:solidFill>
                  <a:srgbClr val="74f7fe"/>
                </a:solidFill>
                <a:latin typeface="Arial"/>
              </a:rPr>
              <a:t>&lt;/a&gt;</a:t>
            </a:r>
            <a:r>
              <a:rPr b="0" lang="en-US" sz="2400" spc="-1" strike="noStrike">
                <a:solidFill>
                  <a:srgbClr val="74f7fe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4f7fe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&lt;/bod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им образом, </a:t>
            </a: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гиперссылк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является слово </a:t>
            </a:r>
            <a:r>
              <a:rPr b="0" lang="ru-RU" sz="2800" spc="-1" strike="noStrike">
                <a:solidFill>
                  <a:srgbClr val="74f7fe"/>
                </a:solidFill>
                <a:latin typeface="Arial"/>
              </a:rPr>
              <a:t>“</a:t>
            </a:r>
            <a:r>
              <a:rPr b="1" i="1" lang="en-US" sz="2800" spc="-1" strike="noStrike" u="sng">
                <a:solidFill>
                  <a:srgbClr val="74f7fe"/>
                </a:solidFill>
                <a:uFillTx/>
                <a:latin typeface="Arial"/>
              </a:rPr>
              <a:t>Soft</a:t>
            </a:r>
            <a:r>
              <a:rPr b="0" lang="ru-RU" sz="2800" spc="-1" strike="noStrike">
                <a:solidFill>
                  <a:srgbClr val="74f7fe"/>
                </a:solidFill>
                <a:latin typeface="Arial"/>
              </a:rPr>
              <a:t>”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иперссылка в HTML-виде начинается тегом </a:t>
            </a:r>
            <a:r>
              <a:rPr b="0" lang="ru-RU" sz="2800" spc="-1" strike="noStrike">
                <a:solidFill>
                  <a:srgbClr val="74f7fe"/>
                </a:solidFill>
                <a:latin typeface="Arial"/>
              </a:rPr>
              <a:t>“&lt;a”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десь мы встречаем новый элемент — не просто тег, а тег с параметр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тега </a:t>
            </a:r>
            <a:r>
              <a:rPr b="1" lang="ru-RU" sz="2800" spc="-1" strike="noStrike">
                <a:solidFill>
                  <a:srgbClr val="74f7fe"/>
                </a:solidFill>
                <a:latin typeface="Arial"/>
              </a:rPr>
              <a:t>“&lt;a</a:t>
            </a:r>
            <a:r>
              <a:rPr b="1" lang="en-US" sz="2800" spc="-1" strike="noStrike">
                <a:solidFill>
                  <a:srgbClr val="74f7fe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74f7fe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есть параметр </a:t>
            </a:r>
            <a:r>
              <a:rPr b="1" lang="ru-RU" sz="2800" spc="-1" strike="noStrike" u="sng">
                <a:solidFill>
                  <a:srgbClr val="74f7fe"/>
                </a:solidFill>
                <a:uFillTx/>
                <a:latin typeface="Arial"/>
              </a:rPr>
              <a:t>“href ”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начение которого – адрес, на который указывает ссыл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8"/>
          <a:stretch/>
        </p:blipFill>
        <p:spPr>
          <a:xfrm>
            <a:off x="4357800" y="571680"/>
            <a:ext cx="45003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иперссылка может указывать на документ на том же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web-серве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пример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&lt;a href="news/pc_news.htm"&gt;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новости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&lt;/a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десь гиперссылка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“новости”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указывает на документ </a:t>
            </a:r>
            <a:r>
              <a:rPr b="0" i="1" lang="ru-RU" sz="2800" spc="-1" strike="noStrike">
                <a:solidFill>
                  <a:srgbClr val="74f7fe"/>
                </a:solidFill>
                <a:latin typeface="Arial"/>
              </a:rPr>
              <a:t>pc_news.htm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 находящийся во вложенной папке </a:t>
            </a:r>
            <a:r>
              <a:rPr b="0" i="1" lang="ru-RU" sz="2800" spc="-1" strike="noStrike">
                <a:solidFill>
                  <a:srgbClr val="74f7fe"/>
                </a:solidFill>
                <a:latin typeface="Arial"/>
              </a:rPr>
              <a:t>news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акие гиперссылки называются </a:t>
            </a:r>
            <a:r>
              <a:rPr b="0" i="1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относительным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так как указывают не абсолютный адрес ресурса, а относительный в данном сайте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3880" y="0"/>
            <a:ext cx="80550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тавка графических изображ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37224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TML-документ может содержать изображ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&lt;head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&lt;title&gt;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зображение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&lt;/titl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&lt;/head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&lt;body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66ccff"/>
                </a:solidFill>
                <a:uFillTx/>
                <a:latin typeface="Arial"/>
                <a:ea typeface="Times New Roman"/>
              </a:rPr>
              <a:t>&lt;img src="class.jpg" width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="180"</a:t>
            </a:r>
            <a:r>
              <a:rPr b="1" i="1" lang="en-US" sz="2000" spc="-1" strike="noStrike" u="sng">
                <a:solidFill>
                  <a:srgbClr val="66ccff"/>
                </a:solidFill>
                <a:uFillTx/>
                <a:latin typeface="Arial"/>
                <a:ea typeface="Times New Roman"/>
              </a:rPr>
              <a:t> height=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"136"</a:t>
            </a:r>
            <a:r>
              <a:rPr b="1" i="1" lang="en-US" sz="2000" spc="-1" strike="noStrike" u="sng">
                <a:solidFill>
                  <a:srgbClr val="66ccff"/>
                </a:solidFill>
                <a:uFillTx/>
                <a:latin typeface="Arial"/>
                <a:ea typeface="Times New Roman"/>
              </a:rPr>
              <a:t> alt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="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Учебная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аудитория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"&gt;</a:t>
            </a:r>
            <a:r>
              <a:rPr b="1" i="1" lang="en-US" sz="2000" spc="-1" strike="noStrike" u="sng">
                <a:solidFill>
                  <a:srgbClr val="66ccff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&lt;/html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html5"/>
          <p:cNvPicPr/>
          <p:nvPr/>
        </p:nvPicPr>
        <p:blipFill>
          <a:blip r:embed="rId1"/>
          <a:stretch/>
        </p:blipFill>
        <p:spPr>
          <a:xfrm>
            <a:off x="0" y="3429000"/>
            <a:ext cx="3995640" cy="3429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3995640" y="3071880"/>
            <a:ext cx="51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ег </a:t>
            </a:r>
            <a:r>
              <a:rPr b="1" i="1" lang="ru-RU" sz="2400" spc="-1" strike="noStrike">
                <a:solidFill>
                  <a:srgbClr val="74f7fe"/>
                </a:solidFill>
                <a:latin typeface="Arial"/>
              </a:rPr>
              <a:t>“&lt;img</a:t>
            </a:r>
            <a:r>
              <a:rPr b="1" i="1" lang="en-US" sz="2400" spc="-1" strike="noStrike">
                <a:solidFill>
                  <a:srgbClr val="74f7fe"/>
                </a:solidFill>
                <a:latin typeface="Arial"/>
              </a:rPr>
              <a:t>&gt;</a:t>
            </a:r>
            <a:r>
              <a:rPr b="1" i="1" lang="ru-RU" sz="2400" spc="-1" strike="noStrike">
                <a:solidFill>
                  <a:srgbClr val="74f7fe"/>
                </a:solidFill>
                <a:latin typeface="Arial"/>
              </a:rPr>
              <a:t>”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акже имеет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араметры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74f7fe"/>
                </a:solidFill>
                <a:uFillTx/>
                <a:latin typeface="Arial"/>
              </a:rPr>
              <a:t>src="class.jpg"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указатель на файл с изображ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 </a:t>
            </a:r>
            <a:r>
              <a:rPr b="1" i="1" lang="ru-RU" sz="2400" spc="-1" strike="noStrike" u="sng">
                <a:solidFill>
                  <a:srgbClr val="74f7fe"/>
                </a:solidFill>
                <a:uFillTx/>
                <a:latin typeface="Arial"/>
              </a:rPr>
              <a:t>width="180"</a:t>
            </a:r>
            <a:r>
              <a:rPr b="0" i="1" lang="ru-RU" sz="2400" spc="-1" strike="noStrike">
                <a:solidFill>
                  <a:srgbClr val="74f7fe"/>
                </a:solidFill>
                <a:latin typeface="Arial"/>
              </a:rPr>
              <a:t> и </a:t>
            </a:r>
            <a:r>
              <a:rPr b="1" i="1" lang="ru-RU" sz="2400" spc="-1" strike="noStrike" u="sng">
                <a:solidFill>
                  <a:srgbClr val="74f7fe"/>
                </a:solidFill>
                <a:uFillTx/>
                <a:latin typeface="Arial"/>
              </a:rPr>
              <a:t>height="136"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— описывают размеры изоб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чень важен тег-параметр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4f7fe"/>
                </a:solidFill>
                <a:uFillTx/>
                <a:latin typeface="Arial"/>
              </a:rPr>
              <a:t>alt</a:t>
            </a:r>
            <a:r>
              <a:rPr b="1" i="1" lang="ru-RU" sz="2400" spc="-1" strike="noStrike" u="sng">
                <a:solidFill>
                  <a:srgbClr val="74f7fe"/>
                </a:solidFill>
                <a:uFillTx/>
                <a:latin typeface="Arial"/>
              </a:rPr>
              <a:t>="Учебная аудитория"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42920" y="-768240"/>
            <a:ext cx="900108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место графического объекта о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видит текст, указанный в те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74f7fe"/>
                </a:solidFill>
                <a:latin typeface="Arial"/>
              </a:rPr>
              <a:t>alt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альтернатива изображению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место пустого знач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н позволяет выводить текст в те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естах, где должны располагать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ису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обенно важно, если изображение является кнопкой навигации, т.е. гиперссылкой </a:t>
            </a:r>
            <a:r>
              <a:rPr b="1" i="1" lang="ru-RU" sz="2400" spc="-1" strike="noStrike">
                <a:solidFill>
                  <a:srgbClr val="74f7fe"/>
                </a:solidFill>
                <a:latin typeface="Arial"/>
              </a:rPr>
              <a:t>class.htm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то HTML-текст выглядит т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4f7fe"/>
                </a:solidFill>
                <a:uFillTx/>
                <a:latin typeface="Arial"/>
              </a:rPr>
              <a:t>&lt;a href="class.htm"&gt;&lt;img src="class.gif" width="180" height="136" border="0"  </a:t>
            </a:r>
            <a:r>
              <a:rPr b="1" i="1" lang="ru-RU" sz="2400" spc="-1" strike="noStrike" u="sng">
                <a:solidFill>
                  <a:srgbClr val="74f7fe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74f7fe"/>
                </a:solidFill>
                <a:uFillTx/>
                <a:latin typeface="Arial"/>
              </a:rPr>
              <a:t>alt="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чебная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удитория</a:t>
            </a:r>
            <a:r>
              <a:rPr b="1" i="1" lang="en-US" sz="2400" spc="-1" strike="noStrike" u="sng">
                <a:solidFill>
                  <a:srgbClr val="74f7fe"/>
                </a:solidFill>
                <a:uFillTx/>
                <a:latin typeface="Arial"/>
              </a:rPr>
              <a:t>"&gt;&lt;/a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г гиперссылки</a:t>
            </a:r>
            <a:r>
              <a:rPr b="0" i="1" lang="ru-RU" sz="2400" spc="-1" strike="noStrike" u="sng">
                <a:solidFill>
                  <a:srgbClr val="74f7fe"/>
                </a:solidFill>
                <a:uFillTx/>
                <a:latin typeface="Arial"/>
              </a:rPr>
              <a:t> &lt;a href="….."&gt;…&lt;/a&gt;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Тег вставки изображения </a:t>
            </a:r>
            <a:r>
              <a:rPr b="0" i="1" lang="ru-RU" sz="2400" spc="-1" strike="noStrike" u="sng">
                <a:solidFill>
                  <a:srgbClr val="74f7fe"/>
                </a:solidFill>
                <a:uFillTx/>
                <a:latin typeface="Arial"/>
              </a:rPr>
              <a:t>"&lt;img src="…."…&gt;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867280" y="115920"/>
            <a:ext cx="30751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09:33:45Z</dcterms:created>
  <dc:creator>Саша</dc:creator>
  <dc:description/>
  <dc:language>en-US</dc:language>
  <cp:lastModifiedBy>Admin</cp:lastModifiedBy>
  <dcterms:modified xsi:type="dcterms:W3CDTF">2011-01-10T08:45:06Z</dcterms:modified>
  <cp:revision>53</cp:revision>
  <dc:subject/>
  <dc:title>Слайд 1</dc:title>
</cp:coreProperties>
</file>