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4D6-4596-4990-9420-B706EF7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470-62C7-45EF-B3F3-5412F5CA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03C-CC4C-4FEC-999B-C0028ED1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DDF-B64B-459B-980B-559DEE9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9E5-5635-47FF-8B83-30EAA807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7A8-389D-4B5F-BC1D-7D71E95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6FA1-28C2-48CE-845C-A7B652D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131-0D09-4CD5-B0A3-EA592BD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DC4F-B888-4AA5-9160-8532358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D6D9-A8E4-49B6-BE9C-5B7FB9EF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F306-FCD7-499D-BED6-A1CB8037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9DB-6F39-4BF7-8BB8-7AAB78EE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BE7-E5DA-425E-8733-69ACD09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A426-3F56-4C7D-A82E-7BC0F62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3B6B-E597-4AD2-B03E-6C40CC3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848-9016-4EFA-A60C-A5330808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939E-2597-41BB-844E-BD9A7136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4B87-F46F-4E02-8E24-1BC206AF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F356-6E35-4FAA-8555-7A28CCE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4876-75B9-45C9-900B-721A777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93D1-2F9C-4A78-A639-7092674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249A-0927-4FBB-85DD-5208E6EC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E6E-AD3A-46C4-A44F-0E674B4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6A96-3093-423F-A15C-66EE34E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8A33-DACA-494D-962F-13CB312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3A99-8EBE-47F0-9E8C-2511E68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8D61-F1E5-4011-9347-435F466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8A34-BD8C-405C-AA44-632A890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FA85-393E-4F1F-872C-B90AC71A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DD16-1F9F-420F-8178-7DB38857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2E8F-1C6B-49B9-A848-2CA9233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C70C-4C13-4D4A-B649-D2BDBB8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CDD0-133F-4403-8976-8C72FA8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3F0-AD49-4F86-AC1F-2BE0D01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FBE4-62C6-4F52-920C-72E65C6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31AC-BD1A-4A8B-B64A-C69695F1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3A2E-C159-4EEC-8F2B-A5762CE0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5570-3DB1-470D-AA92-F072DF7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2AE4-6984-4E0C-A962-1AD8397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89C8-A940-4699-BFC5-A383E8E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2F91-3CFE-4EB0-ACCF-20855E53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4189-A46A-45AB-9D28-7EFA897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5760-785F-40B8-B83D-49F365C1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1DA2-D56E-4CCC-A658-38B93EB2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638-7275-49A3-A1E2-91A5D3C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3760-7C4F-460C-9BC7-01F29C0F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3E152-6883-407E-9875-9E03657C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8D094-5905-4EE7-B5D5-7C31334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C39E-1AAF-47E1-ADD6-71044DF9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39C5-81E8-4740-AE6C-FBE53E85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35CC-520F-4386-AD75-DC68EF6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BB16-EA5C-4E9E-B9C9-884780A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7B50-DC87-43BA-A651-3C47DC71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80F3-206A-4B8C-BA8C-F981701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C5F0-57B0-47F3-A96F-EBA4DDE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5DB-75C6-4545-9A5D-0308F37D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A85D-498C-46F4-8B80-B1706A2D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B8B-01A9-4153-AAFE-9F73B0F3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A3E-AB1B-457F-B684-729BC75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0B9-5BD9-4C45-B89E-BA186F4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E3D-616A-472B-B70E-4A4208F80AA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151-532E-4D46-9999-E5C8A57CA54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1DBC-2B81-47E4-A3DD-04F39B41E4A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82B-C52D-4CED-967F-9E0F1C0EDC6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5D2-A823-480F-907B-79BA3741053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62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29120" y="492876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ыполнил: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Макаров Максим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369880" y="714240"/>
            <a:ext cx="32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Ф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.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2" descr="http://vesti-aleksin.ru/wp-content/uploads/2015/06/20150608-putin.jpg"/>
          <p:cNvPicPr/>
          <p:nvPr/>
        </p:nvPicPr>
        <p:blipFill>
          <a:blip r:embed="rId1"/>
          <a:stretch/>
        </p:blipFill>
        <p:spPr>
          <a:xfrm>
            <a:off x="1143000" y="2143080"/>
            <a:ext cx="6018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28680" y="1600200"/>
            <a:ext cx="41432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Грачев – юморист, пародист, резидент Камеди Клаб и двойник Путина! Родился 23 декабря 1977 года в городе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ма очень похож на президента России, Владимира Владимировича Путина и мастерски этим пользуется! Он очень востребован в рейтинговом шоу Comedy Club, и не только. Грачёва часто приглашают на съёмки различных фильмов и сериалов, когда нужно сыграть Владимира Путин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1714680" y="500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Двойник  Путина В.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660066"/>
                </a:solidFill>
                <a:latin typeface="Trebuchet MS"/>
              </a:rPr>
              <a:t>Дмитрий Граче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6" descr="http://utyugok.ru/misc/i/gallery/38335/1128290.jpg"/>
          <p:cNvPicPr/>
          <p:nvPr/>
        </p:nvPicPr>
        <p:blipFill>
          <a:blip r:embed="rId1"/>
          <a:stretch/>
        </p:blipFill>
        <p:spPr>
          <a:xfrm>
            <a:off x="0" y="2071800"/>
            <a:ext cx="4143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са"/>
          <p:cNvPicPr/>
          <p:nvPr/>
        </p:nvPicPr>
        <p:blipFill>
          <a:blip r:embed="rId1"/>
          <a:stretch/>
        </p:blipFill>
        <p:spPr>
          <a:xfrm>
            <a:off x="642960" y="1357200"/>
            <a:ext cx="6477120" cy="37148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185724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Юлия Ковальчук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ара Джессика Парке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928800" y="5214960"/>
            <a:ext cx="621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е сходство телеведущей и певицы Юли Ковальчук и Сары Джессики Паркер особенно очевидно, когда отечественная звезда выбирает похожую прическу — мелкие куд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05:57:53Z</dcterms:created>
  <dc:creator>Немецкий</dc:creator>
  <dc:description/>
  <dc:language>en-US</dc:language>
  <cp:lastModifiedBy>Немецкий</cp:lastModifiedBy>
  <dcterms:modified xsi:type="dcterms:W3CDTF">2017-10-03T06:09:47Z</dcterms:modified>
  <cp:revision>2</cp:revision>
  <dc:subject/>
  <dc:title>Известные люди и их двойники</dc:title>
</cp:coreProperties>
</file>