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E0C-E73D-47B7-BFDE-997452C7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2E1-2B4A-4FC1-85BA-B974A970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A3F-30BE-4F40-8D24-1F6DCBDA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A88-995A-48A8-8B5E-1CF8B19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538A-1811-4D40-8F60-B2D4F7E2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BC74-1D1D-4405-937A-45E65C4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98B1-05E9-4990-A980-FC04DC0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238-C5F8-4A42-9CC7-CED7A341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D637-EF3F-4BD6-9250-59E813E3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B572-0E70-45FA-9F15-888A5F2D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92F3-D921-4AF3-990E-17DDF31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814-123F-4D96-8ACE-D28F39D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CA4-F893-4C06-B26F-7502DC9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B15-853F-481B-8CF8-632E1E9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26EB-6BC9-4B68-8280-3BC0E53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8D8-22FC-45C9-8B0A-4A54584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62CF-4D87-4E5E-86CD-3D3933C7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4802-CDF0-409C-BD5D-43077DE5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AC66-E40C-40E5-8F30-7A68BCC2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CCEB-82A7-40B7-99CB-74F22F2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1CBD-630B-4168-BD34-1D54B9BB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B233-5121-457A-AD21-9D32764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E81-EABE-4757-9E1B-0C7617E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4DAA-3CAE-4205-B6CE-C7CA5FC2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7EB5-EFCC-4E29-ACD5-9BA8525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E362-DE2F-4000-84C8-E477D3D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760D-9D34-4535-A986-1ACE7A6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6030-6E3E-4D87-B199-C51376D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952F-2C0B-4C14-BCB7-592AD42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ED84-7F78-43DE-8B46-E8CDF63B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406C-7790-4FDE-B8F3-877653EE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D403-CD7D-48BA-BE09-C7D6D2AB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5D16-1C89-4ED9-B24D-18B9DE4C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617-2409-4067-820E-1E2EAA9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4804-F12C-46DF-BE21-C0DB4A4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2578-C6C5-4B99-8173-C4BD65A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C62E-4D1A-4C44-916E-2B7510C9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C3CE-F8D9-4FAF-BB04-A08F3B18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175F-CA73-4454-B9E2-CE4F599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E1C3-A1F0-48B5-9C42-8FB2080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5129-D2CA-49A1-B235-E1275F54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AF7D-E83A-446A-98D5-6D2D1493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1E38-F8F0-4D27-9E9F-AC714558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0AD4-FC5B-4501-A579-E5D4925F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231-995B-468F-88CE-5344BAF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6AE4-6011-476F-8833-5BD7560D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7876-8BC1-4E0A-8D07-C49C637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6781-1522-426A-B824-A1228DFA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12C4-77C6-4FDA-B53D-753B456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FCF3-AB5B-4E65-A46C-99F35226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29E7-5017-4C1C-BC4B-5823BF1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C8DE-9CA7-43CF-8606-D34C69D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4428-BC16-40C3-99F2-E821150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2067-CE9F-47B8-BB74-0DE599F4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22B5-EA48-4393-9347-BED0FACF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AF8-DD07-46A9-B54F-3EA5CE5D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CF2C-11E1-4AF9-B83E-8BFA69A8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78F-6F0B-4AE6-BC38-CB323FE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F45-4AC7-4F69-977A-405C0411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F4B-A24E-4C9E-8037-14A75B5D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F3A-DAC0-42E7-A1A4-A580A3CABC9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65D5-9A1E-4FFB-9788-36D698FEEC3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312-406D-43AC-ABE0-DDB7FEC26E1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90D-50CF-49D4-A638-5443A448876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A31-8AB4-408C-8298-2B0DEA843BB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62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29120" y="492876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ыполнил: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Макаров Максим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369880" y="714240"/>
            <a:ext cx="32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Ф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.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2" descr="http://vesti-aleksin.ru/wp-content/uploads/2015/06/20150608-putin.jpg"/>
          <p:cNvPicPr/>
          <p:nvPr/>
        </p:nvPicPr>
        <p:blipFill>
          <a:blip r:embed="rId1"/>
          <a:stretch/>
        </p:blipFill>
        <p:spPr>
          <a:xfrm>
            <a:off x="1143000" y="2143080"/>
            <a:ext cx="6018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28680" y="1600200"/>
            <a:ext cx="41432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Грачев – юморист, пародист, резидент Камеди Клаб и двойник Путина! Родился 23 декабря 1977 года в городе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ма очень похож на президента России, Владимира Владимировича Путина и мастерски этим пользуется! Он очень востребован в рейтинговом шоу Comedy Club, и не только. Грачёва часто приглашают на съёмки различных фильмов и сериалов, когда нужно сыграть Владимира Путин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1714680" y="500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Двойник  Путина В.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660066"/>
                </a:solidFill>
                <a:latin typeface="Trebuchet MS"/>
              </a:rPr>
              <a:t>Дмитрий Граче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6" descr="http://utyugok.ru/misc/i/gallery/38335/1128290.jpg"/>
          <p:cNvPicPr/>
          <p:nvPr/>
        </p:nvPicPr>
        <p:blipFill>
          <a:blip r:embed="rId1"/>
          <a:stretch/>
        </p:blipFill>
        <p:spPr>
          <a:xfrm>
            <a:off x="0" y="2071800"/>
            <a:ext cx="4143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са"/>
          <p:cNvPicPr/>
          <p:nvPr/>
        </p:nvPicPr>
        <p:blipFill>
          <a:blip r:embed="rId1"/>
          <a:stretch/>
        </p:blipFill>
        <p:spPr>
          <a:xfrm>
            <a:off x="642960" y="1357200"/>
            <a:ext cx="6477120" cy="37148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185724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Юлия Ковальчук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ара Джессика Парке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928800" y="5214960"/>
            <a:ext cx="621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е сходство телеведущей и певицы Юли Ковальчук и Сары Джессики Паркер особенно очевидно, когда отечественная звезда выбирает похожую прическу — мелкие куд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05:57:53Z</dcterms:created>
  <dc:creator>Немецкий</dc:creator>
  <dc:description/>
  <dc:language>en-US</dc:language>
  <cp:lastModifiedBy>Немецкий</cp:lastModifiedBy>
  <dcterms:modified xsi:type="dcterms:W3CDTF">2017-10-03T06:09:47Z</dcterms:modified>
  <cp:revision>2</cp:revision>
  <dc:subject/>
  <dc:title>Известные люди и их двойники</dc:title>
</cp:coreProperties>
</file>