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7D7-F20D-44CA-AEFA-5BFD7DC7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CF3-16C5-4280-9DCD-69E6B76F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830-4AF9-4CDA-89B9-236A7700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716-5DD5-41BA-AC4B-0254CED2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6FAF-8175-4335-8BBB-6E649EBE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75E3-1789-4E9F-8694-522E6142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824B-6519-4AC1-AA9D-6E99D0E6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7328-D69F-442D-9170-D9A54556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8C76-A09B-48FE-A964-06040AA4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A9AB-871E-4943-BB56-973E0099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4A13-93C7-4C91-BC1D-EFD8B1C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5DA-8ED6-4E20-8337-C6FB9385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D63F-C6B3-4DEF-AB77-FBE23F11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61C0-10D9-4BCB-A2D8-61E08039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6403-6C38-4111-B6B3-16DE4B64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4A8A-7D9C-4BC3-A2A3-C3EF5831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0E03-1A75-49E2-B6BD-B7199386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4471-280F-4ECD-A636-A5F37743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5165-4CFB-49C4-92F4-833929AB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6CD5-2BF3-46E3-8F6B-83315196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793F-0AF4-4249-82C3-2F71ACF0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B6B1-41F8-4E73-9B0D-464B1FC1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B58-EC31-46A6-8C2D-FD3F8DF8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4284-3CAD-4C20-BE6B-B1AFB028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5E36-7F63-4847-AB54-C8A5B93C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5B8D-06E6-4221-A077-2D542C7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2349-3465-4E0D-BB7F-35E01FE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4E98-36B5-46D8-96AC-583B0C74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06D6-E5A8-4EB9-B21E-C19E9937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C798-CF96-4568-8F54-13BBE7E7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348B-98B5-47DC-87E5-E44B3BA1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26099-32A4-438F-A53C-86D7F6B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15FB3-7CC7-49CC-AA8A-968D0906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655-7623-4727-B103-34DA7E87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AB26-620A-45F2-8B25-360FFAC0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22C33-DE5F-4E0A-8CAB-C9A4EA95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3824F-49AE-46B8-8B54-605B78B1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06973-F1D8-4ABC-9E35-79A59DF6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6FAC-456A-41F5-A215-EA1EA98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F7A0-B10E-4EF9-AF69-E9011D4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67676-5E21-4906-ADC5-6124BB7D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EC6E8-AA8A-4345-8349-B921D18C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437B-B7C1-43FE-BC2A-225DCFE5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FB479-2A77-44ED-B73A-C8DFC5D4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2D6-FE87-4D39-A8BE-39DBC446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BFA6-D0A2-460D-B684-2A8CFA36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7BF1B-6BB2-4243-A3B2-6ABE6A3D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EA480-4BDF-4DDA-9B37-8F66EBE1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5A82-D892-495F-82F5-DECB3D48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9960-E239-4E15-86EA-41CE4678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CB1FA-28D2-4C3A-9806-FDE91BC7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C085C-7D6A-4630-A47F-954B1D4A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A29C5-BBA6-4CA4-9C9E-715604E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3FD29-33DF-4F57-9BC7-D6CD982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D2E35-4F01-4AF1-BCCD-13E9D513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8B1-3E0E-408A-BF45-AF3900C5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72F7E-03F5-465E-99E6-DFD38943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497-ACC2-424A-AF89-F8411F90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051-29DF-43B4-A71C-12D040B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BF9-C08E-4238-861F-C2E5860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E4F6-2481-4CB4-A8CE-D531B2237A06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95F6-E66C-4DE0-90DF-2064FE91E25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430E-93BB-4A8F-BCFC-33BB2269C11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A993-88A3-4D69-9345-92F7B66F957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4F05-5455-4395-B162-E91F3D29FB8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7360" y="442800"/>
            <a:ext cx="8539200" cy="15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rbel"/>
                <a:ea typeface="Times New Roman"/>
              </a:rPr>
              <a:t>Структура и содержание письменной части ЕГЭ по АЯ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58720" y="2232000"/>
            <a:ext cx="84535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rbel"/>
              </a:rPr>
              <a:t>ТИП – Развернутое письменное высказывание с элементами рассуждения (200-250 слов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) 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(60 мин)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rbel"/>
              </a:rPr>
              <a:t>Максимальный балл за задание - 14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Проверяемые умения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строить развернутое высказывание в контексте коммуникативной задачи и в заданном объем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выражать собственное мнение/суждени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аргументировать свою точку зрения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приводить примеры в поддержку высказанных суждени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описывать события/факты/явления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делать выводы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последовательно и логически правильно строить высказывани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использовать соответствующие средства логической связ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лексически, грамматически, орфографически и пунктуационно правильно оформить текст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стилистически правильно оформить текст (в соответствии с поставленной задачей – нейтрально) </a:t>
            </a: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Решение КЗ – 0 балл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содержание не освещает аспектов, указанных в задании ( отход от темы, пересказ «топика»), т.е. тема не раскрыт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Спутаны форматы личного письма и высказывания рассужд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бъем менее 180 сл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Более 30% ответа имеет непродуктивный характер т.е. текстуально совпадает с опубликованным источником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Решение КЗ – 1 бал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учащиеся заменяют формат «Мое мнение» форматом «За и против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задание выполнено не полностью (отсутствуют 1 или более аспектов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часто встречаются нарушения стил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Решение КЗ  2 балл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некоторые аспекты раскрыты не полность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имеются отдельные нарушения стилевого оформления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Решение КЗ  3 балл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все аспекты отражены полно и развернут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формление  речи выбрано правильно, т.е. соответствует нейтральному стил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Организация текста – 0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совокупность нарушений во всех элементах организации текста: в логике, средствах логической связи, делении на абзацы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Организация текста  1 бал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более 2 ошибок в логике, отклонения от план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более 2 недостатков в использовании средств логической связ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более 2 недостатков в делении на абзацы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Лекси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т экзаменуемого ожидается богатый словарный запас, поэтому даже при положительном оценивании критерия «Решение КЗ» может быть выставлен 0 при наличии 5 и более лексических ошибок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Лексические ошиб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неправильное употребление слова в контекст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шибки в словосочетан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шибки с словообразовании ( </a:t>
            </a:r>
            <a:r>
              <a:rPr b="0" lang="en-US" sz="1800" spc="-1" strike="noStrike">
                <a:solidFill>
                  <a:srgbClr val="404040"/>
                </a:solidFill>
                <a:latin typeface="Corbel"/>
              </a:rPr>
              <a:t>fair – infair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послелоги во фразовых глагола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если при неправильном правописании слова изменяется его значение (</a:t>
            </a:r>
            <a:r>
              <a:rPr b="0" lang="en-US" sz="1800" spc="-1" strike="noStrike">
                <a:solidFill>
                  <a:srgbClr val="404040"/>
                </a:solidFill>
                <a:latin typeface="Corbel"/>
              </a:rPr>
              <a:t> fin – fine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Грамматик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т экзаменуемого требуется разнообразие грамматических средст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Corbel"/>
              </a:rPr>
              <a:t>Признаки нейтрального</a:t>
            </a:r>
            <a:r>
              <a:rPr b="0" i="1" lang="en-US" sz="4000" spc="-1" strike="noStrike">
                <a:solidFill>
                  <a:srgbClr val="262626"/>
                </a:solidFill>
                <a:latin typeface="Corbel"/>
              </a:rPr>
              <a:t> (formal) </a:t>
            </a:r>
            <a:r>
              <a:rPr b="0" i="1" lang="ru-RU" sz="4000" spc="-1" strike="noStrike">
                <a:solidFill>
                  <a:srgbClr val="262626"/>
                </a:solidFill>
                <a:latin typeface="Corbel"/>
              </a:rPr>
              <a:t>стил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7360" y="1417320"/>
            <a:ext cx="8756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спользование пассивного залога, неличных конструкц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нструктивно сложные  распространенные  предлож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альные средства логической связ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Нарушением стиля являются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раткие формы (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I’m, it’s, they’ve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азговорные слова, фразовые глаголы, идиоматические выражения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(lots of, put up with, be over the moon about)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ерии коротких предложений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(Many people think so. They are wrong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зложение  личного опыта или переживан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rbel"/>
              </a:rPr>
              <a:t>РАЗВЕРНУТОЕ ПИСЬМЕННОЕ ВЫСКАЗЫВАНИЕ с элементами рассуждения «МОЕ МНЕНИЕ»</a:t>
            </a:r>
            <a:r>
              <a:rPr b="1" lang="ru-RU" sz="3800" spc="-1" strike="noStrike">
                <a:solidFill>
                  <a:srgbClr val="30acec"/>
                </a:solidFill>
                <a:latin typeface="Corbe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46080" y="1655280"/>
            <a:ext cx="919008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 algn="just"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ние 40 является заданием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высокого уровня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ложности и рассчитано на учащихся, освоивших программу профильного уровн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Нельзя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ориентировать учащихся на использование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заученных учебных текстов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или их фрагментов при написании задания 40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Важно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изучить план сочинения, который представлен в демоверсии.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План – един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для всех тем в задании 4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Разъясните учащимся, что в формулировке задания указан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рекомендованный объем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будущего письменного высказывания –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200 - 250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558720" y="-414360"/>
            <a:ext cx="73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1155600" y="185760"/>
            <a:ext cx="64058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77760" y="-73080"/>
            <a:ext cx="92217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Структура эссе «Мое мнение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1550880"/>
          <a:ext cx="9051840" cy="5348520"/>
        </p:xfrm>
        <a:graphic>
          <a:graphicData uri="http://schemas.openxmlformats.org/drawingml/2006/table">
            <a:tbl>
              <a:tblPr/>
              <a:tblGrid>
                <a:gridCol w="528480"/>
                <a:gridCol w="2495880"/>
                <a:gridCol w="6027480"/>
              </a:tblGrid>
              <a:tr h="94932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ребуется в сочинен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48420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rodu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ate the probl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112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ain bod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ress your personal opinion and give 2-3 reasons for your opi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076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ress an opposing opinion and give 1-2 reasons for this opposing opi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112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lain why you do not agree with the opposing opi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200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onclu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ake a conclusion restating your opi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d16349"/>
                </a:solidFill>
                <a:latin typeface="Corbel"/>
              </a:rPr>
              <a:t>РАЗВЕРНУТОЕ ПИСЬМЕННОЕ ВЫСКАЗЫВАНИЕ с элементами рассуждения «МОЕ МНЕНИЕ»</a:t>
            </a:r>
            <a:r>
              <a:rPr b="1" lang="ru-RU" sz="3800" spc="-1" strike="noStrike">
                <a:solidFill>
                  <a:srgbClr val="d16349"/>
                </a:solidFill>
                <a:latin typeface="Corbe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46080" y="1382400"/>
            <a:ext cx="9190080" cy="50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404040"/>
                </a:solidFill>
                <a:latin typeface="Corbel"/>
              </a:rPr>
              <a:t>40.</a:t>
            </a:r>
            <a:r>
              <a:rPr b="1" lang="ru-RU" sz="21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1" lang="en-US" sz="2100" spc="-1" strike="noStrike">
                <a:solidFill>
                  <a:srgbClr val="404040"/>
                </a:solidFill>
                <a:latin typeface="Corbel"/>
              </a:rPr>
              <a:t>You have 40 minutes to do this task. Comment on the following statement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100" spc="-1" strike="noStrike">
                <a:solidFill>
                  <a:srgbClr val="404040"/>
                </a:solidFill>
                <a:latin typeface="Corbel"/>
              </a:rPr>
              <a:t>Some people think that </a:t>
            </a: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_________________________________________________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What is your opinion? Write 200 – 250 words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Use the following </a:t>
            </a:r>
            <a:r>
              <a:rPr b="1" lang="en-US" sz="2100" spc="-1" strike="noStrike">
                <a:solidFill>
                  <a:srgbClr val="404040"/>
                </a:solidFill>
                <a:latin typeface="Corbel"/>
              </a:rPr>
              <a:t>plan</a:t>
            </a: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make an introduction (state the problem)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express your personal opinion and give 2–3 reasons for your opinion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express an opposing opinion and give 1–2 reasons for this opposing opinion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explain why you don’t agree with the opposing opinion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make a conclusion restating your position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98280"/>
            <a:ext cx="93042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d16349"/>
                </a:solidFill>
                <a:latin typeface="Corbel"/>
              </a:rPr>
              <a:t>РАЗВЕРНУТОЕ ПИСЬМЕННОЕ ВЫСКАЗЫВАНИЕ </a:t>
            </a:r>
            <a:br>
              <a:rPr sz="2400"/>
            </a:br>
            <a:r>
              <a:rPr b="1" lang="ru-RU" sz="2400" spc="-1" strike="noStrike">
                <a:solidFill>
                  <a:srgbClr val="d16349"/>
                </a:solidFill>
                <a:latin typeface="Corbel"/>
              </a:rPr>
              <a:t>с элементами рассуждения «МОЕ МНЕНИЕ» </a:t>
            </a:r>
            <a:br>
              <a:rPr sz="2400"/>
            </a:br>
            <a:r>
              <a:rPr b="1" lang="ru-RU" sz="2400" spc="-1" strike="noStrike">
                <a:solidFill>
                  <a:srgbClr val="d16349"/>
                </a:solidFill>
                <a:latin typeface="Corbel"/>
              </a:rPr>
              <a:t>ОБЩИЕ СТРАТЕГ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892160"/>
            <a:ext cx="8369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строить высказывание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в соответствии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с предложенным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планом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ведение должно отражать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проблемный характер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заданного утверждения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о введении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перефразировать тему/проблему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, данную в задании,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не повторяя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ее дословно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ри составлении плана рекомендуется записать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ключевые слова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 выражения каждого абзаца;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первом предложении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аждого абзаца рекомендуется выразить его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основную мысль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и далее ее развивать, подкреплять примерами и аргументами и т.д.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ведение и заключение должны быть приблизительно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одинаковы по объему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бщий объем основной части не должен быть меньше общего объема введения и заключения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85760"/>
            <a:ext cx="93042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d16349"/>
                </a:solidFill>
                <a:latin typeface="Corbel"/>
              </a:rPr>
              <a:t>РАЗВЕРНУТОЕ ПИСЬМЕННОЕ ВЫСКАЗЫВАНИЕ </a:t>
            </a:r>
            <a:br>
              <a:rPr sz="2000"/>
            </a:br>
            <a:r>
              <a:rPr b="1" lang="ru-RU" sz="2000" spc="-1" strike="noStrike">
                <a:solidFill>
                  <a:srgbClr val="d16349"/>
                </a:solidFill>
                <a:latin typeface="Corbel"/>
              </a:rPr>
              <a:t>с элементами рассуждения «МОЕ МНЕНИЕ» </a:t>
            </a:r>
            <a:br>
              <a:rPr sz="2000"/>
            </a:br>
            <a:r>
              <a:rPr b="1" lang="ru-RU" sz="2000" spc="-1" strike="noStrike">
                <a:solidFill>
                  <a:srgbClr val="d16349"/>
                </a:solidFill>
                <a:latin typeface="Corbel"/>
              </a:rPr>
              <a:t>ОБЩИЕ СТРАТЕГ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46080" y="1382400"/>
            <a:ext cx="9190080" cy="50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важно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в основной части сначала высказать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своё мнение 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и аргументировать его (ОДИН АБЗАЦ), затем представить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другие точки зрения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(ВТОРОЙ АБЗАЦ) и дать аргументацию,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почему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вы с ними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не согласны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(ТРЕТИЙ АБЗАЦ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приводя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контраргументы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, отстаивая свою точку зрения, желательно выражать свое мнение не теми же словами, что раньше, а использовать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перифраз, синонимию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в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заключительном абзаце 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своя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кажется вам более убедительно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собое внимание уделять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средствам логической связи 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текста, как внутри предложений, так и между предложения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416160" y="267840"/>
            <a:ext cx="95598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d16349"/>
                </a:solidFill>
                <a:latin typeface="Corbel"/>
              </a:rPr>
              <a:t>РАЗВЕРНУТОЕ ПИСЬМЕННОЕ ВЫСКАЗЫВАНИЕ</a:t>
            </a:r>
            <a:br>
              <a:rPr sz="3000"/>
            </a:br>
            <a:r>
              <a:rPr b="1" lang="ru-RU" sz="3000" spc="-1" strike="noStrike">
                <a:solidFill>
                  <a:srgbClr val="d16349"/>
                </a:solidFill>
                <a:latin typeface="Corbel"/>
              </a:rPr>
              <a:t>с элементами рассуждения «МОЕ МНЕНИЕ» </a:t>
            </a:r>
            <a:br>
              <a:rPr sz="3000"/>
            </a:br>
            <a:r>
              <a:rPr b="1" lang="ru-RU" sz="3000" spc="-1" strike="noStrike">
                <a:solidFill>
                  <a:srgbClr val="d16349"/>
                </a:solidFill>
                <a:latin typeface="Corbel"/>
              </a:rPr>
              <a:t>ОБЩИЕ СТРАТЕГИ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46080" y="1805040"/>
            <a:ext cx="9190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бъем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высказывания с ЭР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ведение –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0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сл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ная часть (второй абзац) –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80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сл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ная часть (третий и четвёртый абзацы) –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70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сл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аключение –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0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сл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262626"/>
                </a:solidFill>
                <a:latin typeface="Corbel"/>
              </a:rPr>
              <a:t>Основные ошибки при выполнении задания 4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82800" y="2666520"/>
            <a:ext cx="7704000" cy="33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тход от темы либо полное непонимание коммуникативной задач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умение точно сформулировать проблему в начале высказывания и сделать  необходимый вывод в конц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умение сформулировать свое и чужое мнени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полное соответствие аргументации заявленному тезис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Повтор аргументации при высказывании своего и чужого мн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правильное деление текста на абзац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соблюдение объема высказывания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262626"/>
                </a:solidFill>
                <a:latin typeface="Corbel"/>
              </a:rPr>
              <a:t>Критерии оценивания задания 4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82800" y="2666520"/>
            <a:ext cx="7704000" cy="33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Решение коммуникативной задачи –(3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Организация текста (3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Лексическая грамотность (3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Грамматическая правильность речи (3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Правильность орфографии и пунктуации (2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При получении экзаменуемым 0 баллов по критерию «Решение коммуникативной задачи» все задание оценивается в 0 баллов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08:53:11Z</dcterms:created>
  <dc:creator>гпн</dc:creator>
  <dc:description/>
  <dc:language>en-US</dc:language>
  <cp:lastModifiedBy>Антон</cp:lastModifiedBy>
  <dcterms:modified xsi:type="dcterms:W3CDTF">2018-03-27T04:43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