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45E9-87C4-479F-BD6F-51C220A28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3BE5-4E64-454D-A677-76F7E706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3930-72AC-4B9F-8B55-940C97DF3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9F57-A645-4853-B4AA-2882DE16E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6FDB-8EBE-4CC7-997B-36D23BA5B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93B7-C8D2-404C-9EAE-5366BBCF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FD91-926C-4A19-ABE2-EF31C9B3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3348-42F3-486A-A138-57789CE2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59DE-70B0-4E50-8B54-1AF23E25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C791-88A6-4E6D-AD23-0A07A115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5EAF-6A84-4877-A67A-C4A8449D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5368-AEA7-4971-B5DB-04F4C1AA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02EB-AE1D-48B4-9822-A71E3467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D5F8-EE87-4F73-8B4F-64D22420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29ED-BA1A-4ADC-89D6-1C6AB5A4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96BC-4507-4F7F-AC59-A000171C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39CE-F7E7-4CCE-A98D-22EFE1DC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89D94-8372-4427-A100-65DB83B2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DDCF7-F632-400D-9628-EF32703E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7351C-E7D3-47FA-86D2-5C3685EE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A31F7-F028-42B3-9957-91ACA65C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E5A2C-4A93-4B21-97BF-FCE8E2A6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6B39-A7F7-478B-A747-7E915FE2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E3535-DFF6-4187-9A3A-9218009F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394B8-F9C7-491C-A52B-958E2DB5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1A1B3-80F0-4B16-AE4A-74BBD8F0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E943A-038E-41CB-AF6A-D068B678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1C509-718B-4768-A1EF-74ECF2C5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79EF2-65AA-497D-8DBB-3E269CD60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17B76-2BE9-4A0B-9A7C-F7C6C3875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B11C3-CDE3-4808-B9FD-6068B6D79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9B411-2908-4C58-95DD-CCC30492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B4BDB-880B-48BC-A798-6527F85C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927B-6C6F-41F1-9C88-BC160363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FC3AF-A6F8-4847-9460-468098D5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25C89-C525-4FD3-8581-16BD21E4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3FFE3-09DF-44B1-A748-6643EA36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D8117-8DF1-4C94-9964-A3F2B78E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6A9BF-03A2-43BD-814A-4CAF5C14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9A39C-989C-4281-8311-EAECB17E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530EE-BBF7-49C7-85F0-DECBE98C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9CE5A-663C-4EA5-A596-053C4B1E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555FF-B636-48A7-B5CB-752AB62DC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21A8E-2C20-48D0-89C5-2C9F41BE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6C36-F34A-45B2-8610-62EE387C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A0873-6955-4A5F-9541-D3E2DBAF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CDA8F-E9D8-4D07-8F6D-F1AF0B00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F3381-4EDB-4B28-BF31-C91A0FB1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2172A-5724-4BD6-8FE6-72AC8EBC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F4C15-F94A-4A88-A17E-251D32D6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47E93-BCE8-4799-9F90-20959CF0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12133-DA70-434C-ADFC-6DD909E8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F6982-0EBB-4A59-A733-717A9019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0EA18-2FDB-414E-A43F-D64F4CDD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F902B-30ED-4053-8FA2-21E663FF1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53E7-0AD9-42A3-A486-289911EF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0B6A8-D909-4E82-A455-ED57D860B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DE4C-29A8-495E-BE22-673FC7FA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1AE0-F036-4E78-8B84-C7B64D4B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9AC0-CAB3-4897-B88F-DBDEE6D4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A727-312D-4EF2-89D1-3D3AA3835A80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4"/>
          <p:cNvGrpSpPr/>
          <p:nvPr/>
        </p:nvGrpSpPr>
        <p:grpSpPr>
          <a:xfrm>
            <a:off x="203040" y="0"/>
            <a:ext cx="3778560" cy="6858000"/>
            <a:chOff x="203040" y="0"/>
            <a:chExt cx="3778560" cy="6858000"/>
          </a:xfrm>
        </p:grpSpPr>
        <p:sp>
          <p:nvSpPr>
            <p:cNvPr id="49" name="Freeform 6"/>
            <p:cNvSpPr/>
            <p:nvPr/>
          </p:nvSpPr>
          <p:spPr>
            <a:xfrm>
              <a:off x="641160" y="0"/>
              <a:ext cx="1365480" cy="3971880"/>
            </a:xfrm>
            <a:custGeom>
              <a:avLst/>
              <a:gdLst/>
              <a:ahLst/>
              <a:rect l="l" t="t" r="r" b="b"/>
              <a:pathLst>
                <a:path w="860" h="2502">
                  <a:moveTo>
                    <a:pt x="0" y="2445"/>
                  </a:moveTo>
                  <a:lnTo>
                    <a:pt x="228" y="2502"/>
                  </a:lnTo>
                  <a:lnTo>
                    <a:pt x="860" y="0"/>
                  </a:lnTo>
                  <a:lnTo>
                    <a:pt x="620" y="0"/>
                  </a:lnTo>
                  <a:lnTo>
                    <a:pt x="0" y="2445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203040" y="0"/>
              <a:ext cx="1336680" cy="3862440"/>
            </a:xfrm>
            <a:custGeom>
              <a:avLst/>
              <a:gdLst/>
              <a:ahLst/>
              <a:rect l="l" t="t" r="r" b="b"/>
              <a:pathLst>
                <a:path w="842" h="2433">
                  <a:moveTo>
                    <a:pt x="842" y="0"/>
                  </a:moveTo>
                  <a:lnTo>
                    <a:pt x="602" y="0"/>
                  </a:lnTo>
                  <a:lnTo>
                    <a:pt x="0" y="2376"/>
                  </a:lnTo>
                  <a:lnTo>
                    <a:pt x="228" y="2433"/>
                  </a:lnTo>
                  <a:lnTo>
                    <a:pt x="842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207720" y="3776760"/>
              <a:ext cx="1936800" cy="3081240"/>
            </a:xfrm>
            <a:custGeom>
              <a:avLst/>
              <a:gdLst/>
              <a:ahLst/>
              <a:rect l="l" t="t" r="r" b="b"/>
              <a:pathLst>
                <a:path w="1220" h="1941">
                  <a:moveTo>
                    <a:pt x="0" y="0"/>
                  </a:moveTo>
                  <a:lnTo>
                    <a:pt x="1166" y="1941"/>
                  </a:lnTo>
                  <a:lnTo>
                    <a:pt x="1220" y="19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645840" y="3886200"/>
              <a:ext cx="2373480" cy="2971800"/>
            </a:xfrm>
            <a:custGeom>
              <a:avLst/>
              <a:gdLst/>
              <a:ahLst/>
              <a:rect l="l" t="t" r="r" b="b"/>
              <a:pathLst>
                <a:path w="1495" h="1872">
                  <a:moveTo>
                    <a:pt x="1495" y="1872"/>
                  </a:moveTo>
                  <a:lnTo>
                    <a:pt x="0" y="0"/>
                  </a:lnTo>
                  <a:lnTo>
                    <a:pt x="1442" y="1872"/>
                  </a:lnTo>
                  <a:lnTo>
                    <a:pt x="1495" y="1872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641160" y="3881520"/>
              <a:ext cx="3340440" cy="2976480"/>
            </a:xfrm>
            <a:custGeom>
              <a:avLst/>
              <a:gdLst/>
              <a:ahLst/>
              <a:rect l="l" t="t" r="r" b="b"/>
              <a:pathLst>
                <a:path w="2104" h="1875">
                  <a:moveTo>
                    <a:pt x="0" y="0"/>
                  </a:moveTo>
                  <a:lnTo>
                    <a:pt x="3" y="3"/>
                  </a:lnTo>
                  <a:lnTo>
                    <a:pt x="1498" y="1875"/>
                  </a:lnTo>
                  <a:lnTo>
                    <a:pt x="2104" y="1875"/>
                  </a:lnTo>
                  <a:lnTo>
                    <a:pt x="228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Freeform 11"/>
            <p:cNvSpPr/>
            <p:nvPr/>
          </p:nvSpPr>
          <p:spPr>
            <a:xfrm>
              <a:off x="203040" y="3772080"/>
              <a:ext cx="2661120" cy="3085920"/>
            </a:xfrm>
            <a:custGeom>
              <a:avLst/>
              <a:gdLst/>
              <a:ahLst/>
              <a:rect l="l" t="t" r="r" b="b"/>
              <a:pathLst>
                <a:path w="1676" h="1944">
                  <a:moveTo>
                    <a:pt x="1676" y="1944"/>
                  </a:moveTo>
                  <a:lnTo>
                    <a:pt x="264" y="111"/>
                  </a:lnTo>
                  <a:lnTo>
                    <a:pt x="225" y="60"/>
                  </a:lnTo>
                  <a:lnTo>
                    <a:pt x="228" y="60"/>
                  </a:lnTo>
                  <a:lnTo>
                    <a:pt x="264" y="111"/>
                  </a:lnTo>
                  <a:lnTo>
                    <a:pt x="234" y="69"/>
                  </a:lnTo>
                  <a:lnTo>
                    <a:pt x="228" y="57"/>
                  </a:lnTo>
                  <a:lnTo>
                    <a:pt x="222" y="54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23" y="1944"/>
                  </a:lnTo>
                  <a:lnTo>
                    <a:pt x="1676" y="194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5" name="Freeform 12"/>
          <p:cNvSpPr/>
          <p:nvPr/>
        </p:nvSpPr>
        <p:spPr>
          <a:xfrm>
            <a:off x="203040" y="3772080"/>
            <a:ext cx="362160" cy="90360"/>
          </a:xfrm>
          <a:custGeom>
            <a:avLst/>
            <a:gdLst/>
            <a:ahLst/>
            <a:rect l="l" t="t" r="r" b="b"/>
            <a:pathLst>
              <a:path w="228" h="57">
                <a:moveTo>
                  <a:pt x="228" y="57"/>
                </a:moveTo>
                <a:lnTo>
                  <a:pt x="0" y="0"/>
                </a:lnTo>
                <a:lnTo>
                  <a:pt x="222" y="54"/>
                </a:lnTo>
                <a:lnTo>
                  <a:pt x="228" y="57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Freeform 13"/>
          <p:cNvSpPr/>
          <p:nvPr/>
        </p:nvSpPr>
        <p:spPr>
          <a:xfrm>
            <a:off x="560520" y="3867120"/>
            <a:ext cx="61920" cy="81000"/>
          </a:xfrm>
          <a:custGeom>
            <a:avLst/>
            <a:gdLst/>
            <a:ahLst/>
            <a:rect l="l" t="t" r="r" b="b"/>
            <a:pathLst>
              <a:path w="39" h="51">
                <a:moveTo>
                  <a:pt x="0" y="0"/>
                </a:moveTo>
                <a:lnTo>
                  <a:pt x="39" y="51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7326000" y="6116760"/>
            <a:ext cx="85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624120" y="6116760"/>
            <a:ext cx="360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275680" y="6116760"/>
            <a:ext cx="411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3AE8-39A5-4D0D-A0B9-38AF58297AED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99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7343640" y="6108840"/>
            <a:ext cx="857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1973160" y="6108840"/>
            <a:ext cx="531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25768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1370-5E49-4CD3-8F47-5D753DDDD297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4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3" name="TextBox 20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Verdana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Box 21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523A-198A-4BB4-AF58-13EE5DFC9685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9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3" name="TextBox 20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Verdana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Box 21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5307-4886-4414-A44E-66936C21C606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7360" y="442800"/>
            <a:ext cx="8539200" cy="15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orbel"/>
                <a:ea typeface="Times New Roman"/>
              </a:rPr>
              <a:t>Структура и содержание письменной части ЕГЭ по АЯ</a:t>
            </a:r>
            <a:endParaRPr b="0" lang="en-US" sz="4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558720" y="2232000"/>
            <a:ext cx="845352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Corbel"/>
              </a:rPr>
              <a:t>ТИП – Развернутое письменное высказывание с элементами рассуждения (200-250 слов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) 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(60 мин)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orbel"/>
              </a:rPr>
              <a:t>Максимальный балл за задание - 14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Проверяемые умения: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lnSpc>
                <a:spcPct val="6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orbel"/>
              </a:rPr>
              <a:t>строить развернутое высказывание в контексте коммуникативной задачи и в заданном объеме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lnSpc>
                <a:spcPct val="6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orbel"/>
              </a:rPr>
              <a:t>выражать собственное мнение/суждение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lnSpc>
                <a:spcPct val="6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orbel"/>
              </a:rPr>
              <a:t>аргументировать свою точку зрения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lnSpc>
                <a:spcPct val="6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orbel"/>
              </a:rPr>
              <a:t>приводить примеры в поддержку высказанных суждений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lnSpc>
                <a:spcPct val="6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orbel"/>
              </a:rPr>
              <a:t>описывать события/факты/явления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lnSpc>
                <a:spcPct val="6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orbel"/>
              </a:rPr>
              <a:t>делать выводы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lnSpc>
                <a:spcPct val="6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orbel"/>
              </a:rPr>
              <a:t>последовательно и логически правильно строить высказывание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lnSpc>
                <a:spcPct val="6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orbel"/>
              </a:rPr>
              <a:t>использовать соответствующие средства логической связи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lnSpc>
                <a:spcPct val="6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orbel"/>
              </a:rPr>
              <a:t>лексически, грамматически, орфографически и пунктуационно правильно оформить текст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lnSpc>
                <a:spcPct val="6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orbel"/>
              </a:rPr>
              <a:t>стилистически правильно оформить текст (в соответствии с поставленной задачей – нейтрально) </a:t>
            </a:r>
            <a:r>
              <a:rPr b="0" lang="ru-RU" sz="1500" spc="-1" strike="noStrike">
                <a:solidFill>
                  <a:srgbClr val="404040"/>
                </a:solidFill>
                <a:latin typeface="Corbe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350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262626"/>
                </a:solidFill>
                <a:latin typeface="Corbel"/>
              </a:rPr>
              <a:t>Решение КЗ – 0 баллов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1601280"/>
            <a:ext cx="8350200" cy="45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rbel"/>
              </a:rPr>
              <a:t>содержание не освещает аспектов, указанных в задании ( отход от темы, пересказ «топика»), т.е. тема не раскрыта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rbel"/>
              </a:rPr>
              <a:t>Спутаны форматы личного письма и высказывания рассуждени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rbel"/>
              </a:rPr>
              <a:t>Объем менее 180 слов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rbel"/>
              </a:rPr>
              <a:t>Более 30% ответа имеет непродуктивный характер т.е. текстуально совпадает с опубликованным источником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350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262626"/>
                </a:solidFill>
                <a:latin typeface="Corbel"/>
              </a:rPr>
              <a:t>Решение КЗ – 1 балл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1601280"/>
            <a:ext cx="8350200" cy="45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rbel"/>
              </a:rPr>
              <a:t>учащиеся заменяют формат «Мое мнение» форматом «За и против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rbel"/>
              </a:rPr>
              <a:t>задание выполнено не полностью (отсутствуют 1 или более аспектов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rbel"/>
              </a:rPr>
              <a:t>часто встречаются нарушения стил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350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262626"/>
                </a:solidFill>
                <a:latin typeface="Corbel"/>
              </a:rPr>
              <a:t>Решение КЗ  2 балл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1601280"/>
            <a:ext cx="8350200" cy="45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rbel"/>
              </a:rPr>
              <a:t>некоторые аспекты раскрыты не полностью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rbel"/>
              </a:rPr>
              <a:t>имеются отдельные нарушения стилевого оформления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350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262626"/>
                </a:solidFill>
                <a:latin typeface="Corbel"/>
              </a:rPr>
              <a:t>Решение КЗ  3 балл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1601280"/>
            <a:ext cx="8350200" cy="45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rbel"/>
              </a:rPr>
              <a:t>все аспекты отражены полно и развернут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rbel"/>
              </a:rPr>
              <a:t>оформление  речи выбрано правильно, т.е. соответствует нейтральному стилю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350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orbel"/>
              </a:rPr>
              <a:t>Организация текста – 0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1601280"/>
            <a:ext cx="8350200" cy="45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rbel"/>
              </a:rPr>
              <a:t>совокупность нарушений во всех элементах организации текста: в логике, средствах логической связи, делении на абзацы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350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262626"/>
                </a:solidFill>
                <a:latin typeface="Corbel"/>
              </a:rPr>
              <a:t>Организация текста  1 балл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1601280"/>
            <a:ext cx="8350200" cy="45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rbel"/>
              </a:rPr>
              <a:t>более 2 ошибок в логике, отклонения от плана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rbel"/>
              </a:rPr>
              <a:t>более 2 недостатков в использовании средств логической связи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rbel"/>
              </a:rPr>
              <a:t>более 2 недостатков в делении на абзацы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350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262626"/>
                </a:solidFill>
                <a:latin typeface="Corbel"/>
              </a:rPr>
              <a:t>Лексик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1601280"/>
            <a:ext cx="8350200" cy="45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rbel"/>
              </a:rPr>
              <a:t>От экзаменуемого ожидается богатый словарный запас, поэтому даже при положительном оценивании критерия «Решение КЗ» может быть выставлен 0 при наличии 5 и более лексических ошибок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350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262626"/>
                </a:solidFill>
                <a:latin typeface="Corbel"/>
              </a:rPr>
              <a:t>Лексические ошибк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1601280"/>
            <a:ext cx="8350200" cy="45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rbel"/>
              </a:rPr>
              <a:t>неправильное употребление слова в контексте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orbel"/>
              </a:rPr>
              <a:t>ошибки в словосочетани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rbel"/>
              </a:rPr>
              <a:t>Ошибки с словообразовании ( </a:t>
            </a:r>
            <a:r>
              <a:rPr b="0" lang="en-US" sz="1800" spc="-1" strike="noStrike">
                <a:solidFill>
                  <a:srgbClr val="404040"/>
                </a:solidFill>
                <a:latin typeface="Corbel"/>
              </a:rPr>
              <a:t>fair – infair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rbel"/>
              </a:rPr>
              <a:t>послелоги во фразовых глаголах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rbel"/>
              </a:rPr>
              <a:t>если при неправильном правописании слова изменяется его значение (</a:t>
            </a:r>
            <a:r>
              <a:rPr b="0" lang="en-US" sz="1800" spc="-1" strike="noStrike">
                <a:solidFill>
                  <a:srgbClr val="404040"/>
                </a:solidFill>
                <a:latin typeface="Corbel"/>
              </a:rPr>
              <a:t> fin – fine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350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262626"/>
                </a:solidFill>
                <a:latin typeface="Corbel"/>
              </a:rPr>
              <a:t>Грамматика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1601280"/>
            <a:ext cx="8350200" cy="45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rbel"/>
              </a:rPr>
              <a:t>От экзаменуемого требуется разнообразие грамматических средств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350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000" spc="-1" strike="noStrike">
                <a:solidFill>
                  <a:srgbClr val="262626"/>
                </a:solidFill>
                <a:latin typeface="Corbel"/>
              </a:rPr>
              <a:t>Признаки нейтрального</a:t>
            </a:r>
            <a:r>
              <a:rPr b="0" i="1" lang="en-US" sz="4000" spc="-1" strike="noStrike">
                <a:solidFill>
                  <a:srgbClr val="262626"/>
                </a:solidFill>
                <a:latin typeface="Corbel"/>
              </a:rPr>
              <a:t> (formal) </a:t>
            </a:r>
            <a:r>
              <a:rPr b="0" i="1" lang="ru-RU" sz="4000" spc="-1" strike="noStrike">
                <a:solidFill>
                  <a:srgbClr val="262626"/>
                </a:solidFill>
                <a:latin typeface="Corbel"/>
              </a:rPr>
              <a:t>стиля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7360" y="1417320"/>
            <a:ext cx="8756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2800" indent="-262800">
              <a:lnSpc>
                <a:spcPct val="80000"/>
              </a:lnSpc>
              <a:spcBef>
                <a:spcPts val="601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спользование пассивного залога, неличных конструкций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lnSpc>
                <a:spcPct val="80000"/>
              </a:lnSpc>
              <a:spcBef>
                <a:spcPts val="601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онструктивно сложные  распространенные  предложен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lnSpc>
                <a:spcPct val="80000"/>
              </a:lnSpc>
              <a:spcBef>
                <a:spcPts val="601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формальные средства логической связ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lnSpc>
                <a:spcPct val="80000"/>
              </a:lnSpc>
              <a:spcBef>
                <a:spcPts val="601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lnSpc>
                <a:spcPct val="80000"/>
              </a:lnSpc>
              <a:spcBef>
                <a:spcPts val="601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Нарушением стиля являются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lnSpc>
                <a:spcPct val="80000"/>
              </a:lnSpc>
              <a:spcBef>
                <a:spcPts val="601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краткие формы (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I’m, it’s, they’ve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lnSpc>
                <a:spcPct val="80000"/>
              </a:lnSpc>
              <a:spcBef>
                <a:spcPts val="601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разговорные слова, фразовые глаголы, идиоматические выражения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(lots of, put up with, be over the moon about)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lnSpc>
                <a:spcPct val="80000"/>
              </a:lnSpc>
              <a:spcBef>
                <a:spcPts val="601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ерии коротких предложений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(Many people think so. They are wrong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lnSpc>
                <a:spcPct val="80000"/>
              </a:lnSpc>
              <a:spcBef>
                <a:spcPts val="601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изложение  личного опыта или переживаний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lnSpc>
                <a:spcPct val="80000"/>
              </a:lnSpc>
              <a:spcBef>
                <a:spcPts val="550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lnSpc>
                <a:spcPct val="80000"/>
              </a:lnSpc>
              <a:spcBef>
                <a:spcPts val="550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350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Corbel"/>
              </a:rPr>
              <a:t>РАЗВЕРНУТОЕ ПИСЬМЕННОЕ ВЫСКАЗЫВАНИЕ с элементами рассуждения «МОЕ МНЕНИЕ»</a:t>
            </a:r>
            <a:r>
              <a:rPr b="1" lang="ru-RU" sz="3800" spc="-1" strike="noStrike">
                <a:solidFill>
                  <a:srgbClr val="30acec"/>
                </a:solidFill>
                <a:latin typeface="Corbe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46080" y="1655280"/>
            <a:ext cx="9190080" cy="47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04920" indent="-304920" algn="just">
              <a:spcBef>
                <a:spcPts val="550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Задание 40 является заданием </a:t>
            </a:r>
            <a:r>
              <a:rPr b="1" lang="ru-RU" sz="2200" spc="-1" strike="noStrike">
                <a:solidFill>
                  <a:srgbClr val="30acec"/>
                </a:solidFill>
                <a:latin typeface="Corbel"/>
              </a:rPr>
              <a:t>высокого уровня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сложности и рассчитано на учащихся, освоивших программу профильного уровня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04920" indent="-304920" algn="just">
              <a:spcBef>
                <a:spcPts val="550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200" spc="-1" strike="noStrike">
                <a:solidFill>
                  <a:srgbClr val="30acec"/>
                </a:solidFill>
                <a:latin typeface="Corbel"/>
              </a:rPr>
              <a:t>Нельзя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 ориентировать учащихся на использование </a:t>
            </a:r>
            <a:r>
              <a:rPr b="1" lang="ru-RU" sz="2200" spc="-1" strike="noStrike">
                <a:solidFill>
                  <a:srgbClr val="30acec"/>
                </a:solidFill>
                <a:latin typeface="Corbel"/>
              </a:rPr>
              <a:t>заученных учебных текстов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или их фрагментов при написании задания 40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04920" indent="-304920" algn="just">
              <a:spcBef>
                <a:spcPts val="550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30acec"/>
                </a:solidFill>
                <a:latin typeface="Corbel"/>
              </a:rPr>
              <a:t>Важно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 изучить план сочинения, который представлен в демоверсии. </a:t>
            </a:r>
            <a:r>
              <a:rPr b="1" lang="ru-RU" sz="2200" spc="-1" strike="noStrike">
                <a:solidFill>
                  <a:srgbClr val="30acec"/>
                </a:solidFill>
                <a:latin typeface="Corbel"/>
              </a:rPr>
              <a:t>План – един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для всех тем в задании 40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04920" indent="-304920" algn="just">
              <a:spcBef>
                <a:spcPts val="550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Разъясните учащимся, что в формулировке задания указан </a:t>
            </a:r>
            <a:r>
              <a:rPr b="1" lang="ru-RU" sz="2200" spc="-1" strike="noStrike">
                <a:solidFill>
                  <a:srgbClr val="30acec"/>
                </a:solidFill>
                <a:latin typeface="Corbel"/>
              </a:rPr>
              <a:t>рекомендованный объем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будущего письменного высказывания – </a:t>
            </a:r>
            <a:r>
              <a:rPr b="1" lang="ru-RU" sz="2200" spc="-1" strike="noStrike">
                <a:solidFill>
                  <a:srgbClr val="30acec"/>
                </a:solidFill>
                <a:latin typeface="Corbel"/>
              </a:rPr>
              <a:t>200 - 250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слов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558720" y="-414360"/>
            <a:ext cx="734400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5" descr=""/>
          <p:cNvPicPr/>
          <p:nvPr/>
        </p:nvPicPr>
        <p:blipFill>
          <a:blip r:embed="rId1"/>
          <a:stretch/>
        </p:blipFill>
        <p:spPr>
          <a:xfrm>
            <a:off x="1155600" y="185760"/>
            <a:ext cx="6405840" cy="62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77760" y="-73080"/>
            <a:ext cx="92217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262626"/>
                </a:solidFill>
                <a:latin typeface="Corbel"/>
              </a:rPr>
              <a:t>Структура эссе «Мое мнение»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0" y="1550880"/>
          <a:ext cx="9051840" cy="5348520"/>
        </p:xfrm>
        <a:graphic>
          <a:graphicData uri="http://schemas.openxmlformats.org/drawingml/2006/table">
            <a:tbl>
              <a:tblPr/>
              <a:tblGrid>
                <a:gridCol w="528480"/>
                <a:gridCol w="2495880"/>
                <a:gridCol w="6027480"/>
              </a:tblGrid>
              <a:tr h="949320">
                <a:tc>
                  <a:txBody>
                    <a:bodyPr lIns="72000" rIns="72000" tIns="176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>
                  <a:txBody>
                    <a:bodyPr lIns="72000" rIns="72000" tIns="176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требуется в сочинен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>
                  <a:txBody>
                    <a:bodyPr lIns="72000" rIns="72000" tIns="176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</a:tr>
              <a:tr h="484200">
                <a:tc>
                  <a:txBody>
                    <a:bodyPr lIns="72000" rIns="72000" tIns="176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0" rIns="72000" tIns="176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Introdu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0" rIns="72000" tIns="176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State the proble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1120">
                <a:tc>
                  <a:txBody>
                    <a:bodyPr lIns="72000" rIns="72000" tIns="176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0" rIns="72000" tIns="176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Main bod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0" rIns="72000" tIns="176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Express your personal opinion and give 2-3 reasons for your opin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0760">
                <a:tc>
                  <a:txBody>
                    <a:bodyPr lIns="72000" rIns="72000" tIns="176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0" rIns="72000" tIns="176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0" rIns="72000" tIns="176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Express an opposing opinion and give 1-2 reasons for this opposing opin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1120">
                <a:tc>
                  <a:txBody>
                    <a:bodyPr lIns="72000" rIns="72000" tIns="176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0" rIns="72000" tIns="176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0" rIns="72000" tIns="176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Explain why you do not agree with the opposing opin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62000">
                <a:tc>
                  <a:txBody>
                    <a:bodyPr lIns="72000" rIns="72000" tIns="176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0" rIns="72000" tIns="176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Conclu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0" rIns="72000" tIns="176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Make a conclusion restating your opin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350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d16349"/>
                </a:solidFill>
                <a:latin typeface="Corbel"/>
              </a:rPr>
              <a:t>РАЗВЕРНУТОЕ ПИСЬМЕННОЕ ВЫСКАЗЫВАНИЕ с элементами рассуждения «МОЕ МНЕНИЕ»</a:t>
            </a:r>
            <a:r>
              <a:rPr b="1" lang="ru-RU" sz="3800" spc="-1" strike="noStrike">
                <a:solidFill>
                  <a:srgbClr val="d16349"/>
                </a:solidFill>
                <a:latin typeface="Corbe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46080" y="1382400"/>
            <a:ext cx="9190080" cy="50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404040"/>
                </a:solidFill>
                <a:latin typeface="Corbel"/>
              </a:rPr>
              <a:t>40.</a:t>
            </a:r>
            <a:r>
              <a:rPr b="1" lang="ru-RU" sz="2100" spc="-1" strike="noStrike">
                <a:solidFill>
                  <a:srgbClr val="404040"/>
                </a:solidFill>
                <a:latin typeface="Corbel"/>
              </a:rPr>
              <a:t> </a:t>
            </a:r>
            <a:r>
              <a:rPr b="1" lang="en-US" sz="2100" spc="-1" strike="noStrike">
                <a:solidFill>
                  <a:srgbClr val="404040"/>
                </a:solidFill>
                <a:latin typeface="Corbel"/>
              </a:rPr>
              <a:t>You have 40 minutes to do this task. Comment on the following statement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100" spc="-1" strike="noStrike">
                <a:solidFill>
                  <a:srgbClr val="404040"/>
                </a:solidFill>
                <a:latin typeface="Corbel"/>
              </a:rPr>
              <a:t>Some people think that </a:t>
            </a:r>
            <a:r>
              <a:rPr b="0" lang="en-US" sz="2100" spc="-1" strike="noStrike">
                <a:solidFill>
                  <a:srgbClr val="404040"/>
                </a:solidFill>
                <a:latin typeface="Corbel"/>
              </a:rPr>
              <a:t>_________________________________________________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Corbel"/>
              </a:rPr>
              <a:t>What is your opinion? Write 200 – 250 words.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Corbel"/>
              </a:rPr>
              <a:t>Use the following </a:t>
            </a:r>
            <a:r>
              <a:rPr b="1" lang="en-US" sz="2100" spc="-1" strike="noStrike">
                <a:solidFill>
                  <a:srgbClr val="404040"/>
                </a:solidFill>
                <a:latin typeface="Corbel"/>
              </a:rPr>
              <a:t>plan</a:t>
            </a:r>
            <a:r>
              <a:rPr b="0" lang="en-US" sz="2100" spc="-1" strike="noStrike">
                <a:solidFill>
                  <a:srgbClr val="404040"/>
                </a:solidFill>
                <a:latin typeface="Corbel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Corbel"/>
              </a:rPr>
              <a:t>make an introduction (state the problem)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Corbel"/>
              </a:rPr>
              <a:t>express your personal opinion and give 2–3 reasons for your opinion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Corbel"/>
              </a:rPr>
              <a:t>express an opposing opinion and give 1–2 reasons for this opposing opinion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Corbel"/>
              </a:rPr>
              <a:t>explain why you don’t agree with the opposing opinion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Corbel"/>
              </a:rPr>
              <a:t>make a conclusion restating your position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98280"/>
            <a:ext cx="93042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d16349"/>
                </a:solidFill>
                <a:latin typeface="Corbel"/>
              </a:rPr>
              <a:t>РАЗВЕРНУТОЕ ПИСЬМЕННОЕ ВЫСКАЗЫВАНИЕ </a:t>
            </a:r>
            <a:br>
              <a:rPr sz="2400"/>
            </a:br>
            <a:r>
              <a:rPr b="1" lang="ru-RU" sz="2400" spc="-1" strike="noStrike">
                <a:solidFill>
                  <a:srgbClr val="d16349"/>
                </a:solidFill>
                <a:latin typeface="Corbel"/>
              </a:rPr>
              <a:t>с элементами рассуждения «МОЕ МНЕНИЕ» </a:t>
            </a:r>
            <a:br>
              <a:rPr sz="2400"/>
            </a:br>
            <a:r>
              <a:rPr b="1" lang="ru-RU" sz="2400" spc="-1" strike="noStrike">
                <a:solidFill>
                  <a:srgbClr val="d16349"/>
                </a:solidFill>
                <a:latin typeface="Corbel"/>
              </a:rPr>
              <a:t>ОБЩИЕ СТРАТЕГ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1892160"/>
            <a:ext cx="83692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89440" indent="-289440" algn="just">
              <a:lnSpc>
                <a:spcPct val="90000"/>
              </a:lnSpc>
              <a:spcBef>
                <a:spcPts val="524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строить высказывание </a:t>
            </a:r>
            <a:r>
              <a:rPr b="0" lang="ru-RU" sz="2100" spc="-1" strike="noStrike">
                <a:solidFill>
                  <a:srgbClr val="30acec"/>
                </a:solidFill>
                <a:latin typeface="Corbel"/>
              </a:rPr>
              <a:t>в соответствии 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с предложенным </a:t>
            </a:r>
            <a:r>
              <a:rPr b="0" lang="ru-RU" sz="2100" spc="-1" strike="noStrike">
                <a:solidFill>
                  <a:srgbClr val="30acec"/>
                </a:solidFill>
                <a:latin typeface="Corbel"/>
              </a:rPr>
              <a:t>планом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;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289440" indent="-289440" algn="just">
              <a:lnSpc>
                <a:spcPct val="90000"/>
              </a:lnSpc>
              <a:spcBef>
                <a:spcPts val="524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введение должно отражать </a:t>
            </a:r>
            <a:r>
              <a:rPr b="0" lang="ru-RU" sz="2100" spc="-1" strike="noStrike">
                <a:solidFill>
                  <a:srgbClr val="30acec"/>
                </a:solidFill>
                <a:latin typeface="Corbel"/>
              </a:rPr>
              <a:t>проблемный характер 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заданного утверждения;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289440" indent="-289440" algn="just">
              <a:lnSpc>
                <a:spcPct val="90000"/>
              </a:lnSpc>
              <a:spcBef>
                <a:spcPts val="524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во введении </a:t>
            </a:r>
            <a:r>
              <a:rPr b="0" lang="ru-RU" sz="2100" spc="-1" strike="noStrike">
                <a:solidFill>
                  <a:srgbClr val="30acec"/>
                </a:solidFill>
                <a:latin typeface="Corbel"/>
              </a:rPr>
              <a:t>перефразировать тему/проблему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, данную в задании, </a:t>
            </a:r>
            <a:r>
              <a:rPr b="0" lang="ru-RU" sz="2100" spc="-1" strike="noStrike">
                <a:solidFill>
                  <a:srgbClr val="30acec"/>
                </a:solidFill>
                <a:latin typeface="Corbel"/>
              </a:rPr>
              <a:t>не повторяя 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ее дословно;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289440" indent="-289440" algn="just">
              <a:lnSpc>
                <a:spcPct val="90000"/>
              </a:lnSpc>
              <a:spcBef>
                <a:spcPts val="524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при составлении плана рекомендуется записать </a:t>
            </a:r>
            <a:r>
              <a:rPr b="0" lang="ru-RU" sz="2100" spc="-1" strike="noStrike">
                <a:solidFill>
                  <a:srgbClr val="30acec"/>
                </a:solidFill>
                <a:latin typeface="Corbel"/>
              </a:rPr>
              <a:t>ключевые слова 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и выражения каждого абзаца;</a:t>
            </a:r>
            <a:r>
              <a:rPr b="0" lang="ru-RU" sz="2100" spc="-1" strike="noStrike">
                <a:solidFill>
                  <a:srgbClr val="30acec"/>
                </a:solidFill>
                <a:latin typeface="Corbe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289440" indent="-289440" algn="just">
              <a:lnSpc>
                <a:spcPct val="90000"/>
              </a:lnSpc>
              <a:spcBef>
                <a:spcPts val="524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в </a:t>
            </a:r>
            <a:r>
              <a:rPr b="0" lang="ru-RU" sz="2100" spc="-1" strike="noStrike">
                <a:solidFill>
                  <a:srgbClr val="30acec"/>
                </a:solidFill>
                <a:latin typeface="Corbel"/>
              </a:rPr>
              <a:t>первом предложении 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каждого абзаца рекомендуется выразить его </a:t>
            </a:r>
            <a:r>
              <a:rPr b="0" lang="ru-RU" sz="2100" spc="-1" strike="noStrike">
                <a:solidFill>
                  <a:srgbClr val="30acec"/>
                </a:solidFill>
                <a:latin typeface="Corbel"/>
              </a:rPr>
              <a:t>основную мысль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 и далее ее развивать, подкреплять примерами и аргументами и т.д.;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289440" indent="-289440" algn="just">
              <a:lnSpc>
                <a:spcPct val="90000"/>
              </a:lnSpc>
              <a:spcBef>
                <a:spcPts val="524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введение и заключение должны быть приблизительно </a:t>
            </a:r>
            <a:r>
              <a:rPr b="0" lang="ru-RU" sz="2100" spc="-1" strike="noStrike">
                <a:solidFill>
                  <a:srgbClr val="30acec"/>
                </a:solidFill>
                <a:latin typeface="Corbel"/>
              </a:rPr>
              <a:t>одинаковы по объему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;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289440" indent="-289440" algn="just">
              <a:lnSpc>
                <a:spcPct val="90000"/>
              </a:lnSpc>
              <a:spcBef>
                <a:spcPts val="524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общий объем основной части не должен быть меньше общего объема введения и заключения;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185760"/>
            <a:ext cx="93042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d16349"/>
                </a:solidFill>
                <a:latin typeface="Corbel"/>
              </a:rPr>
              <a:t>РАЗВЕРНУТОЕ ПИСЬМЕННОЕ ВЫСКАЗЫВАНИЕ </a:t>
            </a:r>
            <a:br>
              <a:rPr sz="2000"/>
            </a:br>
            <a:r>
              <a:rPr b="1" lang="ru-RU" sz="2000" spc="-1" strike="noStrike">
                <a:solidFill>
                  <a:srgbClr val="d16349"/>
                </a:solidFill>
                <a:latin typeface="Corbel"/>
              </a:rPr>
              <a:t>с элементами рассуждения «МОЕ МНЕНИЕ» </a:t>
            </a:r>
            <a:br>
              <a:rPr sz="2000"/>
            </a:br>
            <a:r>
              <a:rPr b="1" lang="ru-RU" sz="2000" spc="-1" strike="noStrike">
                <a:solidFill>
                  <a:srgbClr val="d16349"/>
                </a:solidFill>
                <a:latin typeface="Corbel"/>
              </a:rPr>
              <a:t>ОБЩИЕ СТРАТЕГИ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-46080" y="1382400"/>
            <a:ext cx="9190080" cy="50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 algn="just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30acec"/>
                </a:solidFill>
                <a:latin typeface="Corbel"/>
              </a:rPr>
              <a:t>важно</a:t>
            </a: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 в основной части сначала высказать </a:t>
            </a:r>
            <a:r>
              <a:rPr b="0" lang="ru-RU" sz="2200" spc="-1" strike="noStrike">
                <a:solidFill>
                  <a:srgbClr val="30acec"/>
                </a:solidFill>
                <a:latin typeface="Corbel"/>
              </a:rPr>
              <a:t>своё мнение </a:t>
            </a: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и аргументировать его (ОДИН АБЗАЦ), затем представить </a:t>
            </a:r>
            <a:r>
              <a:rPr b="0" lang="ru-RU" sz="2200" spc="-1" strike="noStrike">
                <a:solidFill>
                  <a:srgbClr val="30acec"/>
                </a:solidFill>
                <a:latin typeface="Corbel"/>
              </a:rPr>
              <a:t>другие точки зрения</a:t>
            </a: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 (ВТОРОЙ АБЗАЦ) и дать аргументацию, </a:t>
            </a:r>
            <a:r>
              <a:rPr b="0" lang="ru-RU" sz="2200" spc="-1" strike="noStrike">
                <a:solidFill>
                  <a:srgbClr val="30acec"/>
                </a:solidFill>
                <a:latin typeface="Corbel"/>
              </a:rPr>
              <a:t>почему</a:t>
            </a: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 вы с ними </a:t>
            </a:r>
            <a:r>
              <a:rPr b="0" lang="ru-RU" sz="2200" spc="-1" strike="noStrike">
                <a:solidFill>
                  <a:srgbClr val="30acec"/>
                </a:solidFill>
                <a:latin typeface="Corbel"/>
              </a:rPr>
              <a:t>не согласны</a:t>
            </a: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 (ТРЕТИЙ АБЗАЦ);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04920" indent="-304920" algn="just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приводя </a:t>
            </a:r>
            <a:r>
              <a:rPr b="0" lang="ru-RU" sz="2200" spc="-1" strike="noStrike">
                <a:solidFill>
                  <a:srgbClr val="30acec"/>
                </a:solidFill>
                <a:latin typeface="Corbel"/>
              </a:rPr>
              <a:t>контраргументы</a:t>
            </a: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, отстаивая свою точку зрения, желательно выражать свое мнение не теми же словами, что раньше, а использовать </a:t>
            </a:r>
            <a:r>
              <a:rPr b="0" lang="ru-RU" sz="2200" spc="-1" strike="noStrike">
                <a:solidFill>
                  <a:srgbClr val="30acec"/>
                </a:solidFill>
                <a:latin typeface="Corbel"/>
              </a:rPr>
              <a:t>перифраз, синонимию</a:t>
            </a: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04920" indent="-304920" algn="just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в </a:t>
            </a:r>
            <a:r>
              <a:rPr b="0" lang="ru-RU" sz="2200" spc="-1" strike="noStrike">
                <a:solidFill>
                  <a:srgbClr val="30acec"/>
                </a:solidFill>
                <a:latin typeface="Corbel"/>
              </a:rPr>
              <a:t>заключительном абзаце </a:t>
            </a: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(заключении) еще раз указать на проблемный характер темы; показать, что хотя у вас есть свое мнение, вы способны видеть и другие точки зрения; тем не менее, </a:t>
            </a:r>
            <a:r>
              <a:rPr b="0" lang="ru-RU" sz="2200" spc="-1" strike="noStrike">
                <a:solidFill>
                  <a:srgbClr val="30acec"/>
                </a:solidFill>
                <a:latin typeface="Corbel"/>
              </a:rPr>
              <a:t>своя</a:t>
            </a: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 кажется вам более убедительной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04920" indent="-304920" algn="just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особое внимание уделять </a:t>
            </a:r>
            <a:r>
              <a:rPr b="0" lang="ru-RU" sz="2200" spc="-1" strike="noStrike">
                <a:solidFill>
                  <a:srgbClr val="30acec"/>
                </a:solidFill>
                <a:latin typeface="Corbel"/>
              </a:rPr>
              <a:t>средствам логической связи </a:t>
            </a: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текста, как внутри предложений, так и между предложениям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04920" indent="-304920" algn="just"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416160" y="267840"/>
            <a:ext cx="9559800" cy="15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d16349"/>
                </a:solidFill>
                <a:latin typeface="Corbel"/>
              </a:rPr>
              <a:t>РАЗВЕРНУТОЕ ПИСЬМЕННОЕ ВЫСКАЗЫВАНИЕ</a:t>
            </a:r>
            <a:br>
              <a:rPr sz="3000"/>
            </a:br>
            <a:r>
              <a:rPr b="1" lang="ru-RU" sz="3000" spc="-1" strike="noStrike">
                <a:solidFill>
                  <a:srgbClr val="d16349"/>
                </a:solidFill>
                <a:latin typeface="Corbel"/>
              </a:rPr>
              <a:t>с элементами рассуждения «МОЕ МНЕНИЕ» </a:t>
            </a:r>
            <a:br>
              <a:rPr sz="3000"/>
            </a:br>
            <a:r>
              <a:rPr b="1" lang="ru-RU" sz="3000" spc="-1" strike="noStrike">
                <a:solidFill>
                  <a:srgbClr val="d16349"/>
                </a:solidFill>
                <a:latin typeface="Corbel"/>
              </a:rPr>
              <a:t>ОБЩИЕ СТРАТЕГИИ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46080" y="1805040"/>
            <a:ext cx="91900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Объем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высказывания с ЭР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550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ведение –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50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слов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550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сновная часть (второй абзац) –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80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слов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550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сновная часть (третий и четвёртый абзацы) –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70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слов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550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заключение –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50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слов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400" spc="-1" strike="noStrike">
                <a:solidFill>
                  <a:srgbClr val="262626"/>
                </a:solidFill>
                <a:latin typeface="Corbel"/>
              </a:rPr>
              <a:t>Основные ошибки при выполнении задания 40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82800" y="2666520"/>
            <a:ext cx="7704000" cy="33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отход от темы либо полное непонимание коммуникативной задачи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Неумение точно сформулировать проблему в начале высказывания и сделать  необходимый вывод в конце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Неумение сформулировать свое и чужое мнение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Неполное соответствие аргументации заявленному тезису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Повтор аргументации при высказывании своего и чужого мнения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Неправильное деление текста на абзацы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Несоблюдение объема высказывания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400" spc="-1" strike="noStrike">
                <a:solidFill>
                  <a:srgbClr val="262626"/>
                </a:solidFill>
                <a:latin typeface="Corbel"/>
              </a:rPr>
              <a:t>Критерии оценивания задания 40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82800" y="2666520"/>
            <a:ext cx="7704000" cy="33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404040"/>
                </a:solidFill>
                <a:latin typeface="Corbel"/>
              </a:rPr>
              <a:t>Решение коммуникативной задачи –(3 балла)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404040"/>
                </a:solidFill>
                <a:latin typeface="Corbel"/>
              </a:rPr>
              <a:t>Организация текста (3 балла)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404040"/>
                </a:solidFill>
                <a:latin typeface="Corbel"/>
              </a:rPr>
              <a:t>Лексическая грамотность (3 балла)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404040"/>
                </a:solidFill>
                <a:latin typeface="Corbel"/>
              </a:rPr>
              <a:t>Грамматическая правильность речи (3 балла)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404040"/>
                </a:solidFill>
                <a:latin typeface="Corbel"/>
              </a:rPr>
              <a:t>Правильность орфографии и пунктуации (2 балла)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1287c3"/>
              </a:buClr>
              <a:buSzPct val="145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404040"/>
                </a:solidFill>
                <a:latin typeface="Corbel"/>
              </a:rPr>
              <a:t>При получении экзаменуемым 0 баллов по критерию «Решение коммуникативной задачи» все задание оценивается в 0 баллов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08:53:11Z</dcterms:created>
  <dc:creator>гпн</dc:creator>
  <dc:description/>
  <dc:language>en-US</dc:language>
  <cp:lastModifiedBy>Антон</cp:lastModifiedBy>
  <dcterms:modified xsi:type="dcterms:W3CDTF">2018-03-27T04:43:24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