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wmf" ContentType="image/x-wmf"/>
  <Override PartName="/ppt/media/image23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jpeg" ContentType="image/jpeg"/>
  <Override PartName="/ppt/media/image3.jpeg" ContentType="image/jpeg"/>
  <Override PartName="/ppt/media/image16.wmf" ContentType="image/x-wmf"/>
  <Override PartName="/ppt/media/image2.jpeg" ContentType="image/jpeg"/>
  <Override PartName="/ppt/media/image6.png" ContentType="image/png"/>
  <Override PartName="/ppt/media/image14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6862-0376-4167-8056-C966E19A7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FF52-2403-4A73-8872-73EB4F2C22E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4B16-DC39-4EAF-8487-750095A0675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22760" y="114264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Новые педагогические технологии, как ресурс формирования ключевых компетенций на уроках математики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46040" y="5105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уракова С.В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читалина Р.Т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вакова Е.В</a:t>
            </a: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250920" y="189000"/>
                <a:ext cx="8532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йти</m:t>
                    </m:r>
                    <m:r>
                      <m:rPr>
                        <m:lit/>
                        <m:nor/>
                      </m:rPr>
                      <m:t xml:space="preserve">неизвестные</m:t>
                    </m:r>
                    <m:r>
                      <m:rPr>
                        <m:lit/>
                        <m:nor/>
                      </m:rPr>
                      <m:t xml:space="preserve">углы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Line 5"/>
          <p:cNvSpPr/>
          <p:nvPr/>
        </p:nvSpPr>
        <p:spPr>
          <a:xfrm>
            <a:off x="971640" y="5445000"/>
            <a:ext cx="7561080" cy="21600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547640" y="551664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435640" y="1268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8207280" y="5661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5580000" y="2060640"/>
            <a:ext cx="2952720" cy="360036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Arc 11"/>
          <p:cNvSpPr/>
          <p:nvPr/>
        </p:nvSpPr>
        <p:spPr>
          <a:xfrm rot="17338200">
            <a:off x="1547640" y="5084280"/>
            <a:ext cx="482760" cy="482760"/>
          </a:xfrm>
          <a:custGeom>
            <a:avLst/>
            <a:gdLst>
              <a:gd name="textAreaLeft" fmla="*/ 0 w 482760"/>
              <a:gd name="textAreaRight" fmla="*/ 483120 w 48276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826920" y="4076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10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5076720" y="2637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df4"/>
                </a:solidFill>
                <a:latin typeface="Times New Roman"/>
              </a:rPr>
              <a:t>40</a:t>
            </a:r>
            <a:r>
              <a:rPr b="1" lang="en-US" sz="4000" spc="-1" strike="noStrike" baseline="30000">
                <a:solidFill>
                  <a:srgbClr val="007df4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 flipV="1">
            <a:off x="1835280" y="2060280"/>
            <a:ext cx="3744720" cy="338436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Arc 17"/>
          <p:cNvSpPr/>
          <p:nvPr/>
        </p:nvSpPr>
        <p:spPr>
          <a:xfrm rot="17466000">
            <a:off x="1340280" y="4715280"/>
            <a:ext cx="903240" cy="920520"/>
          </a:xfrm>
          <a:custGeom>
            <a:avLst/>
            <a:gdLst>
              <a:gd name="textAreaLeft" fmla="*/ 0 w 903240"/>
              <a:gd name="textAreaRight" fmla="*/ 903600 w 90324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Arc 19"/>
          <p:cNvSpPr/>
          <p:nvPr/>
        </p:nvSpPr>
        <p:spPr>
          <a:xfrm rot="8023800">
            <a:off x="5292000" y="2205720"/>
            <a:ext cx="504720" cy="5032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7d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Arc 11"/>
          <p:cNvSpPr/>
          <p:nvPr/>
        </p:nvSpPr>
        <p:spPr>
          <a:xfrm flipV="1" rot="17338800">
            <a:off x="2275920" y="4973760"/>
            <a:ext cx="473040" cy="355320"/>
          </a:xfrm>
          <a:custGeom>
            <a:avLst/>
            <a:gdLst>
              <a:gd name="textAreaLeft" fmla="*/ 0 w 473040"/>
              <a:gd name="textAreaRight" fmla="*/ 473400 w 473040"/>
              <a:gd name="textAreaTop" fmla="*/ -360 h 355320"/>
              <a:gd name="textAreaBottom" fmla="*/ 355320 h 3553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Прямоугольник 15"/>
          <p:cNvSpPr/>
          <p:nvPr/>
        </p:nvSpPr>
        <p:spPr>
          <a:xfrm>
            <a:off x="2916360" y="47242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6" name="Rectangle 15" descr=""/>
          <p:cNvPicPr/>
          <p:nvPr/>
        </p:nvPicPr>
        <p:blipFill>
          <a:blip r:embed="rId1"/>
          <a:stretch/>
        </p:blipFill>
        <p:spPr>
          <a:xfrm>
            <a:off x="0" y="1249200"/>
            <a:ext cx="536400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d4d4d"/>
              </a:solidFill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«Живой чертеж»</a:t>
            </a:r>
            <a:endParaRPr b="0" lang="en-US" sz="7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Люди никогда не обнаруживали большего остроумия, чем в изобретении игры.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Готфрид Вильгельм Лейбниц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Игровые технологии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Игра</a:t>
            </a: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– это естественная для ребенка и гуманная форма обучения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Технология игровой деятельности </a:t>
            </a: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представляет собой определенную последовательность действий, операций педагога по отбору, разработке, подготовке игр, включению детей в игровую деятельность, осуществление самой игры, подведению ее итогов и результатов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Устный счет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про\Desktop\школа\6б кл.час 1 сент\20160901_113557.jpg"/>
          <p:cNvPicPr/>
          <p:nvPr/>
        </p:nvPicPr>
        <p:blipFill>
          <a:blip r:embed="rId2"/>
          <a:stretch/>
        </p:blipFill>
        <p:spPr>
          <a:xfrm>
            <a:off x="457200" y="2119320"/>
            <a:ext cx="83757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Математическое лото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7" name="Рисунок 5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835600" cy="1333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1676520" y="3886200"/>
            <a:ext cx="6040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Применение игровых технологий в 5 классе при решении задач на части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d4d4d"/>
              </a:solidFill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Угадай тему урока</a:t>
            </a:r>
            <a:endParaRPr b="0" lang="en-US" sz="6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34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Microsoft Sans Serif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37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Microsoft Sans Serif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50c27"/>
                          </a:solidFill>
                          <a:latin typeface="Microsoft Sans Serif"/>
                        </a:rPr>
                        <a:t>Л</a:t>
                      </a:r>
                      <a:endParaRPr b="0" lang="en-US" sz="3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d4d4d"/>
                </a:solidFill>
                <a:latin typeface="Times New Roman"/>
                <a:ea typeface="굴림"/>
              </a:rPr>
              <a:t>Скажи мне, и я забуду, покажи мне, и я запомню,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d4d4d"/>
                </a:solidFill>
                <a:latin typeface="Times New Roman"/>
                <a:ea typeface="굴림"/>
              </a:rPr>
              <a:t>Дай мне действовать самому, и я научусь.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d4d4d"/>
                </a:solidFill>
                <a:latin typeface="Times New Roman"/>
                <a:ea typeface="굴림"/>
              </a:rPr>
              <a:t>Древнекитайская мудрость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40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Microsoft Sans Serif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Microsoft Sans Serif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50c27"/>
                          </a:solidFill>
                          <a:latin typeface="Microsoft Sans Serif"/>
                        </a:rPr>
                        <a:t>Л</a:t>
                      </a:r>
                      <a:endParaRPr b="0" lang="en-US" sz="3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43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46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49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52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58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61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64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67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Ключевые компетенции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81080" y="163008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Times New Roman"/>
                <a:ea typeface="굴림"/>
              </a:rPr>
              <a:t>Ценностно-смысловые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Times New Roman"/>
                <a:ea typeface="굴림"/>
              </a:rPr>
              <a:t>Коммуникативные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Times New Roman"/>
                <a:ea typeface="굴림"/>
              </a:rPr>
              <a:t>Учебно-познавательные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Times New Roman"/>
                <a:ea typeface="굴림"/>
              </a:rPr>
              <a:t>Информационные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70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73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76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79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82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85" name="Содержимое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1691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457200" y="4343400"/>
          <a:ext cx="8229600" cy="1676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aa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50c27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5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Координаты точки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s://fs00.infourok.ru/images/doc/224/25993/1/img2.jpg"/>
          <p:cNvPicPr/>
          <p:nvPr/>
        </p:nvPicPr>
        <p:blipFill>
          <a:blip r:embed="rId2"/>
          <a:stretch/>
        </p:blipFill>
        <p:spPr>
          <a:xfrm>
            <a:off x="1371600" y="212580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Рисунки по точкам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573360" cy="4191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s://im0-tub-ru.yandex.net/i?id=bd8253557f6cd4b2f3a52c672bd6c344&amp;n=13"/>
          <p:cNvPicPr/>
          <p:nvPr/>
        </p:nvPicPr>
        <p:blipFill>
          <a:blip r:embed="rId2"/>
          <a:stretch/>
        </p:blipFill>
        <p:spPr>
          <a:xfrm>
            <a:off x="4253040" y="2209680"/>
            <a:ext cx="298584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1417320"/>
            <a:ext cx="9067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Новые педагогические технологии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1. Информационно-коммуникационные технологии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2. Проектные технологии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3. Игровые технологии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4. Проблемные технологии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ИКТ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Презентации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Решение задач по готовым чертежам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Учебные фильмы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идео-репетитор подготовки к ЕГЭ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«ЕГЭ по математике: подготовка к тестированию»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Интернет-урок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Интерактивный учебник математики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иртуальная школа юного математика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Он-лайн олимпиады и конкурсы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«Живые чертежи»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Решение задач по готовым чертежам</a:t>
            </a:r>
            <a:endParaRPr b="0" lang="en-US" sz="6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 flipV="1">
            <a:off x="971640" y="3141720"/>
            <a:ext cx="3384360" cy="23032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971640" y="5445000"/>
            <a:ext cx="7561080" cy="21600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24000" y="53737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211640" y="2349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8207280" y="5661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4356000" y="3141720"/>
            <a:ext cx="4176720" cy="25192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Arc 15"/>
          <p:cNvSpPr/>
          <p:nvPr/>
        </p:nvSpPr>
        <p:spPr>
          <a:xfrm rot="1361400">
            <a:off x="1763640" y="4941360"/>
            <a:ext cx="504720" cy="482760"/>
          </a:xfrm>
          <a:custGeom>
            <a:avLst/>
            <a:gdLst>
              <a:gd name="textAreaLeft" fmla="*/ 0 w 504720"/>
              <a:gd name="textAreaRight" fmla="*/ 505080 w 50472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Arc 16"/>
          <p:cNvSpPr/>
          <p:nvPr/>
        </p:nvSpPr>
        <p:spPr>
          <a:xfrm rot="14670000">
            <a:off x="7164360" y="5083920"/>
            <a:ext cx="482760" cy="482760"/>
          </a:xfrm>
          <a:custGeom>
            <a:avLst/>
            <a:gdLst>
              <a:gd name="textAreaLeft" fmla="*/ 0 w 482760"/>
              <a:gd name="textAreaRight" fmla="*/ 483120 w 48276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Arc 17"/>
          <p:cNvSpPr/>
          <p:nvPr/>
        </p:nvSpPr>
        <p:spPr>
          <a:xfrm rot="14128800">
            <a:off x="7524360" y="5228640"/>
            <a:ext cx="338040" cy="338040"/>
          </a:xfrm>
          <a:custGeom>
            <a:avLst/>
            <a:gdLst>
              <a:gd name="textAreaLeft" fmla="*/ 0 w 338040"/>
              <a:gd name="textAreaRight" fmla="*/ 338400 w 33804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2124000" y="4581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5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6300720" y="4724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45</a:t>
            </a:r>
            <a:r>
              <a:rPr b="1" lang="en-US" sz="4000" spc="-1" strike="noStrike" baseline="30000">
                <a:solidFill>
                  <a:srgbClr val="0099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4140360" y="3360240"/>
            <a:ext cx="71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  <a:ea typeface="Calibri"/>
              </a:rPr>
              <a:t>?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58840" y="1600200"/>
            <a:ext cx="8389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5"/>
              <p:cNvSpPr txBox="1"/>
              <p:nvPr/>
            </p:nvSpPr>
            <p:spPr>
              <a:xfrm>
                <a:off x="611280" y="225360"/>
                <a:ext cx="81723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йти</m:t>
                    </m:r>
                    <m:r>
                      <m:rPr>
                        <m:lit/>
                        <m:nor/>
                      </m:rPr>
                      <m:t xml:space="preserve">неизвестные</m:t>
                    </m:r>
                    <m:r>
                      <m:rPr>
                        <m:lit/>
                        <m:nor/>
                      </m:rPr>
                      <m:t xml:space="preserve">углы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Line 7"/>
          <p:cNvSpPr/>
          <p:nvPr/>
        </p:nvSpPr>
        <p:spPr>
          <a:xfrm flipV="1">
            <a:off x="971640" y="3141720"/>
            <a:ext cx="3384360" cy="23032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971640" y="5445000"/>
            <a:ext cx="7561080" cy="21600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324000" y="53737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4211640" y="2349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8207280" y="5661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4356000" y="3141720"/>
            <a:ext cx="4176720" cy="25192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Arc 15"/>
          <p:cNvSpPr/>
          <p:nvPr/>
        </p:nvSpPr>
        <p:spPr>
          <a:xfrm rot="1361400">
            <a:off x="1763640" y="4941360"/>
            <a:ext cx="504720" cy="482760"/>
          </a:xfrm>
          <a:custGeom>
            <a:avLst/>
            <a:gdLst>
              <a:gd name="textAreaLeft" fmla="*/ 0 w 504720"/>
              <a:gd name="textAreaRight" fmla="*/ 505080 w 50472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Arc 16"/>
          <p:cNvSpPr/>
          <p:nvPr/>
        </p:nvSpPr>
        <p:spPr>
          <a:xfrm rot="14670000">
            <a:off x="7164360" y="5083920"/>
            <a:ext cx="482760" cy="482760"/>
          </a:xfrm>
          <a:custGeom>
            <a:avLst/>
            <a:gdLst>
              <a:gd name="textAreaLeft" fmla="*/ 0 w 482760"/>
              <a:gd name="textAreaRight" fmla="*/ 483120 w 48276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Arc 17"/>
          <p:cNvSpPr/>
          <p:nvPr/>
        </p:nvSpPr>
        <p:spPr>
          <a:xfrm rot="14128800">
            <a:off x="7524360" y="5228640"/>
            <a:ext cx="338040" cy="338040"/>
          </a:xfrm>
          <a:custGeom>
            <a:avLst/>
            <a:gdLst>
              <a:gd name="textAreaLeft" fmla="*/ 0 w 338040"/>
              <a:gd name="textAreaRight" fmla="*/ 338400 w 33804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2124000" y="4581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5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6300720" y="4724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45</a:t>
            </a:r>
            <a:r>
              <a:rPr b="1" lang="en-US" sz="4000" spc="-1" strike="noStrike" baseline="30000">
                <a:solidFill>
                  <a:srgbClr val="0099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4140360" y="3360240"/>
            <a:ext cx="71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  <a:ea typeface="Calibri"/>
              </a:rPr>
              <a:t>?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5" name="Rectangle 16" descr=""/>
          <p:cNvPicPr/>
          <p:nvPr/>
        </p:nvPicPr>
        <p:blipFill>
          <a:blip r:embed="rId1"/>
          <a:stretch/>
        </p:blipFill>
        <p:spPr>
          <a:xfrm>
            <a:off x="0" y="835200"/>
            <a:ext cx="867420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250920" y="189000"/>
                <a:ext cx="8532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йти</m:t>
                    </m:r>
                    <m:r>
                      <m:rPr>
                        <m:lit/>
                        <m:nor/>
                      </m:rPr>
                      <m:t xml:space="preserve">неизвестные</m:t>
                    </m:r>
                    <m:r>
                      <m:rPr>
                        <m:lit/>
                        <m:nor/>
                      </m:rPr>
                      <m:t xml:space="preserve">углы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Line 5"/>
          <p:cNvSpPr/>
          <p:nvPr/>
        </p:nvSpPr>
        <p:spPr>
          <a:xfrm>
            <a:off x="971640" y="5445000"/>
            <a:ext cx="7561080" cy="21600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547640" y="551664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435640" y="1268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8207280" y="5661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4d4d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>
            <a:off x="5580000" y="2060640"/>
            <a:ext cx="2952720" cy="360036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Arc 11"/>
          <p:cNvSpPr/>
          <p:nvPr/>
        </p:nvSpPr>
        <p:spPr>
          <a:xfrm rot="17338200">
            <a:off x="1547640" y="5084280"/>
            <a:ext cx="482760" cy="482760"/>
          </a:xfrm>
          <a:custGeom>
            <a:avLst/>
            <a:gdLst>
              <a:gd name="textAreaLeft" fmla="*/ 0 w 482760"/>
              <a:gd name="textAreaRight" fmla="*/ 483120 w 48276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826920" y="4076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10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5076720" y="2637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df4"/>
                </a:solidFill>
                <a:latin typeface="Times New Roman"/>
              </a:rPr>
              <a:t>40</a:t>
            </a:r>
            <a:r>
              <a:rPr b="1" lang="en-US" sz="4000" spc="-1" strike="noStrike" baseline="30000">
                <a:solidFill>
                  <a:srgbClr val="007df4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 flipV="1">
            <a:off x="1835280" y="2060280"/>
            <a:ext cx="3744720" cy="338436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Arc 17"/>
          <p:cNvSpPr/>
          <p:nvPr/>
        </p:nvSpPr>
        <p:spPr>
          <a:xfrm rot="17466000">
            <a:off x="1340280" y="4715280"/>
            <a:ext cx="903240" cy="920520"/>
          </a:xfrm>
          <a:custGeom>
            <a:avLst/>
            <a:gdLst>
              <a:gd name="textAreaLeft" fmla="*/ 0 w 903240"/>
              <a:gd name="textAreaRight" fmla="*/ 903600 w 90324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Arc 19"/>
          <p:cNvSpPr/>
          <p:nvPr/>
        </p:nvSpPr>
        <p:spPr>
          <a:xfrm rot="8023800">
            <a:off x="5292000" y="2205720"/>
            <a:ext cx="504720" cy="5032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7d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Arc 11"/>
          <p:cNvSpPr/>
          <p:nvPr/>
        </p:nvSpPr>
        <p:spPr>
          <a:xfrm flipV="1" rot="17338800">
            <a:off x="2327040" y="4997160"/>
            <a:ext cx="473040" cy="355680"/>
          </a:xfrm>
          <a:custGeom>
            <a:avLst/>
            <a:gdLst>
              <a:gd name="textAreaLeft" fmla="*/ 0 w 473040"/>
              <a:gd name="textAreaRight" fmla="*/ 473400 w 473040"/>
              <a:gd name="textAreaTop" fmla="*/ 360 h 355680"/>
              <a:gd name="textAreaBottom" fmla="*/ 356400 h 355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2916360" y="47242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Каб - 304</cp:lastModifiedBy>
  <dcterms:modified xsi:type="dcterms:W3CDTF">2017-10-30T13:07:24Z</dcterms:modified>
  <cp:revision>376</cp:revision>
  <dc:subject/>
  <dc:title>Name of presentation</dc:title>
</cp:coreProperties>
</file>