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6B1-8CC2-4245-A4D9-99ED29EF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C91-73DA-4657-AB88-63A14FB6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76C-0794-4967-8E99-2757AD4E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A56-4E66-481D-A249-F6851CC6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2626-38F9-4864-9D5E-B1B56D76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3066-F245-4EDB-B7CF-DF51C29C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07ED-16B2-421C-9898-2BDA59CC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9BD1-3FE4-4C32-BD5F-2D53A2CC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6B3-45E4-49B5-8AC1-8A8F0FD9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5801-F9C4-490F-B486-861C8712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7EED-10F6-45F4-B311-A9837DB2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F93-0DAA-4214-AD1F-B8DCC7E0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D483-8DB0-4CEC-AFA3-11C5CECD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C920-9D58-4DF2-985E-A42AADAF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A4CB-4A97-424B-84AA-EB033CCE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CC8D-152A-4AA6-ADA4-BD447BF2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395F-88CC-4756-88FB-AC0A173B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3390-8952-42BB-836E-29844126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47CB0-5D63-457A-A605-F772E0AC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1137-8EBA-4584-82C7-EC1ED8C9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CD24-ACC3-4443-8844-45FBF8CF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43BE-AF51-4BD2-8F0B-DBF56088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A04-D699-4B11-944A-40E965CB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CDEA-7750-4A27-AA0A-E95E0872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A67B4-4F2E-4CF5-9EF2-D889E7C8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755E-0ABA-44F4-8C74-52A23E5A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7FBB-4CDC-47D6-BACC-8FD3A97D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2E45B-5E7C-47A4-A43A-A85E140F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1EEE-52E4-48E2-B49C-117A4089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9B45-D621-48E8-82ED-05D234CC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7D1AC-FF27-48FD-8097-A426E7B9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1DAF1-E3CB-4A21-AD00-59C5A94E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A894F-F446-4361-94BF-F0871088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FD4-EE89-4441-8DE3-C5B0A825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B9C97-A836-49C9-BD90-FE61FAE7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2F1A-CFE7-44DA-AD45-7C00107E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47D3-4861-46FF-B7DF-F8FBDAB3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2FC9A-88D1-4875-9B8B-5E73BD8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805B-78F5-4670-BEC6-A7A8072F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126D8-FAB5-4638-A5EF-A6E1C47F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281A-C63D-4583-A8A7-5D176362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8D0D6-D9E2-4DB7-B411-02F023E5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AA5E-1C10-44D3-8C30-FD88CFA5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44D-168B-489E-9F68-67018F14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5F9-4FCD-48A8-A9F7-DE3533F3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068-52EE-43A8-9848-B8CF39E3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4E6-DAC7-4D34-9EBE-4E0C5A34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519-744D-43E1-8AB4-0F5FFD99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57CB-143A-46EC-A33E-344D12A4D699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30DE-8DC4-4244-BE99-3E2B8E7B618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D2B-12DC-4515-8885-86EEEA3369AF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7F0A-6ECD-4F4F-A953-DE7B26B1945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5"/>
          <p:cNvSpPr txBox="1"/>
          <p:nvPr/>
        </p:nvSpPr>
        <p:spPr>
          <a:xfrm rot="508800">
            <a:off x="2806560" y="2171520"/>
            <a:ext cx="14353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457200" y="1773360"/>
            <a:ext cx="7859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У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Светофорик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1908000" y="714240"/>
            <a:ext cx="4751640" cy="64260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ОУ  ДС №14 «Умка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325520" cy="211140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2"/>
          <p:cNvSpPr/>
          <p:nvPr/>
        </p:nvSpPr>
        <p:spPr>
          <a:xfrm>
            <a:off x="5364000" y="4403880"/>
            <a:ext cx="2880000" cy="3111480"/>
          </a:xfrm>
          <a:prstGeom prst="rect">
            <a:avLst/>
          </a:pr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сильева О.В.                                                                                                                                                                                        Шакина Н.И.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3" descr=""/>
          <p:cNvPicPr/>
          <p:nvPr/>
        </p:nvPicPr>
        <p:blipFill>
          <a:blip r:embed="rId2"/>
          <a:stretch/>
        </p:blipFill>
        <p:spPr>
          <a:xfrm>
            <a:off x="457200" y="4221000"/>
            <a:ext cx="17748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0"/>
          <p:cNvSpPr/>
          <p:nvPr/>
        </p:nvSpPr>
        <p:spPr>
          <a:xfrm>
            <a:off x="539640" y="981000"/>
            <a:ext cx="7920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статистики, ежегодно на дорогах нашей страны совершается десятки тысяч дорожно-транспортных происшествий с участием детей. Именно поэтому дорожно-транспортный травматизм остаётся приоритетной проблемой общества, требующей решения при всеобщем участии педагогов, родителей 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взрослый должен знать правила дорожного движения для пеше-ходов и воспитывать дисциплинированных пешеходов в своих детях. Ведь правила дорожного движения едины для детей и взросл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главная задача родителей и педагогов – доступно разъяснить правила ребёнку, а при выборе форм обучения донести до детей смысл, опасность несоблюдения правил, при этом, не исказив их содер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именно при переходе из детского сада в школу, ребёнок мог легко ориентироваться в ближайшем пространственном окружении, умел наблюдать и правильно оценивать дорожные ситуации, владел навыками безопасного поведения в этих ситуа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кружковой деятельности «Светофорик» разработана для того, чтобы дети успешно усвоили правила дорожного движения, узнали для чего надо соблюдать правила дорожного движения, смогли ориентироваться в дорожных ситуациях, на практике применяли свои знания. Программа «Светофорик» – это работа на перспективу. Чем раньше научим детей культуре поведения на дорогах и улицах, тем меньше будет неприятных происшествий на проезжей части у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1763640" y="5191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496800" y="333360"/>
            <a:ext cx="741672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Цель круж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навыков осознанного безопасного поведения на у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Дли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овая работа проводится на протяжение всего учебного года один раз в неделю по четвергам во вторую половину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527040" y="1916280"/>
            <a:ext cx="724536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адачи круж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своить дошкольниками первоначальные знания о правилах безопасного поведения на у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работать навыки сознательного отношения к соблюдению правил безопасного движения, правил для пассажи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репить знания о работе светоф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готовить к правильным действиям в сложившейся ситуации на дороге, у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1116000" y="260280"/>
            <a:ext cx="698508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ланируемые результаты освоения кру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ознакомить детей со значениями слов: автодорога, проезжая часть, тротуар, пешеходная дорожка, пешеход, пассажир, пешеходный переход, перекресток, светофор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Закрепить  представление о различных видах транспорта, познакомятся с дорожными знаками, с правилами дорожного 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Активизировать знания родители об особенностях обучения детей правилам безопасного поведения на улицах, в транспор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Сформировать  готовность родителей к сотрудничеству с педагогами сада по проблемам развития у детей навыков безопасного по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тоговое мероприятие «Лучший плакат по ПД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2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28796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3141720" y="47628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Работа с родител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1187280" y="1413000"/>
            <a:ext cx="55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л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и передви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1187280" y="3105000"/>
            <a:ext cx="56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ов, атрибутов для сюжетно-ролев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-игровые кон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539640" y="333360"/>
            <a:ext cx="8209080" cy="66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ые проекты в детском саду. Пособие для воспитателей / Н.А.Виноградова Е.П.Панкова. – М.: Айрис-пресс, 2008г. – (Дошкольное воспитание и развит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ы безопасности жизнедеятельности детей дошкольного возраста. Планирование работы. Беседы. Игры. СПб.: ООО «Издательство «Детство-пресс»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рская А.В. Правила – наши помощники. Серия демонстрационных картин с методическими рекомендациями по воспитанию и обучению дошкольников безопасному поведению на улицах города: Учебно-наглядное пособие. / Под ред. С.И. Бугрова. – СПб.: «Детство-пресс»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рутецкая В. Моя первая дорожная азбука в картинках. – СПб.: Издательский дома «Литера», 2012. – (Серия «радуг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щева Н.В. Картотека подвижных игр, упражнений, физкультминуток, пальчиковой гимнастики. – СПб.: Детство-пресс, 2009. – (Кабинет логопе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ющие занятия с детьми 4-5 лет / Под ред. Л.А.Парамоновой. – М.: ОЛМА Медиа Групп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йорова Ф.С. Изучаем дорожную азбуку. Перспективное планирование. Занятия. Досуг. – «Издательство Скрипторий 2003»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абибуллина Е.Я. Дорожная азбука в детском саду. Конспекты занятий. – СПб.: ООО «Издательство «Детство-пресс», 20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2577960" cy="35290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611280" y="765000"/>
            <a:ext cx="6985080" cy="144000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rebuchet M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2:42:36Z</dcterms:created>
  <dc:creator>Polzovatel</dc:creator>
  <dc:description/>
  <dc:language>en-US</dc:language>
  <cp:lastModifiedBy>User</cp:lastModifiedBy>
  <dcterms:modified xsi:type="dcterms:W3CDTF">2016-09-02T09:20:12Z</dcterms:modified>
  <cp:revision>40</cp:revision>
  <dc:subject/>
  <dc:title>Муниципальное общеобразовательное учреждение Михайловская средняя школа №1  с.Михайловское Михайловского района Алтайского края</dc:title>
</cp:coreProperties>
</file>