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781-7924-441E-85AE-9640AB15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2CC-2237-4DD9-8597-29C90DFB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169-B56C-4E6C-8587-89AB1CB6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22B-FB2C-4495-936F-A9D30BA6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C0D1-0F29-486A-AB82-EC20930F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CFB4-CCD5-456D-BF20-AAD7ABE4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FE62-2C0C-4FA2-9879-63F717FA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DCA0-5C2B-471A-8F3E-3CA105B6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622E-1618-4437-9113-525D3741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B07B-25E8-41F2-AA7F-5F7C5367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CD0F-F708-41B6-A18C-EF715D98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F21D-1489-4DBE-B709-CA900783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7F08-CC01-4C0E-9AF3-6373B16B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57D9-EABD-4462-8B9C-8E592351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FF04-3532-4080-8EBC-C1BE7E7C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23DF-53E8-433D-A63D-C2E83592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E874-C6C9-4223-A107-A572E669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C6DC4-DAC3-4BAD-86AF-580F9828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9F5EC-71E7-47CD-84B7-035C36AF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6A851-4379-4D3A-BEA8-614D2E57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445B2-7BA4-409F-933A-532E2608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1410B-DD4C-48B2-828B-50578E42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1C55-DB58-44D0-8D5D-0303C1EA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B8CA9-DFC6-43A0-B031-06074DBD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E1F1C-88BB-421D-BD52-A888930D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E604F-2DD2-401C-AAC8-2E4DB5ED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CF62D-7F26-423F-BE82-015C2783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5C047-B4E0-4B7A-9076-01442923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C5EB0-C4CF-459E-83F0-42FF5176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C9B43-BDB6-4028-AC1F-B6F8BFCA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7F684-F150-41DA-B3D0-90C982EC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84616-05BA-4235-A3F9-2C6037E2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C8D66-E3A2-43F2-B197-631515C4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58E-9D4E-4E8C-AE20-3E1D03D0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24514-6652-4F01-AAF6-E0F3C043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44596-5EBA-4889-A1E5-8EBC8242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31E0B-0CDE-4914-930D-89646D58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B14C5-1EE4-4005-9E92-5D140D24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5F4A5-D8D7-41AB-824F-47F3AD72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A3950-0638-4CA2-B584-34C78770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EF3F2-D274-46B2-9DE7-012B923D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E2B3A-E2FB-463E-9B05-849E9CA3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7557E-A9B3-4E7F-8EF9-F945CC28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044F-3E34-409A-8511-29607C23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F373-80F4-453F-BF48-E022222E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664-259A-4056-9149-A03E623D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DE8-2E30-4119-9A5D-A1812D80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FE5-0B2B-4F88-8FBB-89DED4E0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ECD7-C6CF-44D6-BB32-E870C941D20B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F748-AF49-43EC-AE98-8B98DFE23CFE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EB4D-13ED-476E-B59F-2AF6B74C4111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96C8-C1FB-4ABD-BEC8-DDF5A69B8167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5"/>
          <p:cNvSpPr txBox="1"/>
          <p:nvPr/>
        </p:nvSpPr>
        <p:spPr>
          <a:xfrm rot="508800">
            <a:off x="2806560" y="2171520"/>
            <a:ext cx="14353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3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3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457200" y="1773360"/>
            <a:ext cx="7859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РУ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Светофорик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2"/>
          <p:cNvSpPr/>
          <p:nvPr/>
        </p:nvSpPr>
        <p:spPr>
          <a:xfrm>
            <a:off x="1908000" y="714240"/>
            <a:ext cx="4751640" cy="64260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ОУ  ДС №14 «Умка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1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325520" cy="211140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2"/>
          <p:cNvSpPr/>
          <p:nvPr/>
        </p:nvSpPr>
        <p:spPr>
          <a:xfrm>
            <a:off x="5364000" y="4403880"/>
            <a:ext cx="2880000" cy="3111480"/>
          </a:xfrm>
          <a:prstGeom prst="rect">
            <a:avLst/>
          </a:pr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сильева О.В.                                                                                                                                                                                        Шакина Н.И.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3" descr=""/>
          <p:cNvPicPr/>
          <p:nvPr/>
        </p:nvPicPr>
        <p:blipFill>
          <a:blip r:embed="rId2"/>
          <a:stretch/>
        </p:blipFill>
        <p:spPr>
          <a:xfrm>
            <a:off x="457200" y="4221000"/>
            <a:ext cx="17748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0"/>
          <p:cNvSpPr/>
          <p:nvPr/>
        </p:nvSpPr>
        <p:spPr>
          <a:xfrm>
            <a:off x="539640" y="981000"/>
            <a:ext cx="7920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зультатам статистики, ежегодно на дорогах нашей страны совершается десятки тысяч дорожно-транспортных происшествий с участием детей. Именно поэтому дорожно-транспортный травматизм остаётся приоритетной проблемой общества, требующей решения при всеобщем участии педагогов, родителей и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взрослый должен знать правила дорожного движения для пеше-ходов и воспитывать дисциплинированных пешеходов в своих детях. Ведь правила дорожного движения едины для детей и взросл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главная задача родителей и педагогов – доступно разъяснить правила ребёнку, а при выборе форм обучения донести до детей смысл, опасность несоблюдения правил, при этом, не исказив их содерж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, чтобы именно при переходе из детского сада в школу, ребёнок мог легко ориентироваться в ближайшем пространственном окружении, умел наблюдать и правильно оценивать дорожные ситуации, владел навыками безопасного поведения в этих ситуац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кружковой деятельности «Светофорик» разработана для того, чтобы дети успешно усвоили правила дорожного движения, узнали для чего надо соблюдать правила дорожного движения, смогли ориентироваться в дорожных ситуациях, на практике применяли свои знания. Программа «Светофорик» – это работа на перспективу. Чем раньше научим детей культуре поведения на дорогах и улицах, тем меньше будет неприятных происшествий на проезжей части у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"/>
          <p:cNvSpPr/>
          <p:nvPr/>
        </p:nvSpPr>
        <p:spPr>
          <a:xfrm>
            <a:off x="1763640" y="5191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496800" y="333360"/>
            <a:ext cx="741672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Цель круж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 навыков осознанного безопасного поведения на улиц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Длите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ковая работа проводится на протяжение всего учебного года один раз в неделю по четвергам во вторую половину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527040" y="1916280"/>
            <a:ext cx="7245360" cy="31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адачи круж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своить дошкольниками первоначальные знания о правилах безопасного поведения на улиц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работать навыки сознательного отношения к соблюдению правил безопасного движения, правил для пассажи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крепить знания о работе светоф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готовить к правильным действиям в сложившейся ситуации на дороге, улиц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1116000" y="260280"/>
            <a:ext cx="698508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ланируемые результаты освоения кру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ознакомить детей со значениями слов: автодорога, проезжая часть, тротуар, пешеходная дорожка, пешеход, пассажир, пешеходный переход, перекресток, светофор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Закрепить  представление о различных видах транспорта, познакомятся с дорожными знаками, с правилами дорожного дви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Активизировать знания родители об особенностях обучения детей правилам безопасного поведения на улицах, в транспор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Сформировать  готовность родителей к сотрудничеству с педагогами сада по проблемам развития у детей навыков безопасного пове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тоговое мероприятие «Лучший плакат по ПД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2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287964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3141720" y="47628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Работа с родителя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1187280" y="1413000"/>
            <a:ext cx="55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л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ки передви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1187280" y="3105000"/>
            <a:ext cx="567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макетов, атрибутов для сюжетно-ролевых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-игровые кон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539640" y="333360"/>
            <a:ext cx="8209080" cy="66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пользуем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разовательные проекты в детском саду. Пособие для воспитателей / Н.А.Виноградова Е.П.Панкова. – М.: Айрис-пресс, 2008г. – (Дошкольное воспитание и развити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ы безопасности жизнедеятельности детей дошкольного возраста. Планирование работы. Беседы. Игры. СПб.: ООО «Издательство «Детство-пресс»,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рская А.В. Правила – наши помощники. Серия демонстрационных картин с методическими рекомендациями по воспитанию и обучению дошкольников безопасному поведению на улицах города: Учебно-наглядное пособие. / Под ред. С.И. Бугрова. – СПб.: «Детство-пресс»,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рутецкая В. Моя первая дорожная азбука в картинках. – СПб.: Издательский дома «Литера», 2012. – (Серия «радуга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щева Н.В. Картотека подвижных игр, упражнений, физкультминуток, пальчиковой гимнастики. – СПб.: Детство-пресс, 2009. – (Кабинет логопе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ющие занятия с детьми 4-5 лет / Под ред. Л.А.Парамоновой. – М.: ОЛМА Медиа Групп,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йорова Ф.С. Изучаем дорожную азбуку. Перспективное планирование. Занятия. Досуг. – «Издательство Скрипторий 2003»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абибуллина Е.Я. Дорожная азбука в детском саду. Конспекты занятий. – СПб.: ООО «Издательство «Детство-пресс», 201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2577960" cy="352908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611280" y="765000"/>
            <a:ext cx="6985080" cy="144000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rebuchet MS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2:42:36Z</dcterms:created>
  <dc:creator>Polzovatel</dc:creator>
  <dc:description/>
  <dc:language>en-US</dc:language>
  <cp:lastModifiedBy>User</cp:lastModifiedBy>
  <dcterms:modified xsi:type="dcterms:W3CDTF">2016-09-02T09:20:12Z</dcterms:modified>
  <cp:revision>40</cp:revision>
  <dc:subject/>
  <dc:title>Муниципальное общеобразовательное учреждение Михайловская средняя школа №1  с.Михайловское Михайловского района Алтайского края</dc:title>
</cp:coreProperties>
</file>