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A0F-E0CD-4065-93B2-247863E3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9097-4A19-42E8-9F26-50DB8DD3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D61C-C86F-4D72-933C-1AECEE91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C974-B60A-48A6-9038-2E9ADF74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7BBE-79BB-4634-8797-E8B573DE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0985-56B9-470E-9795-E4BF84EC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8BC6-F388-4262-B5C6-64DE25E2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AF99-ADE6-41A1-9F9F-19BBCBD9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A8CE-7627-4E7C-A4A4-F9E46853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456A-71E4-4B6A-B54A-BFCEDDC4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66DB-62A9-4DA0-A0BE-59E78092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83DB-2743-4086-8308-6B29F7D8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6B7B-213F-4776-9FE2-C6C831E3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EDCF-8783-4ED0-8D03-5E14019B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5FD9-0117-49C9-9192-E2D78F12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3773-6AA8-4800-99AE-546B1FF7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5DA0-4E55-4A10-8CB6-9D1DF3BA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A1C33-A120-4287-BF49-C4093EDE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D450C-91CF-4867-BE00-260856F8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0192D-92F1-47AA-B107-EE1B7E0D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8350A-8EE0-46AE-B041-CFEAE036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DD393-E559-4006-8A2C-F95DA195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132-544C-46C3-A75D-FF8FEF51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5FA6-B51A-4F0D-BCD5-3B96BCF5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620B0-5BF2-4259-8DF2-01E5D5B9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A3185-6467-4586-A0C5-7F754C6B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DD841-8304-43E9-A8E8-FF917F35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BCC02-EDF4-407B-806D-D34B57DA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59CDF-DE3C-4B0F-92ED-6FF7134E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2A15C-DF62-4B2A-ACCF-30C7073F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7D68A-0232-4DD6-9669-0DEDD530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6DF26-0BD7-41F9-B4AE-494E953C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28F8A-CB4B-4BCC-84A9-1E89436E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86C-5D3C-4F72-B9EC-F3A2FF74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56E84-45CA-4DC0-B2AD-D23AD444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C72E5-AC17-45C2-9262-383A79D8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AE26F-56A4-496B-9966-2D22D41D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66619-D598-4007-8AD2-D8A85E1C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5471A-5F1C-4D20-A872-5EBA65DF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3EB92-615A-4161-970A-E2647357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63DB3-C64D-4260-AC4B-0F0FE185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94F04-7F4E-4431-956D-0C70CC26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54B24-9E2F-471E-ADA9-9F496EFF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F170E-C4D7-4731-A531-40F93980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BFB2-A7E9-469B-AA0F-E7A09927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F66B2-14E7-4280-9B88-07F14DA4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7A02C-5B27-4EC5-859C-01005FD9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9ED49-7C06-451A-B98D-343C9724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2C83C-D4A2-415B-9AD0-1EEC6276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B5DD9-54F0-44AE-B38C-763F5C67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AB9B9-A668-48FA-9D0A-7105CE64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1E278-E212-4281-8EC6-FB9F4D8A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E71C4-0D9F-4A77-89EB-5258A660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E4340-DD4D-4820-AE70-48D18A19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C8D69-1DFE-4767-B7C9-F6063610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351-4718-4119-B175-C5BAC7BA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50CB8-D708-47F1-BE1A-08EDC3B4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75D44-148D-41EE-8384-4C5BA605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9ACC4-45D0-4B54-AD29-4B191823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D4C89-2E38-4F27-83B9-83F9CE4F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112D9-410E-4052-A5D4-DE9B694D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43005-2A88-4639-8EAD-13131FE7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AFA82-1FE1-4128-9BD4-774CC2A2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C0477-37D3-48FF-A912-AB9CC773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339E7-8B27-4BD9-A0C8-3DE6E08C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31DF4-28A1-4769-93CE-8EB68D86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4F26-48CC-40EB-B9A2-A293B774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9156B-B66F-47E7-A61F-D37F467E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7E658-EC95-451D-AC89-342F4995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C4622-6331-4D61-AA8A-2C1557DC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6B976-B4A5-40FD-B2C8-C65072E0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FE73E-EE36-43D1-AC7D-3282C6AF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B2F5F-0EED-4BBA-9BC6-0C9C41CA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996EA-AC68-4745-9661-B61D7EA5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F0910-DE31-4767-91D8-2B82B1DE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60DF9-8C99-4CEC-955C-88D9FEE1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B7331-BDCE-4959-83B8-53C35254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9F3-6B38-4468-B969-848796A7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AD927-0EF3-4A70-A7AB-B37171FA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E1A47-3AC5-4F74-A9B8-D9D9B1DC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2E309-D22A-42E1-B709-3DF19262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91093-99FC-4B61-8A58-7E40CEE7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752C9-1DA9-455D-A7D7-DD1F6750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165C8-9FEE-449E-99F7-7C34BD15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E21B5-4672-457E-B0F2-57E8C66F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35964-A275-4DA0-AD31-34AD791C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D8CB1-740E-4923-9959-0B98A70D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8E2BC-9E03-4FBE-974B-14E66077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CCC-66C8-4687-BF91-F3866EC3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B8953-F672-40ED-B082-143DB240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6363E-C3DB-43F3-9025-A959BEE3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081D1-2FB0-4DD3-A3EA-46513235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8DC18-872D-4129-951D-69D79377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B2894-F34F-4375-AC49-AEEBF5CF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85C30-28A3-4008-A3BB-5F66C416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6C230-9091-4E6A-AB06-B7574C9F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A922-BF0A-41E9-A2E2-2BFFDEA4B7F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B372-EC84-40B8-8C31-234C2C1CC28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2190-129D-44ED-A320-B1DEF31FBE1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3B50-FA85-4368-B49A-DE73723A2CD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B08A-D8C1-401D-BD15-97DC96412FA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C81B-B400-493F-908E-AD63FF8315D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F3E0-12FC-44A7-A36E-709E93C4965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68D6-B8A0-4C0A-AB3A-8EE1B85D229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МБОУ «Липицкая СОШ» филиал Краснопутская НОШ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Учитель :Родина Наталья Михайловн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9" descr="little_raccoon"/>
          <p:cNvPicPr/>
          <p:nvPr/>
        </p:nvPicPr>
        <p:blipFill>
          <a:blip r:embed="rId2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86" name="WordArt 7"/>
          <p:cNvSpPr txBox="1"/>
          <p:nvPr/>
        </p:nvSpPr>
        <p:spPr>
          <a:xfrm>
            <a:off x="539640" y="549360"/>
            <a:ext cx="81727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rnd" w="0">
                  <a:solidFill>
                    <a:srgbClr val="000000"/>
                  </a:solidFill>
                  <a:custDash>
                    <a:ds d="100000" sp="1000"/>
                  </a:custDash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РУЖБА НАЧИНАЕТСЯ С УЛЫБКИ</a:t>
            </a:r>
            <a:endParaRPr b="0" lang="en-US" sz="4000" spc="1" strike="noStrike"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  <a:solidFill>
                <a:srgbClr val="00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ea7c"/>
            </a:gs>
            <a:gs pos="100000">
              <a:srgbClr val="4584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6"/>
          <p:cNvSpPr/>
          <p:nvPr/>
        </p:nvSpPr>
        <p:spPr>
          <a:xfrm>
            <a:off x="4067280" y="465300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388" name="Picture 31" descr="b004_2"/>
          <p:cNvPicPr/>
          <p:nvPr/>
        </p:nvPicPr>
        <p:blipFill>
          <a:blip r:embed="rId1"/>
          <a:stretch/>
        </p:blipFill>
        <p:spPr>
          <a:xfrm>
            <a:off x="2843280" y="3357720"/>
            <a:ext cx="1752480" cy="238104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2"/>
          <p:cNvSpPr/>
          <p:nvPr/>
        </p:nvSpPr>
        <p:spPr>
          <a:xfrm>
            <a:off x="1187280" y="141300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3e87"/>
                </a:solidFill>
                <a:latin typeface="Century"/>
              </a:rPr>
              <a:t>Я желаю тебе…..</a:t>
            </a:r>
            <a:endParaRPr b="0" lang="en-US" sz="7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«Займи позицию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1" name="Picture 12" descr="uvs090405-017"/>
          <p:cNvPicPr/>
          <p:nvPr/>
        </p:nvPicPr>
        <p:blipFill>
          <a:blip r:embed="rId1"/>
          <a:stretch/>
        </p:blipFill>
        <p:spPr>
          <a:xfrm>
            <a:off x="179280" y="2492280"/>
            <a:ext cx="4249800" cy="33987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3" descr="uvs090405-015"/>
          <p:cNvPicPr/>
          <p:nvPr/>
        </p:nvPicPr>
        <p:blipFill>
          <a:blip r:embed="rId2"/>
          <a:stretch/>
        </p:blipFill>
        <p:spPr>
          <a:xfrm>
            <a:off x="4572000" y="2492280"/>
            <a:ext cx="4248000" cy="339732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14"/>
          <p:cNvSpPr/>
          <p:nvPr/>
        </p:nvSpPr>
        <p:spPr>
          <a:xfrm>
            <a:off x="656640" y="1197000"/>
            <a:ext cx="312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Дружба  в классе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НЕ НУЖНА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94" name="Rectangle 15"/>
          <p:cNvSpPr/>
          <p:nvPr/>
        </p:nvSpPr>
        <p:spPr>
          <a:xfrm>
            <a:off x="5267520" y="1197000"/>
            <a:ext cx="30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entury"/>
              </a:rPr>
              <a:t>Дружба в классе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entury"/>
              </a:rPr>
              <a:t>НУЖНА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ndara"/>
              </a:rPr>
              <a:t>«Кто не ищет дружбы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ndara"/>
              </a:rPr>
              <a:t> с близкими, тот себе заклятый враг.»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ndara"/>
              </a:rPr>
              <a:t>             Шота Руставелли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5"/>
          <p:cNvSpPr/>
          <p:nvPr/>
        </p:nvSpPr>
        <p:spPr>
          <a:xfrm>
            <a:off x="1116000" y="26028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5148360" y="83664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98" name="Rectangle 24"/>
          <p:cNvSpPr/>
          <p:nvPr/>
        </p:nvSpPr>
        <p:spPr>
          <a:xfrm>
            <a:off x="0" y="1628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073e87"/>
                </a:solidFill>
                <a:latin typeface="Century"/>
              </a:rPr>
              <a:t>ДРУЖБОЙ</a:t>
            </a:r>
            <a:endParaRPr b="0" lang="en-US" sz="106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073e87"/>
                </a:solidFill>
                <a:latin typeface="Century"/>
              </a:rPr>
              <a:t>ДОРОЖИТЬ</a:t>
            </a:r>
            <a:endParaRPr b="0" lang="en-US" sz="106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073e87"/>
                </a:solidFill>
                <a:latin typeface="Century"/>
              </a:rPr>
              <a:t>УМЕЙТЕ</a:t>
            </a:r>
            <a:endParaRPr b="0" lang="en-US" sz="106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399" name="Picture 27" descr="dog0105"/>
          <p:cNvPicPr/>
          <p:nvPr/>
        </p:nvPicPr>
        <p:blipFill>
          <a:blip r:embed="rId1"/>
          <a:stretch/>
        </p:blipFill>
        <p:spPr>
          <a:xfrm>
            <a:off x="3348000" y="260280"/>
            <a:ext cx="2664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9"/>
          <p:cNvSpPr/>
          <p:nvPr/>
        </p:nvSpPr>
        <p:spPr>
          <a:xfrm>
            <a:off x="324000" y="33336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324000" y="333360"/>
            <a:ext cx="88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2" name="Rectangle 27"/>
          <p:cNvSpPr/>
          <p:nvPr/>
        </p:nvSpPr>
        <p:spPr>
          <a:xfrm>
            <a:off x="539640" y="69228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73e87"/>
                </a:solidFill>
                <a:latin typeface="Century"/>
              </a:rPr>
              <a:t>Друзья должны быть</a:t>
            </a:r>
            <a:r>
              <a:rPr b="1" i="1" lang="en-US" sz="5400" spc="-1" strike="noStrike">
                <a:solidFill>
                  <a:srgbClr val="073e87"/>
                </a:solidFill>
                <a:latin typeface="Century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3" name="Rectangle 28"/>
          <p:cNvSpPr/>
          <p:nvPr/>
        </p:nvSpPr>
        <p:spPr>
          <a:xfrm>
            <a:off x="468360" y="19162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73e87"/>
                </a:solidFill>
                <a:latin typeface="Century"/>
              </a:rPr>
              <a:t>добрыми, справедливыми….</a:t>
            </a:r>
            <a:endParaRPr b="0" lang="en-US" sz="4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4" name="Rectangle 29"/>
          <p:cNvSpPr/>
          <p:nvPr/>
        </p:nvSpPr>
        <p:spPr>
          <a:xfrm>
            <a:off x="395280" y="378936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entury"/>
              </a:rPr>
              <a:t>Друзья не должны быть</a:t>
            </a:r>
            <a:r>
              <a:rPr b="1" i="1" lang="en-US" sz="5400" spc="-1" strike="noStrike">
                <a:solidFill>
                  <a:srgbClr val="000000"/>
                </a:solidFill>
                <a:latin typeface="Century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5" name="Rectangle 30"/>
          <p:cNvSpPr/>
          <p:nvPr/>
        </p:nvSpPr>
        <p:spPr>
          <a:xfrm>
            <a:off x="2843280" y="4869000"/>
            <a:ext cx="58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"/>
              </a:rPr>
              <a:t>злыми, лживыми….</a:t>
            </a:r>
            <a:endParaRPr b="0" lang="en-US" sz="4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406" name="Picture 31" descr="0949"/>
          <p:cNvPicPr/>
          <p:nvPr/>
        </p:nvPicPr>
        <p:blipFill>
          <a:blip r:embed="rId1"/>
          <a:stretch/>
        </p:blipFill>
        <p:spPr>
          <a:xfrm>
            <a:off x="7596360" y="476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4" descr="cartoon_cat"/>
          <p:cNvPicPr/>
          <p:nvPr/>
        </p:nvPicPr>
        <p:blipFill>
          <a:blip r:embed="rId2"/>
          <a:stretch/>
        </p:blipFill>
        <p:spPr>
          <a:xfrm>
            <a:off x="395280" y="5013360"/>
            <a:ext cx="208764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46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116000" y="26028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5148360" y="83664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179280" y="476280"/>
            <a:ext cx="8785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73e87"/>
                </a:solidFill>
                <a:latin typeface="Century"/>
              </a:rPr>
              <a:t>Что для меня было сегодня самым интересным…</a:t>
            </a:r>
            <a:endParaRPr b="0" lang="en-US" sz="48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73e87"/>
                </a:solidFill>
                <a:latin typeface="Century"/>
              </a:rPr>
              <a:t>Что важного для себя я открыл сегодня…</a:t>
            </a:r>
            <a:endParaRPr b="0" lang="en-US" sz="48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73e87"/>
                </a:solidFill>
                <a:latin typeface="Century"/>
              </a:rPr>
              <a:t>Я могу похвалить себя и своих одноклассников за…</a:t>
            </a:r>
            <a:endParaRPr b="0" lang="en-US" sz="4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62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ndara"/>
              </a:rPr>
              <a:t>РЕБЯТА, ДАВАЙТЕ ЖИТЬ ДРУЖНО !!!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3" name="Picture 4" descr="uvs090405-01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Леопольд звук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8520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2:10:04Z</dcterms:created>
  <dc:creator>_</dc:creator>
  <dc:description/>
  <dc:language>en-US</dc:language>
  <cp:lastModifiedBy>777</cp:lastModifiedBy>
  <dcterms:modified xsi:type="dcterms:W3CDTF">2014-11-15T22:24:01Z</dcterms:modified>
  <cp:revision>43</cp:revision>
  <dc:subject/>
  <dc:title>Привитие интереса младших школьников к творчеству  родного народа</dc:title>
</cp:coreProperties>
</file>