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4FC-33FF-44FB-9227-762A2889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E1B6-3A66-4983-98C8-F526A7AB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72E-1536-465B-AD6B-DE937D8E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FA88-FFBA-4D0B-8C82-1EA4CCC9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03FE-799B-47D3-9F3E-7C68E1EB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F036-7E24-4A7C-A6D6-ABC0A187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6617-914C-4FA2-87A2-1B3BB215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B4F4-ACAA-408E-A4CF-9C0A8922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D93E-9B2C-4F12-A0C6-DC7F23BE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E3A9-ACF5-445D-A4C3-F551045D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FCED-ACE9-4798-A9BD-8961F9E5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10E-148C-4979-B6E1-BBA399BC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546B-A7AB-4813-94BB-0A295709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CE54-B347-4451-AD86-AC079A5D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7961-ECC4-4ABE-924E-4BE9F08E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A9D6-9215-4547-8EB1-D089023D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1D0F-089E-4C66-8FDE-6A25006B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96562-15D1-40BB-BA36-50D71BEB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148CE-FF70-4C3E-BF86-82E3C70A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94DF2-7C08-40CF-ABD9-A3747091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8B2B3-3019-4679-B15A-5C68B650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8614D-D9F1-4232-B23F-89CB8C50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26B-6C38-404D-A4A1-66C52556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07F89-D959-4FF1-8DCD-81C86382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F85AE-B9ED-4F28-B578-C337517A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C7ADF-32F4-498F-B02A-CC0E2534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ED73F-3235-4938-9E51-2910A24B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1472D-E960-4A1C-BD6F-014DA016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AC278-0EA7-48EB-B215-19612D2E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AD07B-9868-4B26-9112-7C5B4F16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8F9C5-A7EC-4B2D-A584-EC8DF520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1498E-9B57-46D3-AAC1-4A9E7144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88FAD-4C43-4759-81CF-E8F06D35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9B5-28A1-4984-B0FF-6B9198F8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4B9B8-F4C1-434C-BC30-EDA734AF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A295A-AA30-43CC-A9D8-644FED5C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37F4A-E171-4F72-9CD7-9DFA0596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B3D44-393D-4120-944B-FDAF4FF5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6FC04-07D6-4CF3-AD59-14B4A00D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A06A5-2706-4714-9E92-3716A9F7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B34EF-7284-4407-A71D-A4E7ECCE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636E1-3DDD-4F6B-B277-E0C4FB36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93A57-3C7D-4E82-83A8-4A371598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D385D-A352-4625-B534-964E69E4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F5DB-42F5-48C7-A3FF-206F44E7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AB92C-B06E-481C-90DE-C3B3F56E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C589F-B685-4887-854D-8348680F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0E81F-EB92-4FDC-9AC1-D4E991B3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67930-F318-4864-B674-2D5A3527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2ABF1-FFEC-478A-B0D1-A484DC57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4F0C8-64B6-45EB-936D-0ACBF956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AF3A9-6A53-49D2-929D-09145BA7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CA561-E426-4740-9B8A-963009C6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310D3-827C-4BFE-96A2-81FD8BFA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D49DE-95D1-4AA7-B9CE-81A57CEB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591-139B-4117-9805-14B68C07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8E940-5C1B-46AE-9C31-F9134B16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9C0F0-99F0-46F4-A8FA-4DE17A4B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F4FC1-8ACD-4941-BB0A-27213B61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BC928-6E12-4ABB-8EE9-615B0C41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3FC02-741D-420E-B640-B73A1374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541E0-E25F-4AA5-A9F4-AF205DEF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4D080-8CE2-4D5C-A837-60A3416C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19DC2-FD46-4437-B580-CFAE2EF6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98342-8E0F-4FB6-8186-444DBFDF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0CFD0-B3E4-44F3-93A9-DAA9D4EA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232-C65D-41D2-8D4F-D46ACC11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7C8BD-D2D8-4C27-B2EF-DA464623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4018C-2494-4397-8D74-522CE6F8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82C53-500C-4056-A2AC-E73C2FBC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316B3-19B5-4548-A760-3C1F5A9F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ACEAD-BF19-4292-BB0F-DD182A81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2F1DE-767B-4A3F-AF3E-B7D71DB1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62483-F657-430E-B5A8-FF49CB1F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9F8B9-515B-4DF1-9AC5-C54BDFF9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BFD17-4157-41BD-A40A-EB7B6503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4C386-C7CC-42B8-90F0-A998D7DC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CA2B-BB5F-47FC-A525-FB9C0CBC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B4440-5D05-47B0-804B-0D97BAD1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85CAD-3ED3-45E1-97F6-37015905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602B6-2CB6-440A-AB94-A5BEA585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DF909-391F-47F9-A1B7-AD9146D7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1C6EB-B5ED-4D13-86B3-5476521F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7A6B8-4A8F-43AC-AA98-06540DDC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68285-BC5B-4041-96D6-EEE893A7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62964-1907-44A5-AB5C-5241B0DE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8F818-93D2-4561-90D4-FEE9B334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7E7A6-9A63-4D7F-A192-C1200695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AF92-D003-40A3-9974-10AF9751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FE78F-7341-475A-8C72-300E0C7B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D1459-EEFD-44D4-A072-CBBBC2B1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87534-8FA0-4DCB-9A07-84AA37D9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B3DF2-212F-4F02-A3B1-1D2AC9E0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7BDF2-859A-474D-9DE6-7FC8DCBF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447D7-736C-49CD-AA84-F6BE7CFA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904BB-C852-4CE7-909C-ACD9B61B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F355-7CDA-426F-BAED-A174818BB1A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BC4F-0C3E-40CA-B95B-BF38E32A0BD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16F3-83EF-4C29-8350-EFC9594F814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D0CE-2EC6-4BF0-8383-76ECCEB5015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C30A-FADE-415D-961C-5D4951C4F0C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F6E4-260B-4DEF-BCCC-CCCC3DC1368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88DF-2A60-4768-91A8-ABE7ECAA473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FF60-A3C1-49AF-8FED-FB522E38F4D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МБОУ «Липицкая СОШ» филиал Краснопутская НОШ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Учитель :Родина Наталья Михайловн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9" descr="little_raccoon"/>
          <p:cNvPicPr/>
          <p:nvPr/>
        </p:nvPicPr>
        <p:blipFill>
          <a:blip r:embed="rId2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86" name="WordArt 7"/>
          <p:cNvSpPr txBox="1"/>
          <p:nvPr/>
        </p:nvSpPr>
        <p:spPr>
          <a:xfrm>
            <a:off x="539640" y="549360"/>
            <a:ext cx="81727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rnd" w="0">
                  <a:solidFill>
                    <a:srgbClr val="000000"/>
                  </a:solidFill>
                  <a:custDash>
                    <a:ds d="100000" sp="1000"/>
                  </a:custDash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РУЖБА НАЧИНАЕТСЯ С УЛЫБКИ</a:t>
            </a:r>
            <a:endParaRPr b="0" lang="en-US" sz="4000" spc="1" strike="noStrike"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  <a:solidFill>
                <a:srgbClr val="00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ea7c"/>
            </a:gs>
            <a:gs pos="100000">
              <a:srgbClr val="4584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6"/>
          <p:cNvSpPr/>
          <p:nvPr/>
        </p:nvSpPr>
        <p:spPr>
          <a:xfrm>
            <a:off x="4067280" y="465300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388" name="Picture 31" descr="b004_2"/>
          <p:cNvPicPr/>
          <p:nvPr/>
        </p:nvPicPr>
        <p:blipFill>
          <a:blip r:embed="rId1"/>
          <a:stretch/>
        </p:blipFill>
        <p:spPr>
          <a:xfrm>
            <a:off x="2843280" y="3357720"/>
            <a:ext cx="1752480" cy="238104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2"/>
          <p:cNvSpPr/>
          <p:nvPr/>
        </p:nvSpPr>
        <p:spPr>
          <a:xfrm>
            <a:off x="1187280" y="141300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3e87"/>
                </a:solidFill>
                <a:latin typeface="Century"/>
              </a:rPr>
              <a:t>Я желаю тебе…..</a:t>
            </a:r>
            <a:endParaRPr b="0" lang="en-US" sz="7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«Займи позицию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1" name="Picture 12" descr="uvs090405-017"/>
          <p:cNvPicPr/>
          <p:nvPr/>
        </p:nvPicPr>
        <p:blipFill>
          <a:blip r:embed="rId1"/>
          <a:stretch/>
        </p:blipFill>
        <p:spPr>
          <a:xfrm>
            <a:off x="179280" y="2492280"/>
            <a:ext cx="4249800" cy="33987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3" descr="uvs090405-015"/>
          <p:cNvPicPr/>
          <p:nvPr/>
        </p:nvPicPr>
        <p:blipFill>
          <a:blip r:embed="rId2"/>
          <a:stretch/>
        </p:blipFill>
        <p:spPr>
          <a:xfrm>
            <a:off x="4572000" y="2492280"/>
            <a:ext cx="4248000" cy="339732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14"/>
          <p:cNvSpPr/>
          <p:nvPr/>
        </p:nvSpPr>
        <p:spPr>
          <a:xfrm>
            <a:off x="656640" y="1197000"/>
            <a:ext cx="312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Дружба  в классе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НЕ НУЖНА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94" name="Rectangle 15"/>
          <p:cNvSpPr/>
          <p:nvPr/>
        </p:nvSpPr>
        <p:spPr>
          <a:xfrm>
            <a:off x="5267520" y="1197000"/>
            <a:ext cx="30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entury"/>
              </a:rPr>
              <a:t>Дружба в классе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entury"/>
              </a:rPr>
              <a:t>НУЖНА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ndara"/>
              </a:rPr>
              <a:t>«Кто не ищет дружбы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ndara"/>
              </a:rPr>
              <a:t> с близкими, тот себе заклятый враг.»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ndara"/>
              </a:rPr>
              <a:t>             Шота Руставелли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5"/>
          <p:cNvSpPr/>
          <p:nvPr/>
        </p:nvSpPr>
        <p:spPr>
          <a:xfrm>
            <a:off x="1116000" y="26028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5148360" y="83664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98" name="Rectangle 24"/>
          <p:cNvSpPr/>
          <p:nvPr/>
        </p:nvSpPr>
        <p:spPr>
          <a:xfrm>
            <a:off x="0" y="1628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073e87"/>
                </a:solidFill>
                <a:latin typeface="Century"/>
              </a:rPr>
              <a:t>ДРУЖБОЙ</a:t>
            </a:r>
            <a:endParaRPr b="0" lang="en-US" sz="106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073e87"/>
                </a:solidFill>
                <a:latin typeface="Century"/>
              </a:rPr>
              <a:t>ДОРОЖИТЬ</a:t>
            </a:r>
            <a:endParaRPr b="0" lang="en-US" sz="106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073e87"/>
                </a:solidFill>
                <a:latin typeface="Century"/>
              </a:rPr>
              <a:t>УМЕЙТЕ</a:t>
            </a:r>
            <a:endParaRPr b="0" lang="en-US" sz="106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399" name="Picture 27" descr="dog0105"/>
          <p:cNvPicPr/>
          <p:nvPr/>
        </p:nvPicPr>
        <p:blipFill>
          <a:blip r:embed="rId1"/>
          <a:stretch/>
        </p:blipFill>
        <p:spPr>
          <a:xfrm>
            <a:off x="3348000" y="260280"/>
            <a:ext cx="2664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9"/>
          <p:cNvSpPr/>
          <p:nvPr/>
        </p:nvSpPr>
        <p:spPr>
          <a:xfrm>
            <a:off x="324000" y="33336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324000" y="333360"/>
            <a:ext cx="88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2" name="Rectangle 27"/>
          <p:cNvSpPr/>
          <p:nvPr/>
        </p:nvSpPr>
        <p:spPr>
          <a:xfrm>
            <a:off x="539640" y="69228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73e87"/>
                </a:solidFill>
                <a:latin typeface="Century"/>
              </a:rPr>
              <a:t>Друзья должны быть</a:t>
            </a:r>
            <a:r>
              <a:rPr b="1" i="1" lang="en-US" sz="5400" spc="-1" strike="noStrike">
                <a:solidFill>
                  <a:srgbClr val="073e87"/>
                </a:solidFill>
                <a:latin typeface="Century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3" name="Rectangle 28"/>
          <p:cNvSpPr/>
          <p:nvPr/>
        </p:nvSpPr>
        <p:spPr>
          <a:xfrm>
            <a:off x="468360" y="19162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73e87"/>
                </a:solidFill>
                <a:latin typeface="Century"/>
              </a:rPr>
              <a:t>добрыми, справедливыми….</a:t>
            </a:r>
            <a:endParaRPr b="0" lang="en-US" sz="4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4" name="Rectangle 29"/>
          <p:cNvSpPr/>
          <p:nvPr/>
        </p:nvSpPr>
        <p:spPr>
          <a:xfrm>
            <a:off x="395280" y="378936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entury"/>
              </a:rPr>
              <a:t>Друзья не должны быть</a:t>
            </a:r>
            <a:r>
              <a:rPr b="1" i="1" lang="en-US" sz="5400" spc="-1" strike="noStrike">
                <a:solidFill>
                  <a:srgbClr val="000000"/>
                </a:solidFill>
                <a:latin typeface="Century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5" name="Rectangle 30"/>
          <p:cNvSpPr/>
          <p:nvPr/>
        </p:nvSpPr>
        <p:spPr>
          <a:xfrm>
            <a:off x="2843280" y="4869000"/>
            <a:ext cx="58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"/>
              </a:rPr>
              <a:t>злыми, лживыми….</a:t>
            </a:r>
            <a:endParaRPr b="0" lang="en-US" sz="4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406" name="Picture 31" descr="0949"/>
          <p:cNvPicPr/>
          <p:nvPr/>
        </p:nvPicPr>
        <p:blipFill>
          <a:blip r:embed="rId1"/>
          <a:stretch/>
        </p:blipFill>
        <p:spPr>
          <a:xfrm>
            <a:off x="7596360" y="476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4" descr="cartoon_cat"/>
          <p:cNvPicPr/>
          <p:nvPr/>
        </p:nvPicPr>
        <p:blipFill>
          <a:blip r:embed="rId2"/>
          <a:stretch/>
        </p:blipFill>
        <p:spPr>
          <a:xfrm>
            <a:off x="395280" y="5013360"/>
            <a:ext cx="208764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46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116000" y="26028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5148360" y="83664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179280" y="476280"/>
            <a:ext cx="8785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73e87"/>
                </a:solidFill>
                <a:latin typeface="Century"/>
              </a:rPr>
              <a:t>Что для меня было сегодня самым интересным…</a:t>
            </a:r>
            <a:endParaRPr b="0" lang="en-US" sz="48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73e87"/>
                </a:solidFill>
                <a:latin typeface="Century"/>
              </a:rPr>
              <a:t>Что важного для себя я открыл сегодня…</a:t>
            </a:r>
            <a:endParaRPr b="0" lang="en-US" sz="48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73e87"/>
                </a:solidFill>
                <a:latin typeface="Century"/>
              </a:rPr>
              <a:t>Я могу похвалить себя и своих одноклассников за…</a:t>
            </a:r>
            <a:endParaRPr b="0" lang="en-US" sz="4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62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ndara"/>
              </a:rPr>
              <a:t>РЕБЯТА, ДАВАЙТЕ ЖИТЬ ДРУЖНО !!!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3" name="Picture 4" descr="uvs090405-01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Леопольд звук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8520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2:10:04Z</dcterms:created>
  <dc:creator>_</dc:creator>
  <dc:description/>
  <dc:language>en-US</dc:language>
  <cp:lastModifiedBy>777</cp:lastModifiedBy>
  <dcterms:modified xsi:type="dcterms:W3CDTF">2014-11-15T22:24:01Z</dcterms:modified>
  <cp:revision>43</cp:revision>
  <dc:subject/>
  <dc:title>Привитие интереса младших школьников к творчеству  родного народа</dc:title>
</cp:coreProperties>
</file>