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38EB-1D1B-49A5-BA7E-C2B95FAE27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7F71-C479-476C-8FE9-9E3042500E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4CEA-0E53-41DF-8185-EFCBA3AC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7A51-72CD-4095-A039-1AC11CBF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638D-9432-4DAD-8388-3240ABDD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DAA6-7E7F-492A-BD35-58D710B6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BE9C-CC12-4CD1-A7B3-D1963505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404A-FD72-47A4-B31D-67C8309D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145B-B6FD-4E71-A082-8F535ECC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B0FA-02DB-4833-BEAF-BE678F62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1322-F79E-4F5A-A161-6E8294A3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C131-CE03-4EFD-8416-EAE1077A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694C-180A-481D-B764-BCCB7022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020A-23CE-476B-AC07-94B0B731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0511-9749-48EF-A07B-45A4208D9B91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уга 3"/>
          <p:cNvSpPr/>
          <p:nvPr/>
        </p:nvSpPr>
        <p:spPr>
          <a:xfrm>
            <a:off x="2631960" y="1876320"/>
            <a:ext cx="3659400" cy="1363680"/>
          </a:xfrm>
          <a:custGeom>
            <a:avLst/>
            <a:gdLst/>
            <a:ahLst/>
            <a:rect l="l" t="t" r="r" b="b"/>
            <a:pathLst>
              <a:path stroke="0" w="3659878" h="1363121">
                <a:moveTo>
                  <a:pt x="45551" y="530437"/>
                </a:moveTo>
                <a:cubicBezTo>
                  <a:pt x="237374" y="216246"/>
                  <a:pt x="993739" y="-4988"/>
                  <a:pt x="1858745" y="84"/>
                </a:cubicBezTo>
                <a:cubicBezTo>
                  <a:pt x="2858037" y="5944"/>
                  <a:pt x="3659878" y="309328"/>
                  <a:pt x="3659878" y="681561"/>
                </a:cubicBezTo>
                <a:lnTo>
                  <a:pt x="1829939" y="681561"/>
                </a:lnTo>
                <a:lnTo>
                  <a:pt x="45551" y="530437"/>
                </a:lnTo>
                <a:close/>
              </a:path>
              <a:path fill="none" w="3659878" h="1363121">
                <a:moveTo>
                  <a:pt x="45551" y="530437"/>
                </a:moveTo>
                <a:cubicBezTo>
                  <a:pt x="237374" y="216246"/>
                  <a:pt x="993739" y="-4988"/>
                  <a:pt x="1858745" y="84"/>
                </a:cubicBezTo>
                <a:cubicBezTo>
                  <a:pt x="2858037" y="5944"/>
                  <a:pt x="3659878" y="309328"/>
                  <a:pt x="3659878" y="68156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9" name="Овал 2"/>
          <p:cNvGrpSpPr/>
          <p:nvPr/>
        </p:nvGrpSpPr>
        <p:grpSpPr>
          <a:xfrm>
            <a:off x="2620800" y="695160"/>
            <a:ext cx="3676680" cy="3638880"/>
            <a:chOff x="2620800" y="695160"/>
            <a:chExt cx="3676680" cy="3638880"/>
          </a:xfrm>
        </p:grpSpPr>
        <p:pic>
          <p:nvPicPr>
            <p:cNvPr id="50" name="Овал 2" descr=""/>
            <p:cNvPicPr/>
            <p:nvPr/>
          </p:nvPicPr>
          <p:blipFill>
            <a:blip r:embed="rId1"/>
            <a:stretch/>
          </p:blipFill>
          <p:spPr>
            <a:xfrm>
              <a:off x="2620800" y="695160"/>
              <a:ext cx="3676680" cy="36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164040" y="1230480"/>
              <a:ext cx="2584440" cy="25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2" name="Прямая соединительная линия 1"/>
          <p:cNvSpPr/>
          <p:nvPr/>
        </p:nvSpPr>
        <p:spPr>
          <a:xfrm>
            <a:off x="4502160" y="2509920"/>
            <a:ext cx="1789200" cy="48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Дуга 4"/>
          <p:cNvSpPr/>
          <p:nvPr/>
        </p:nvSpPr>
        <p:spPr>
          <a:xfrm rot="10800000">
            <a:off x="2647440" y="1768320"/>
            <a:ext cx="3667320" cy="1346400"/>
          </a:xfrm>
          <a:custGeom>
            <a:avLst/>
            <a:gdLst/>
            <a:ahLst/>
            <a:rect l="l" t="t" r="r" b="b"/>
            <a:pathLst>
              <a:path stroke="0" w="3667127" h="1346433">
                <a:moveTo>
                  <a:pt x="46915" y="521901"/>
                </a:moveTo>
                <a:cubicBezTo>
                  <a:pt x="241231" y="212598"/>
                  <a:pt x="997588" y="-4846"/>
                  <a:pt x="1862018" y="80"/>
                </a:cubicBezTo>
                <a:cubicBezTo>
                  <a:pt x="2863453" y="5787"/>
                  <a:pt x="3667129" y="305482"/>
                  <a:pt x="3667128" y="673216"/>
                </a:cubicBezTo>
                <a:lnTo>
                  <a:pt x="1833564" y="673217"/>
                </a:lnTo>
                <a:lnTo>
                  <a:pt x="46915" y="521901"/>
                </a:lnTo>
                <a:close/>
              </a:path>
              <a:path fill="none" w="3667127" h="1346433">
                <a:moveTo>
                  <a:pt x="46915" y="521901"/>
                </a:moveTo>
                <a:cubicBezTo>
                  <a:pt x="241231" y="212598"/>
                  <a:pt x="997588" y="-4846"/>
                  <a:pt x="1862018" y="80"/>
                </a:cubicBezTo>
                <a:cubicBezTo>
                  <a:pt x="2863453" y="5787"/>
                  <a:pt x="3667129" y="305482"/>
                  <a:pt x="3667128" y="67321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Скругленный прямоугольник 1"/>
          <p:cNvSpPr/>
          <p:nvPr/>
        </p:nvSpPr>
        <p:spPr>
          <a:xfrm>
            <a:off x="546120" y="987480"/>
            <a:ext cx="8077320" cy="180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2009880" y="1125360"/>
            <a:ext cx="638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Теорема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6" name="Прямоугольник 4" descr=""/>
          <p:cNvPicPr/>
          <p:nvPr/>
        </p:nvPicPr>
        <p:blipFill>
          <a:blip r:embed="rId1"/>
          <a:stretch/>
        </p:blipFill>
        <p:spPr>
          <a:xfrm>
            <a:off x="981000" y="2066760"/>
            <a:ext cx="6900840" cy="762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31720" y="969840"/>
            <a:ext cx="1144800" cy="10908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3"/>
          <a:stretch/>
        </p:blipFill>
        <p:spPr>
          <a:xfrm>
            <a:off x="3193920" y="3279600"/>
            <a:ext cx="2779920" cy="118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Скругленный прямоугольник 1"/>
          <p:cNvSpPr/>
          <p:nvPr/>
        </p:nvSpPr>
        <p:spPr>
          <a:xfrm>
            <a:off x="600120" y="488880"/>
            <a:ext cx="7932600" cy="1003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63640" y="5205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Теорем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" name="Прямоугольник 4" descr=""/>
          <p:cNvPicPr/>
          <p:nvPr/>
        </p:nvPicPr>
        <p:blipFill>
          <a:blip r:embed="rId1"/>
          <a:stretch/>
        </p:blipFill>
        <p:spPr>
          <a:xfrm>
            <a:off x="1712880" y="957240"/>
            <a:ext cx="6602400" cy="511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490680" y="473040"/>
            <a:ext cx="1082520" cy="1031760"/>
          </a:xfrm>
          <a:prstGeom prst="rect">
            <a:avLst/>
          </a:prstGeom>
          <a:ln w="0">
            <a:noFill/>
          </a:ln>
        </p:spPr>
      </p:pic>
      <p:sp>
        <p:nvSpPr>
          <p:cNvPr id="63" name="TextBox 27"/>
          <p:cNvSpPr/>
          <p:nvPr/>
        </p:nvSpPr>
        <p:spPr>
          <a:xfrm>
            <a:off x="392760" y="151272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  <a:ea typeface="Cambria Math"/>
              </a:rPr>
              <a:t>Дано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Cambria Math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TextBox 26"/>
          <p:cNvSpPr/>
          <p:nvPr/>
        </p:nvSpPr>
        <p:spPr>
          <a:xfrm>
            <a:off x="351000" y="202104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— 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радиус шар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5" name="TextBox 58" descr=""/>
          <p:cNvPicPr/>
          <p:nvPr/>
        </p:nvPicPr>
        <p:blipFill>
          <a:blip r:embed="rId3"/>
          <a:stretch/>
        </p:blipFill>
        <p:spPr>
          <a:xfrm>
            <a:off x="371520" y="2243160"/>
            <a:ext cx="2060640" cy="433440"/>
          </a:xfrm>
          <a:prstGeom prst="rect">
            <a:avLst/>
          </a:prstGeom>
          <a:ln w="0">
            <a:noFill/>
          </a:ln>
        </p:spPr>
      </p:pic>
      <p:sp>
        <p:nvSpPr>
          <p:cNvPr id="66" name="TextBox 59"/>
          <p:cNvSpPr/>
          <p:nvPr/>
        </p:nvSpPr>
        <p:spPr>
          <a:xfrm>
            <a:off x="387720" y="1792440"/>
            <a:ext cx="5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шар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TextBox 60"/>
          <p:cNvSpPr/>
          <p:nvPr/>
        </p:nvSpPr>
        <p:spPr>
          <a:xfrm>
            <a:off x="409680" y="2766960"/>
            <a:ext cx="28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Проведём ось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OX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через центр шар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TextBox 65"/>
          <p:cNvSpPr/>
          <p:nvPr/>
        </p:nvSpPr>
        <p:spPr>
          <a:xfrm>
            <a:off x="339480" y="2517840"/>
            <a:ext cx="19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  <a:ea typeface="Cambria Math"/>
              </a:rPr>
              <a:t>Доказательство: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TextBox 97"/>
          <p:cNvSpPr/>
          <p:nvPr/>
        </p:nvSpPr>
        <p:spPr>
          <a:xfrm>
            <a:off x="409680" y="4106880"/>
            <a:ext cx="207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OP = x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PQ 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OQ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TextBox 99"/>
          <p:cNvSpPr/>
          <p:nvPr/>
        </p:nvSpPr>
        <p:spPr>
          <a:xfrm>
            <a:off x="433440" y="4597560"/>
            <a:ext cx="25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S = </a:t>
            </a:r>
            <a:r>
              <a:rPr b="0" lang="el-GR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π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⇒ S(x) = </a:t>
            </a:r>
            <a:r>
              <a:rPr b="0" lang="el-GR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π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— 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)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1" name="TextBox 100" descr=""/>
          <p:cNvPicPr/>
          <p:nvPr/>
        </p:nvPicPr>
        <p:blipFill>
          <a:blip r:embed="rId4"/>
          <a:stretch/>
        </p:blipFill>
        <p:spPr>
          <a:xfrm>
            <a:off x="3481560" y="2809800"/>
            <a:ext cx="2511360" cy="1622520"/>
          </a:xfrm>
          <a:prstGeom prst="rect">
            <a:avLst/>
          </a:prstGeom>
          <a:ln w="0">
            <a:noFill/>
          </a:ln>
        </p:spPr>
      </p:pic>
      <p:sp>
        <p:nvSpPr>
          <p:cNvPr id="72" name="TextBox 14"/>
          <p:cNvSpPr/>
          <p:nvPr/>
        </p:nvSpPr>
        <p:spPr>
          <a:xfrm>
            <a:off x="3394800" y="4640400"/>
            <a:ext cx="180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Теорема доказан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Прямоугольник 62"/>
          <p:cNvSpPr/>
          <p:nvPr/>
        </p:nvSpPr>
        <p:spPr>
          <a:xfrm>
            <a:off x="415800" y="3216240"/>
            <a:ext cx="293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Проведём сечение через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 ∈ OX 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и ⏊ к оси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OX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Прямоугольник 63"/>
          <p:cNvSpPr/>
          <p:nvPr/>
        </p:nvSpPr>
        <p:spPr>
          <a:xfrm>
            <a:off x="415800" y="3657600"/>
            <a:ext cx="296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Найдём зависимость площади сечения 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 от значения 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5" name="Прямоугольник 18" descr=""/>
          <p:cNvPicPr/>
          <p:nvPr/>
        </p:nvPicPr>
        <p:blipFill>
          <a:blip r:embed="rId5"/>
          <a:stretch/>
        </p:blipFill>
        <p:spPr>
          <a:xfrm>
            <a:off x="3481560" y="3790800"/>
            <a:ext cx="2511360" cy="433440"/>
          </a:xfrm>
          <a:prstGeom prst="rect">
            <a:avLst/>
          </a:prstGeom>
          <a:ln w="0">
            <a:noFill/>
          </a:ln>
        </p:spPr>
      </p:pic>
      <p:sp>
        <p:nvSpPr>
          <p:cNvPr id="76" name="Дуга 73"/>
          <p:cNvSpPr/>
          <p:nvPr/>
        </p:nvSpPr>
        <p:spPr>
          <a:xfrm>
            <a:off x="6229440" y="2668680"/>
            <a:ext cx="2070000" cy="771480"/>
          </a:xfrm>
          <a:custGeom>
            <a:avLst/>
            <a:gdLst/>
            <a:ahLst/>
            <a:rect l="l" t="t" r="r" b="b"/>
            <a:pathLst>
              <a:path stroke="0" w="2069183" h="770667">
                <a:moveTo>
                  <a:pt x="25753" y="299893"/>
                </a:moveTo>
                <a:cubicBezTo>
                  <a:pt x="134204" y="122259"/>
                  <a:pt x="561830" y="-2820"/>
                  <a:pt x="1050878" y="47"/>
                </a:cubicBezTo>
                <a:cubicBezTo>
                  <a:pt x="1615848" y="3360"/>
                  <a:pt x="2069184" y="174884"/>
                  <a:pt x="2069184" y="385334"/>
                </a:cubicBezTo>
                <a:lnTo>
                  <a:pt x="1034592" y="385334"/>
                </a:lnTo>
                <a:lnTo>
                  <a:pt x="25753" y="299893"/>
                </a:lnTo>
                <a:close/>
              </a:path>
              <a:path fill="none" w="2069183" h="770667">
                <a:moveTo>
                  <a:pt x="25753" y="299893"/>
                </a:moveTo>
                <a:cubicBezTo>
                  <a:pt x="134204" y="122259"/>
                  <a:pt x="561830" y="-2820"/>
                  <a:pt x="1050878" y="47"/>
                </a:cubicBezTo>
                <a:cubicBezTo>
                  <a:pt x="1615848" y="3360"/>
                  <a:pt x="2069184" y="174884"/>
                  <a:pt x="2069184" y="38533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Полилиния 31"/>
          <p:cNvSpPr/>
          <p:nvPr/>
        </p:nvSpPr>
        <p:spPr>
          <a:xfrm>
            <a:off x="6561000" y="2303640"/>
            <a:ext cx="701640" cy="731520"/>
          </a:xfrm>
          <a:custGeom>
            <a:avLst/>
            <a:gdLst/>
            <a:ahLst/>
            <a:rect l="l" t="t" r="r" b="b"/>
            <a:pathLst>
              <a:path w="925198" h="966960">
                <a:moveTo>
                  <a:pt x="0" y="2902"/>
                </a:moveTo>
                <a:lnTo>
                  <a:pt x="925146" y="0"/>
                </a:lnTo>
                <a:cubicBezTo>
                  <a:pt x="921904" y="324255"/>
                  <a:pt x="927369" y="642705"/>
                  <a:pt x="924127" y="966960"/>
                </a:cubicBezTo>
                <a:lnTo>
                  <a:pt x="0" y="2902"/>
                </a:lnTo>
                <a:close/>
              </a:path>
            </a:pathLst>
          </a:custGeom>
          <a:solidFill>
            <a:srgbClr val="ffc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Овал 86"/>
          <p:cNvSpPr/>
          <p:nvPr/>
        </p:nvSpPr>
        <p:spPr>
          <a:xfrm>
            <a:off x="6227640" y="2003400"/>
            <a:ext cx="2067120" cy="20462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Дуга 90"/>
          <p:cNvSpPr/>
          <p:nvPr/>
        </p:nvSpPr>
        <p:spPr>
          <a:xfrm rot="10800000">
            <a:off x="6238440" y="2608200"/>
            <a:ext cx="2073240" cy="760320"/>
          </a:xfrm>
          <a:custGeom>
            <a:avLst/>
            <a:gdLst/>
            <a:ahLst/>
            <a:rect l="l" t="t" r="r" b="b"/>
            <a:pathLst>
              <a:path stroke="0" w="2073282" h="761232">
                <a:moveTo>
                  <a:pt x="26524" y="295067"/>
                </a:moveTo>
                <a:cubicBezTo>
                  <a:pt x="136385" y="120197"/>
                  <a:pt x="564006" y="-2739"/>
                  <a:pt x="1052728" y="46"/>
                </a:cubicBezTo>
                <a:cubicBezTo>
                  <a:pt x="1618909" y="3272"/>
                  <a:pt x="2073283" y="172711"/>
                  <a:pt x="2073282" y="380616"/>
                </a:cubicBezTo>
                <a:lnTo>
                  <a:pt x="1036641" y="380616"/>
                </a:lnTo>
                <a:lnTo>
                  <a:pt x="26524" y="295067"/>
                </a:lnTo>
                <a:close/>
              </a:path>
              <a:path fill="none" w="2073282" h="761232">
                <a:moveTo>
                  <a:pt x="26524" y="295067"/>
                </a:moveTo>
                <a:cubicBezTo>
                  <a:pt x="136385" y="120197"/>
                  <a:pt x="564006" y="-2739"/>
                  <a:pt x="1052728" y="46"/>
                </a:cubicBezTo>
                <a:cubicBezTo>
                  <a:pt x="1618909" y="3272"/>
                  <a:pt x="2073283" y="172711"/>
                  <a:pt x="2073282" y="38061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80" name="Группа 5"/>
          <p:cNvGrpSpPr/>
          <p:nvPr/>
        </p:nvGrpSpPr>
        <p:grpSpPr>
          <a:xfrm>
            <a:off x="6546960" y="2087640"/>
            <a:ext cx="1441440" cy="450720"/>
            <a:chOff x="6546960" y="2087640"/>
            <a:chExt cx="1441440" cy="450720"/>
          </a:xfrm>
        </p:grpSpPr>
        <p:sp>
          <p:nvSpPr>
            <p:cNvPr id="81" name="Дуга 92"/>
            <p:cNvSpPr/>
            <p:nvPr/>
          </p:nvSpPr>
          <p:spPr>
            <a:xfrm>
              <a:off x="6546960" y="2120760"/>
              <a:ext cx="1432080" cy="417600"/>
            </a:xfrm>
            <a:custGeom>
              <a:avLst/>
              <a:gdLst/>
              <a:ahLst/>
              <a:rect l="l" t="t" r="r" b="b"/>
              <a:pathLst>
                <a:path stroke="0" w="2730907" h="1017126">
                  <a:moveTo>
                    <a:pt x="33989" y="395798"/>
                  </a:moveTo>
                  <a:cubicBezTo>
                    <a:pt x="177123" y="161357"/>
                    <a:pt x="741503" y="-3722"/>
                    <a:pt x="1386948" y="63"/>
                  </a:cubicBezTo>
                  <a:cubicBezTo>
                    <a:pt x="2132595" y="4435"/>
                    <a:pt x="2730908" y="230813"/>
                    <a:pt x="2730907" y="508563"/>
                  </a:cubicBezTo>
                  <a:lnTo>
                    <a:pt x="1365454" y="508563"/>
                  </a:lnTo>
                  <a:lnTo>
                    <a:pt x="33989" y="395798"/>
                  </a:lnTo>
                  <a:close/>
                </a:path>
                <a:path fill="none" w="2730907" h="1017126">
                  <a:moveTo>
                    <a:pt x="33989" y="395798"/>
                  </a:moveTo>
                  <a:cubicBezTo>
                    <a:pt x="177123" y="161357"/>
                    <a:pt x="741503" y="-3722"/>
                    <a:pt x="1386948" y="63"/>
                  </a:cubicBezTo>
                  <a:cubicBezTo>
                    <a:pt x="2132595" y="4435"/>
                    <a:pt x="2730908" y="230813"/>
                    <a:pt x="2730907" y="5085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82" name="Дуга 93"/>
            <p:cNvSpPr/>
            <p:nvPr/>
          </p:nvSpPr>
          <p:spPr>
            <a:xfrm rot="10800000">
              <a:off x="6553440" y="2087640"/>
              <a:ext cx="1434960" cy="412560"/>
            </a:xfrm>
            <a:custGeom>
              <a:avLst/>
              <a:gdLst/>
              <a:ahLst/>
              <a:rect l="l" t="t" r="r" b="b"/>
              <a:pathLst>
                <a:path stroke="0" w="2736316" h="1004675">
                  <a:moveTo>
                    <a:pt x="949" y="483626"/>
                  </a:moveTo>
                  <a:cubicBezTo>
                    <a:pt x="28405" y="213172"/>
                    <a:pt x="634482" y="-679"/>
                    <a:pt x="1371595" y="1"/>
                  </a:cubicBezTo>
                  <a:cubicBezTo>
                    <a:pt x="2125864" y="697"/>
                    <a:pt x="2736316" y="225397"/>
                    <a:pt x="2736316" y="502338"/>
                  </a:cubicBezTo>
                  <a:lnTo>
                    <a:pt x="1368158" y="502338"/>
                  </a:lnTo>
                  <a:lnTo>
                    <a:pt x="949" y="483626"/>
                  </a:lnTo>
                  <a:close/>
                </a:path>
                <a:path fill="none" w="2736316" h="1004675">
                  <a:moveTo>
                    <a:pt x="949" y="483626"/>
                  </a:moveTo>
                  <a:cubicBezTo>
                    <a:pt x="28405" y="213172"/>
                    <a:pt x="634482" y="-679"/>
                    <a:pt x="1371595" y="1"/>
                  </a:cubicBezTo>
                  <a:cubicBezTo>
                    <a:pt x="2125864" y="697"/>
                    <a:pt x="2736316" y="225397"/>
                    <a:pt x="2736316" y="50233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83" name="Группа 6"/>
          <p:cNvGrpSpPr/>
          <p:nvPr/>
        </p:nvGrpSpPr>
        <p:grpSpPr>
          <a:xfrm>
            <a:off x="7261200" y="1792440"/>
            <a:ext cx="0" cy="2585880"/>
            <a:chOff x="7261200" y="1792440"/>
            <a:chExt cx="0" cy="2585880"/>
          </a:xfrm>
        </p:grpSpPr>
        <p:sp>
          <p:nvSpPr>
            <p:cNvPr id="84" name="Прямая соединительная линия 7"/>
            <p:cNvSpPr/>
            <p:nvPr/>
          </p:nvSpPr>
          <p:spPr>
            <a:xfrm>
              <a:off x="7261200" y="2120400"/>
              <a:ext cx="0" cy="1929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85" name="Прямая соединительная линия 15"/>
            <p:cNvSpPr/>
            <p:nvPr/>
          </p:nvSpPr>
          <p:spPr>
            <a:xfrm>
              <a:off x="7261200" y="4050360"/>
              <a:ext cx="0" cy="32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86" name="Прямая соединительная линия 95"/>
            <p:cNvSpPr/>
            <p:nvPr/>
          </p:nvSpPr>
          <p:spPr>
            <a:xfrm>
              <a:off x="7261200" y="1792440"/>
              <a:ext cx="0" cy="32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87" name="Прямая соединительная линия 19"/>
          <p:cNvSpPr/>
          <p:nvPr/>
        </p:nvSpPr>
        <p:spPr>
          <a:xfrm>
            <a:off x="6531120" y="2303640"/>
            <a:ext cx="698400" cy="2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Прямая соединительная линия 21"/>
          <p:cNvSpPr/>
          <p:nvPr/>
        </p:nvSpPr>
        <p:spPr>
          <a:xfrm>
            <a:off x="6553080" y="2293920"/>
            <a:ext cx="717840" cy="746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TextBox 34"/>
          <p:cNvSpPr/>
          <p:nvPr/>
        </p:nvSpPr>
        <p:spPr>
          <a:xfrm>
            <a:off x="7238160" y="17017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TextBox 36"/>
          <p:cNvSpPr/>
          <p:nvPr/>
        </p:nvSpPr>
        <p:spPr>
          <a:xfrm>
            <a:off x="7277040" y="2168640"/>
            <a:ext cx="2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TextBox 38"/>
          <p:cNvSpPr/>
          <p:nvPr/>
        </p:nvSpPr>
        <p:spPr>
          <a:xfrm>
            <a:off x="6868080" y="20620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TextBox 41"/>
          <p:cNvSpPr/>
          <p:nvPr/>
        </p:nvSpPr>
        <p:spPr>
          <a:xfrm>
            <a:off x="6266520" y="20224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TextBox 98"/>
          <p:cNvSpPr/>
          <p:nvPr/>
        </p:nvSpPr>
        <p:spPr>
          <a:xfrm>
            <a:off x="6736320" y="2719440"/>
            <a:ext cx="2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TextBox 101"/>
          <p:cNvSpPr/>
          <p:nvPr/>
        </p:nvSpPr>
        <p:spPr>
          <a:xfrm>
            <a:off x="7272720" y="2643120"/>
            <a:ext cx="2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TextBox 102"/>
          <p:cNvSpPr/>
          <p:nvPr/>
        </p:nvSpPr>
        <p:spPr>
          <a:xfrm>
            <a:off x="7265160" y="30272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6" name="TextBox 103" descr=""/>
          <p:cNvPicPr/>
          <p:nvPr/>
        </p:nvPicPr>
        <p:blipFill>
          <a:blip r:embed="rId6"/>
          <a:stretch/>
        </p:blipFill>
        <p:spPr>
          <a:xfrm>
            <a:off x="420840" y="4327560"/>
            <a:ext cx="2962080" cy="40320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43" descr=""/>
          <p:cNvPicPr/>
          <p:nvPr/>
        </p:nvPicPr>
        <p:blipFill>
          <a:blip r:embed="rId7"/>
          <a:stretch/>
        </p:blipFill>
        <p:spPr>
          <a:xfrm>
            <a:off x="3486240" y="4170240"/>
            <a:ext cx="884160" cy="432000"/>
          </a:xfrm>
          <a:prstGeom prst="rect">
            <a:avLst/>
          </a:prstGeom>
          <a:ln w="0">
            <a:noFill/>
          </a:ln>
        </p:spPr>
      </p:pic>
      <p:sp>
        <p:nvSpPr>
          <p:cNvPr id="98" name="Овал 2"/>
          <p:cNvSpPr/>
          <p:nvPr/>
        </p:nvSpPr>
        <p:spPr>
          <a:xfrm>
            <a:off x="7227720" y="3009960"/>
            <a:ext cx="65160" cy="66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Овал 44"/>
          <p:cNvSpPr/>
          <p:nvPr/>
        </p:nvSpPr>
        <p:spPr>
          <a:xfrm>
            <a:off x="7229520" y="2273400"/>
            <a:ext cx="65160" cy="65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00" name="TextBox 46" descr=""/>
          <p:cNvPicPr/>
          <p:nvPr/>
        </p:nvPicPr>
        <p:blipFill>
          <a:blip r:embed="rId8"/>
          <a:stretch/>
        </p:blipFill>
        <p:spPr>
          <a:xfrm>
            <a:off x="2182680" y="2176560"/>
            <a:ext cx="1292400" cy="13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2"/>
          <p:cNvSpPr/>
          <p:nvPr/>
        </p:nvSpPr>
        <p:spPr>
          <a:xfrm>
            <a:off x="355680" y="8892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  <a:ea typeface="Cambria Math"/>
              </a:rPr>
              <a:t>Задача</a:t>
            </a:r>
            <a:r>
              <a:rPr b="1" lang="en-US" sz="2800" spc="-1" strike="noStrike">
                <a:solidFill>
                  <a:srgbClr val="ff0000"/>
                </a:solidFill>
                <a:latin typeface="Cambria"/>
                <a:ea typeface="Cambria Math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361800" y="50004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Cambria Math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TextBox 24"/>
          <p:cNvSpPr/>
          <p:nvPr/>
        </p:nvSpPr>
        <p:spPr>
          <a:xfrm>
            <a:off x="329760" y="18208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Cambria Math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TextBox 69"/>
          <p:cNvSpPr/>
          <p:nvPr/>
        </p:nvSpPr>
        <p:spPr>
          <a:xfrm>
            <a:off x="359280" y="1539720"/>
            <a:ext cx="2050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Cambria Math"/>
              </a:rPr>
              <a:t>Найти: 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Cambria Math"/>
              </a:rPr>
              <a:t>R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mbria"/>
                <a:ea typeface="Cambria Math"/>
              </a:rPr>
              <a:t>шара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Cambria Math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mbria"/>
                <a:ea typeface="Cambria Math"/>
              </a:rPr>
              <a:t>шара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Прямоугольник 8"/>
          <p:cNvSpPr/>
          <p:nvPr/>
        </p:nvSpPr>
        <p:spPr>
          <a:xfrm>
            <a:off x="380880" y="781200"/>
            <a:ext cx="145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шар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06" name="Прямоугольник 31" descr=""/>
          <p:cNvPicPr/>
          <p:nvPr/>
        </p:nvPicPr>
        <p:blipFill>
          <a:blip r:embed="rId1"/>
          <a:stretch/>
        </p:blipFill>
        <p:spPr>
          <a:xfrm>
            <a:off x="341280" y="3164040"/>
            <a:ext cx="2481120" cy="596880"/>
          </a:xfrm>
          <a:prstGeom prst="rect">
            <a:avLst/>
          </a:prstGeom>
          <a:ln w="0">
            <a:noFill/>
          </a:ln>
        </p:spPr>
      </p:pic>
      <p:pic>
        <p:nvPicPr>
          <p:cNvPr id="107" name="TextBox 62" descr=""/>
          <p:cNvPicPr/>
          <p:nvPr/>
        </p:nvPicPr>
        <p:blipFill>
          <a:blip r:embed="rId2"/>
          <a:stretch/>
        </p:blipFill>
        <p:spPr>
          <a:xfrm>
            <a:off x="334800" y="4400640"/>
            <a:ext cx="3865680" cy="49536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30" descr=""/>
          <p:cNvPicPr/>
          <p:nvPr/>
        </p:nvPicPr>
        <p:blipFill>
          <a:blip r:embed="rId3"/>
          <a:stretch/>
        </p:blipFill>
        <p:spPr>
          <a:xfrm>
            <a:off x="341280" y="2603520"/>
            <a:ext cx="2432160" cy="5904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33"/>
          <p:cNvSpPr/>
          <p:nvPr/>
        </p:nvSpPr>
        <p:spPr>
          <a:xfrm>
            <a:off x="378000" y="20923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Найдём радиус: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Прямоугольник 88"/>
          <p:cNvSpPr/>
          <p:nvPr/>
        </p:nvSpPr>
        <p:spPr>
          <a:xfrm>
            <a:off x="273240" y="3714840"/>
            <a:ext cx="22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Вычислим объём: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Прямоугольник 8222"/>
          <p:cNvSpPr/>
          <p:nvPr/>
        </p:nvSpPr>
        <p:spPr>
          <a:xfrm>
            <a:off x="307800" y="2341440"/>
            <a:ext cx="1087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πR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Прямоугольник 46"/>
          <p:cNvSpPr/>
          <p:nvPr/>
        </p:nvSpPr>
        <p:spPr>
          <a:xfrm>
            <a:off x="385920" y="1030320"/>
            <a:ext cx="23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— радиус шара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Прямоугольник 1"/>
          <p:cNvSpPr/>
          <p:nvPr/>
        </p:nvSpPr>
        <p:spPr>
          <a:xfrm>
            <a:off x="330480" y="129060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64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см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14" name="Прямоугольник 32" descr=""/>
          <p:cNvPicPr/>
          <p:nvPr/>
        </p:nvPicPr>
        <p:blipFill>
          <a:blip r:embed="rId4"/>
          <a:stretch/>
        </p:blipFill>
        <p:spPr>
          <a:xfrm>
            <a:off x="347760" y="3975120"/>
            <a:ext cx="3181320" cy="487440"/>
          </a:xfrm>
          <a:prstGeom prst="rect">
            <a:avLst/>
          </a:prstGeom>
          <a:ln w="0">
            <a:noFill/>
          </a:ln>
        </p:spPr>
      </p:pic>
      <p:sp>
        <p:nvSpPr>
          <p:cNvPr id="115" name="Дуга 34"/>
          <p:cNvSpPr/>
          <p:nvPr/>
        </p:nvSpPr>
        <p:spPr>
          <a:xfrm>
            <a:off x="5921280" y="1382760"/>
            <a:ext cx="2068560" cy="771480"/>
          </a:xfrm>
          <a:custGeom>
            <a:avLst/>
            <a:gdLst/>
            <a:ahLst/>
            <a:rect l="l" t="t" r="r" b="b"/>
            <a:pathLst>
              <a:path stroke="0" w="2069183" h="770667">
                <a:moveTo>
                  <a:pt x="25753" y="299893"/>
                </a:moveTo>
                <a:cubicBezTo>
                  <a:pt x="134204" y="122259"/>
                  <a:pt x="561830" y="-2820"/>
                  <a:pt x="1050878" y="47"/>
                </a:cubicBezTo>
                <a:cubicBezTo>
                  <a:pt x="1615848" y="3360"/>
                  <a:pt x="2069184" y="174884"/>
                  <a:pt x="2069184" y="385334"/>
                </a:cubicBezTo>
                <a:lnTo>
                  <a:pt x="1034592" y="385334"/>
                </a:lnTo>
                <a:lnTo>
                  <a:pt x="25753" y="299893"/>
                </a:lnTo>
                <a:close/>
              </a:path>
              <a:path fill="none" w="2069183" h="770667">
                <a:moveTo>
                  <a:pt x="25753" y="299893"/>
                </a:moveTo>
                <a:cubicBezTo>
                  <a:pt x="134204" y="122259"/>
                  <a:pt x="561830" y="-2820"/>
                  <a:pt x="1050878" y="47"/>
                </a:cubicBezTo>
                <a:cubicBezTo>
                  <a:pt x="1615848" y="3360"/>
                  <a:pt x="2069184" y="174884"/>
                  <a:pt x="2069184" y="38533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Овал 36"/>
          <p:cNvSpPr/>
          <p:nvPr/>
        </p:nvSpPr>
        <p:spPr>
          <a:xfrm>
            <a:off x="5918040" y="717480"/>
            <a:ext cx="2068560" cy="20462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Дуга 39"/>
          <p:cNvSpPr/>
          <p:nvPr/>
        </p:nvSpPr>
        <p:spPr>
          <a:xfrm rot="10800000">
            <a:off x="5920920" y="1321560"/>
            <a:ext cx="2073240" cy="760680"/>
          </a:xfrm>
          <a:custGeom>
            <a:avLst/>
            <a:gdLst/>
            <a:ahLst/>
            <a:rect l="l" t="t" r="r" b="b"/>
            <a:pathLst>
              <a:path stroke="0" w="2073282" h="761232">
                <a:moveTo>
                  <a:pt x="26524" y="295067"/>
                </a:moveTo>
                <a:cubicBezTo>
                  <a:pt x="136385" y="120197"/>
                  <a:pt x="564006" y="-2739"/>
                  <a:pt x="1052728" y="46"/>
                </a:cubicBezTo>
                <a:cubicBezTo>
                  <a:pt x="1618909" y="3272"/>
                  <a:pt x="2073283" y="172711"/>
                  <a:pt x="2073282" y="380616"/>
                </a:cubicBezTo>
                <a:lnTo>
                  <a:pt x="1036641" y="380616"/>
                </a:lnTo>
                <a:lnTo>
                  <a:pt x="26524" y="295067"/>
                </a:lnTo>
                <a:close/>
              </a:path>
              <a:path fill="none" w="2073282" h="761232">
                <a:moveTo>
                  <a:pt x="26524" y="295067"/>
                </a:moveTo>
                <a:cubicBezTo>
                  <a:pt x="136385" y="120197"/>
                  <a:pt x="564006" y="-2739"/>
                  <a:pt x="1052728" y="46"/>
                </a:cubicBezTo>
                <a:cubicBezTo>
                  <a:pt x="1618909" y="3272"/>
                  <a:pt x="2073283" y="172711"/>
                  <a:pt x="2073282" y="38061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Прямая соединительная линия 54"/>
          <p:cNvSpPr/>
          <p:nvPr/>
        </p:nvSpPr>
        <p:spPr>
          <a:xfrm>
            <a:off x="6245280" y="1008000"/>
            <a:ext cx="717480" cy="746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TextBox 63"/>
          <p:cNvSpPr/>
          <p:nvPr/>
        </p:nvSpPr>
        <p:spPr>
          <a:xfrm>
            <a:off x="6552360" y="1014480"/>
            <a:ext cx="2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TextBox 65"/>
          <p:cNvSpPr/>
          <p:nvPr/>
        </p:nvSpPr>
        <p:spPr>
          <a:xfrm>
            <a:off x="6977880" y="16146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олилиния 102"/>
          <p:cNvSpPr/>
          <p:nvPr/>
        </p:nvSpPr>
        <p:spPr>
          <a:xfrm>
            <a:off x="5840280" y="1289160"/>
            <a:ext cx="1116000" cy="507960"/>
          </a:xfrm>
          <a:custGeom>
            <a:avLst/>
            <a:gdLst/>
            <a:ahLst/>
            <a:rect l="l" t="t" r="r" b="b"/>
            <a:pathLst>
              <a:path w="1115251" h="507413">
                <a:moveTo>
                  <a:pt x="1109965" y="507413"/>
                </a:moveTo>
                <a:lnTo>
                  <a:pt x="1115251" y="0"/>
                </a:lnTo>
                <a:lnTo>
                  <a:pt x="0" y="5286"/>
                </a:lnTo>
                <a:lnTo>
                  <a:pt x="1109965" y="507413"/>
                </a:lnTo>
                <a:close/>
              </a:path>
            </a:pathLst>
          </a:custGeom>
          <a:solidFill>
            <a:srgbClr val="92d05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Прямая соединительная линия 22"/>
          <p:cNvSpPr/>
          <p:nvPr/>
        </p:nvSpPr>
        <p:spPr>
          <a:xfrm flipV="1">
            <a:off x="5826240" y="1287360"/>
            <a:ext cx="1082520" cy="50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Овал 19"/>
          <p:cNvSpPr/>
          <p:nvPr/>
        </p:nvSpPr>
        <p:spPr>
          <a:xfrm flipV="1">
            <a:off x="5826240" y="1062720"/>
            <a:ext cx="2239920" cy="223560"/>
          </a:xfrm>
          <a:custGeom>
            <a:avLst/>
            <a:gdLst/>
            <a:ahLst/>
            <a:rect l="l" t="t" r="r" b="b"/>
            <a:pathLst>
              <a:path w="2239824" h="204827">
                <a:moveTo>
                  <a:pt x="2239824" y="0"/>
                </a:moveTo>
                <a:cubicBezTo>
                  <a:pt x="2239824" y="113123"/>
                  <a:pt x="1738422" y="204827"/>
                  <a:pt x="1119912" y="204827"/>
                </a:cubicBezTo>
                <a:cubicBezTo>
                  <a:pt x="501402" y="204827"/>
                  <a:pt x="0" y="113123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Полилиния 104"/>
          <p:cNvSpPr/>
          <p:nvPr/>
        </p:nvSpPr>
        <p:spPr>
          <a:xfrm>
            <a:off x="6121440" y="808200"/>
            <a:ext cx="828720" cy="1015920"/>
          </a:xfrm>
          <a:custGeom>
            <a:avLst/>
            <a:gdLst/>
            <a:ahLst/>
            <a:rect l="l" t="t" r="r" b="b"/>
            <a:pathLst>
              <a:path w="829832" h="1014826">
                <a:moveTo>
                  <a:pt x="829832" y="1014826"/>
                </a:moveTo>
                <a:lnTo>
                  <a:pt x="824546" y="0"/>
                </a:lnTo>
                <a:lnTo>
                  <a:pt x="0" y="10571"/>
                </a:lnTo>
                <a:lnTo>
                  <a:pt x="829832" y="1014826"/>
                </a:lnTo>
                <a:close/>
              </a:path>
            </a:pathLst>
          </a:custGeom>
          <a:solidFill>
            <a:srgbClr val="00b0f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Овал 72"/>
          <p:cNvSpPr/>
          <p:nvPr/>
        </p:nvSpPr>
        <p:spPr>
          <a:xfrm>
            <a:off x="5757840" y="476280"/>
            <a:ext cx="2374920" cy="2351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Прямая соединительная линия 79"/>
          <p:cNvSpPr/>
          <p:nvPr/>
        </p:nvSpPr>
        <p:spPr>
          <a:xfrm>
            <a:off x="6945480" y="846000"/>
            <a:ext cx="0" cy="403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Прямая соединительная линия 82"/>
          <p:cNvSpPr/>
          <p:nvPr/>
        </p:nvSpPr>
        <p:spPr>
          <a:xfrm flipV="1">
            <a:off x="6107040" y="809640"/>
            <a:ext cx="801720" cy="9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TextBox 84"/>
          <p:cNvSpPr/>
          <p:nvPr/>
        </p:nvSpPr>
        <p:spPr>
          <a:xfrm>
            <a:off x="7071840" y="130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TextBox 85"/>
          <p:cNvSpPr/>
          <p:nvPr/>
        </p:nvSpPr>
        <p:spPr>
          <a:xfrm>
            <a:off x="6977520" y="665280"/>
            <a:ext cx="325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TextBox 86"/>
          <p:cNvSpPr/>
          <p:nvPr/>
        </p:nvSpPr>
        <p:spPr>
          <a:xfrm>
            <a:off x="6505200" y="566640"/>
            <a:ext cx="273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TextBox 87"/>
          <p:cNvSpPr/>
          <p:nvPr/>
        </p:nvSpPr>
        <p:spPr>
          <a:xfrm>
            <a:off x="5790600" y="49680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TextBox 89"/>
          <p:cNvSpPr/>
          <p:nvPr/>
        </p:nvSpPr>
        <p:spPr>
          <a:xfrm>
            <a:off x="6170400" y="1038240"/>
            <a:ext cx="282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TextBox 91"/>
          <p:cNvSpPr/>
          <p:nvPr/>
        </p:nvSpPr>
        <p:spPr>
          <a:xfrm>
            <a:off x="6976440" y="1133640"/>
            <a:ext cx="335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Овал 93"/>
          <p:cNvSpPr/>
          <p:nvPr/>
        </p:nvSpPr>
        <p:spPr>
          <a:xfrm>
            <a:off x="6908760" y="77148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355680" y="8892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  <a:ea typeface="Cambria Math"/>
              </a:rPr>
              <a:t>Задача</a:t>
            </a:r>
            <a:r>
              <a:rPr b="1" lang="en-US" sz="2800" spc="-1" strike="noStrike">
                <a:solidFill>
                  <a:srgbClr val="ff0000"/>
                </a:solidFill>
                <a:latin typeface="Cambria"/>
                <a:ea typeface="Cambria Math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364680" y="48096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  <a:ea typeface="Cambria Math"/>
              </a:rPr>
              <a:t>Дано: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TextBox 24"/>
          <p:cNvSpPr/>
          <p:nvPr/>
        </p:nvSpPr>
        <p:spPr>
          <a:xfrm>
            <a:off x="338760" y="211788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  <a:ea typeface="Cambria Math"/>
              </a:rPr>
              <a:t>Решение: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TextBox 69"/>
          <p:cNvSpPr/>
          <p:nvPr/>
        </p:nvSpPr>
        <p:spPr>
          <a:xfrm>
            <a:off x="344880" y="1857240"/>
            <a:ext cx="13694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  <a:ea typeface="Cambria Math"/>
              </a:rPr>
              <a:t>Найти: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mbria"/>
                <a:ea typeface="Cambria Math"/>
              </a:rPr>
              <a:t>шар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380880" y="73332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шар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Прямоугольник 31"/>
          <p:cNvSpPr/>
          <p:nvPr/>
        </p:nvSpPr>
        <p:spPr>
          <a:xfrm>
            <a:off x="376200" y="3259080"/>
            <a:ext cx="2827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∆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O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 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∆OO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N — 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рямоуг.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TextBox 62"/>
          <p:cNvSpPr/>
          <p:nvPr/>
        </p:nvSpPr>
        <p:spPr>
          <a:xfrm>
            <a:off x="3825720" y="4535640"/>
            <a:ext cx="3816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Cambria Math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шара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= 4500</a:t>
            </a:r>
            <a:r>
              <a:rPr b="0" lang="el-GR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π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Прямоугольник 33"/>
          <p:cNvSpPr/>
          <p:nvPr/>
        </p:nvSpPr>
        <p:spPr>
          <a:xfrm>
            <a:off x="378000" y="2370240"/>
            <a:ext cx="239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Найдём радиус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шара: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Прямоугольник 88"/>
          <p:cNvSpPr/>
          <p:nvPr/>
        </p:nvSpPr>
        <p:spPr>
          <a:xfrm>
            <a:off x="322920" y="3489480"/>
            <a:ext cx="892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O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x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Прямоугольник 8222"/>
          <p:cNvSpPr/>
          <p:nvPr/>
        </p:nvSpPr>
        <p:spPr>
          <a:xfrm>
            <a:off x="372960" y="2600280"/>
            <a:ext cx="290376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Проведём ось 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OX ⏊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 плоскостям сечений, она пройдёт через  точки 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O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 и 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O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Прямоугольник 46"/>
          <p:cNvSpPr/>
          <p:nvPr/>
        </p:nvSpPr>
        <p:spPr>
          <a:xfrm>
            <a:off x="385920" y="958680"/>
            <a:ext cx="2673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r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 r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—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 радиусы сечений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Прямоугольник 1"/>
          <p:cNvSpPr/>
          <p:nvPr/>
        </p:nvSpPr>
        <p:spPr>
          <a:xfrm>
            <a:off x="327600" y="1190520"/>
            <a:ext cx="1005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r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= 9 см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47" name="Прямоугольник 32" descr=""/>
          <p:cNvPicPr/>
          <p:nvPr/>
        </p:nvPicPr>
        <p:blipFill>
          <a:blip r:embed="rId1"/>
          <a:stretch/>
        </p:blipFill>
        <p:spPr>
          <a:xfrm>
            <a:off x="353880" y="3713040"/>
            <a:ext cx="2760840" cy="59076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10"/>
          <p:cNvSpPr/>
          <p:nvPr/>
        </p:nvSpPr>
        <p:spPr>
          <a:xfrm>
            <a:off x="3714480" y="268272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OM = ON = R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Прямоугольник 37"/>
          <p:cNvSpPr/>
          <p:nvPr/>
        </p:nvSpPr>
        <p:spPr>
          <a:xfrm>
            <a:off x="3717720" y="2901960"/>
            <a:ext cx="221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+ 1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(x + 3)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+ 9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Прямоугольник 11"/>
          <p:cNvSpPr/>
          <p:nvPr/>
        </p:nvSpPr>
        <p:spPr>
          <a:xfrm>
            <a:off x="3673800" y="3133800"/>
            <a:ext cx="262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+ 144 = 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+ 6x + 9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+ 81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Прямоугольник 43"/>
          <p:cNvSpPr/>
          <p:nvPr/>
        </p:nvSpPr>
        <p:spPr>
          <a:xfrm>
            <a:off x="3781800" y="336384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6x = 54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Прямоугольник 53"/>
          <p:cNvSpPr/>
          <p:nvPr/>
        </p:nvSpPr>
        <p:spPr>
          <a:xfrm>
            <a:off x="3772800" y="3589200"/>
            <a:ext cx="904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O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9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Прямоугольник 94"/>
          <p:cNvSpPr/>
          <p:nvPr/>
        </p:nvSpPr>
        <p:spPr>
          <a:xfrm>
            <a:off x="1158480" y="1184400"/>
            <a:ext cx="106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12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см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Прямоугольник 4"/>
          <p:cNvSpPr/>
          <p:nvPr/>
        </p:nvSpPr>
        <p:spPr>
          <a:xfrm>
            <a:off x="385920" y="1415880"/>
            <a:ext cx="2600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O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O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3 см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(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расстояние между сечениями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Прямоугольник 95"/>
          <p:cNvSpPr/>
          <p:nvPr/>
        </p:nvSpPr>
        <p:spPr>
          <a:xfrm>
            <a:off x="237960" y="4173480"/>
            <a:ext cx="2534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O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= O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+ 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= x + 3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56" name="Прямоугольник 97" descr=""/>
          <p:cNvPicPr/>
          <p:nvPr/>
        </p:nvPicPr>
        <p:blipFill>
          <a:blip r:embed="rId2"/>
          <a:stretch/>
        </p:blipFill>
        <p:spPr>
          <a:xfrm>
            <a:off x="353880" y="4400640"/>
            <a:ext cx="3291120" cy="5922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98"/>
          <p:cNvSpPr/>
          <p:nvPr/>
        </p:nvSpPr>
        <p:spPr>
          <a:xfrm>
            <a:off x="4466880" y="3359160"/>
            <a:ext cx="8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⇒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x = 9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58" name="Прямоугольник 99" descr=""/>
          <p:cNvPicPr/>
          <p:nvPr/>
        </p:nvPicPr>
        <p:blipFill>
          <a:blip r:embed="rId3"/>
          <a:stretch/>
        </p:blipFill>
        <p:spPr>
          <a:xfrm>
            <a:off x="3809880" y="3754440"/>
            <a:ext cx="3608640" cy="531720"/>
          </a:xfrm>
          <a:prstGeom prst="rect">
            <a:avLst/>
          </a:prstGeom>
          <a:ln w="0">
            <a:noFill/>
          </a:ln>
        </p:spPr>
      </p:pic>
      <p:pic>
        <p:nvPicPr>
          <p:cNvPr id="159" name="Прямоугольник 100" descr=""/>
          <p:cNvPicPr/>
          <p:nvPr/>
        </p:nvPicPr>
        <p:blipFill>
          <a:blip r:embed="rId4"/>
          <a:stretch/>
        </p:blipFill>
        <p:spPr>
          <a:xfrm>
            <a:off x="3809880" y="4230720"/>
            <a:ext cx="2846520" cy="4017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109"/>
          <p:cNvSpPr/>
          <p:nvPr/>
        </p:nvSpPr>
        <p:spPr>
          <a:xfrm>
            <a:off x="5417640" y="1047600"/>
            <a:ext cx="30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TextBox 110"/>
          <p:cNvSpPr/>
          <p:nvPr/>
        </p:nvSpPr>
        <p:spPr>
          <a:xfrm>
            <a:off x="6996960" y="16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Овал 113"/>
          <p:cNvSpPr/>
          <p:nvPr/>
        </p:nvSpPr>
        <p:spPr>
          <a:xfrm>
            <a:off x="6908760" y="1249200"/>
            <a:ext cx="74520" cy="74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Овал 114"/>
          <p:cNvSpPr/>
          <p:nvPr/>
        </p:nvSpPr>
        <p:spPr>
          <a:xfrm>
            <a:off x="6908760" y="1776240"/>
            <a:ext cx="74520" cy="74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Овал 19"/>
          <p:cNvSpPr/>
          <p:nvPr/>
        </p:nvSpPr>
        <p:spPr>
          <a:xfrm>
            <a:off x="5826240" y="1292400"/>
            <a:ext cx="2239920" cy="223560"/>
          </a:xfrm>
          <a:custGeom>
            <a:avLst/>
            <a:gdLst/>
            <a:ahLst/>
            <a:rect l="l" t="t" r="r" b="b"/>
            <a:pathLst>
              <a:path w="2239824" h="204827">
                <a:moveTo>
                  <a:pt x="2239824" y="0"/>
                </a:moveTo>
                <a:cubicBezTo>
                  <a:pt x="2239824" y="113123"/>
                  <a:pt x="1738422" y="204827"/>
                  <a:pt x="1119912" y="204827"/>
                </a:cubicBezTo>
                <a:cubicBezTo>
                  <a:pt x="501402" y="204827"/>
                  <a:pt x="0" y="113123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Овал 116"/>
          <p:cNvSpPr/>
          <p:nvPr/>
        </p:nvSpPr>
        <p:spPr>
          <a:xfrm>
            <a:off x="6140520" y="797040"/>
            <a:ext cx="1617480" cy="185760"/>
          </a:xfrm>
          <a:custGeom>
            <a:avLst/>
            <a:gdLst/>
            <a:ahLst/>
            <a:rect l="l" t="t" r="r" b="b"/>
            <a:pathLst>
              <a:path w="1649654" h="154537">
                <a:moveTo>
                  <a:pt x="1649654" y="0"/>
                </a:moveTo>
                <a:cubicBezTo>
                  <a:pt x="1649654" y="85348"/>
                  <a:pt x="1280366" y="154537"/>
                  <a:pt x="824827" y="154537"/>
                </a:cubicBezTo>
                <a:cubicBezTo>
                  <a:pt x="369288" y="154537"/>
                  <a:pt x="0" y="85348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Овал 116"/>
          <p:cNvSpPr/>
          <p:nvPr/>
        </p:nvSpPr>
        <p:spPr>
          <a:xfrm flipV="1">
            <a:off x="6143760" y="634680"/>
            <a:ext cx="1617480" cy="185760"/>
          </a:xfrm>
          <a:custGeom>
            <a:avLst/>
            <a:gdLst/>
            <a:ahLst/>
            <a:rect l="l" t="t" r="r" b="b"/>
            <a:pathLst>
              <a:path w="1649654" h="154537">
                <a:moveTo>
                  <a:pt x="1649654" y="0"/>
                </a:moveTo>
                <a:cubicBezTo>
                  <a:pt x="1649654" y="85348"/>
                  <a:pt x="1280366" y="154537"/>
                  <a:pt x="824827" y="154537"/>
                </a:cubicBezTo>
                <a:cubicBezTo>
                  <a:pt x="369288" y="154537"/>
                  <a:pt x="0" y="85348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Прямая соединительная линия 27"/>
          <p:cNvSpPr/>
          <p:nvPr/>
        </p:nvSpPr>
        <p:spPr>
          <a:xfrm>
            <a:off x="5826240" y="1292400"/>
            <a:ext cx="1093680" cy="495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Прямая соединительная линия 29"/>
          <p:cNvSpPr/>
          <p:nvPr/>
        </p:nvSpPr>
        <p:spPr>
          <a:xfrm>
            <a:off x="6137280" y="847800"/>
            <a:ext cx="782640" cy="939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69" name="Группа 120"/>
          <p:cNvGrpSpPr/>
          <p:nvPr/>
        </p:nvGrpSpPr>
        <p:grpSpPr>
          <a:xfrm>
            <a:off x="6945480" y="233280"/>
            <a:ext cx="0" cy="2970360"/>
            <a:chOff x="6945480" y="233280"/>
            <a:chExt cx="0" cy="2970360"/>
          </a:xfrm>
        </p:grpSpPr>
        <p:sp>
          <p:nvSpPr>
            <p:cNvPr id="170" name="Прямая соединительная линия 80"/>
            <p:cNvSpPr/>
            <p:nvPr/>
          </p:nvSpPr>
          <p:spPr>
            <a:xfrm>
              <a:off x="6945480" y="2826720"/>
              <a:ext cx="0" cy="37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71" name="Прямая соединительная линия 81"/>
            <p:cNvSpPr/>
            <p:nvPr/>
          </p:nvSpPr>
          <p:spPr>
            <a:xfrm>
              <a:off x="6945480" y="233280"/>
              <a:ext cx="0" cy="24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72" name="Прямая соединительная линия 129"/>
            <p:cNvSpPr/>
            <p:nvPr/>
          </p:nvSpPr>
          <p:spPr>
            <a:xfrm>
              <a:off x="6945480" y="475200"/>
              <a:ext cx="0" cy="2959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73" name="Прямая соединительная линия 133"/>
            <p:cNvSpPr/>
            <p:nvPr/>
          </p:nvSpPr>
          <p:spPr>
            <a:xfrm>
              <a:off x="6945480" y="1324080"/>
              <a:ext cx="0" cy="1502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74" name="TextBox 121"/>
          <p:cNvSpPr/>
          <p:nvPr/>
        </p:nvSpPr>
        <p:spPr>
          <a:xfrm>
            <a:off x="6124680" y="1549440"/>
            <a:ext cx="2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1T08:56:11Z</dcterms:created>
  <dc:creator>Пользователь</dc:creator>
  <dc:description/>
  <dc:language>en-US</dc:language>
  <cp:lastModifiedBy>Пользователь</cp:lastModifiedBy>
  <dcterms:modified xsi:type="dcterms:W3CDTF">2014-09-29T06:54:36Z</dcterms:modified>
  <cp:revision>39</cp:revision>
  <dc:subject/>
  <dc:title>Презентация PowerPoint</dc:title>
</cp:coreProperties>
</file>