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AD1E-A7FF-4691-B2CD-750003619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6612-4039-400B-B78A-4432502E3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3F89-9791-40F1-ADDD-4A48FE197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55EB-2451-471D-9820-62C4C4DCE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B1538-92D5-4D3C-95E3-E7E762A0C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1340E-0FAC-4D56-8DFC-2B4272665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BE341-D543-4F90-A612-C75F27ADB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87E51-E151-44AE-A77F-603C6C8F2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3ECE3-BBF2-4E93-A0BB-AD7F8E7A1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BEB0C-1292-42C3-BF81-67FB0DA59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316CD-B215-4E01-B743-329DF8FFC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1DF9-F2CD-450C-A3A8-A4F7A7FD3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1F47C-F5F4-4CCA-93A6-B43740A74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5E7CE-102B-409C-B450-F44C99A3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86A8F-20E7-4D46-A3AA-E287792FC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1E483-B3CB-4971-9EB8-79C4E89DE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F5027-4BED-4F3A-8ABD-CDF80DBBA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FF65-8A0B-4127-B109-53227CCB8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251D-AD22-4189-9BEB-42C753E3D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62CC-B0E8-49D9-A7BB-88B33B716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BE32-C1C3-4B35-8B72-CB2674994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8857-B0D0-489C-AB55-9A43900A0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B22A-0F17-455F-8056-5FC8E8DF5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0087-6CB1-4B20-A727-A4D3384C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B13E3-E28E-41BD-870F-0413A03110E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BADB1-0C75-47EE-9620-10E0CD537E9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0066"/>
                </a:solidFill>
                <a:latin typeface="Arial"/>
              </a:rPr>
              <a:t>Проект «Шипаковская уютная столовая»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600200" y="3047760"/>
            <a:ext cx="54864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р: Семёнова Олеся ученица 8 класса «Шипаковская ООШ»-филиал МАОУ «Северо-Плетнёвская СОШ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ководитель: Семенова Людмила Васильевна 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Эскиз 1-ой стен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1" name="Picture 4" descr="IMG_3733"/>
          <p:cNvPicPr/>
          <p:nvPr/>
        </p:nvPicPr>
        <p:blipFill>
          <a:blip r:embed="rId1"/>
          <a:stretch/>
        </p:blipFill>
        <p:spPr>
          <a:xfrm>
            <a:off x="914400" y="1523880"/>
            <a:ext cx="67215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Эскиз 2-ой стен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3" name="Picture 4" descr="IMG_3732"/>
          <p:cNvPicPr/>
          <p:nvPr/>
        </p:nvPicPr>
        <p:blipFill>
          <a:blip r:embed="rId1"/>
          <a:stretch/>
        </p:blipFill>
        <p:spPr>
          <a:xfrm>
            <a:off x="914400" y="1600200"/>
            <a:ext cx="6553080" cy="49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Эскиз 3-ей стен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5" name="Picture 4" descr="IMG_3731"/>
          <p:cNvPicPr/>
          <p:nvPr/>
        </p:nvPicPr>
        <p:blipFill>
          <a:blip r:embed="rId1"/>
          <a:stretch/>
        </p:blipFill>
        <p:spPr>
          <a:xfrm>
            <a:off x="1371600" y="1219320"/>
            <a:ext cx="5867280" cy="440028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5"/>
          <p:cNvSpPr/>
          <p:nvPr/>
        </p:nvSpPr>
        <p:spPr>
          <a:xfrm>
            <a:off x="838080" y="5638680"/>
            <a:ext cx="693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омощью 3-го нарисованного окна можно добиться зрительного увеличения обеденного зала. Картина за окном будет сменяться с изменением времён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Эскиз 4-ой стен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6840" y="304920"/>
            <a:ext cx="7086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дним из основных моментов при оформлении столовой является выбор цветовой гаммы. К примеру, желтый цвет оказывает тонизирующий эффект и считается оптимальным с физиологической точки зрения. Он не утомляет органы зрения, помогает активизировать двигательные центры, способен поднимать настроение и вызывать радость, а также благотворно влияет на интеллектуальные способности. Также из тонизирующих цветов стоит выделить персиковый цвет, который содействует пищеварению, способен снимать усталость и укреплять силу воли.  Голубой цвет может вызывать чувство спокойствия, а также вызывать торможение некоторых физиологических функций человека, устраняет головные боли и снимает воспаление глаз. Можно использовать как терапию для нервных, эмоциональных людей. Сказки и мультфильмы позволяют детям не только вкусно поесть, но и окунутся в сказочный мир.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5" descr="i?id=779bac0fb1e4e65019f036aebcc061b5&amp;n=33&amp;h=215&amp;w=204"/>
          <p:cNvPicPr/>
          <p:nvPr/>
        </p:nvPicPr>
        <p:blipFill>
          <a:blip r:embed="rId1"/>
          <a:stretch/>
        </p:blipFill>
        <p:spPr>
          <a:xfrm>
            <a:off x="6980400" y="533520"/>
            <a:ext cx="20970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Эскиз столовой посуд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2" name="Picture 4" descr="IMG_3735"/>
          <p:cNvPicPr/>
          <p:nvPr/>
        </p:nvPicPr>
        <p:blipFill>
          <a:blip r:embed="rId1"/>
          <a:stretch/>
        </p:blipFill>
        <p:spPr>
          <a:xfrm>
            <a:off x="990720" y="1447920"/>
            <a:ext cx="6713280" cy="50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94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Эскиз спецодежд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4" name="Picture 4" descr="IMG_3737"/>
          <p:cNvPicPr/>
          <p:nvPr/>
        </p:nvPicPr>
        <p:blipFill>
          <a:blip r:embed="rId1"/>
          <a:stretch/>
        </p:blipFill>
        <p:spPr>
          <a:xfrm>
            <a:off x="1066680" y="1371600"/>
            <a:ext cx="6553440" cy="49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Музыкальное сопровождение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узыкальное сопровождение во время еды влияет на процесс усвоения пищи. Современная музыка, звучащая за обедом, улучшает аппетит и положительно влияет на секрецию желудочного сока. Медленная неторопливая трапеза под классику способствует усвоению пищи. Именно поэтому в нашем проекте мы подумали над тем, чтобы создать уют в нашей столовой при помощи тихой и спокойной музык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оловое покрыти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ловое покрытие в столовой может быть выполнено в виде бетонной мозаики или покрыт керамической плиткой темного цвета. Но что самое важное, плитка должна быть самой износостойкой, - для полов с высокой интенсивностью движения. А также,  немаловажно, чтобы плитка была сопротивляема к скольжению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свещени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495680" y="1719360"/>
            <a:ext cx="41911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ы в столовую бежим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ушать очень мы хоти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 уроках притомилис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 в столовой зарядилис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кусную еду жуё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 каждым днем мы подрастаем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ил, здоровья набираем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091bac3f57cfa048aa9e88e8c0388d8768429a82"/>
          <p:cNvPicPr/>
          <p:nvPr/>
        </p:nvPicPr>
        <p:blipFill>
          <a:blip r:embed="rId1"/>
          <a:stretch/>
        </p:blipFill>
        <p:spPr>
          <a:xfrm>
            <a:off x="304920" y="2133720"/>
            <a:ext cx="396216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Вывод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своём проекте я смогла решить поставленные задачи: создала эскизы оформления стен, посуды, обеденного зала и спецодежды для работников столовой. А самое главное: я надеюсь, что с окончанием лета, мой проект будет реализован и в нашей столовой будет уютно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56840" y="1719000"/>
            <a:ext cx="8534520" cy="254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330066"/>
                </a:solidFill>
                <a:latin typeface="Arial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Актуальность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560" y="1719360"/>
            <a:ext cx="83818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к говорится в пословице - аппетит приходит во время еды. Повышению аппетита, также способствует  оформление столовой, ведь красивый дизайн интерьера школьной столовой обеспечивает положительный эмоциональный настрой учащихся и повышает аппетит. Наша столовая должна быть не только уютной и комфортной, но и нести в себе удобство для детей и персонала. Школьная столовая играет огромную роль – так как именно эстетический вид столовой и соблюдение детьми культуры питания являются залогом правильного пита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Цель проект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514240"/>
            <a:ext cx="8229600" cy="36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одернизация обеденного зала в школьной столово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5" descr="i?id=2eabf803b645965989ed1b676abe6371&amp;n=33&amp;h=215&amp;w=262"/>
          <p:cNvPicPr/>
          <p:nvPr/>
        </p:nvPicPr>
        <p:blipFill>
          <a:blip r:embed="rId1"/>
          <a:stretch/>
        </p:blipFill>
        <p:spPr>
          <a:xfrm>
            <a:off x="5486400" y="3429000"/>
            <a:ext cx="350532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Задачи проект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здать уютную атмосферу в обеденном зале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здать эскизы обеденного зала, оформления стен, спецодежды для персонала и столовой посуды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зменить расположение посадочных мест, с целью удобства для школьник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Этапы работы над проектом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бор информации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ыполнение эскизов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нализ информации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бота над проекто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" descr="47579863"/>
          <p:cNvPicPr/>
          <p:nvPr/>
        </p:nvPicPr>
        <p:blipFill>
          <a:blip r:embed="rId1"/>
          <a:stretch/>
        </p:blipFill>
        <p:spPr>
          <a:xfrm>
            <a:off x="5638680" y="2286000"/>
            <a:ext cx="31053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ловарная работ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Интерье́р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архитектурно и художественно оформленное внутреннее пространство помещения, обеспечивающее человеку эстетическое восприятие и благоприятные условия жизнедеятельност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Дизайн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означает проектировать, конструировать, творчески для себя выстраивать удобную среду обитания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Эскиз обеденного зал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IMG_3734"/>
          <p:cNvPicPr/>
          <p:nvPr/>
        </p:nvPicPr>
        <p:blipFill>
          <a:blip r:embed="rId1"/>
          <a:stretch/>
        </p:blipFill>
        <p:spPr>
          <a:xfrm>
            <a:off x="990720" y="1295280"/>
            <a:ext cx="634032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04920" y="304560"/>
            <a:ext cx="678168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чень важно в дизайне интерьера школьной столовой использовать качественную мебель. В нашей столовой мы хотим полностью изменить оформление зала. Также создать атмосферу уюта, чтобы можно было расслабиться во время приёма пищ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i?id=ddf6c785505975ab7d776f4cabc56c56&amp;n=33&amp;h=215&amp;w=258"/>
          <p:cNvPicPr/>
          <p:nvPr/>
        </p:nvPicPr>
        <p:blipFill>
          <a:blip r:embed="rId1"/>
          <a:stretch/>
        </p:blipFill>
        <p:spPr>
          <a:xfrm>
            <a:off x="5410080" y="3886200"/>
            <a:ext cx="327672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4T14:13:42Z</dcterms:created>
  <dc:creator>1</dc:creator>
  <dc:description/>
  <dc:language>en-US</dc:language>
  <cp:lastModifiedBy>Людмила</cp:lastModifiedBy>
  <dcterms:modified xsi:type="dcterms:W3CDTF">2018-03-27T17:33:13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