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0F6-DB01-4E3A-8FAD-4FCDEB3E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BE2-5EAE-4204-9BB3-B05969F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4ED-4E46-4724-84A7-80667E4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73C-87F8-48C9-81A7-C3B8A05C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32DF-AFAE-4D93-9A0C-48B17397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B2B-F4D9-40E3-9184-8C18B2EA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C5EC-A911-4E60-A5CC-B637D18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1D62-4985-42A2-A523-D53B6FE8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106C-4B04-4C7B-9265-C334E8E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FBE4-0D98-4285-9A84-DECD7990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40BD-A07C-4E03-BECF-A249F302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D0A-C973-4269-98BA-8528EBD2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F78-3EE2-4CBB-8541-A48FFB4B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65B9-937A-4FFB-AC1E-2B316FB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EECD-2E3C-4B0B-8D11-9776B27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6677-99D5-427C-8951-C265F8B2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0BAB-1BA8-441B-A894-DFAA1F92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A51-72C1-482C-87BF-02CA5D1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628-0746-4C0C-B092-B79919A3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514-624B-44A3-BF9E-5712FC0F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489-BCF2-4B83-9265-61DEDFFE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F2F-171B-4AC9-B302-A9C050E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C14-77A7-4B88-B963-162CC63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AB8-3861-4528-9A89-66DAC8E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537B-1942-4CCE-8D65-DF933B1992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9EA-FAFF-4699-92D6-21296DC447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роект «Шипаковская уютная столовая»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00200" y="30477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Семёнова Олеся ученица 8 класса «Шипаковская ООШ»-филиал МАОУ «Северо-Плетнё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Семенова Людмила Васильевн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1-о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4" descr="IMG_3733"/>
          <p:cNvPicPr/>
          <p:nvPr/>
        </p:nvPicPr>
        <p:blipFill>
          <a:blip r:embed="rId1"/>
          <a:stretch/>
        </p:blipFill>
        <p:spPr>
          <a:xfrm>
            <a:off x="914400" y="1523880"/>
            <a:ext cx="6721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2-о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4" descr="IMG_3732"/>
          <p:cNvPicPr/>
          <p:nvPr/>
        </p:nvPicPr>
        <p:blipFill>
          <a:blip r:embed="rId1"/>
          <a:stretch/>
        </p:blipFill>
        <p:spPr>
          <a:xfrm>
            <a:off x="914400" y="1600200"/>
            <a:ext cx="65530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3-е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4" descr="IMG_3731"/>
          <p:cNvPicPr/>
          <p:nvPr/>
        </p:nvPicPr>
        <p:blipFill>
          <a:blip r:embed="rId1"/>
          <a:stretch/>
        </p:blipFill>
        <p:spPr>
          <a:xfrm>
            <a:off x="1371600" y="12193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838080" y="56386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3-го нарисованного окна можно добиться зрительного увеличения обеденного зала. Картина за окном будет сменяться с изменением времё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4-о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086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основных моментов при оформлении столовой является выбор цветовой гаммы. К примеру, желтый цвет оказывает тонизирующий эффект и считается оптимальным с физиологической точки зрения. Он не утомляет органы зрения, помогает активизировать двигательные центры, способен поднимать настроение и вызывать радость, а также благотворно влияет на интеллектуальные способности. Также из тонизирующих цветов стоит выделить персиковый цвет, который содействует пищеварению, способен снимать усталость и укреплять силу воли.  Голубой цвет может вызывать чувство спокойствия, а также вызывать торможение некоторых физиологических функций человека, устраняет головные боли и снимает воспаление глаз. Можно использовать как терапию для нервных, эмоциональных людей. Сказки и мультфильмы позволяют детям не только вкусно поесть, но и окунутся в сказочный мир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i?id=779bac0fb1e4e65019f036aebcc061b5&amp;n=33&amp;h=215&amp;w=204"/>
          <p:cNvPicPr/>
          <p:nvPr/>
        </p:nvPicPr>
        <p:blipFill>
          <a:blip r:embed="rId1"/>
          <a:stretch/>
        </p:blipFill>
        <p:spPr>
          <a:xfrm>
            <a:off x="6980400" y="533520"/>
            <a:ext cx="2097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столовой посу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Picture 4" descr="IMG_3735"/>
          <p:cNvPicPr/>
          <p:nvPr/>
        </p:nvPicPr>
        <p:blipFill>
          <a:blip r:embed="rId1"/>
          <a:stretch/>
        </p:blipFill>
        <p:spPr>
          <a:xfrm>
            <a:off x="990720" y="1447920"/>
            <a:ext cx="67132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спецодеж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Picture 4" descr="IMG_3737"/>
          <p:cNvPicPr/>
          <p:nvPr/>
        </p:nvPicPr>
        <p:blipFill>
          <a:blip r:embed="rId1"/>
          <a:stretch/>
        </p:blipFill>
        <p:spPr>
          <a:xfrm>
            <a:off x="1066680" y="1371600"/>
            <a:ext cx="6553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узыкальное сопровожде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зыкальное сопровождение во время еды влияет на процесс усвоения пищи. Современная музыка, звучащая за обедом, улучшает аппетит и положительно влияет на секрецию желудочного сока. Медленная неторопливая трапеза под классику способствует усвоению пищи. Именно поэтому в нашем проекте мы подумали над тем, чтобы создать уют в нашей столовой при помощи тихой и спокойной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овое покрыт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овое покрытие в столовой может быть выполнено в виде бетонной мозаики или покрыт керамической плиткой темного цвета. Но что самое важное, плитка должна быть самой износостойкой, - для полов с высокой интенсивностью движения. А также,  немаловажно, чтобы плитка была сопротивляема к скольже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вещ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49568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 столовую беж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шать очень мы хот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уроках притомили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в столовой зарядилис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кусную еду жу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каждым днем мы подрастае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л, здоровья набираем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091bac3f57cfa048aa9e88e8c0388d8768429a82"/>
          <p:cNvPicPr/>
          <p:nvPr/>
        </p:nvPicPr>
        <p:blipFill>
          <a:blip r:embed="rId1"/>
          <a:stretch/>
        </p:blipFill>
        <p:spPr>
          <a:xfrm>
            <a:off x="304920" y="2133720"/>
            <a:ext cx="3962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воём проекте я смогла решить поставленные задачи: создала эскизы оформления стен, посуды, обеденного зала и спецодежды для работников столовой. А самое главное: я надеюсь, что с окончанием лета, мой проект будет реализован и в нашей столовой будет уют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1719000"/>
            <a:ext cx="853452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ктуаль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говорится в пословице - аппетит приходит во время еды. Повышению аппетита, также способствует  оформление столовой, ведь красивый дизайн интерьера школьной столовой обеспечивает положительный эмоциональный настрой учащихся и повышает аппетит. Наша столовая должна быть не только уютной и комфортной, но и нести в себе удобство для детей и персонала. Школьная столовая играет огромную роль – так как именно эстетический вид столовой и соблюдение детьми культуры питания являются залогом правильного пит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ь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рнизация обеденного зала в школьной стол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i?id=2eabf803b645965989ed1b676abe6371&amp;n=33&amp;h=215&amp;w=262"/>
          <p:cNvPicPr/>
          <p:nvPr/>
        </p:nvPicPr>
        <p:blipFill>
          <a:blip r:embed="rId1"/>
          <a:stretch/>
        </p:blipFill>
        <p:spPr>
          <a:xfrm>
            <a:off x="5486400" y="3429000"/>
            <a:ext cx="35053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уютную атмосферу в обеденном зал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эскизы обеденного зала, оформления стен, спецодежды для персонала и столовой посу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нить расположение посадочных мест, с целью удобства для школь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аботы над проект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ение эскиз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бота над проек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47579863"/>
          <p:cNvPicPr/>
          <p:nvPr/>
        </p:nvPicPr>
        <p:blipFill>
          <a:blip r:embed="rId1"/>
          <a:stretch/>
        </p:blipFill>
        <p:spPr>
          <a:xfrm>
            <a:off x="5638680" y="2286000"/>
            <a:ext cx="31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ловарная рабо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нтерье́р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архитектурно и художественно оформленное внутреннее пространство помещения, обеспечивающее человеку эстетическое восприятие и благоприятные условия жизне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означает проектировать, конструировать, творчески для себя выстраивать удобную среду обит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обеденного зал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IMG_3734"/>
          <p:cNvPicPr/>
          <p:nvPr/>
        </p:nvPicPr>
        <p:blipFill>
          <a:blip r:embed="rId1"/>
          <a:stretch/>
        </p:blipFill>
        <p:spPr>
          <a:xfrm>
            <a:off x="990720" y="1295280"/>
            <a:ext cx="63403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67816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чень важно в дизайне интерьера школьной столовой использовать качественную мебель. В нашей столовой мы хотим полностью изменить оформление зала. Также создать атмосферу уюта, чтобы можно было расслабиться во время приёма пищ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i?id=ddf6c785505975ab7d776f4cabc56c56&amp;n=33&amp;h=215&amp;w=258"/>
          <p:cNvPicPr/>
          <p:nvPr/>
        </p:nvPicPr>
        <p:blipFill>
          <a:blip r:embed="rId1"/>
          <a:stretch/>
        </p:blipFill>
        <p:spPr>
          <a:xfrm>
            <a:off x="5410080" y="3886200"/>
            <a:ext cx="32767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4:13:42Z</dcterms:created>
  <dc:creator>1</dc:creator>
  <dc:description/>
  <dc:language>en-US</dc:language>
  <cp:lastModifiedBy>Людмила</cp:lastModifiedBy>
  <dcterms:modified xsi:type="dcterms:W3CDTF">2018-03-27T17:33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