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EFC-116D-43D7-8BD9-6681E0C0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CB8-3549-49D4-A711-3BD2A012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E6D-E408-4588-984E-BE66DDCF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7D4-3546-4BD6-8F93-B68B67B9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93BD-A179-411D-BEA4-99AE4989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3208-7CBF-46AA-87BB-C848BA1D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D959-2353-4712-BBF8-049A50EA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E383-C532-414D-98A1-42781B37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7DDA-2EF6-4EBD-9B2F-BF9D0CA0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D7C3-54D3-48F8-BA74-60375905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9BBA-F080-4DB6-A07C-AF08096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224-49FC-4C44-A205-D8D16F9B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2227-B0A8-4E55-BBF9-1F31F5C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8900-5C5B-41D8-AF23-17AA5367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3BCA-AE61-4262-9A2F-192627F0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246-BEA8-439B-A3B9-5701D953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EB3B-3C84-4A47-85CD-888288AD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009-A95E-4DED-A42F-E3D297D5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7DC-ACDC-4433-BA2E-005E3329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C73-3812-4332-B8F5-C96975CB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70F-7BC2-4C99-A52C-7A8794C8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F61-E0B7-488D-8F83-4BC01B3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6B2-91A0-4719-A29A-612DA34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94E-9E85-4410-B407-FAC7429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043F-F1C4-4C38-ACDA-35BFCEEEDB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5532-0394-4DFA-ADEE-557E9D3A0F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роект «Секреты чая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1640" y="3427200"/>
            <a:ext cx="411012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гапова Ксения ученица 4-го класса МАОУ «Шипаковская ООШ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иды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2895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Чёрны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Зелёны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Красны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Белы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236232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62908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2514600" cy="192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74320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ебные свойства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769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нимает головные боли и усталость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ай является питательным продуктом и утоляет голод (в особенности с различными добавками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блегчает самочувствие во время жары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свежает и прогоняет сонливость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спокаивает, снимает стресс, гонит прочь тревог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пособствует перевариванию жирной пищ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ыводит из организма яды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длевает жизнь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вышает интеллект и способствует пробуждению его тонких свойст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ай – алфавит витаминов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Vitamins - Stock Photo Dmitry Rukhlenko #7341925"/>
          <p:cNvPicPr/>
          <p:nvPr/>
        </p:nvPicPr>
        <p:blipFill>
          <a:blip r:embed="rId1"/>
          <a:stretch/>
        </p:blipFill>
        <p:spPr>
          <a:xfrm>
            <a:off x="243828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пособы заварки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 многих народов свои национальные способы приготовления чая. Необычными мы считаем способы приготовления чая по-монгольски, по-тибетски, по-японски и даже по-английски, не говоря уже о классическом китайском способе. Национальные способы заваривания чая - результат многовекового опыта каждого народа, длительного применения чая в конкретных условиях определенной страны. Поэтому они тесно связаны с географическими, климатическими, социальными и другими условиями отдельных стра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Тибетская чайная церемония: лучшая цена и магазины, где купить"/>
          <p:cNvPicPr/>
          <p:nvPr/>
        </p:nvPicPr>
        <p:blipFill>
          <a:blip r:embed="rId1"/>
          <a:stretch/>
        </p:blipFill>
        <p:spPr>
          <a:xfrm>
            <a:off x="533520" y="1523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2767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2968560" cy="2227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048120" cy="2282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3276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197160" cy="239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200400" cy="2387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895480" y="3886200"/>
            <a:ext cx="33530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432240" cy="257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429000" cy="2587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590920" y="4038480"/>
            <a:ext cx="3504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57600" cy="2751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36288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584520" cy="2689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581280" cy="2690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895480" y="4038480"/>
            <a:ext cx="3524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ключ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й самый распространенный и полезный напиток на Земле. Он хорошо снимает утомление и головную боль, повышает умственную и физическую активность, стимулирует работу головного мозга, сердца, дыхания. Лечебные свойства чая помогают при болезнях печени, желудка, пищеварительной и нервной систем, облегчает деятельность сердц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й – сокровищница полезных для человека веществ. Недаром с древнейших времён чай считали чудесным, волшебным напитко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епития будет являться и профилактикой простудных заболевания. И ребята нашего класса будут болеть меньше и усваивать знания быстрее и без труд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тгадайте загадк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елёный, чёрный и в пакетах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сть развесной, а есть в брикетиках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вай, дружище, выручай: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Что утром пьёшь с лимоном»? 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41907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457200" y="1295280"/>
            <a:ext cx="85345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ятного чаепития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37335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чему я выбрала эту тему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амый известный напиток в мире – это чай. Чай смело можно назвать самым главным напитком в мире, напитком номер один. Ни один из известных напитков не может заменить для нас чай. В каждой семье ежедневно пьют чай. В нашей семье тоже любят пить чай. Каждое мое утро начинается с чаеп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ои вопрос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Где родина чая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ой бывает чай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меет ли чай целебные свойств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 правильно заварить хороший, ароматный чай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ставляет ли он удовольстви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ь работ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ыявление «секретов чая», т.е. какими целебными свойствами обладает чай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Чай с малиной - одно из лучших лекарств от температуры"/>
          <p:cNvPicPr/>
          <p:nvPr/>
        </p:nvPicPr>
        <p:blipFill>
          <a:blip r:embed="rId1"/>
          <a:stretch/>
        </p:blipFill>
        <p:spPr>
          <a:xfrm>
            <a:off x="2666880" y="3276720"/>
            <a:ext cx="43434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знакомиться с историей возникновения ч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зучить виды чая и его целебные свойств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знакомиться со способами заварки ч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здать брошюру с рецептами для здоровь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ипотез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едположим, что употребление чая положительно влияет на здоровье человека, а возможно проводит профилактику некоторым болезням и помогает их лечить. А так же, что чай является одним из самых полезных напитков, содержащих целебные свойств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итай – Родина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9520" y="1827360"/>
            <a:ext cx="53341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первые целебные свойства напитка были открыты в 2737-2697гг. до н.э. В 4 – 5 вв чай заваривают из нежных молодых листочков (до этого использовали только листья дикорастущих деревьев) и пьют с солью. Монахи употребляли чай в качестве ритуального питья, потом стали использовать в пищу. Чай распространялся в стране и за пределами; чай – предмет обмена на другие товары из других стран. Торговля чаем развиваться и он переправляется в Индию, Турцию и другие страны Восток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36576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ай в Росс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5840" y="1523880"/>
            <a:ext cx="5257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России чай появился в 17 в. при царе Михаиле Федоровиче. Вскоре русские убедились на практике в лечебных свойствах чая. Заболел царь, придворный врач попытался лечить его настоем чая. Результат оправдал его ожидания. В это время он стоил еще недорого, так как был мало известе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Галерея - Категория: Новости - Файл: новости_173"/>
          <p:cNvPicPr/>
          <p:nvPr/>
        </p:nvPicPr>
        <p:blipFill>
          <a:blip r:embed="rId1"/>
          <a:stretch/>
        </p:blipFill>
        <p:spPr>
          <a:xfrm>
            <a:off x="304920" y="2666880"/>
            <a:ext cx="37335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6:39:04Z</dcterms:created>
  <dc:creator>1</dc:creator>
  <dc:description/>
  <dc:language>en-US</dc:language>
  <cp:lastModifiedBy>Людмила</cp:lastModifiedBy>
  <dcterms:modified xsi:type="dcterms:W3CDTF">2018-03-27T17:13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