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3BF-DAFA-4F43-9494-E0FA08EF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D06-B927-4725-92F9-884058D7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74B-4333-4CD8-800A-5D8FA43B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461-1F93-4515-8C02-3BFA84F1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5714-BC2D-48E0-8B1A-2C6E4D13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89C1-9429-441D-AF89-92431278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2E39-2FB0-4485-84EA-E4AD70DC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397C-C525-480C-A424-9005E57C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C1FD-7E56-4284-A6FA-8624F548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8A67-D0C5-4520-ACCA-AE29E354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4AA7-870A-4AFA-AA7E-D22C6F0B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C53-1440-4663-8470-D5686401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1190-3ED1-44EC-9231-94533D4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9BED-00DD-4CF2-BBD6-6EEBDD7B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F521-95C3-49EB-969E-C43E2EAC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5AC0-D89B-49CE-A8ED-48624B6F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6F01-0263-44A6-8336-766214A6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490-A796-4F9A-86E7-0337DD99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7B0-2DA6-460A-A8CF-00267B84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C04-C288-42EB-B9BF-C2B8E304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595-168B-4234-B884-802CBC3D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44D-9A1C-4B10-A219-04D73A66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177-91F6-4A30-957C-D04C1801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181C-B840-4C6C-8D1F-DEF073F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1348-640A-43FF-AC6C-F902B4A7A5E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24A0-C469-4D2E-AA7E-9E81FD1E846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Проект «Секреты чая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1640" y="3427200"/>
            <a:ext cx="411012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гапова Ксения ученица 4-го класса МАОУ «Шипаковская ООШ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иды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2895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Чёрны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Зелёны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Красны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Белы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2362320" cy="180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62908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2514600" cy="1928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74320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ебные свойства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769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нимает головные боли и усталость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Чай является питательным продуктом и утоляет голод (в особенности с различными добавками)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блегчает самочувствие во время жары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свежает и прогоняет сонливость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Успокаивает, снимает стресс, гонит прочь тревог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пособствует перевариванию жирной пищ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ыводит из организма яды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длевает жизнь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вышает интеллект и способствует пробуждению его тонких свойст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ай – алфавит витаминов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Vitamins - Stock Photo Dmitry Rukhlenko #7341925"/>
          <p:cNvPicPr/>
          <p:nvPr/>
        </p:nvPicPr>
        <p:blipFill>
          <a:blip r:embed="rId1"/>
          <a:stretch/>
        </p:blipFill>
        <p:spPr>
          <a:xfrm>
            <a:off x="2438280" y="16002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пособы заварки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05320" y="17524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 многих народов свои национальные способы приготовления чая. Необычными мы считаем способы приготовления чая по-монгольски, по-тибетски, по-японски и даже по-английски, не говоря уже о классическом китайском способе. Национальные способы заваривания чая - результат многовекового опыта каждого народа, длительного применения чая в конкретных условиях определенной страны. Поэтому они тесно связаны с географическими, климатическими, социальными и другими условиями отдельных стра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Тибетская чайная церемония: лучшая цена и магазины, где купить"/>
          <p:cNvPicPr/>
          <p:nvPr/>
        </p:nvPicPr>
        <p:blipFill>
          <a:blip r:embed="rId1"/>
          <a:stretch/>
        </p:blipFill>
        <p:spPr>
          <a:xfrm>
            <a:off x="533520" y="1523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2767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0 дней за чашкой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2968560" cy="2227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048120" cy="2282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3276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0 дней за чашкой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197160" cy="239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200400" cy="2387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895480" y="3886200"/>
            <a:ext cx="33530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0 дней за чашкой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432240" cy="2574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429000" cy="2587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590920" y="4038480"/>
            <a:ext cx="35049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0 дней за чашкой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657600" cy="2751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36288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0 дней за чашкой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584520" cy="2689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581280" cy="2690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895480" y="4038480"/>
            <a:ext cx="35244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ключ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й самый распространенный и полезный напиток на Земле. Он хорошо снимает утомление и головную боль, повышает умственную и физическую активность, стимулирует работу головного мозга, сердца, дыхания. Лечебные свойства чая помогают при болезнях печени, желудка, пищеварительной и нервной систем, облегчает деятельность сердц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й – сокровищница полезных для человека веществ. Недаром с древнейших времён чай считали чудесным, волшебным напитком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епития будет являться и профилактикой простудных заболевания. И ребята нашего класса будут болеть меньше и усваивать знания быстрее и без труд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тгадайте загадк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елёный, чёрный и в пакетах,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сть развесной, а есть в брикетиках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вай, дружище, выручай: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Что утром пьёшь с лимоном»? 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41907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-457200" y="1295280"/>
            <a:ext cx="85345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ятного чаепития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76920" y="3505320"/>
            <a:ext cx="373356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чему я выбрала эту тему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амый известный напиток в мире – это чай. Чай смело можно назвать самым главным напитком в мире, напитком номер один. Ни один из известных напитков не может заменить для нас чай. В каждой семье ежедневно пьют чай. В нашей семье тоже любят пить чай. Каждое мое утро начинается с чаеп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Мои вопрос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Где родина чая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ой бывает чай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меет ли чай целебные свойств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 правильно заварить хороший, ароматный чай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ставляет ли он удовольстви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ь работ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7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ыявление «секретов чая», т.е. какими целебными свойствами обладает чай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Чай с малиной - одно из лучших лекарств от температуры"/>
          <p:cNvPicPr/>
          <p:nvPr/>
        </p:nvPicPr>
        <p:blipFill>
          <a:blip r:embed="rId1"/>
          <a:stretch/>
        </p:blipFill>
        <p:spPr>
          <a:xfrm>
            <a:off x="2666880" y="3276720"/>
            <a:ext cx="43434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знакомиться с историей возникновения ч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зучить виды чая и его целебные свойств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знакомиться со способами заварки ч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оздать брошюру с рецептами для здоровь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ипотез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едположим, что употребление чая положительно влияет на здоровье человека, а возможно проводит профилактику некоторым болезням и помогает их лечить. А так же, что чай является одним из самых полезных напитков, содержащих целебные свойств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итай – Родина ча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9520" y="1827360"/>
            <a:ext cx="53341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первые целебные свойства напитка были открыты в 2737-2697гг. до н.э. В 4 – 5 вв чай заваривают из нежных молодых листочков (до этого использовали только листья дикорастущих деревьев) и пьют с солью. Монахи употребляли чай в качестве ритуального питья, потом стали использовать в пищу. Чай распространялся в стране и за пределами; чай – предмет обмена на другие товары из других стран. Торговля чаем развиваться и он переправляется в Индию, Турцию и другие страны Восток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36576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ай в Росс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5840" y="1523880"/>
            <a:ext cx="5257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России чай появился в 17 в. при царе Михаиле Федоровиче. Вскоре русские убедились на практике в лечебных свойствах чая. Заболел царь, придворный врач попытался лечить его настоем чая. Результат оправдал его ожидания. В это время он стоил еще недорого, так как был мало известе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Галерея - Категория: Новости - Файл: новости_173"/>
          <p:cNvPicPr/>
          <p:nvPr/>
        </p:nvPicPr>
        <p:blipFill>
          <a:blip r:embed="rId1"/>
          <a:stretch/>
        </p:blipFill>
        <p:spPr>
          <a:xfrm>
            <a:off x="304920" y="2666880"/>
            <a:ext cx="373356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6:39:04Z</dcterms:created>
  <dc:creator>1</dc:creator>
  <dc:description/>
  <dc:language>en-US</dc:language>
  <cp:lastModifiedBy>Людмила</cp:lastModifiedBy>
  <dcterms:modified xsi:type="dcterms:W3CDTF">2018-03-27T17:13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