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91B-0063-4C54-9571-0E2139C7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636-F44D-484E-83F9-F1E85A3C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CCA54-C824-406E-AFEB-73C676B9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DA1D3-87F9-4BF1-B6A6-C1FC71E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BE60C-D6C1-46C3-AABF-DF3E1DF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5F938-7AA6-4168-AE25-71DB0AE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2286-4ECD-4E69-8E1A-B40BA8F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C8152-4CEC-42E1-8071-ABBD3CD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3F69A-E11A-4501-AF5F-54BDA5E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551D-EF17-462B-AC57-C2B109DC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ECECD-B6D8-4C27-A31F-66333F85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4074-8F62-493D-A606-AB05FA69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D39-93F6-4347-81DF-028A41D5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F892C-17A1-4700-ADA8-1C4C522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5500F-B271-486C-817A-7214049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4106A-C222-44FD-8459-F597D27B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16667-2546-4C0E-B422-68013C7A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9378-6E6C-48EC-9B63-3403420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53B05-3AC8-4263-9655-0A97629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5AB1F-FA66-4084-90D8-E3B334D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B3A0-9844-4737-8A65-82BEE6E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13259-2795-4515-B992-B4EE190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6A309-CC62-4614-9F55-A32170F3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F4C-D1D4-480F-AE25-BC53192F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9E2A-667A-4ECF-8A9E-5BE49386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458DF-1A19-4C0B-A028-DB24AEB0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FC7A-94D9-4539-BA14-F7C377F3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EDEF9-BB07-40B9-BC97-048D5D41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37208-9EC6-4300-B97C-D58BAED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3C36-C33E-437C-8046-D86F910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D4EF0-82C2-4BED-8B9D-0E2071D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26117-A89B-4947-8836-A4E6525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EBD77-402F-4D99-8B32-BBE0787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0F9D-D69D-4F92-8F18-2DF01EA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C3D5-9735-41BC-A352-1E17D5C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B287-E71D-4809-A018-A825267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D8CE8-22F6-423B-BE25-4546DEC5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3B54D-6D75-46B3-8B2F-79BF37A4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197F0-79F9-4F88-A463-2E32851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9F5D4-1772-41B4-BD07-98C7DC6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E5B98-2821-4F85-99A0-D3F7880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ABC0C-F37F-44F5-A2E2-5406778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70E37-3765-4F2B-945C-F60DA6D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45FF5-F366-40D3-9F21-0E90DE7C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39BA0-AE69-46E4-8FA7-FF513FB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1FE3-D1BB-4686-8426-438BBA8D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76CC9-C2A9-4A06-A32C-8E99299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E1FEB-A31B-46B1-8950-8356AD1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3F631-F87C-4BA8-ACAB-EA7E90F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05F79-5DC7-44D3-ABFE-8FAC256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E4225-759D-4D7F-A9A1-26F274F6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B6FB0-83B6-4208-81E3-54C38C65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0F684-102C-4B03-AB96-E989283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06805-81B9-469B-A45D-DEB4DE5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A54AA-5937-45DC-B26D-DAF202E9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25807-7874-4232-A080-DB797546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811B-02ED-44D9-BF29-D40D681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FEF53-50C4-4301-9C49-3E138DE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FB75B-E262-4742-9DFE-4DA3A82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D68E8-E406-4DE1-819B-46D1A37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E74C0-3822-448F-B543-B23B5E5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49E9E-1133-4CC9-823D-EE8EDC5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5F981-F1F2-4540-AF22-79482435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553F8-BA1F-4754-BC13-930CF750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D3C5F-CFBE-46CD-88D9-1E268D7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02CBC-AE9D-4A78-8CC4-EE5B9D6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7D545-F147-4330-8F91-98DFF05E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6F77-59F1-4F2C-BAAE-DC3868FB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DD2EB-580A-4F22-B90D-5EAF281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F6BA3-C079-4D2A-99BA-94FC8BB1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C1559-E593-4DD1-9A1A-0315E98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3881D-FE7C-4E25-99B7-7EE9E78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8FCC4-D9D7-4A40-B8EE-39E9452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BBE7E-A2C8-42C4-A169-7AEA412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537F2-71CE-4941-A70E-FB41C6AA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084A5-A9C4-4DA2-AD87-9537776A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7B16E-08D2-4077-BEBB-1C97CD19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02F94-ACF9-4521-AC84-78FBFDBE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309B-ABBD-49A8-AA33-A229641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7CC3F-BDA5-4140-B0CD-861979D0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7055A-049F-4D14-BA10-5D6C2AA9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39F7F-691E-4153-9222-4883AC6F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ABA97-E5E6-4BC2-9D8C-80AE33E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37037-E814-4C83-A4A6-CD07E9A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322DB-B6C8-4423-93EB-73640DB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78237-50C5-4D04-AC93-6233006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A362F-3565-4D1A-9C62-636A702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3BE9F-F0DF-4E7C-A2CB-4766475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8534F-7EEE-4C97-AB1A-FD995573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A1D-6DAF-48F6-AEAB-B304086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4F010-0EDF-4A4B-B7E1-3F1D3EF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BEF2B-2396-4B70-A9EA-169C6B3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86FBA-D6A6-4597-8489-FE7D597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C48C9-017B-406D-9FF7-EBBA69B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39763-DD7E-4607-9816-C3C0D0C2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F52F5-8E9A-42A7-B16C-78C060EF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888AA-8015-4937-998C-58EC4ED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4EFCD-AD45-4A6D-8A11-9ED1D70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9524A-AB45-429A-9E53-00131ED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31CFE-E47D-4605-99B7-5B7D1EC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F7AF-5601-4A85-AE6A-E861C5C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759BD-765F-4564-AC0D-E8B0562E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3E34B-F2C6-4623-9C44-EE90477D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D9DB4-0318-4E53-AAB1-DE54FC75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074C5-7B23-4430-83C1-763113BA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99066-DFBD-46E6-99E7-DAB2E7D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12C2A-68EC-4E55-83A3-D60DF1F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D1E26-0863-48F1-9ECA-026D6BA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A625D-6567-4E3D-BC91-38F7595F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51CC1-3DEE-4FFF-8E7E-FA7A67D6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3C32F-75E8-4662-A396-9A52069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E11-0E2A-4F91-B2EF-7C116B15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B33B-4369-4DAA-A45C-EC8FE16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62A78-35F6-4BE7-9C53-3786C0C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DB689-0C04-4C52-ADA3-0514AE2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43500-8F7B-4999-A449-9A8A4E2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C81C8-25A8-4DBE-8CDF-F1D30966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3CD4E-BD62-4564-8A66-D12C61DE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A7428-0C5B-4FFD-9DFF-21FABED6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D935C-B624-42F1-A302-8D82C3A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127B2-AD00-4EEE-A19E-8DF67D3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D66AD-B115-4E5E-A6E3-0548768D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541FA-C923-440F-8937-E322828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625-7AF7-4758-AF9A-635C2D88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50340-4212-43C0-B05F-3895322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B2331-6B6E-4246-83E3-FE05A8B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E2BE8-AB74-4222-A7A5-54D3086F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640DA-A3AD-49FB-82D3-857965FE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5276F-8C5C-44AF-A227-EB2DDCF1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41E90-4072-43F4-B031-A7A51010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313E1-D36E-4819-B58D-342DFEB1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20C7B-55FD-4E80-967B-764583D2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239E7-270C-4019-9039-8ED216D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C48F6-A555-4702-B738-D41C8345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D136-9B3F-46D6-8650-40EEE5A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E7B46-8A1A-4E97-9D1C-C89144B6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BF48E-1AC3-4D7D-AE6F-D6C9ECE3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21FED-0FB7-43C1-BD1D-9096287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4E557-A8A6-4496-92A1-870B4FD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8AA73-EDB6-4968-8F0E-628C1FD4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39FDA-8A75-40F3-AFAC-6740E1A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C9F05-DD3A-47A1-ACCC-F7635A6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CAB2A-B41D-467F-80AF-DCDC5CC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A05F9-747F-4B37-A0E6-2242ABD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D1B-F2CA-42ED-AA7B-8C75D731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EDD-739E-43F9-A51F-7AF5280F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159A-9074-4756-B746-A4DC20F7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8D7C-0C04-40AE-96AE-8298768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A13C-E8ED-4612-8D28-9CAA91A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87A3-912B-4EE8-A3E0-AA1863BC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42FD-E4B5-40F0-B0F8-FB1FA52F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68D-D17A-4825-92FB-1BDD5A1F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A12C-DBFF-4FDC-B5C2-C607AD7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B5E0-736E-47E5-9F07-976845E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1F8B-BD25-4967-8FF1-08C99740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1373-7EFB-4FC8-A7D7-D9D56C6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BEBF-683C-40BF-BD52-D9C26524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AE4B-DEB6-464C-BA9F-3901ED93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8E2E-A9CF-4842-8833-6A5B4EB1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5298-4FF3-401D-86DE-3448924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B0D5-C3B8-4584-9588-14B38459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84EF-D8D7-4462-9532-B8F19A88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E54-9DB6-4BE5-9395-19B7763E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6784-AE43-443E-9DF5-4A326B5F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2D5B-A9DF-4E77-8A5F-4B95604C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9985-F22F-4911-B152-C7EA4BFE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17BF-763F-4029-9C3B-2C04D48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BBEF-4CEC-413D-A094-A0F3FBF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FEE6-268B-4552-BD46-1CAC391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0B02-9F31-4951-A78C-B67DC8D0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3193-3810-4FA5-9C32-F504AC97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223A-FB4F-4DC1-9127-C4E0B33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F91D-F9BD-4DB3-B5D7-36547F6B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60-1ECE-4FF7-BE70-8CA60974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00BB-E3D3-4DC5-9514-BE5209C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EB68-8AA3-4558-BBAE-2FFFAE52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B454-32E0-407B-B6A0-0BDA097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615E-CA81-49AC-AA3C-D2B08E9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A3F6-6888-4200-A2D7-03D5A3A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D08A-66F5-4475-8C5F-6885659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998B-D071-4AA7-A719-711B8CA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4711-EC19-4CDA-8098-0CF9682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EF32-E199-4559-B79D-7857D70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E6AE-59D1-4680-90D7-3FAD5B7A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08C-7141-4305-B2CD-5A6E6899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64E9-EF38-42A5-8EAB-C2BCBF92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E11D-62F2-4EE9-AB21-26956846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17C2-EC24-447B-95A4-76B8485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3D43-C82E-4E64-AEA7-F9E77E82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084B-420E-4E15-9E8B-D5051505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449DC-0A30-48C6-B3C0-38674A5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1C65-1972-4E32-8B60-46C6111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585A-4644-4ED6-92FB-B3DF357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DA41-2BDA-4858-8D73-55696DB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CC4A-FD73-478C-851F-8674830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616-D011-4A62-8AE9-EDDDEB6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AEC4-BD25-4A39-AC64-7C784AD5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782B-78E7-414A-B351-88827FD7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5443-0CD0-4A88-A674-5264557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4622-98ED-445E-903B-5095A56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C8C5-25BB-4410-BDD5-1669BC3B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4CBA-4C09-41F8-89CF-F83F455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D5E2-026D-4384-BD50-79817BFE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8CE6-1CC0-45B0-9F7D-67032373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AC11-17D4-40B5-9833-30CB2838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A390-968B-4988-B100-B0858CA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2C2-945B-4D8E-8BFB-5A1D037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8C4C-C8C4-4E72-BB13-E9D5586E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872FB-F1C1-4549-A032-C44CB29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47F77-8095-4AF7-AA81-ADDA20D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7B39-D094-4506-9BD2-89825450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DC70-65C3-44D2-8ECD-67F886D5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A8235-A478-497A-AA55-E1DD0358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BFEB-3842-47FE-A6B3-4DFB396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3440-7CD6-42B9-881C-E686031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34ED-7102-4803-B61A-F55DFB6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D94C-46EF-4D27-BB6D-5A33436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03A-50E1-4C10-B9E4-F2E8DD7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6118-A815-4E8F-91CE-07372327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522C-F37E-410E-920B-F89A8AD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DB170-A16F-43AA-BAD1-FF611D57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82540-0512-41EC-9997-88CF80C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95A8-3B7D-49B1-856C-8804802B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9461-9CE0-4C9F-A540-9122AC5C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0258-0237-486B-B768-8C76A86B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B8AF6-4461-4416-A622-B519B52D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E8DE-67DD-4C1F-A0A9-34468A2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0C13F-1CE5-4EC2-837F-AE10DBD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F2F8-E8C7-4C10-BFB1-AA28D80CAA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B787-34EF-40CB-B57D-86EF2367CC7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426-3828-4FD8-9E7C-47C44D93FAD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1CE9-D4BA-474E-BB94-061AD864549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7588-0012-4DBD-9195-3FAE1D41951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C7D-7E5C-4C21-90B9-4306E49D4B6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38D2-4BD3-4D0E-8D16-BBE7C4E3E31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5DC1-556B-4C0D-B072-613EF4A8AB5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4C7-0A59-47B8-9CB0-1A1908388E8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5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5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5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65B-EEE2-4321-9984-7A479F160C2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5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5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5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07C6-E91C-4ABD-B0E4-A2A7535D671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299-23CE-45EC-9232-E2D6F6D39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6C79-EFF7-4102-B26B-726BB6D97B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FDE-6929-411C-B2E9-13B339DB27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21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22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99C8-6A51-4232-9FAC-BCAC247372B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31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318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319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Oval 12"/>
                  <p:cNvSpPr/>
                  <p:nvPr/>
                </p:nvSpPr>
                <p:spPr>
                  <a:xfrm rot="16200000">
                    <a:off x="883008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3"/>
                  <p:cNvSpPr/>
                  <p:nvPr/>
                </p:nvSpPr>
                <p:spPr>
                  <a:xfrm rot="16200000">
                    <a:off x="876384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4"/>
                  <p:cNvSpPr/>
                  <p:nvPr/>
                </p:nvSpPr>
                <p:spPr>
                  <a:xfrm rot="16200000">
                    <a:off x="883476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5"/>
                  <p:cNvSpPr/>
                  <p:nvPr/>
                </p:nvSpPr>
                <p:spPr>
                  <a:xfrm rot="16200000">
                    <a:off x="890424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6"/>
                  <p:cNvSpPr/>
                  <p:nvPr/>
                </p:nvSpPr>
                <p:spPr>
                  <a:xfrm rot="16200000">
                    <a:off x="8830080" y="200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7"/>
                  <p:cNvSpPr/>
                  <p:nvPr/>
                </p:nvSpPr>
                <p:spPr>
                  <a:xfrm rot="16200000">
                    <a:off x="8778600" y="175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5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33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5" name="Freeform 46"/>
            <p:cNvSpPr/>
            <p:nvPr/>
          </p:nvSpPr>
          <p:spPr>
            <a:xfrm>
              <a:off x="7953480" y="4911120"/>
              <a:ext cx="1190520" cy="1937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7939080" y="4860360"/>
              <a:ext cx="1219320" cy="199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Freeform 48"/>
            <p:cNvSpPr/>
            <p:nvPr/>
          </p:nvSpPr>
          <p:spPr>
            <a:xfrm>
              <a:off x="7927920" y="2823120"/>
              <a:ext cx="1231920" cy="40312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Freeform 49"/>
            <p:cNvSpPr/>
            <p:nvPr/>
          </p:nvSpPr>
          <p:spPr>
            <a:xfrm>
              <a:off x="8010360" y="3542760"/>
              <a:ext cx="97956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Freeform 50"/>
            <p:cNvSpPr/>
            <p:nvPr/>
          </p:nvSpPr>
          <p:spPr>
            <a:xfrm>
              <a:off x="8244000" y="435600"/>
              <a:ext cx="914400" cy="50410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8250120" y="270720"/>
              <a:ext cx="909720" cy="3067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7943760" y="9000"/>
              <a:ext cx="576360" cy="3348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Freeform 53"/>
            <p:cNvSpPr/>
            <p:nvPr/>
          </p:nvSpPr>
          <p:spPr>
            <a:xfrm>
              <a:off x="7943760" y="10440"/>
              <a:ext cx="300240" cy="33483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AutoShape 56"/>
            <p:cNvSpPr/>
            <p:nvPr/>
          </p:nvSpPr>
          <p:spPr>
            <a:xfrm rot="5400000">
              <a:off x="4328640" y="3320640"/>
              <a:ext cx="68486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9A3-1E52-49FD-B44D-9EBF43D699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EB6-99E8-4033-A372-355CA97449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461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465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6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8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9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04F-D652-4DE1-9246-E7528D02DD7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D5B-BCF2-4E54-92B7-85CDB75C52C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Семинар для педагогов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«Рабочие программы учителя основной инструмент реализации ФГОС УО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73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И.Н.Моржана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П.И. Омар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Дата: 13.12.2016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2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143000" y="31392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Адаптированная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сновна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общеобразовательная программа — это  образовательная программа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бщего образования детей с ограниченными возможностями здоровь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, разработанная на основе ФГОС обучающихся с ОВЗ с учетом особенностей их психофизического развития, индивидуальных возможностей, и обеспечивающая коррекцию нарушений развития и социальную адаптацию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94920" y="620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огласно ч. 7 ст. 12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и, осуществляющие образовательную деятельность по имеющим государственную аккредитацию образовательным программам, разрабатывают образовательные программы в соответствии с федеральными государственными образовательными стандартами и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с учетом соответствующих примерных основных образовательных програ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Прямоугольник 1"/>
          <p:cNvSpPr/>
          <p:nvPr/>
        </p:nvSpPr>
        <p:spPr>
          <a:xfrm>
            <a:off x="785880" y="357120"/>
            <a:ext cx="7929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сключительным правом на разработку и утверждение АООП обладает образовательная организация. Согласно ч. 5 ст. 12 Федерального закона № 273-ФЗ «образовательные программы самостоятельно разрабатываются и утверждаются организацией, осуществляющей образовательную деятельность». Ст. 28«Компетенция, права, обязанности и ответственность образовательной организации» подтверждает это положение. Она относит к компетенции образовательной организации в установленной сфере деятельности разработку и утверждение образовательных программ образовательной организации. Сама же ОО решает вопрос о целесообразности проведения экспертизы разработанной АООП. Согласования образовательной программы не требуется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Прямоугольник 1"/>
          <p:cNvSpPr/>
          <p:nvPr/>
        </p:nvSpPr>
        <p:spPr>
          <a:xfrm>
            <a:off x="428760" y="336600"/>
            <a:ext cx="785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 ФГОС О УО выделены 2 варианта АООП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легкой умственной отсталостью, у которых нет других наруш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умеренной, тяжелой и глубокой умственной отсталостью, с множественными нарушениями, обучаются по СИП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ение варианта АООП для обучающегося с ОВЗ осуществляется в соответствии с рекомендациями психолого-медико-педагогической комиссией (далее – ПМПК). А в случае наличия у него ИПРА – с учетом ее требований и мнения родителей. В процессе реализации АООП возможен переход с одного варианта на другой в соответствии с динамикой развития ребенка и подтвержденной рекомендациями ПМПК и с учетом мнения родителей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Рабочая программа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но-управленческий документ образовательного учреждения, характеризующий систему организации образователь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ая программа показывает, как с учетом конкретных условий, образовательных потребностей и особенностей развития обучающихся, педагог создает индивидуальную педагогическую модель образования на основе ФГО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ким образом, рабочая программа по предмету - это документ, который составляется с учетом особенностей образовательного учреждения, особенностей обучающегося конкретного кла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бочая программа - индивидуальный инструмент педагога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андар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ЛИЧНОСТНЫЕ РЕЗУЛЬТАТЫ ОБРАЗОВАТЕЛЬНОЙ ДЕЯТЕЛЬНОСТ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ценностных отношений обучающихся — к себе, другим участникам образовательного процесса, самому образовательному процессу и его результатам, сформированные в образовательном процесс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mbria"/>
              </a:rPr>
              <a:t>Деятельностный 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одход к организации процесса обучения, в котором на первый план выходит проблема самоопределения ученика в учебном процессе. Целью деятельностного подхода является воспитание личности ребенка как субъекта жизне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истема оценки учебных достижений обучающихс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и состав инструментария, включающая описание объекта и содержание оценки (требования, структурированные в соответствии с используемой таксономией); критерии и процедуры оценивания; формы представления результатов; условия и границы примен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НЕУРОЧНАЯ (ВНЕУЧЕБНАЯ) ДЕЯТЕЛЬНОСТЬ обучающихся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85440" y="182880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деятельностная организация на основе вариативной составляющей базисного учебного плана, организуемая участниками образовательного процесса, отличная от урочной системы обучения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Структура Программы учебных предметов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(по ФГОС) 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пояснительную записку, в которой конкретизируются общие цели образования с учетом специфики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общую характеристику учебного предмета, коррекционного курса с учетом особенностей его освоения обучающими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описание места учебного предмета в учебном пла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личностные и предметные результаты освоения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содержание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 описание материально-технического обеспечения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Cambria"/>
              </a:rPr>
              <a:t>Понятийный аппара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учающийся с ограниченными возможностями здоровь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изическо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273-ФЗ, ст.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атус «Ребенок с ОВЗ» устанавливает ПМП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1b1d"/>
                </a:solidFill>
                <a:latin typeface="Calibri"/>
              </a:rPr>
              <a:t>Примерные варианты тематического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57120" y="642960"/>
          <a:ext cx="8572680" cy="5857920"/>
        </p:xfrm>
        <a:graphic>
          <a:graphicData uri="http://schemas.openxmlformats.org/drawingml/2006/table">
            <a:tbl>
              <a:tblPr/>
              <a:tblGrid>
                <a:gridCol w="428760"/>
                <a:gridCol w="928800"/>
                <a:gridCol w="772920"/>
                <a:gridCol w="754200"/>
                <a:gridCol w="901440"/>
                <a:gridCol w="862200"/>
                <a:gridCol w="988920"/>
                <a:gridCol w="957240"/>
                <a:gridCol w="988920"/>
                <a:gridCol w="9892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 п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 ви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териально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ГО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еспечение, в т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разовательной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ч. ЭО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"/>
          <p:cNvSpPr/>
          <p:nvPr/>
        </p:nvSpPr>
        <p:spPr>
          <a:xfrm>
            <a:off x="3432960" y="-729000"/>
            <a:ext cx="22780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3480" rIns="660240" tIns="57456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4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"/>
          <p:cNvGraphicFramePr/>
          <p:nvPr/>
        </p:nvGraphicFramePr>
        <p:xfrm>
          <a:off x="142920" y="928800"/>
          <a:ext cx="8858160" cy="2514600"/>
        </p:xfrm>
        <a:graphic>
          <a:graphicData uri="http://schemas.openxmlformats.org/drawingml/2006/table">
            <a:tbl>
              <a:tblPr/>
              <a:tblGrid>
                <a:gridCol w="665280"/>
                <a:gridCol w="641160"/>
                <a:gridCol w="1278000"/>
                <a:gridCol w="900000"/>
                <a:gridCol w="1095480"/>
                <a:gridCol w="1200240"/>
                <a:gridCol w="1334880"/>
                <a:gridCol w="871560"/>
                <a:gridCol w="871560"/>
              </a:tblGrid>
              <a:tr h="1234800">
                <a:tc rowSpan="3">
                  <a:txBody>
                    <a:bodyPr lIns="0" rIns="0" tIns="0" bIns="0" anchor="b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дата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держани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 ФГО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едства обучения 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ррекционной рабо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ом,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7" name="Rectangle 2"/>
          <p:cNvSpPr/>
          <p:nvPr/>
        </p:nvSpPr>
        <p:spPr>
          <a:xfrm>
            <a:off x="3869640" y="18288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5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1049" name="Picture 2" descr="C:\Users\Sideswipe\Desktop\slide_14.jpg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1143000" y="15984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разовательная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7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74912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190b81"/>
                </a:solidFill>
                <a:latin typeface="Calibri"/>
              </a:rPr>
              <a:t>Понятийный аппарат: сокращени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356840" y="981000"/>
            <a:ext cx="765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У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ый учебный п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С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альная индивидуальная программа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ая программа реабилитации (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сновная образовательная программа (образовательного учре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бразовательная программа (обучающегося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Б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азовые учебные действия (для нецензового образ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Федеральный государственный образовательный стандарт - как поняти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андарт</a:t>
            </a:r>
            <a:r>
              <a:rPr b="1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от англ. </a:t>
            </a:r>
            <a:r>
              <a:rPr b="0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tandard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— норма, образец) в широком смысле слова — образец, эталон, модель, принимаемые за исходные для сопоставления с ними др. подобных объектов. Стандарт в Российской Федерации — документ,  устанавливающий комплекс норм, правил, требований к объек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 станда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т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танавливает ряд требований к содержанию, структуре и условиям образования детей на разных ступенях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Рисунок 1" descr="http://kirovskschool2.ucoz.ru/school/fgos_noo/f.jpg"/>
          <p:cNvPicPr/>
          <p:nvPr/>
        </p:nvPicPr>
        <p:blipFill>
          <a:blip r:embed="rId1"/>
          <a:stretch/>
        </p:blipFill>
        <p:spPr>
          <a:xfrm>
            <a:off x="6072120" y="6000840"/>
            <a:ext cx="2895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ормативный документ, определяющий совокупность требований к результатам освоения основной образовательной программы, ее структуре и условиям реализ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 образования обучающихся с умственной отсталостью (интеллектуальными нарушениями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ость обязательных требований при реализации адаптированных основных общеобразовательных программ  в организациях, осуществляющих образовательную деятельность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Под специальными условиями для получения образова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0" i="1" lang="ru-RU" sz="1800" spc="-1" strike="noStrike">
                <a:solidFill>
                  <a:srgbClr val="35353e"/>
                </a:solidFill>
                <a:latin typeface="Calibri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граниченными возможностями здоровья понимаются условия обучения, воспитания и развития таких обучающихся, 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 и индивидуальных коррекционных занятий, обеспечение доступа в здания организаций, осуществляющих образовательную деятельность, и другие условия, без которых невозможно или затруднено освоение образовательных программ обучающимися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Прямоугольник 3"/>
          <p:cNvSpPr/>
          <p:nvPr/>
        </p:nvSpPr>
        <p:spPr>
          <a:xfrm>
            <a:off x="428760" y="750960"/>
            <a:ext cx="83912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терминологии Федерального закона № 273-ФЗ «Об образовании в Российской Федерации» от 29 декабря 2012 г. образовательные программы для обучающихся с ОВЗ относятся к адаптированным образовательным программам. В соответствии с п. 28 ст. 2 Федерального закона № 273-ФЗ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21:11Z</dcterms:created>
  <dc:creator>Sideswipe</dc:creator>
  <dc:description/>
  <dc:language>en-US</dc:language>
  <cp:lastModifiedBy>Sideswipe</cp:lastModifiedBy>
  <dcterms:modified xsi:type="dcterms:W3CDTF">2018-03-27T10:56:44Z</dcterms:modified>
  <cp:revision>20</cp:revision>
  <dc:subject/>
  <dc:title>Слайд 1</dc:title>
</cp:coreProperties>
</file>