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</p:sldMasterIdLst>
  <p:sldIdLst>
    <p:sldId id="256" r:id="rId21"/>
    <p:sldId id="257" r:id="rId22"/>
    <p:sldId id="258" r:id="rId23"/>
    <p:sldId id="259" r:id="rId24"/>
    <p:sldId id="260" r:id="rId25"/>
    <p:sldId id="261" r:id="rId26"/>
    <p:sldId id="262" r:id="rId27"/>
    <p:sldId id="263" r:id="rId28"/>
    <p:sldId id="264" r:id="rId29"/>
    <p:sldId id="265" r:id="rId30"/>
    <p:sldId id="266" r:id="rId31"/>
    <p:sldId id="267" r:id="rId32"/>
    <p:sldId id="268" r:id="rId33"/>
    <p:sldId id="269" r:id="rId34"/>
    <p:sldId id="270" r:id="rId35"/>
    <p:sldId id="271" r:id="rId36"/>
    <p:sldId id="272" r:id="rId37"/>
    <p:sldId id="273" r:id="rId38"/>
    <p:sldId id="274" r:id="rId39"/>
    <p:sldId id="275" r:id="rId40"/>
    <p:sldId id="276" r:id="rId41"/>
    <p:sldId id="277" r:id="rId42"/>
    <p:sldId id="278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" Target="slides/slide1.xml"/><Relationship Id="rId22" Type="http://schemas.openxmlformats.org/officeDocument/2006/relationships/slide" Target="slides/slide2.xml"/><Relationship Id="rId23" Type="http://schemas.openxmlformats.org/officeDocument/2006/relationships/slide" Target="slides/slide3.xml"/><Relationship Id="rId24" Type="http://schemas.openxmlformats.org/officeDocument/2006/relationships/slide" Target="slides/slide4.xml"/><Relationship Id="rId25" Type="http://schemas.openxmlformats.org/officeDocument/2006/relationships/slide" Target="slides/slide5.xml"/><Relationship Id="rId26" Type="http://schemas.openxmlformats.org/officeDocument/2006/relationships/slide" Target="slides/slide6.xml"/><Relationship Id="rId27" Type="http://schemas.openxmlformats.org/officeDocument/2006/relationships/slide" Target="slides/slide7.xml"/><Relationship Id="rId28" Type="http://schemas.openxmlformats.org/officeDocument/2006/relationships/slide" Target="slides/slide8.xml"/><Relationship Id="rId29" Type="http://schemas.openxmlformats.org/officeDocument/2006/relationships/slide" Target="slides/slide9.xml"/><Relationship Id="rId30" Type="http://schemas.openxmlformats.org/officeDocument/2006/relationships/slide" Target="slides/slide10.xml"/><Relationship Id="rId31" Type="http://schemas.openxmlformats.org/officeDocument/2006/relationships/slide" Target="slides/slide11.xml"/><Relationship Id="rId32" Type="http://schemas.openxmlformats.org/officeDocument/2006/relationships/slide" Target="slides/slide12.xml"/><Relationship Id="rId33" Type="http://schemas.openxmlformats.org/officeDocument/2006/relationships/slide" Target="slides/slide13.xml"/><Relationship Id="rId34" Type="http://schemas.openxmlformats.org/officeDocument/2006/relationships/slide" Target="slides/slide14.xml"/><Relationship Id="rId35" Type="http://schemas.openxmlformats.org/officeDocument/2006/relationships/slide" Target="slides/slide15.xml"/><Relationship Id="rId36" Type="http://schemas.openxmlformats.org/officeDocument/2006/relationships/slide" Target="slides/slide16.xml"/><Relationship Id="rId37" Type="http://schemas.openxmlformats.org/officeDocument/2006/relationships/slide" Target="slides/slide17.xml"/><Relationship Id="rId38" Type="http://schemas.openxmlformats.org/officeDocument/2006/relationships/slide" Target="slides/slide18.xml"/><Relationship Id="rId39" Type="http://schemas.openxmlformats.org/officeDocument/2006/relationships/slide" Target="slides/slide19.xml"/><Relationship Id="rId40" Type="http://schemas.openxmlformats.org/officeDocument/2006/relationships/slide" Target="slides/slide20.xml"/><Relationship Id="rId41" Type="http://schemas.openxmlformats.org/officeDocument/2006/relationships/slide" Target="slides/slide21.xml"/><Relationship Id="rId42" Type="http://schemas.openxmlformats.org/officeDocument/2006/relationships/slide" Target="slides/slide22.xml"/><Relationship Id="rId43" Type="http://schemas.openxmlformats.org/officeDocument/2006/relationships/slide" Target="slides/slide23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7B1AF-18D1-4570-9DAB-A924006AC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44631-3887-4AE5-8B23-5BA4BF547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325C06-E555-4CB2-B453-188E4E823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C73A5E-B57E-4F0D-A840-2CBFA79A1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0E2586-70A6-4AC2-9302-DBD787208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600DCB-687C-488C-8381-7E887D7A1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464B8A-0980-4439-97EE-1C27B28D5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F36588-D55D-4C77-BBC1-5848B3AA7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3CD7EA-ABC2-42E8-85C0-EEFE1B4F9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59436B-3647-4923-AEB5-8626CEC9F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ECAA6F-70DC-4584-958B-6FC6E0CB2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1FEDB3-D78D-4EFD-91CA-8F453F89C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1FEFD-24A3-4CC6-8BBF-107608135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CC3C71-BFE3-4635-8206-2B06D527E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CA4222-CECA-4E62-9179-4EF99D22F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424A71-DABC-4218-BE1B-A00B98E76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CC2EAC-4926-4F45-9CDD-244DAD488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4EFDDE-9BDD-4614-8485-2627AF57B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6D1C67-6524-4919-83CE-1E43DC9D5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61B0F5-8166-4ABF-92DC-4B96D384F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332228-9C18-4CDD-9263-D08CCA925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D577DD-CC53-484E-80FD-452F1F56F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ECE138-CC85-4DC4-BCBF-A2F041727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688C4-A7B0-4AB1-8F3D-607E03F75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104179-0216-45BA-BD47-D099A2378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0F1683-BE78-4856-BC5A-0419EB9B8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6BE437-51DA-47B9-912B-851BCB872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36F18F-E0D2-44D6-896B-F69EFE2D2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A99DFE-5368-4BAE-AD0F-240032BDF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0B1DDB-DE5C-4ECA-A3A3-8040048F3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084CB4-5C81-4B0C-B4BD-1611EC2E1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B7B763-44FE-4774-B073-E81AB0218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C89178-5910-473B-BF2E-E7365C229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AB8560-06BC-4E65-A19B-7CD77462F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737BB-6BE2-4F2C-891E-DCE411B58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BB7CFB-F34D-434D-B2E0-237A9B74D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B374EC-1760-4A87-8633-ACB114E31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610C92-65C3-49A2-828F-98C3F2A35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524572-B7F5-43F5-872B-11A3229D4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673421-16EA-446E-AED3-C2B6543BA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90ECED-3A32-488A-B99A-1D7AC25E1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7254F0-D83B-41BF-936F-DE67447D7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2B4638-B8A3-491D-B20D-C10FCFAC2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8CD97E-6E4A-48EE-B2AD-2B42C796B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54327F-0701-4A97-90C7-3F9DEBE65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FAB0F-1C58-4FA9-9E03-8FBFADCCC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6BAA97-6BAB-4E7B-AF0B-81EEB6A75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76ECDB-D81F-4FBC-A62B-C941C51A7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3C9949-E44D-4926-B562-99A546027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32E4C8-425B-4472-A126-C62A6214C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180E61-A612-44F5-886D-579A5CE07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3D109CF-B754-4335-8644-DE38000D1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D1C80C2-F9AB-4BE7-9229-FE9A4E152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8D73F7A-CE52-4807-B9AD-FD879D1A8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B0915C8-A04E-4F02-88A8-526FFE4C5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6FB0FCF-91BC-4155-B02A-0D671971B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49159-A5A8-4F5A-B565-4C7860290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6699532-D77C-4C62-8595-0B17F5CBC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6382400-0ED5-43A9-936D-BB8C2E2ED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F4DB6F5-B329-473A-A3BA-9A4A5E3E5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D9F21E4-EA9E-4AA7-B4D0-15E4A4C5F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8DD4490-E2B4-427D-8A0A-DBE76E637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859C24E-BE68-44F6-9F44-94F3B08F7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1A630FA-CF14-4572-BE3A-F23CBCDF7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4A70BB8-B909-4BE7-98F3-8EC311357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F2E1BC5-5212-4C8A-9D5C-40A4290E9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F6C3734-AB8B-4D8D-97A4-6ADC926CE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DA0F8-AF1F-48ED-930E-5BF252BE5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9579EAB-5986-40AF-90AF-A856D885D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74B9638-8B9B-4CB1-9A6C-FC941BC9C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0150685-DA15-412D-8D50-C8E2485E4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8C9DD5F-1035-4E57-B7CC-710F5383F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4F32357-F57C-4A9D-A19C-E71A647AF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924CA26-ACF2-47F8-8D10-1CF35D81A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E2B0587-996B-483A-AE26-6E925E0AE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509E0AD-5D68-4178-9EE9-DBBBA8D73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A56A060-DCCE-4824-A3F1-6BE02C16B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7D7B87F-2F3F-45F3-BB15-52FD74FC5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DC4A4-D894-4962-A913-7E36DE50B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A09F3D2-2E87-4395-82FB-0D232E369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6A68070-1A99-4F27-9D00-73F94D30C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B9ACE53-22AE-4B94-95FD-512F3218F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7376E03-16EE-4E2D-ADDB-4C3A5F67D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0C9A85C-FBBF-4073-BE94-2FB71D803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110331F-FDD2-470B-A3ED-0CECF9D0B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49598A2-C165-4D58-8049-C92D2550A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D581D88-6533-440E-9953-8FB89F31C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222276A-3921-4BC3-81A5-20338548C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4060488-6664-4E99-9559-018945BA6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C3921-B008-4DC5-9844-875036325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B4E5A64-A93D-44F2-B3B2-020369DF7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37F84C3-42BA-400A-95FA-EAA9F32B4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DC71957-C980-4AEA-9FC6-E6CD198DF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0EFD247-6BB7-4592-984D-B3E7308C2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4C6B960-4594-4B9B-90CB-161BC3CC7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32B231D-68F3-4EA8-8CC2-852EEB40F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8FF937C-C154-496B-8305-ABD1FBFE6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ECDA5FF-1ECD-4D63-8CC7-26A9D7F28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9DC7893-B506-4C29-9BFF-EE57AC11C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C2BCF79-45B9-4445-B498-7DFAF5034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71F91-A920-4006-9F63-7FC15C473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33430DD-2642-4026-8A3E-04C8EB7B3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C98F080-9577-4749-A859-E42297F40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4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9D0FEA6-6FF9-41E8-894B-B6C49D226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BE405FC-BF5D-42D1-9420-E4E9C3766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32AB599-7030-4669-916E-CBCB87650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1F8E5E5-4167-4959-A4B7-46FDEE1EE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9C20F70-BACF-4D37-8707-3494F394F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9CC482D-13F1-43B8-AFBD-718993BC7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7342204-ECDD-4462-B0B8-9998282A3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C8822CA-9011-45EF-B8E0-6D958CF37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7B6EB-31EB-4953-8A06-F6649B924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D895E-2ED0-4B56-AC89-3B639F38D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24D6D8D-1518-408D-9BD4-391B41238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32A61F8-0A62-4E58-A616-43CFF5F7B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1C1E18D-38CB-4A86-953B-9D7876760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0005806-4AAF-44F3-A7E9-F03A7CE55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C95F684-75A4-4276-BB6D-B7282F2F4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DBCCB9A-4973-405E-A406-5378409DF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5156E92-91DA-4A52-9650-954F96B38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AE05961-27B9-409A-847D-95BBB1E63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C9F5A35-5467-4D4C-A616-95B32FA67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E0F05FD-2D45-4C6B-AD1F-8A698FA86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86ADE-0D50-4843-BA0D-0C163738B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BFAD94A-B086-4DFE-86AF-52CFAC988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C15BA55-3D89-4504-B9AF-30C30F50B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2A44174-D825-4D82-BC0F-B439C26A7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0D739CF-F2FF-4003-9368-E741E211A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086055D-72C7-4A02-B5A4-74C52F1F5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7D69963-48A9-440B-935E-7FE5197A7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0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13B19E3-FBDD-4EE7-84BE-21EF86A47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D0CBB00-9AD2-4DAC-AC91-A399263C9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A9070DC-F34D-435B-8B17-51069E738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E6B11DB-F2E0-4E54-9280-7BC64E3A2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3FA5D-BB79-4FE0-9441-429BAA572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95F5611-3553-41E1-AD44-82E2A0788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D9824ED-DF34-4EB0-A26D-F084D6DFB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51DA63F-F928-4A5D-B77E-40D745461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2290C0D-7656-42BD-8869-56CFDC1F2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127A04E-32FE-48B1-AF68-E77343D13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3FA4AFF-1D3B-476D-BCDC-9C3644F35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DF8FF3C-1347-48E8-9B03-ADBAC729F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7E85610-4312-42B1-A0CB-272FBA6D3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7B31B19-F68F-46AA-92D5-C054DF95F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61F52-635B-4916-BFFF-7D3264370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5F9FA-390A-49E0-B8FD-8121E1B7E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E7D4E4-B47B-494E-988B-80D9ACBD6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4CF929-6876-413B-8CAB-EE4CEA291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2CF9CA-5903-4402-8A3E-E56AFE748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649A37-1832-4E63-ADA9-B114617F4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23588B-53AF-495D-8843-29872591E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0AF4A-9820-4CBE-AE03-FE8C11036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E79614-3D1C-45FD-8BB5-008B3D45D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EF218D-6B36-44CD-902D-D12589B1E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5C9948-B4AD-4334-9548-524D4D0B2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D702DD-43D7-48E2-8C5F-A8C21D3B6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CAA67C-0ABD-41D2-89B7-3F8E40679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207900-138D-4CBE-B7C5-4F4FAF6E0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D173FA-9AF1-4803-8682-119412BC3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EAFC15-088C-4F5D-906B-DEE17567C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D0CBCF-9675-491D-8871-50253F505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D46302-C223-4A3F-BDB7-6F8D8B815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306BE-3BE0-4EF0-A3E2-EF8E1BBAE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A11AAD-191A-47EC-BBFC-5FAB41A10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11F8E3-6B2B-4F9E-B931-222D9050A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262BCC-B2FB-4D2C-9175-6DB0BB78E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750BE2-48F2-4BAD-A829-265C6F841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0EFEB3-D710-4DDB-A149-B79ADC7FD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C3B465-7217-459F-9F5B-E49EDCBD7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46FBDC-7782-4DC7-9CDA-4B242DD53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70DBC6-A946-4399-9E44-D2E65C339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C2B16B-C7DF-4C4B-B12C-97FD07CD0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DFD127-1A48-4263-AC2D-773D68D5B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524D5-3AE2-4EF5-9C8B-C5470E4B9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D4E86C-CE1E-41D3-9821-AFD485430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5D43DF-79B4-4C32-B282-623FD0A22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0B1B4C-ECA1-4B55-B3C7-34E2A31C3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30A3B6-D851-411C-A85B-7F7304026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97BB0F-737F-48A5-90EC-FB1A47392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B2C4F1-F111-4927-A16E-593C20F2E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0B9C21-A8F8-4FD3-8DFE-1C18C3F63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1872F0-CBA3-46FF-9925-102712784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774118-29E8-427A-87BA-9986597AD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658639-3D48-44F9-9B74-224ECD708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C713F-29A6-4A36-929B-EBF92EA24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E54C72-C31B-4A28-B475-B54A0F8F0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93A403-7383-4DBD-9782-9F1FC6F99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60E3D8-7ABF-4F9E-9A68-F6F1045D6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F364C8-EC56-47C5-91AE-323CC4DF1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37B771-39E3-47CC-82E0-C8B2D412A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DC032F-15A1-4993-B93E-9243882DE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F47BE0-0B83-4204-A95A-B344C9F7D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B27578-D0F5-4BF0-B38A-8CEA45637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B15A6C-282C-42AD-996C-3D79693DB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E9EBCD-2A56-43F8-BDD1-59526BC3A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A0187-FDEE-46BF-BAB8-F04B32378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19B8EF-8DBE-452D-896A-3DA1477D1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55DDB8-BF02-41F2-9A56-C451D3A31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AE5CD8-CFD7-4D6C-8C92-9B14E1C4B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BF3D2A-F7E6-4E8B-9D90-154583E8C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3CDBFA-A955-4F29-9D24-85C46C0CF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3D77DC-F84F-4310-A59F-A1834D8E2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6F1AF2-48A5-43C2-88E7-E6D0C538D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3F013E-1E46-4F7B-BC88-B83D67ED9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3C90BD-A76B-4AE2-B913-22EDBCBE5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8F1B20-DBFD-4475-BF9C-0BBC04BE5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504BC-1ED9-48B0-BA29-AC730B4DD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D6E0EC-3B6E-4D82-BEEE-677A088B0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F802E9-6178-4648-907D-254F163E9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10A84C-0D83-454E-80ED-EB7D44993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1DAC6F-EC15-4A93-B381-152058E3B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9000FD-AF44-4516-A1D2-3F8F652C5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F78FEB-5C88-47BA-B6C7-19F778197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2EFF63-8668-4BF8-9128-BCA225F91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CEA956-07CC-4DD5-9769-252A872D3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A6FF42-026B-4B5D-82F0-035637421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E2E74A-F008-4A99-B9FE-413266B6B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20826-3CFB-4134-BFE4-F780D8721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678702-3593-458C-B69E-F436627C4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479FB3-0768-4C51-B260-4659CF300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14F9BB-D451-404F-B5B8-04CA6D7A4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0A17E2-8DCF-460C-B66B-437444C8D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3F009C-3A10-4CC1-9316-7C84A1D52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D468E3-A54D-414A-B553-7E7F0E89D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934CE3-8E55-42CD-AB13-E4D7AC9EB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478778-0AC4-4CC5-8BEA-81E901C5D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9DD038-0E8D-420A-9CB2-D7D42E064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E53ECC-2A4C-49B7-8982-27425BC8B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61.xml"/><Relationship Id="rId35" Type="http://schemas.openxmlformats.org/officeDocument/2006/relationships/slideLayout" Target="../slideLayouts/slideLayout62.xml"/><Relationship Id="rId36" Type="http://schemas.openxmlformats.org/officeDocument/2006/relationships/slideLayout" Target="../slideLayouts/slideLayout63.xml"/><Relationship Id="rId37" Type="http://schemas.openxmlformats.org/officeDocument/2006/relationships/slideLayout" Target="../slideLayouts/slideLayout64.xml"/><Relationship Id="rId38" Type="http://schemas.openxmlformats.org/officeDocument/2006/relationships/slideLayout" Target="../slideLayouts/slideLayout65.xml"/><Relationship Id="rId39" Type="http://schemas.openxmlformats.org/officeDocument/2006/relationships/slideLayout" Target="../slideLayouts/slideLayout66.xml"/><Relationship Id="rId40" Type="http://schemas.openxmlformats.org/officeDocument/2006/relationships/slideLayout" Target="../slideLayouts/slideLayout67.xml"/><Relationship Id="rId41" Type="http://schemas.openxmlformats.org/officeDocument/2006/relationships/slideLayout" Target="../slideLayouts/slideLayout68.xml"/><Relationship Id="rId42" Type="http://schemas.openxmlformats.org/officeDocument/2006/relationships/slideLayout" Target="../slideLayouts/slideLayout69.xml"/><Relationship Id="rId43" Type="http://schemas.openxmlformats.org/officeDocument/2006/relationships/slideLayout" Target="../slideLayouts/slideLayout70.xml"/><Relationship Id="rId44" Type="http://schemas.openxmlformats.org/officeDocument/2006/relationships/slideLayout" Target="../slideLayouts/slideLayout71.xml"/><Relationship Id="rId4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7720" y="62640"/>
                    <a:ext cx="42840" cy="572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8640" y="50040"/>
                    <a:ext cx="64800" cy="3780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8120" y="100080"/>
                    <a:ext cx="23760" cy="6192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prstGeom prst="pie">
              <a:avLst/>
            </a:pr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prstGeom prst="pie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prstGeom prst="pie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245A7-97C6-4206-8999-0F35EF06AE13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Прямая соединительная линия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59" name="Прямая соединительная линия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60" name="Равнобедренный треугольник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 type="dt" idx="28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 type="ftr" idx="29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 type="sldNum" idx="30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D22D0-B21D-4C37-88C5-F8F09B053707}" type="slidenum">
              <a:rPr b="0" lang="ru-RU" sz="1400" spc="-1" strike="noStrike">
                <a:solidFill>
                  <a:srgbClr val="464653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Прямоугольник 10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03" name="Прямоугольник 11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Cambria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 type="dt" idx="31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 type="ftr" idx="32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 type="sldNum" idx="33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dde9ec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79CCB-2EC3-4483-AA80-E30E916C4847}" type="slidenum">
              <a:rPr b="0" lang="ru-RU" sz="1400" spc="-1" strike="noStrike">
                <a:solidFill>
                  <a:srgbClr val="dde9ec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Прямая соединительная линия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46" name="Прямая соединительная линия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47" name="Равнобедренный треугольник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34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35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36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300A0-3DC4-4745-BA65-AE84B09131A4}" type="slidenum">
              <a:rPr b="0" lang="ru-RU" sz="1400" spc="-1" strike="noStrike">
                <a:solidFill>
                  <a:srgbClr val="464653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Прямая соединительная линия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90" name="Прямая соединительная линия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91" name="Равнобедренный треугольник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 type="dt" idx="37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 type="ftr" idx="38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96" name="PlaceHolder 5"/>
          <p:cNvSpPr>
            <a:spLocks noGrp="1"/>
          </p:cNvSpPr>
          <p:nvPr>
            <p:ph type="sldNum" idx="39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63F31-38E2-4F09-AD00-F5ACA39AD0FB}" type="slidenum">
              <a:rPr b="0" lang="ru-RU" sz="1400" spc="-1" strike="noStrike">
                <a:solidFill>
                  <a:srgbClr val="464653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Прямая соединительная линия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34" name="Прямая соединительная линия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35" name="Равнобедренный треугольник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36" name="Равнобедренный треугольник 10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 type="dt" idx="4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 type="ftr" idx="4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41" name="PlaceHolder 5"/>
          <p:cNvSpPr>
            <a:spLocks noGrp="1"/>
          </p:cNvSpPr>
          <p:nvPr>
            <p:ph type="sldNum" idx="4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8A9CE-ED2C-4E8E-806C-5EADA4ADF3CF}" type="slidenum">
              <a:rPr b="0" lang="ru-RU" sz="1400" spc="-1" strike="noStrike">
                <a:solidFill>
                  <a:srgbClr val="464653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79" name="Равнобедренный треугольник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 type="dt" idx="4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 type="ftr" idx="4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84" name="PlaceHolder 5"/>
          <p:cNvSpPr>
            <a:spLocks noGrp="1"/>
          </p:cNvSpPr>
          <p:nvPr>
            <p:ph type="sldNum" idx="4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4CC8D-54A8-46DE-8575-F51F65116FD4}" type="slidenum">
              <a:rPr b="0" lang="ru-RU" sz="1400" spc="-1" strike="noStrike">
                <a:solidFill>
                  <a:srgbClr val="464653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22" name="Прямая соединительная линия 11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23" name="Равнобедренный треугольник 12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 type="dt" idx="4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 type="ftr" idx="4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 type="sldNum" idx="4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F01CC-FFF6-49B2-9BE1-6D4551E48172}" type="slidenum">
              <a:rPr b="0" lang="ru-RU" sz="1400" spc="-1" strike="noStrike">
                <a:solidFill>
                  <a:srgbClr val="464653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6" name="Равнобедренный треугольник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7" name="Прямоугольник 12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Cambria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 type="dt" idx="4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1" name="PlaceHolder 4"/>
          <p:cNvSpPr>
            <a:spLocks noGrp="1"/>
          </p:cNvSpPr>
          <p:nvPr>
            <p:ph type="ftr" idx="5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2" name="PlaceHolder 5"/>
          <p:cNvSpPr>
            <a:spLocks noGrp="1"/>
          </p:cNvSpPr>
          <p:nvPr>
            <p:ph type="sldNum" idx="5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dde9ec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863FC-AEE5-4C83-957F-E44BE844B207}" type="slidenum">
              <a:rPr b="0" lang="ru-RU" sz="1400" spc="-1" strike="noStrike">
                <a:solidFill>
                  <a:srgbClr val="dde9ec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Прямая соединительная линия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0" name="Прямая соединительная линия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1" name="Равнобедренный треугольник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 type="dt" idx="5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5" name="PlaceHolder 4"/>
          <p:cNvSpPr>
            <a:spLocks noGrp="1"/>
          </p:cNvSpPr>
          <p:nvPr>
            <p:ph type="ftr" idx="5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6" name="PlaceHolder 5"/>
          <p:cNvSpPr>
            <a:spLocks noGrp="1"/>
          </p:cNvSpPr>
          <p:nvPr>
            <p:ph type="sldNum" idx="5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9B4FC-55F9-4C6D-BDAF-DA6662EE1C73}" type="slidenum">
              <a:rPr b="0" lang="ru-RU" sz="1400" spc="-1" strike="noStrike">
                <a:solidFill>
                  <a:srgbClr val="464653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4" name="Равнобедренный треугольник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5" name="Прямая соединительная линия 12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 type="dt" idx="55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 type="ftr" idx="56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60" name="PlaceHolder 5"/>
          <p:cNvSpPr>
            <a:spLocks noGrp="1"/>
          </p:cNvSpPr>
          <p:nvPr>
            <p:ph type="sldNum" idx="57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BB30A-953D-4E54-8F3B-FE47B820E2C1}" type="slidenum">
              <a:rPr b="0" lang="ru-RU" sz="1400" spc="-1" strike="noStrike">
                <a:solidFill>
                  <a:srgbClr val="464653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35855-12E6-40EB-9E54-3B1273A5E3F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AutoShape 4"/>
          <p:cNvSpPr/>
          <p:nvPr/>
        </p:nvSpPr>
        <p:spPr>
          <a:xfrm>
            <a:off x="609480" y="1566720"/>
            <a:ext cx="7958160" cy="10980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40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7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9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EBED3-C1E5-4E68-9A35-42C94A32C23B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10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11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12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11638-BB49-4B0B-B219-7E71307B38FE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grpSp>
        <p:nvGrpSpPr>
          <p:cNvPr id="18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89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0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1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2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3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4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5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6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7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9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0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0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20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20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grpSp>
            <p:nvGrpSpPr>
              <p:cNvPr id="20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0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0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0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1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1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1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1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1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1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216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17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grpSp>
        <p:nvGrpSpPr>
          <p:cNvPr id="218" name="Group 40"/>
          <p:cNvGrpSpPr/>
          <p:nvPr/>
        </p:nvGrpSpPr>
        <p:grpSpPr>
          <a:xfrm>
            <a:off x="7169040" y="-84240"/>
            <a:ext cx="2432520" cy="2253960"/>
            <a:chOff x="7169040" y="-84240"/>
            <a:chExt cx="2432520" cy="2253960"/>
          </a:xfrm>
        </p:grpSpPr>
        <p:grpSp>
          <p:nvGrpSpPr>
            <p:cNvPr id="219" name="Group 41"/>
            <p:cNvGrpSpPr/>
            <p:nvPr/>
          </p:nvGrpSpPr>
          <p:grpSpPr>
            <a:xfrm>
              <a:off x="7169040" y="-84240"/>
              <a:ext cx="2432520" cy="2253960"/>
              <a:chOff x="7169040" y="-84240"/>
              <a:chExt cx="2432520" cy="2253960"/>
            </a:xfrm>
          </p:grpSpPr>
          <p:sp>
            <p:nvSpPr>
              <p:cNvPr id="22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grpSp>
            <p:nvGrpSpPr>
              <p:cNvPr id="221" name="Group 43"/>
              <p:cNvGrpSpPr/>
              <p:nvPr/>
            </p:nvGrpSpPr>
            <p:grpSpPr>
              <a:xfrm>
                <a:off x="7169040" y="-84240"/>
                <a:ext cx="2432520" cy="2253960"/>
                <a:chOff x="7169040" y="-84240"/>
                <a:chExt cx="2432520" cy="2253960"/>
              </a:xfrm>
            </p:grpSpPr>
            <p:sp>
              <p:nvSpPr>
                <p:cNvPr id="222" name="Freeform 44"/>
                <p:cNvSpPr/>
                <p:nvPr/>
              </p:nvSpPr>
              <p:spPr>
                <a:xfrm rot="18427200">
                  <a:off x="7882560" y="112680"/>
                  <a:ext cx="24444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23" name="Freeform 45"/>
                <p:cNvSpPr/>
                <p:nvPr/>
              </p:nvSpPr>
              <p:spPr>
                <a:xfrm rot="18427200">
                  <a:off x="8024040" y="520920"/>
                  <a:ext cx="429840" cy="6951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24" name="Freeform 46"/>
                <p:cNvSpPr/>
                <p:nvPr/>
              </p:nvSpPr>
              <p:spPr>
                <a:xfrm rot="18427200">
                  <a:off x="7721280" y="282600"/>
                  <a:ext cx="807480" cy="1425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25" name="Freeform 47"/>
                <p:cNvSpPr/>
                <p:nvPr/>
              </p:nvSpPr>
              <p:spPr>
                <a:xfrm rot="18427200">
                  <a:off x="7779240" y="-23760"/>
                  <a:ext cx="121212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26" name="Freeform 48"/>
                <p:cNvSpPr/>
                <p:nvPr/>
              </p:nvSpPr>
              <p:spPr>
                <a:xfrm rot="18427200">
                  <a:off x="8419680" y="1422000"/>
                  <a:ext cx="27000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27" name="Freeform 49"/>
                <p:cNvSpPr/>
                <p:nvPr/>
              </p:nvSpPr>
              <p:spPr>
                <a:xfrm rot="18427200">
                  <a:off x="8338680" y="1275840"/>
                  <a:ext cx="28908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28" name="Freeform 50"/>
                <p:cNvSpPr/>
                <p:nvPr/>
              </p:nvSpPr>
              <p:spPr>
                <a:xfrm rot="18427200">
                  <a:off x="7912800" y="335160"/>
                  <a:ext cx="28908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29" name="Freeform 51"/>
                <p:cNvSpPr/>
                <p:nvPr/>
              </p:nvSpPr>
              <p:spPr>
                <a:xfrm rot="18427200">
                  <a:off x="7864200" y="214560"/>
                  <a:ext cx="285840" cy="219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3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64653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25CF4-0C57-4DE2-8FF1-4377E3910F4A}" type="slidenum">
              <a:rPr b="0" lang="ru-RU" sz="1400" spc="-1" strike="noStrike">
                <a:solidFill>
                  <a:srgbClr val="464653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Прямая соединительная линия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3" name="Прямая соединительная линия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4" name="Равнобедренный треугольник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1" name="Group 2"/>
          <p:cNvGrpSpPr/>
          <p:nvPr/>
        </p:nvGrpSpPr>
        <p:grpSpPr>
          <a:xfrm>
            <a:off x="0" y="-360"/>
            <a:ext cx="9159840" cy="6870600"/>
            <a:chOff x="0" y="-360"/>
            <a:chExt cx="9159840" cy="6870600"/>
          </a:xfrm>
        </p:grpSpPr>
        <p:sp>
          <p:nvSpPr>
            <p:cNvPr id="312" name="Rectangle 3"/>
            <p:cNvSpPr/>
            <p:nvPr/>
          </p:nvSpPr>
          <p:spPr>
            <a:xfrm>
              <a:off x="0" y="6645240"/>
              <a:ext cx="8078760" cy="22500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13" name="Rectangle 4"/>
            <p:cNvSpPr/>
            <p:nvPr/>
          </p:nvSpPr>
          <p:spPr>
            <a:xfrm>
              <a:off x="0" y="9000"/>
              <a:ext cx="8078760" cy="1998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14" name="Rectangle 5"/>
            <p:cNvSpPr/>
            <p:nvPr/>
          </p:nvSpPr>
          <p:spPr>
            <a:xfrm>
              <a:off x="7953480" y="9000"/>
              <a:ext cx="1203120" cy="684864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315" name="Group 6"/>
            <p:cNvGrpSpPr/>
            <p:nvPr/>
          </p:nvGrpSpPr>
          <p:grpSpPr>
            <a:xfrm>
              <a:off x="7848720" y="-360"/>
              <a:ext cx="1295280" cy="6310800"/>
              <a:chOff x="7848720" y="-360"/>
              <a:chExt cx="1295280" cy="6310800"/>
            </a:xfrm>
          </p:grpSpPr>
          <p:grpSp>
            <p:nvGrpSpPr>
              <p:cNvPr id="316" name="Group 7"/>
              <p:cNvGrpSpPr/>
              <p:nvPr/>
            </p:nvGrpSpPr>
            <p:grpSpPr>
              <a:xfrm>
                <a:off x="8381880" y="-360"/>
                <a:ext cx="762120" cy="2277720"/>
                <a:chOff x="8381880" y="-360"/>
                <a:chExt cx="762120" cy="2277720"/>
              </a:xfrm>
            </p:grpSpPr>
            <p:grpSp>
              <p:nvGrpSpPr>
                <p:cNvPr id="317" name="Group 8"/>
                <p:cNvGrpSpPr/>
                <p:nvPr/>
              </p:nvGrpSpPr>
              <p:grpSpPr>
                <a:xfrm>
                  <a:off x="8710560" y="-360"/>
                  <a:ext cx="279360" cy="275400"/>
                  <a:chOff x="8710560" y="-360"/>
                  <a:chExt cx="279360" cy="275400"/>
                </a:xfrm>
              </p:grpSpPr>
              <p:grpSp>
                <p:nvGrpSpPr>
                  <p:cNvPr id="318" name="Group 9"/>
                  <p:cNvGrpSpPr/>
                  <p:nvPr/>
                </p:nvGrpSpPr>
                <p:grpSpPr>
                  <a:xfrm>
                    <a:off x="8710560" y="-360"/>
                    <a:ext cx="279360" cy="275400"/>
                    <a:chOff x="8710560" y="-360"/>
                    <a:chExt cx="279360" cy="275400"/>
                  </a:xfrm>
                </p:grpSpPr>
                <p:sp>
                  <p:nvSpPr>
                    <p:cNvPr id="319" name="Freeform 10"/>
                    <p:cNvSpPr/>
                    <p:nvPr/>
                  </p:nvSpPr>
                  <p:spPr>
                    <a:xfrm rot="16200000">
                      <a:off x="8749440" y="-39240"/>
                      <a:ext cx="201240" cy="279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0" name="Freeform 11"/>
                    <p:cNvSpPr/>
                    <p:nvPr/>
                  </p:nvSpPr>
                  <p:spPr>
                    <a:xfrm rot="16200000">
                      <a:off x="8758800" y="91800"/>
                      <a:ext cx="140760" cy="225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21" name="Oval 12"/>
                  <p:cNvSpPr/>
                  <p:nvPr/>
                </p:nvSpPr>
                <p:spPr>
                  <a:xfrm rot="16200000">
                    <a:off x="8830080" y="138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2" name="Freeform 13"/>
                  <p:cNvSpPr/>
                  <p:nvPr/>
                </p:nvSpPr>
                <p:spPr>
                  <a:xfrm rot="16200000">
                    <a:off x="8763840" y="71640"/>
                    <a:ext cx="42480" cy="572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3" name="Freeform 14"/>
                  <p:cNvSpPr/>
                  <p:nvPr/>
                </p:nvSpPr>
                <p:spPr>
                  <a:xfrm rot="16200000">
                    <a:off x="8834760" y="59040"/>
                    <a:ext cx="64800" cy="3780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4" name="Freeform 15"/>
                  <p:cNvSpPr/>
                  <p:nvPr/>
                </p:nvSpPr>
                <p:spPr>
                  <a:xfrm rot="16200000">
                    <a:off x="8904240" y="108720"/>
                    <a:ext cx="23760" cy="6192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5" name="Freeform 16"/>
                  <p:cNvSpPr/>
                  <p:nvPr/>
                </p:nvSpPr>
                <p:spPr>
                  <a:xfrm rot="16200000">
                    <a:off x="8830080" y="200160"/>
                    <a:ext cx="63360" cy="266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6" name="Freeform 17"/>
                  <p:cNvSpPr/>
                  <p:nvPr/>
                </p:nvSpPr>
                <p:spPr>
                  <a:xfrm rot="16200000">
                    <a:off x="8778600" y="175320"/>
                    <a:ext cx="37800" cy="410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327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37600"/>
                  <a:ext cx="29556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8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37600"/>
                  <a:ext cx="29520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9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41800"/>
                  <a:ext cx="29556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0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22320"/>
                  <a:ext cx="29520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1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46000"/>
                  <a:ext cx="29520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2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26880"/>
                  <a:ext cx="29520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3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7040"/>
                  <a:ext cx="29520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4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7560"/>
                  <a:ext cx="29520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335" name="Group 26"/>
              <p:cNvGrpSpPr/>
              <p:nvPr/>
            </p:nvGrpSpPr>
            <p:grpSpPr>
              <a:xfrm>
                <a:off x="7848720" y="1607040"/>
                <a:ext cx="828720" cy="4703400"/>
                <a:chOff x="7848720" y="1607040"/>
                <a:chExt cx="828720" cy="4703400"/>
              </a:xfrm>
            </p:grpSpPr>
            <p:pic>
              <p:nvPicPr>
                <p:cNvPr id="336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7040"/>
                  <a:ext cx="29556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7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11240"/>
                  <a:ext cx="29520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8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20000"/>
                  <a:ext cx="29556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9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8240"/>
                  <a:ext cx="29556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0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900520"/>
                  <a:ext cx="29520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1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4720"/>
                  <a:ext cx="29520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2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81040"/>
                  <a:ext cx="29556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3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7520"/>
                  <a:ext cx="29520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4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9280"/>
                  <a:ext cx="29556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5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9800"/>
                  <a:ext cx="29556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6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8040"/>
                  <a:ext cx="29556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7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15440"/>
                  <a:ext cx="29520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8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6280"/>
                  <a:ext cx="29520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9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9080"/>
                  <a:ext cx="29556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0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9600"/>
                  <a:ext cx="29520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1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1520"/>
                  <a:ext cx="29556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2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9760"/>
                  <a:ext cx="29520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3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20640"/>
                  <a:ext cx="29556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4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8000"/>
                  <a:ext cx="29520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355" name="Freeform 46"/>
            <p:cNvSpPr/>
            <p:nvPr/>
          </p:nvSpPr>
          <p:spPr>
            <a:xfrm>
              <a:off x="7953480" y="4911120"/>
              <a:ext cx="1190520" cy="193716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56" name="Freeform 47"/>
            <p:cNvSpPr/>
            <p:nvPr/>
          </p:nvSpPr>
          <p:spPr>
            <a:xfrm>
              <a:off x="7939080" y="4860360"/>
              <a:ext cx="1219320" cy="199728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57" name="Freeform 48"/>
            <p:cNvSpPr/>
            <p:nvPr/>
          </p:nvSpPr>
          <p:spPr>
            <a:xfrm>
              <a:off x="7927920" y="2823120"/>
              <a:ext cx="1231920" cy="4031280"/>
            </a:xfrm>
            <a:prstGeom prst="pie">
              <a:avLst/>
            </a:pr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58" name="Freeform 49"/>
            <p:cNvSpPr/>
            <p:nvPr/>
          </p:nvSpPr>
          <p:spPr>
            <a:xfrm>
              <a:off x="8010360" y="3542760"/>
              <a:ext cx="979560" cy="2181240"/>
            </a:xfrm>
            <a:prstGeom prst="pie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59" name="Freeform 50"/>
            <p:cNvSpPr/>
            <p:nvPr/>
          </p:nvSpPr>
          <p:spPr>
            <a:xfrm>
              <a:off x="8244000" y="435600"/>
              <a:ext cx="914400" cy="5041080"/>
            </a:xfrm>
            <a:prstGeom prst="pie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60" name="Freeform 51"/>
            <p:cNvSpPr/>
            <p:nvPr/>
          </p:nvSpPr>
          <p:spPr>
            <a:xfrm>
              <a:off x="8250120" y="270720"/>
              <a:ext cx="909720" cy="306720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61" name="Freeform 52"/>
            <p:cNvSpPr/>
            <p:nvPr/>
          </p:nvSpPr>
          <p:spPr>
            <a:xfrm>
              <a:off x="7943760" y="9000"/>
              <a:ext cx="576360" cy="334800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62" name="Freeform 53"/>
            <p:cNvSpPr/>
            <p:nvPr/>
          </p:nvSpPr>
          <p:spPr>
            <a:xfrm>
              <a:off x="7943760" y="10440"/>
              <a:ext cx="300240" cy="334836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63" name="Rectangle 54"/>
            <p:cNvSpPr/>
            <p:nvPr/>
          </p:nvSpPr>
          <p:spPr>
            <a:xfrm>
              <a:off x="7866000" y="10440"/>
              <a:ext cx="88920" cy="684864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64" name="Freeform 55"/>
            <p:cNvSpPr/>
            <p:nvPr/>
          </p:nvSpPr>
          <p:spPr>
            <a:xfrm>
              <a:off x="7958160" y="6230160"/>
              <a:ext cx="1165320" cy="61812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65" name="AutoShape 56"/>
            <p:cNvSpPr/>
            <p:nvPr/>
          </p:nvSpPr>
          <p:spPr>
            <a:xfrm rot="5400000">
              <a:off x="4328640" y="3320640"/>
              <a:ext cx="6848640" cy="22536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 type="dt" idx="16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 type="ftr" idx="17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 type="sldNum" idx="18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22987-728D-4824-A126-A48C7F81A933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4"/>
    <p:sldLayoutId id="2147483715" r:id="rId35"/>
    <p:sldLayoutId id="2147483716" r:id="rId36"/>
    <p:sldLayoutId id="2147483717" r:id="rId37"/>
    <p:sldLayoutId id="2147483718" r:id="rId38"/>
    <p:sldLayoutId id="2147483719" r:id="rId39"/>
    <p:sldLayoutId id="2147483720" r:id="rId40"/>
    <p:sldLayoutId id="2147483721" r:id="rId41"/>
    <p:sldLayoutId id="2147483722" r:id="rId42"/>
    <p:sldLayoutId id="2147483723" r:id="rId43"/>
    <p:sldLayoutId id="2147483724" r:id="rId44"/>
    <p:sldLayoutId id="2147483725" r:id="rId4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AutoShape 7"/>
          <p:cNvSpPr/>
          <p:nvPr/>
        </p:nvSpPr>
        <p:spPr>
          <a:xfrm>
            <a:off x="685800" y="2394000"/>
            <a:ext cx="7772400" cy="10944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B7B7E-8888-4235-A6B6-8D9B7E432B6F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grpSp>
        <p:nvGrpSpPr>
          <p:cNvPr id="450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451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2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3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54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455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56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57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58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59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</p:grpSp>
      </p:grpSp>
      <p:grpSp>
        <p:nvGrpSpPr>
          <p:cNvPr id="460" name="Group 18"/>
          <p:cNvGrpSpPr/>
          <p:nvPr/>
        </p:nvGrpSpPr>
        <p:grpSpPr>
          <a:xfrm>
            <a:off x="7796520" y="4318920"/>
            <a:ext cx="978120" cy="1158480"/>
            <a:chOff x="7796520" y="4318920"/>
            <a:chExt cx="978120" cy="1158480"/>
          </a:xfrm>
        </p:grpSpPr>
        <p:sp>
          <p:nvSpPr>
            <p:cNvPr id="461" name="Freeform 19"/>
            <p:cNvSpPr/>
            <p:nvPr/>
          </p:nvSpPr>
          <p:spPr>
            <a:xfrm rot="7320000">
              <a:off x="7790760" y="4661280"/>
              <a:ext cx="998640" cy="463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2" name="Freeform 20"/>
            <p:cNvSpPr/>
            <p:nvPr/>
          </p:nvSpPr>
          <p:spPr>
            <a:xfrm rot="7320000">
              <a:off x="7766640" y="4640040"/>
              <a:ext cx="995400" cy="45864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3" name="Freeform 21"/>
            <p:cNvSpPr/>
            <p:nvPr/>
          </p:nvSpPr>
          <p:spPr>
            <a:xfrm rot="7320000">
              <a:off x="7934760" y="4626000"/>
              <a:ext cx="660240" cy="419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64" name="Group 22"/>
            <p:cNvGrpSpPr/>
            <p:nvPr/>
          </p:nvGrpSpPr>
          <p:grpSpPr>
            <a:xfrm>
              <a:off x="7796520" y="4318920"/>
              <a:ext cx="978120" cy="1158480"/>
              <a:chOff x="7796520" y="4318920"/>
              <a:chExt cx="978120" cy="1158480"/>
            </a:xfrm>
          </p:grpSpPr>
          <p:sp>
            <p:nvSpPr>
              <p:cNvPr id="465" name="Freeform 23"/>
              <p:cNvSpPr/>
              <p:nvPr/>
            </p:nvSpPr>
            <p:spPr>
              <a:xfrm rot="7320000">
                <a:off x="7916040" y="5064120"/>
                <a:ext cx="93960" cy="9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66" name="Freeform 24"/>
              <p:cNvSpPr/>
              <p:nvPr/>
            </p:nvSpPr>
            <p:spPr>
              <a:xfrm rot="7320000">
                <a:off x="7756200" y="4652280"/>
                <a:ext cx="1058760" cy="491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67" name="Freeform 25"/>
              <p:cNvSpPr/>
              <p:nvPr/>
            </p:nvSpPr>
            <p:spPr>
              <a:xfrm rot="7320000">
                <a:off x="8033400" y="4758120"/>
                <a:ext cx="749520" cy="2782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68" name="Freeform 26"/>
              <p:cNvSpPr/>
              <p:nvPr/>
            </p:nvSpPr>
            <p:spPr>
              <a:xfrm rot="7320000">
                <a:off x="8514360" y="4560480"/>
                <a:ext cx="100080" cy="18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69" name="Freeform 27"/>
              <p:cNvSpPr/>
              <p:nvPr/>
            </p:nvSpPr>
            <p:spPr>
              <a:xfrm rot="7320000">
                <a:off x="8153640" y="4761720"/>
                <a:ext cx="306360" cy="16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</p:grpSp>
      </p:grpSp>
      <p:sp>
        <p:nvSpPr>
          <p:cNvPr id="470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71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3F368-BD0E-487C-83D0-2E11D98E558B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Прямоугольник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14" name="Прямоугольник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15" name="Прямоугольник 12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16" name="Прямоугольник 14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 type="dt" idx="25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 type="ftr" idx="26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 type="sldNum" idx="27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DF728-C8A5-4BB7-AADA-FE157C0118E0}" type="slidenum">
              <a:rPr b="0" lang="ru-RU" sz="1400" spc="-1" strike="noStrike">
                <a:solidFill>
                  <a:srgbClr val="464653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6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0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6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0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539640" y="980640"/>
            <a:ext cx="7920000" cy="20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Arial"/>
                <a:ea typeface="Arial"/>
              </a:rPr>
              <a:t>Семинар для педагогов</a:t>
            </a:r>
            <a:br>
              <a:rPr sz="3200"/>
            </a:br>
            <a:r>
              <a:rPr b="1" lang="ru-RU" sz="3200" spc="-1" strike="noStrike">
                <a:solidFill>
                  <a:srgbClr val="0070c0"/>
                </a:solidFill>
                <a:latin typeface="Arial"/>
                <a:ea typeface="Arial"/>
              </a:rPr>
              <a:t> «Рабочие программы учителя основной инструмент реализации ФГОС УО»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 type="subTitle"/>
          </p:nvPr>
        </p:nvSpPr>
        <p:spPr>
          <a:xfrm>
            <a:off x="900000" y="3860280"/>
            <a:ext cx="7344000" cy="12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Cambria"/>
              </a:rPr>
              <a:t>Учитель: И.Н.Моржанаев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Cambria"/>
              </a:rPr>
              <a:t>Учитель: П.И. Омаров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Cambria"/>
              </a:rPr>
              <a:t>Дата: 13.12.2016г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1" name="Прямоугольник 4"/>
          <p:cNvSpPr/>
          <p:nvPr/>
        </p:nvSpPr>
        <p:spPr>
          <a:xfrm>
            <a:off x="5502960" y="4500720"/>
            <a:ext cx="85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308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ООП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022" name="Picture 5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23" name="Picture 6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4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25" name="Rectangle 9"/>
          <p:cNvSpPr/>
          <p:nvPr/>
        </p:nvSpPr>
        <p:spPr>
          <a:xfrm>
            <a:off x="1143000" y="313920"/>
            <a:ext cx="7215120" cy="38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Закон РФ «Об образовании в РФ»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Arial"/>
              </a:rPr>
              <a:t>Статья 2. </a:t>
            </a:r>
            <a:r>
              <a:rPr b="1" lang="ru-RU" sz="1600" spc="-1" strike="noStrike">
                <a:solidFill>
                  <a:srgbClr val="002060"/>
                </a:solidFill>
                <a:latin typeface="Arial"/>
              </a:rPr>
              <a:t>Основные понятия,</a:t>
            </a:r>
            <a:r>
              <a:rPr b="0" lang="ru-RU" sz="16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2060"/>
                </a:solidFill>
                <a:latin typeface="Arial"/>
              </a:rPr>
              <a:t>используемые в настоящем Федеральном законе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Calibri"/>
              </a:rPr>
              <a:t>Адаптированная </a:t>
            </a:r>
            <a:r>
              <a:rPr b="1" lang="ru-RU" sz="2000" spc="-1" strike="noStrike">
                <a:solidFill>
                  <a:srgbClr val="2f1311"/>
                </a:solidFill>
                <a:latin typeface="Calibri"/>
              </a:rPr>
              <a:t>основная</a:t>
            </a:r>
            <a:r>
              <a:rPr b="0" lang="ru-RU" sz="2000" spc="-1" strike="noStrike">
                <a:solidFill>
                  <a:srgbClr val="2f1311"/>
                </a:solidFill>
                <a:latin typeface="Calibri"/>
              </a:rPr>
              <a:t>общеобразовательная программа — это  образовательная программа </a:t>
            </a:r>
            <a:r>
              <a:rPr b="1" lang="ru-RU" sz="2000" spc="-1" strike="noStrike">
                <a:solidFill>
                  <a:srgbClr val="2f1311"/>
                </a:solidFill>
                <a:latin typeface="Calibri"/>
              </a:rPr>
              <a:t>общего образования детей с ограниченными возможностями здоровья</a:t>
            </a:r>
            <a:r>
              <a:rPr b="0" lang="ru-RU" sz="2000" spc="-1" strike="noStrike">
                <a:solidFill>
                  <a:srgbClr val="2f1311"/>
                </a:solidFill>
                <a:latin typeface="Calibri"/>
              </a:rPr>
              <a:t>, разработанная на основе ФГОС обучающихся с ОВЗ с учетом особенностей их психофизического развития, индивидуальных возможностей, и обеспечивающая коррекцию нарушений развития и социальную адаптацию 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26" name="Прямоугольник 10"/>
          <p:cNvSpPr/>
          <p:nvPr/>
        </p:nvSpPr>
        <p:spPr>
          <a:xfrm>
            <a:off x="5431320" y="4572000"/>
            <a:ext cx="85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АООП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"/>
          <p:cNvSpPr txBox="1"/>
          <p:nvPr/>
        </p:nvSpPr>
        <p:spPr>
          <a:xfrm>
            <a:off x="394920" y="620280"/>
            <a:ext cx="820908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15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Calibri"/>
              </a:rPr>
              <a:t>согласно ч. 7 ст. 12 </a:t>
            </a: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организации, осуществляющие образовательную деятельность по имеющим государственную аккредитацию образовательным программам, разрабатывают образовательные программы в соответствии с федеральными государственными образовательными стандартами и </a:t>
            </a:r>
            <a:r>
              <a:rPr b="1" i="1" lang="ru-RU" sz="2800" spc="-1" strike="noStrike" u="sng">
                <a:solidFill>
                  <a:srgbClr val="c00000"/>
                </a:solidFill>
                <a:uFillTx/>
                <a:latin typeface="Calibri"/>
              </a:rPr>
              <a:t>с учетом соответствующих примерных основных образовательных программ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Прямоугольник 1"/>
          <p:cNvSpPr/>
          <p:nvPr/>
        </p:nvSpPr>
        <p:spPr>
          <a:xfrm>
            <a:off x="785880" y="357120"/>
            <a:ext cx="7929360" cy="60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Исключительным правом на разработку и утверждение АООП обладает образовательная организация. Согласно ч. 5 ст. 12 Федерального закона № 273-ФЗ «образовательные программы самостоятельно разрабатываются и утверждаются организацией, осуществляющей образовательную деятельность». Ст. 28«Компетенция, права, обязанности и ответственность образовательной организации» подтверждает это положение. Она относит к компетенции образовательной организации в установленной сфере деятельности разработку и утверждение образовательных программ образовательной организации. Сама же ОО решает вопрос о целесообразности проведения экспертизы разработанной АООП. Согласования образовательной программы не требуется. 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Прямоугольник 1"/>
          <p:cNvSpPr/>
          <p:nvPr/>
        </p:nvSpPr>
        <p:spPr>
          <a:xfrm>
            <a:off x="428760" y="336600"/>
            <a:ext cx="78580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По ФГОС О УО выделены 2 варианта АООП: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для детей с легкой умственной отсталостью, у которых нет других нарушений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для детей с умеренной, тяжелой и глубокой умственной отсталостью, с множественными нарушениями, обучаются по СИПР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Определение варианта АООП для обучающегося с ОВЗ осуществляется в соответствии с рекомендациями психолого-медико-педагогической комиссией (далее – ПМПК). А в случае наличия у него ИПРА – с учетом ее требований и мнения родителей. В процессе реализации АООП возможен переход с одного варианта на другой в соответствии с динамикой развития ребенка и подтвержденной рекомендациями ПМПК и с учетом мнения родителей</a:t>
            </a:r>
            <a:r>
              <a:rPr b="0" lang="ru-RU" sz="2400" spc="-1" strike="noStrike" baseline="30000">
                <a:solidFill>
                  <a:srgbClr val="002060"/>
                </a:solidFill>
                <a:latin typeface="Calibri"/>
              </a:rPr>
              <a:t>9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ambria"/>
              </a:rPr>
              <a:t>Рабочая программа</a:t>
            </a:r>
            <a:r>
              <a:rPr b="0" lang="ru-RU" sz="3200" spc="-1" strike="noStrike">
                <a:solidFill>
                  <a:srgbClr val="464653"/>
                </a:solidFill>
                <a:latin typeface="Cambria"/>
              </a:rPr>
              <a:t> 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031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ормативно-управленческий документ образовательного учреждения, характеризующий систему организации образовательной деятельности педагога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абочая программа показывает, как с учетом конкретных условий, образовательных потребностей и особенностей развития обучающихся, педагог создает индивидуальную педагогическую модель образования на основе ФГОС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Таким образом, рабочая программа по предмету - это документ, который составляется с учетом особенностей образовательного учреждения, особенностей обучающегося конкретного класса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Calibri"/>
              </a:rPr>
              <a:t>Рабочая программа - индивидуальный инструмент педагога, в котором он определяет наиболее оптимальные и эффективные для определенного класса содержание, формы, методы и приемы организации образовательного процесса с целью получения результата, соответствующего требованиям </a:t>
            </a:r>
            <a:r>
              <a:rPr b="0" lang="ru-RU" sz="1400" spc="-1" strike="noStrike">
                <a:solidFill>
                  <a:srgbClr val="c00000"/>
                </a:solidFill>
                <a:latin typeface="Calibri"/>
              </a:rPr>
              <a:t>стандарта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c00000"/>
                </a:solidFill>
                <a:latin typeface="Cambria"/>
              </a:rPr>
              <a:t>ЛИЧНОСТНЫЕ РЕЗУЛЬТАТЫ ОБРАЗОВАТЕЛЬНОЙ ДЕЯТЕЛЬНОСТИ</a:t>
            </a:r>
            <a:endParaRPr b="0" lang="en-US" sz="28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03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2060"/>
                </a:solidFill>
                <a:latin typeface="Calibri"/>
              </a:rPr>
              <a:t> 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— 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система ценностных отношений обучающихся — к себе, другим участникам образовательного процесса, самому образовательному процессу и его результатам, сформированные в образовательном процессе. 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c00000"/>
                </a:solidFill>
                <a:latin typeface="Cambria"/>
              </a:rPr>
              <a:t>Деятельностный подход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03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это подход к организации процесса обучения, в котором на первый план выходит проблема самоопределения ученика в учебном процессе. Целью деятельностного подхода является воспитание личности ребенка как субъекта жизнедеятельности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Cambria"/>
              </a:rPr>
              <a:t>Система оценки учебных достижений обучающихся</a:t>
            </a:r>
            <a:endParaRPr b="0" lang="en-US" sz="28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03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Система и состав инструментария, включающая описание объекта и содержание оценки (требования, структурированные в соответствии с используемой таксономией); критерии и процедуры оценивания; формы представления результатов; условия и границы применения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Cambria"/>
              </a:rPr>
              <a:t>ВНЕУРОЧНАЯ (ВНЕУЧЕБНАЯ) ДЕЯТЕЛЬНОСТЬ обучающихся</a:t>
            </a:r>
            <a:endParaRPr b="0" lang="en-US" sz="24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039" name=""/>
          <p:cNvSpPr txBox="1"/>
          <p:nvPr/>
        </p:nvSpPr>
        <p:spPr>
          <a:xfrm>
            <a:off x="685440" y="1828800"/>
            <a:ext cx="8101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Calibri"/>
              </a:rPr>
              <a:t> 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— </a:t>
            </a:r>
            <a:r>
              <a:rPr b="0" i="1" lang="ru-RU" sz="2600" spc="-1" strike="noStrike">
                <a:solidFill>
                  <a:srgbClr val="002060"/>
                </a:solidFill>
                <a:latin typeface="Calibri"/>
              </a:rPr>
              <a:t>деятельностная организация на основе вариативной составляющей базисного учебного плана, организуемая участниками образовательного процесса, отличная от урочной системы обучения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2060"/>
                </a:solidFill>
                <a:latin typeface="Cambria"/>
              </a:rPr>
              <a:t>Структура Программы учебных предметов</a:t>
            </a:r>
            <a:br>
              <a:rPr sz="2500"/>
            </a:br>
            <a:r>
              <a:rPr b="0" lang="ru-RU" sz="2500" spc="-1" strike="noStrike">
                <a:solidFill>
                  <a:srgbClr val="002060"/>
                </a:solidFill>
                <a:latin typeface="Cambria"/>
              </a:rPr>
              <a:t>(по ФГОС) </a:t>
            </a:r>
            <a:br>
              <a:rPr sz="2500"/>
            </a:br>
            <a:endParaRPr b="0" lang="en-US" sz="25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041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) пояснительную записку, в которой конкретизируются общие цели образования с учетом специфики учебного предмета, коррекционного курса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2) общую характеристику учебного предмета, коррекционного курса с учетом особенностей его освоения обучающимися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3) описание места учебного предмета в учебном плане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4) личностные и предметные результаты освоения учебного предмета, коррекционного курса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5) содержание учебного предмета, коррекционного курса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6) тематическое планирование с определением основных видов учебной деятельности обучающихся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7) описание материально-технического обеспечения образовательной деятельнос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32329"/>
                </a:solidFill>
                <a:latin typeface="Cambria"/>
              </a:rPr>
              <a:t>Понятийный аппарат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000" name=""/>
          <p:cNvSpPr txBox="1"/>
          <p:nvPr/>
        </p:nvSpPr>
        <p:spPr>
          <a:xfrm>
            <a:off x="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обучающийся с ограниченными возможностями здоровья </a:t>
            </a: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-</a:t>
            </a: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физическое</a:t>
            </a: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лицо, имеющее недостатки в физическом и (или) психологическом развитии, подтвержденные психолого-медико-педагогической комиссией и препятствующие получению образования без создания специальных условий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Calibri"/>
              </a:rPr>
              <a:t>273-ФЗ, ст. 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Статус «Ребенок с ОВЗ» устанавливает ПМПК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04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101b1d"/>
                </a:solidFill>
                <a:latin typeface="Calibri"/>
              </a:rPr>
              <a:t>Примерные варианты тематического планирован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4" name=""/>
          <p:cNvGraphicFramePr/>
          <p:nvPr/>
        </p:nvGraphicFramePr>
        <p:xfrm>
          <a:off x="357120" y="642960"/>
          <a:ext cx="8572680" cy="5857920"/>
        </p:xfrm>
        <a:graphic>
          <a:graphicData uri="http://schemas.openxmlformats.org/drawingml/2006/table">
            <a:tbl>
              <a:tblPr/>
              <a:tblGrid>
                <a:gridCol w="428760"/>
                <a:gridCol w="928800"/>
                <a:gridCol w="772920"/>
                <a:gridCol w="754200"/>
                <a:gridCol w="901440"/>
                <a:gridCol w="862200"/>
                <a:gridCol w="988920"/>
                <a:gridCol w="957240"/>
                <a:gridCol w="988920"/>
                <a:gridCol w="989280"/>
              </a:tblGrid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 marL="1144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Раздел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Тема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1652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Сроки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Планируемые результаты по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Формируемые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Основные виды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Материально-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Формы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 marL="1144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программы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занятия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ФГОС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базовые учебные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деятельности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техническое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организации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34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действия (БУД)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обеспечение, в т.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0" rIns="0" tIns="0" bIns="0" anchor="b">
                      <a:noAutofit/>
                    </a:bodyPr>
                    <a:p>
                      <a:pPr marL="101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образовательной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71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63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Личностные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63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Предметные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ч. ЭОРы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деятельности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34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 rowSpan="2">
                  <a:txBody>
                    <a:bodyPr lIns="0" rIns="0" tIns="0" bIns="0" anchor="b">
                      <a:noAutofit/>
                    </a:bodyPr>
                    <a:p>
                      <a:pPr marL="1144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31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1 неделя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14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3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сентября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34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 rowSpan="2">
                  <a:txBody>
                    <a:bodyPr lIns="0" rIns="0" tIns="0" bIns="0" anchor="b">
                      <a:noAutofit/>
                    </a:bodyPr>
                    <a:p>
                      <a:pPr marL="1144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31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1 неделя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1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361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сентября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47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>
                  <a:txBody>
                    <a:bodyPr lIns="0" rIns="0" tIns="0" bIns="0" anchor="b">
                      <a:noAutofit/>
                    </a:bodyPr>
                    <a:p>
                      <a:pPr marL="114480">
                        <a:lnSpc>
                          <a:spcPts val="12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33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2 неделя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142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сентября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>
                  <a:txBody>
                    <a:bodyPr lIns="0" rIns="0" tIns="0" bIns="0" anchor="b">
                      <a:noAutofit/>
                    </a:bodyPr>
                    <a:p>
                      <a:pPr marL="114480">
                        <a:lnSpc>
                          <a:spcPts val="12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2 неделя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60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361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сентября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>
                  <a:txBody>
                    <a:bodyPr lIns="0" rIns="0" tIns="0" bIns="0" anchor="b">
                      <a:noAutofit/>
                    </a:bodyPr>
                    <a:p>
                      <a:pPr marL="114480">
                        <a:lnSpc>
                          <a:spcPts val="127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15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2080">
                <a:tc>
                  <a:txBody>
                    <a:bodyPr lIns="0" rIns="0" tIns="0" bIns="0" anchor="b">
                      <a:noAutofit/>
                    </a:bodyPr>
                    <a:p>
                      <a:pPr marL="1144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134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45" name="Rectangle 1"/>
          <p:cNvSpPr/>
          <p:nvPr/>
        </p:nvSpPr>
        <p:spPr>
          <a:xfrm>
            <a:off x="3432960" y="-729000"/>
            <a:ext cx="2278080" cy="19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93480" rIns="660240" tIns="574560" bIns="9140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  <a:ea typeface="Times New Roman"/>
              </a:rPr>
              <a:t>КТП (форма 4)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endParaRPr b="0" lang="en-US" sz="7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6" name=""/>
          <p:cNvGraphicFramePr/>
          <p:nvPr/>
        </p:nvGraphicFramePr>
        <p:xfrm>
          <a:off x="142920" y="928800"/>
          <a:ext cx="8858160" cy="2514600"/>
        </p:xfrm>
        <a:graphic>
          <a:graphicData uri="http://schemas.openxmlformats.org/drawingml/2006/table">
            <a:tbl>
              <a:tblPr/>
              <a:tblGrid>
                <a:gridCol w="665280"/>
                <a:gridCol w="641160"/>
                <a:gridCol w="1278000"/>
                <a:gridCol w="900000"/>
                <a:gridCol w="1095480"/>
                <a:gridCol w="1200240"/>
                <a:gridCol w="1334880"/>
                <a:gridCol w="871560"/>
                <a:gridCol w="871560"/>
              </a:tblGrid>
              <a:tr h="1234800">
                <a:tc rowSpan="3">
                  <a:txBody>
                    <a:bodyPr lIns="0" rIns="0" tIns="0" bIns="0" anchor="b">
                      <a:noAutofit/>
                    </a:bodyPr>
                    <a:p>
                      <a:pPr marL="12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0" lang="ru-RU" sz="18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 marL="12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 marL="12600">
                        <a:lnSpc>
                          <a:spcPts val="12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(дата)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Тема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урока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0" rIns="0" tIns="0" bIns="0" anchor="b">
                      <a:noAutofit/>
                    </a:bodyPr>
                    <a:p>
                      <a:pPr marL="177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Основные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 marL="177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элементы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 marL="177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содержания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Планируемые результаты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по ФГОС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Формируемые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базовые учебные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действия (БУД)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Средства обучения и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коррекционной работы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Формы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контроля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Дом,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задание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177840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Личностные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228600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Предметные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78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127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177840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228600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47" name="Rectangle 2"/>
          <p:cNvSpPr/>
          <p:nvPr/>
        </p:nvSpPr>
        <p:spPr>
          <a:xfrm>
            <a:off x="3869640" y="182880"/>
            <a:ext cx="140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  <a:ea typeface="Times New Roman"/>
              </a:rPr>
              <a:t>КТП (форма 5)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464653"/>
              </a:solidFill>
              <a:latin typeface="Cambria"/>
            </a:endParaRPr>
          </a:p>
        </p:txBody>
      </p:sp>
      <p:pic>
        <p:nvPicPr>
          <p:cNvPr id="1049" name="Picture 2" descr="C:\Users\Sideswipe\Desktop\slide_14.jpg"/>
          <p:cNvPicPr/>
          <p:nvPr/>
        </p:nvPicPr>
        <p:blipFill>
          <a:blip r:embed="rId1"/>
          <a:stretch/>
        </p:blipFill>
        <p:spPr>
          <a:xfrm>
            <a:off x="1281240" y="1219320"/>
            <a:ext cx="6581520" cy="493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2" name="Прямоугольник 4"/>
          <p:cNvSpPr/>
          <p:nvPr/>
        </p:nvSpPr>
        <p:spPr>
          <a:xfrm>
            <a:off x="5502960" y="4500720"/>
            <a:ext cx="85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308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ООП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003" name="Picture 5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04" name="Picture 6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5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06" name="Rectangle 9"/>
          <p:cNvSpPr/>
          <p:nvPr/>
        </p:nvSpPr>
        <p:spPr>
          <a:xfrm>
            <a:off x="1143000" y="159840"/>
            <a:ext cx="7215120" cy="38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Закон РФ «Об образовании в РФ»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Arial"/>
              </a:rPr>
              <a:t>Статья 2. </a:t>
            </a:r>
            <a:r>
              <a:rPr b="1" lang="ru-RU" sz="1600" spc="-1" strike="noStrike">
                <a:solidFill>
                  <a:srgbClr val="002060"/>
                </a:solidFill>
                <a:latin typeface="Arial"/>
              </a:rPr>
              <a:t>Основные понятия,</a:t>
            </a:r>
            <a:r>
              <a:rPr b="0" lang="ru-RU" sz="16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2060"/>
                </a:solidFill>
                <a:latin typeface="Arial"/>
              </a:rPr>
              <a:t>используемые в настоящем Федеральном законе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адаптированная образовательная программа 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-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образовательная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программа, адаптированная для обучения лиц с ограниченными возможностями здоровья с учетом особенностей их психофизического развития, индивидуальных возможностей и при необходимости обеспечивающая коррекцию нарушений развития и социальную адаптацию указанных лиц;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07" name="Прямоугольник 10"/>
          <p:cNvSpPr/>
          <p:nvPr/>
        </p:nvSpPr>
        <p:spPr>
          <a:xfrm>
            <a:off x="5431320" y="4572000"/>
            <a:ext cx="85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АООП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1285560" y="571320"/>
            <a:ext cx="7491240" cy="463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br>
              <a:rPr sz="2900"/>
            </a:br>
            <a:br>
              <a:rPr sz="2900"/>
            </a:br>
            <a:r>
              <a:rPr b="1" lang="ru-RU" sz="2900" spc="-1" strike="noStrike">
                <a:solidFill>
                  <a:srgbClr val="190b81"/>
                </a:solidFill>
                <a:latin typeface="Calibri"/>
              </a:rPr>
              <a:t>Понятийный аппарат: сокращения</a:t>
            </a:r>
            <a:endParaRPr b="0" lang="en-US" sz="29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009" name=""/>
          <p:cNvSpPr txBox="1"/>
          <p:nvPr/>
        </p:nvSpPr>
        <p:spPr>
          <a:xfrm>
            <a:off x="1356840" y="981000"/>
            <a:ext cx="765972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90b81"/>
                </a:solidFill>
                <a:latin typeface="Calibri"/>
              </a:rPr>
              <a:t>ИУП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– индивидуальный учебный пла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90b81"/>
                </a:solidFill>
                <a:latin typeface="Calibri"/>
              </a:rPr>
              <a:t>СИПР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– специальная индивидуальная программа развит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90b81"/>
                </a:solidFill>
                <a:latin typeface="Calibri"/>
              </a:rPr>
              <a:t>ИПР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– индивидуальная программа реабилитации (инвалида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90b81"/>
                </a:solidFill>
                <a:latin typeface="Calibri"/>
              </a:rPr>
              <a:t>АООП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– адаптированная основная образовательная программа (образовательного учреждения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90b81"/>
                </a:solidFill>
                <a:latin typeface="Calibri"/>
              </a:rPr>
              <a:t>АОП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– адаптированная образовательная программа (обучающегося с ОВЗ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90b81"/>
                </a:solidFill>
                <a:latin typeface="Calibri"/>
              </a:rPr>
              <a:t>БУД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– базовые учебные действия (для нецензового образования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1071360" y="714240"/>
            <a:ext cx="8072280" cy="1285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ff0000"/>
                </a:solidFill>
                <a:latin typeface="Cambria"/>
              </a:rPr>
              <a:t>Федеральный государственный образовательный стандарт - как понятие</a:t>
            </a:r>
            <a:br>
              <a:rPr sz="3200"/>
            </a:b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011" name=""/>
          <p:cNvSpPr txBox="1"/>
          <p:nvPr/>
        </p:nvSpPr>
        <p:spPr>
          <a:xfrm>
            <a:off x="457200" y="170028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Стандарт</a:t>
            </a:r>
            <a:r>
              <a:rPr b="1" i="1" lang="ru-RU" sz="26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</a:t>
            </a:r>
            <a:r>
              <a:rPr b="0" lang="ru-RU" sz="26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(от англ. </a:t>
            </a:r>
            <a:r>
              <a:rPr b="0" i="1" lang="ru-RU" sz="26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standard</a:t>
            </a:r>
            <a:r>
              <a:rPr b="0" lang="ru-RU" sz="26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— норма, образец) в широком смысле слова — образец, эталон, модель, принимаемые за исходные для сопоставления с ними др. подобных объектов. Стандарт в Российской Федерации — документ,  устанавливающий комплекс норм, правил, требований к объекту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Образовательный станда</a:t>
            </a:r>
            <a:r>
              <a:rPr b="1" i="1" lang="ru-RU" sz="24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рт </a:t>
            </a:r>
            <a:r>
              <a:rPr b="0" lang="ru-RU" sz="2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устанавливает ряд требований к содержанию, структуре и условиям образования детей на разных ступенях обуче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2" name="Рисунок 1" descr="http://kirovskschool2.ucoz.ru/school/fgos_noo/f.jpg"/>
          <p:cNvPicPr/>
          <p:nvPr/>
        </p:nvPicPr>
        <p:blipFill>
          <a:blip r:embed="rId1"/>
          <a:stretch/>
        </p:blipFill>
        <p:spPr>
          <a:xfrm>
            <a:off x="6072120" y="6000840"/>
            <a:ext cx="2895840" cy="85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c00000"/>
                </a:solidFill>
                <a:latin typeface="Cambria"/>
              </a:rPr>
              <a:t>Федеральный государственный образовательный стандарт</a:t>
            </a:r>
            <a:endParaRPr b="0" lang="en-US" sz="29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014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Calibri"/>
              </a:rPr>
              <a:t>Нормативный документ, определяющий совокупность требований к результатам освоения основной образовательной программы, ее структуре и условиям реализации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c00000"/>
                </a:solidFill>
                <a:latin typeface="Cambria"/>
              </a:rPr>
              <a:t>Федеральный государственный образовательный стандарт образования обучающихся с умственной отсталостью (интеллектуальными нарушениями)</a:t>
            </a:r>
            <a:endParaRPr b="0" lang="en-US" sz="2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016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– 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совокупность обязательных требований при реализации адаптированных основных общеобразовательных программ  в организациях, осуществляющих образовательную деятельность 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c00000"/>
                </a:solidFill>
                <a:latin typeface="Cambria"/>
              </a:rPr>
              <a:t>Под специальными условиями для получения образования</a:t>
            </a:r>
            <a:endParaRPr b="0" lang="en-US" sz="28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 algn="just">
              <a:lnSpc>
                <a:spcPct val="15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–</a:t>
            </a:r>
            <a:r>
              <a:rPr b="0" i="1" lang="ru-RU" sz="1800" spc="-1" strike="noStrike">
                <a:solidFill>
                  <a:srgbClr val="35353e"/>
                </a:solidFill>
                <a:latin typeface="Calibri"/>
              </a:rPr>
              <a:t>обучающимися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 ограниченными возможностями здоровья понимаются условия обучения, воспитания и развития таких обучающихся, включающие в себя использование специальных образовательных программ и методов обучения и воспитания, специальных учебников, учебных пособий и дидактических материалов, специальных технических средств обучения коллективного и индивидуального пользования, предоставление услуг ассистента (помощника), оказывающего обучающимся необходимую техническую помощь, проведение групповых  и индивидуальных коррекционных занятий, обеспечение доступа в здания организаций, осуществляющих образовательную деятельность, и другие условия, без которых невозможно или затруднено освоение образовательных программ обучающимися с ограниченными возможностями здоровья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Прямоугольник 3"/>
          <p:cNvSpPr/>
          <p:nvPr/>
        </p:nvSpPr>
        <p:spPr>
          <a:xfrm>
            <a:off x="428760" y="750960"/>
            <a:ext cx="8391240" cy="43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Calibri"/>
              </a:rPr>
              <a:t>В терминологии Федерального закона № 273-ФЗ «Об образовании в Российской Федерации» от 29 декабря 2012 г. образовательные программы для обучающихся с ОВЗ относятся к адаптированным образовательным программам. В соответствии с п. 28 ст. 2 Федерального закона № 273-ФЗ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06T18:21:11Z</dcterms:created>
  <dc:creator>Sideswipe</dc:creator>
  <dc:description/>
  <dc:language>en-US</dc:language>
  <cp:lastModifiedBy>Sideswipe</cp:lastModifiedBy>
  <dcterms:modified xsi:type="dcterms:W3CDTF">2018-03-27T10:56:44Z</dcterms:modified>
  <cp:revision>20</cp:revision>
  <dc:subject/>
  <dc:title>Слайд 1</dc:title>
</cp:coreProperties>
</file>