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674-09DA-4D01-B664-20607031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061-7937-4191-AAE3-33298D4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3AC-6882-4F3E-B8E1-A7DD0C9C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E43-CEA5-4B5A-A48A-BF786EAE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0FB0-03F7-4A80-9D45-93E7F8DA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B148-2883-4F2D-A28B-C90B9BCE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0DB-CE3C-478C-9376-54AF4077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3A58-7212-4A37-928B-251B1B50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C8C1-0DF4-4A3B-BAA1-26205F3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3AAD-AF64-4939-9553-6B5E737B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2C52-F326-43C0-91D0-0A93513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999-D1FA-4A57-9E13-742DE37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6A75-39C2-4E68-BD93-88F8E58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7B46-3727-4B47-B042-12D510B0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9B5D-13A8-48E8-B26F-4CA90B2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52C4-F1D8-4518-9C28-4862E7ED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87C-18D1-45A9-A1A7-C5AE31BB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BF86-9C7F-4B5C-82D2-3A8A6799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8B07-A532-4CE1-B501-164D0736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FDFD1-FA17-4E29-ADA3-B35EE9C4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8B14-B5A0-426D-841A-E8D4280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A5AB-5E6A-4E9B-9136-1EB6788A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1BB-6DC3-4532-BB9D-36A21F8F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91ED-36A4-4066-8E68-442DFD42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52BB-9CFE-4677-B61F-CDFB61D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5064-E6B4-400D-9F22-CF41C6D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162B-38C7-4755-9BE3-6F6D28E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F741-E552-44A3-A6F8-B65A3B5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AC5D-5D59-4AF4-9A8A-A7CB4D2C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09B7-6D94-4346-BBA6-32327355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588B-5C10-436B-B055-1C4FE9AE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6C34-D681-467D-8881-44EFE40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8817-4AF5-45C2-A4FD-CF54153A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C66-37A8-485D-8EE8-7D8C4A5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CC3BD-F0A7-4F1E-A0ED-F04FB775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1A0E-1A3E-40A5-824B-70B0C33A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38DE-A2C6-4E8C-A27C-F2201ADC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A05E-D4DE-4868-B7D0-31FAC4B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3E45-DBAC-492E-99C0-AB3A7B1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1029A-A39A-49A5-A8AD-9CD44F0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9999-3398-4C6C-A962-C88E884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E087-7BFB-49CA-9C1B-6E636A2C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CDDF-D359-4234-9B79-2D9DF77C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EBB-DBE9-4BCF-987F-C35AF51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296-1214-491E-8651-D9DAC74A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DF0-3FE9-4048-9664-5A1B5A5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BBE-64C6-469B-BEA5-20360C3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498-AF0D-41F4-85DB-8D55E36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B9B0-D1F5-464E-8140-DE37FACEF58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02E-1FBD-4539-AEC6-F49B96A2EB6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C09A-CF4A-4D27-94DB-EB7C04491B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CE1-910B-4B0C-9655-DE34823EE3C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Любите своего ребёнка!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ал на экзамене – огромный психологический стресс. Не допустите этого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143000" y="731880"/>
            <a:ext cx="7174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пешность сдачи экзамена во многом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висит от настроя и отношения к этому родител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Чтобы помочь детям как можно лучше подготовиться к экзаменам, попробуйте выполнить следующие совет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стоит дожидаться, пока ситуация станет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атастрофическ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стесняйтесь обратиться за квалифицированной помощью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539640" y="1650960"/>
            <a:ext cx="81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того, чтобы в кризисной ситуации ребенку не терять головы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надо ставить перед ним сверхзадач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достижения сверхцели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ально оценивайте ситуацию и возможности ребёнка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1" name="Заголовок 6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32176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йте оптимальн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фортные услов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ебёнка дом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уйте правильно  рабочее пространство ребен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имум компьютера и телевизионных передач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 должно быть  3-4 разовым, калорийным и богатым витамин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отказывайте ребёнку в отдыхе. Лучше, если это будет активный отды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еличить продолжительность  сна на 1 час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ически контролируйте ситуацию через классного руководителя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программируйте ребёнка на неудач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адо рисовать перед ним успешное преодоление ситуации, поясняя, что нужно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АМОМУ РЕБЁНК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ть для этог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риентируйте ребёнка на действие!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является необходимым условием успеха. Приведите в систему подготовку к экзамена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916280"/>
            <a:ext cx="86421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 консультацию ребенок должен приходить с собственными конкретными вопрос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решению учебных проблем, так как учитель не может предугадать трудности каждого ученика. Для этого  к консультации нужно готовиться      дом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нтролируйте подготовку к консультациям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люди делятся на работоспособных исключительно вечером «сов», ранних «жаворонков»  и полуденных «голубей». Если ребенок начинает учить в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ремя, то эффективность запоминания получится в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а выше обычн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1:46:19Z</dcterms:created>
  <dc:creator>PIROGI</dc:creator>
  <dc:description/>
  <dc:language>en-US</dc:language>
  <cp:lastModifiedBy>Я</cp:lastModifiedBy>
  <dcterms:modified xsi:type="dcterms:W3CDTF">2017-05-09T15:26:18Z</dcterms:modified>
  <cp:revision>45</cp:revision>
  <dc:subject/>
  <dc:title>ЭКЗАМЕН. ПСИХОЛОГИЧЕСКИЕ АСПЕКТЫ</dc:title>
</cp:coreProperties>
</file>