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96F-69AA-4CC7-BFFA-3B22050C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A0C-1FD0-4970-9BAA-292BA037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697-71D4-4930-8F26-8E194027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53B-9474-460A-BF4F-715E9A7D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A3E1-0514-4CC0-BDB4-B43D4949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0750-53D0-4BBF-B106-F6D1C22E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5FB3-8BE4-46EE-9126-F0D32DA4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8E9B-4D8C-4AC7-B55D-57CF9C7E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89F5-B6B1-466E-A4A1-F6B105A2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30AB-AEB8-456F-AEEB-77A968BA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145C-84C5-4125-BE84-7A698736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6A1-3440-43AF-B1DD-E2BA7143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45B1-5CC5-4F29-AFEC-91F44027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D5C7-4679-421F-B9C4-1C1A2A84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E903-A37D-4519-9BB7-9616B7A4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6CA4-AB84-44C1-8517-9987BF40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C363-EDF2-44AD-8204-18267782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902A7-0599-4FCD-8791-432A84CF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A306-AC86-4DE1-A0BF-098BB141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5DE7C-F663-438C-B892-15394414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91DBE-0287-47BA-8F01-84E54F74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BC8CA-ED8A-4BF1-B491-E7F37069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68B-23E9-447A-A48B-3E2E4113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30B6-D79B-46F6-805D-3C183A9F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84FCA-A223-4B58-8120-8AECD9F6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0B4CF-17A9-4E62-B635-F1EE7D84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C6B31-A44B-4162-A21E-858B8A9F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7FA99-D68C-418D-81FC-0995ED7B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318AD-11C8-4CA6-B2C8-C8EC5E82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C3156-70CC-4BED-B16A-7891DFA5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A1E45-A25D-42F2-8B86-9F3B5176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EF2A0-D587-4529-B6D4-58724ACB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EDDF7-EF14-423B-998B-AFFB1FA5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314D-02FF-40B3-BD8D-7E68DEEC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6AA8E-AE18-4587-A008-BFD7576E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03433-F290-4E0F-B7E5-6D2ADCB1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5420E-3594-44F6-83C4-CEDFB049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AB922-422F-48B8-949B-F96A68CF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3438D-E03E-491A-8B89-2B3A0802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4CC41-F59F-4176-A269-474BFBD1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0B28E-6204-4067-92B1-B4D5C0D6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EFE8C-E3FF-4357-B469-62C8600E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DD939-14F3-499F-AAE8-17B0B818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7AA-20A9-4AD8-ABE5-4DACB7FD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212-C728-4A85-B14E-FAAA896A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8E07-D4E0-4531-BB0D-CB76B956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46B-E7F9-4B79-869F-8E5025A3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215-66C4-4EB5-A7B7-C7C4ED9D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D408-EBF4-4266-B292-89AB6FA3DE0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CE07-2CBF-4C26-9F96-D5287E9F5D2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A478-7C54-4783-8422-279E24BBEE9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CEE4-DEB3-4222-BB40-3D69A593AC2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3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3088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вет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Любите своего ребёнка!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ал на экзамене – огромный психологический стресс. Не допустите этого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!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143000" y="731880"/>
            <a:ext cx="7174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спешность сдачи экзамена во многом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висит от настроя и отношения к этому родител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Чтобы помочь детям как можно лучше подготовиться к экзаменам, попробуйте выполнить следующие советы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вет 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стоит дожидаться, пока ситуация станет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атастрофическо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стесняйтесь обратиться за квалифицированной помощью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3"/>
          <p:cNvSpPr/>
          <p:nvPr/>
        </p:nvSpPr>
        <p:spPr>
          <a:xfrm>
            <a:off x="539640" y="1650960"/>
            <a:ext cx="8136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того, чтобы в кризисной ситуации ребенку не терять головы,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е надо ставить перед ним сверхзадач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достижения сверхцели.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ально оценивайте ситуацию и возможности ребёнка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1" name="Заголовок 6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32176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вет 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йте оптимально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мфортные услов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ребёнка дом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уйте правильно  рабочее пространство ребен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нимум компьютера и телевизионных передач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тание должно быть  3-4 разовым, калорийным и богатым витамин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отказывайте ребёнку в отдыхе. Лучше, если это будет активный отдых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величить продолжительность  сна на 1 час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вет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иодически контролируйте ситуацию через классного руководителя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вет 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программируйте ребёнка на неудач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Надо рисовать перед ним успешное преодоление ситуации, поясняя, что нужно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АМОМУ РЕБЁНКУ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делать для этог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риентируйте ребёнка на действие!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о является необходимым условием успеха. Приведите в систему подготовку к экзамена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вет 6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920" y="1916280"/>
            <a:ext cx="86421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 консультацию ребенок должен приходить с собственными конкретными вопроса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 решению учебных проблем, так как учитель не может предугадать трудности каждого ученика. Для этого  к консультации нужно готовиться      дома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онтролируйте подготовку к консультациям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вет 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люди делятся на работоспособных исключительно вечером «сов», ранних «жаворонков»  и полуденных «голубей». Если ребенок начинает учить в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ВО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ремя, то эффективность запоминания получится в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аза выше обычно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1:46:19Z</dcterms:created>
  <dc:creator>PIROGI</dc:creator>
  <dc:description/>
  <dc:language>en-US</dc:language>
  <cp:lastModifiedBy>Я</cp:lastModifiedBy>
  <dcterms:modified xsi:type="dcterms:W3CDTF">2017-05-09T15:26:18Z</dcterms:modified>
  <cp:revision>45</cp:revision>
  <dc:subject/>
  <dc:title>ЭКЗАМЕН. ПСИХОЛОГИЧЕСКИЕ АСПЕКТЫ</dc:title>
</cp:coreProperties>
</file>