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41.jpeg" ContentType="image/jpeg"/>
  <Override PartName="/ppt/media/image36.jpeg" ContentType="image/jpeg"/>
  <Override PartName="/ppt/media/image37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9.png" ContentType="image/pn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12.wmf" ContentType="image/x-wmf"/>
  <Override PartName="/ppt/media/image48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33.jpeg" ContentType="image/jpeg"/>
  <Override PartName="/ppt/media/image30.jpeg" ContentType="image/jpeg"/>
  <Override PartName="/ppt/media/image11.png" ContentType="image/png"/>
  <Override PartName="/ppt/media/image10.png" ContentType="image/png"/>
  <Override PartName="/ppt/media/image35.jpeg" ContentType="image/jpeg"/>
  <Override PartName="/ppt/media/image50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DC1-17F5-4A39-816E-795169CA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C1E-2619-4781-8326-DACE5845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D9E-D9EA-44EA-97E5-E1BF3621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25C-B930-4899-B917-093279FF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4C91-8A72-435A-B4D1-8F835511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C6D9-DFB6-48A9-82D1-60E6FA29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53F8-1030-4B87-BD3A-C27608A8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D67C-58B8-4704-B12C-6FF3A400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2D1E-3BB8-460F-8E62-F279608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5325-55C4-41E6-B617-55CBB922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9463-56BC-4E8D-975A-FC0A5888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D4E-85EE-45D5-B1FF-ECC2BB6C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B907-90B9-428E-8143-27974709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39CE-5CF2-4552-93B2-EEF553C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62FB-2D1C-40E6-9E42-E5262767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B53D-8CA4-4DC1-9B1B-9217633D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CAD-6FE0-4A3F-A199-02316BE7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17F6-FCFF-4EDF-8256-D314BC15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AB3E-E999-494B-B74A-299B503E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A4A0-E60A-44EF-B5C3-ACBB7A9B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D643-7541-41A2-B2AC-2DCDF8E9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02C1-6857-48AF-964D-8C30A92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D54-E17F-43EC-8B79-0F2DEBD9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ACEE-5AF0-4809-AC6C-307F85E4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059E-7449-45D0-8FB4-74A094B0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9D2B-1A50-470B-B2A3-4531A88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B90A-2289-4418-8A30-765CD60B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D20A-7A27-468A-9A4D-CF61CDC9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7303-54A1-475F-967B-59627D95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41F6-3603-4817-B3DF-860D9A52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4BBD9-D268-4B87-A01A-4B63FD77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357E0-C824-45F0-A448-4EB5D43A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B31B-2A6B-4249-A83A-86314F1C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230-7C7F-4EB8-BDCC-EB3BE42B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0D0B5-54D9-4736-A27B-CA7207EF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5F99-1593-41F5-8118-027E295B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DA4EE-DFD7-4EB3-B11C-58737BAD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294F5-3002-4297-9EDB-7979FF64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369D-D94D-46E5-B611-C3BD8B7C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8A30C-C0C7-4B7B-9A3F-C937E066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CB48-69D6-4BC8-8D67-7BA330CE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E4543-6EBE-481B-93BA-F2AA98CC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E354-2B9B-4F19-B5BE-58E963CA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9F7D4-D490-4A12-A062-836B48F5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C53-7152-4361-9F3B-1A75E4D2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35080-E08A-434B-93D5-2818EC01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E65F-5FA4-4D14-8377-E31ABE34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1D300-F3C0-435F-8C8C-14FA697D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53779-A475-4FE1-81DC-F0BADC42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8CAF-61B4-4FDD-A802-4EF05E86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8E140-8A1D-4EE7-BEC6-3FEBFE7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EAE57-E41E-42CB-A23E-DBE12F87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532C-F694-467D-B462-86E51C31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7678E-3798-43C3-98D7-74059E87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16B7D-5A51-4899-AF18-E2B110A7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FF0-2343-4AF2-867A-77FAA22C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5DCD4-F673-4C2A-8C7E-FADBFB22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1AA-F97B-4A04-AF3B-2D1A891D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046-6801-43E2-8C72-0E025474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72F-936D-4118-8303-5F78998B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00"/>
                </a:solidFill>
                <a:latin typeface="Agency FB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B665-61D7-42D0-A0B8-54A44AF914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00"/>
                </a:solidFill>
                <a:latin typeface="Agency FB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B541-C202-4C72-B15E-9E99A310A5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00"/>
                </a:solidFill>
                <a:latin typeface="Agency FB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86F-7A73-48E5-9081-2F4E45FA5F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1620-CFCE-4868-A6D1-B4B69FA8671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4727-4239-4668-8185-F0FC879A80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21" name="Picture 6" descr="7d9295b621f4ce888ca6106f6c8603d9_full"/>
          <p:cNvPicPr/>
          <p:nvPr/>
        </p:nvPicPr>
        <p:blipFill>
          <a:blip r:embed="rId1"/>
          <a:stretch/>
        </p:blipFill>
        <p:spPr>
          <a:xfrm>
            <a:off x="0" y="14842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8"/>
          <p:cNvSpPr txBox="1"/>
          <p:nvPr/>
        </p:nvSpPr>
        <p:spPr>
          <a:xfrm>
            <a:off x="1835280" y="0"/>
            <a:ext cx="59752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b9f25"/>
                </a:solidFill>
                <a:latin typeface="Impact"/>
              </a:rPr>
              <a:t>В мире индикатор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b9f25"/>
              </a:solidFill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рестовник весенн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катор по азоту – произрастает на почвах, богатых азот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S7001027"/>
          <p:cNvPicPr/>
          <p:nvPr/>
        </p:nvPicPr>
        <p:blipFill>
          <a:blip r:embed="rId1"/>
          <a:stretch/>
        </p:blipFill>
        <p:spPr>
          <a:xfrm>
            <a:off x="5580000" y="1197000"/>
            <a:ext cx="3564000" cy="2689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0" y="4665600"/>
            <a:ext cx="2592360" cy="2192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i?id=3692220&amp;tov=2"/>
          <p:cNvPicPr/>
          <p:nvPr/>
        </p:nvPicPr>
        <p:blipFill>
          <a:blip r:embed="rId3"/>
          <a:stretch/>
        </p:blipFill>
        <p:spPr>
          <a:xfrm>
            <a:off x="2340000" y="2852640"/>
            <a:ext cx="2879640" cy="2149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Картинка 1 из 26"/>
          <p:cNvPicPr/>
          <p:nvPr/>
        </p:nvPicPr>
        <p:blipFill>
          <a:blip r:embed="rId4"/>
          <a:stretch/>
        </p:blipFill>
        <p:spPr>
          <a:xfrm>
            <a:off x="5219640" y="4253040"/>
            <a:ext cx="3924360" cy="260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Растения-индикаторы моего сада</a:t>
            </a:r>
            <a:endParaRPr b="1" lang="en-US" sz="32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74" name="Line 3"/>
          <p:cNvSpPr/>
          <p:nvPr/>
        </p:nvSpPr>
        <p:spPr>
          <a:xfrm flipH="1">
            <a:off x="1403280" y="8366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8360" y="177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годы малины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871640" cy="11476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835280" y="38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ляника садовая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4140360" y="83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203640" y="13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годы клубники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80" name="Picture 10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1727280" cy="11620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3"/>
          <p:cNvSpPr/>
          <p:nvPr/>
        </p:nvSpPr>
        <p:spPr>
          <a:xfrm>
            <a:off x="6012000" y="364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ородина красная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6443640" y="83664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6877080" y="126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ородина чёрная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291636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6012000" y="836640"/>
            <a:ext cx="57600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86" name="Picture 22" descr="i?id=67283851&amp;tov=8"/>
          <p:cNvPicPr/>
          <p:nvPr/>
        </p:nvPicPr>
        <p:blipFill>
          <a:blip r:embed="rId3"/>
          <a:stretch/>
        </p:blipFill>
        <p:spPr>
          <a:xfrm>
            <a:off x="7380360" y="1844640"/>
            <a:ext cx="1763640" cy="1292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4" descr="i?id=44127742&amp;tov=0"/>
          <p:cNvPicPr/>
          <p:nvPr/>
        </p:nvPicPr>
        <p:blipFill>
          <a:blip r:embed="rId4"/>
          <a:stretch/>
        </p:blipFill>
        <p:spPr>
          <a:xfrm>
            <a:off x="5724360" y="436572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i?id=16148479&amp;tov=7"/>
          <p:cNvPicPr/>
          <p:nvPr/>
        </p:nvPicPr>
        <p:blipFill>
          <a:blip r:embed="rId5"/>
          <a:stretch/>
        </p:blipFill>
        <p:spPr>
          <a:xfrm>
            <a:off x="1908000" y="4292640"/>
            <a:ext cx="2232360" cy="168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burak"/>
          <p:cNvPicPr/>
          <p:nvPr/>
        </p:nvPicPr>
        <p:blipFill>
          <a:blip r:embed="rId1"/>
          <a:stretch/>
        </p:blipFill>
        <p:spPr>
          <a:xfrm>
            <a:off x="4067280" y="1557360"/>
            <a:ext cx="2987640" cy="2444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Морковь. Полезные и целебные (лечебные) свойства моркови. Чем полезна морковь. Лечение морковью"/>
          <p:cNvPicPr/>
          <p:nvPr/>
        </p:nvPicPr>
        <p:blipFill>
          <a:blip r:embed="rId2"/>
          <a:stretch/>
        </p:blipFill>
        <p:spPr>
          <a:xfrm>
            <a:off x="2771640" y="4349880"/>
            <a:ext cx="3095640" cy="2508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i?id=70257160&amp;tov=3"/>
          <p:cNvPicPr/>
          <p:nvPr/>
        </p:nvPicPr>
        <p:blipFill>
          <a:blip r:embed="rId3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"/>
          <p:cNvPicPr/>
          <p:nvPr/>
        </p:nvPicPr>
        <p:blipFill>
          <a:blip r:embed="rId4"/>
          <a:stretch/>
        </p:blipFill>
        <p:spPr>
          <a:xfrm>
            <a:off x="0" y="2997360"/>
            <a:ext cx="2700360" cy="2104920"/>
          </a:xfrm>
          <a:prstGeom prst="rect">
            <a:avLst/>
          </a:prstGeom>
          <a:ln w="0">
            <a:noFill/>
          </a:ln>
        </p:spPr>
      </p:pic>
      <p:sp>
        <p:nvSpPr>
          <p:cNvPr id="293" name="WordArt 11"/>
          <p:cNvSpPr txBox="1"/>
          <p:nvPr/>
        </p:nvSpPr>
        <p:spPr>
          <a:xfrm>
            <a:off x="611280" y="189000"/>
            <a:ext cx="795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тения-индикаторы моего огоро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324000" y="620280"/>
            <a:ext cx="8280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95" name="Line 14"/>
          <p:cNvSpPr/>
          <p:nvPr/>
        </p:nvSpPr>
        <p:spPr>
          <a:xfrm flipH="1">
            <a:off x="1115640" y="692280"/>
            <a:ext cx="360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96" name="Line 25"/>
          <p:cNvSpPr/>
          <p:nvPr/>
        </p:nvSpPr>
        <p:spPr>
          <a:xfrm>
            <a:off x="5508720" y="62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2664000" cy="86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раснокочанная капуста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771640" y="4005360"/>
            <a:ext cx="2881440" cy="3585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66f"/>
                </a:solidFill>
                <a:latin typeface="Verdana"/>
              </a:rPr>
              <a:t>Морков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2916360" y="692280"/>
            <a:ext cx="93492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7308720" y="692280"/>
            <a:ext cx="71928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7667640" y="36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02" name="Text Box 35"/>
          <p:cNvSpPr/>
          <p:nvPr/>
        </p:nvSpPr>
        <p:spPr>
          <a:xfrm>
            <a:off x="7308720" y="372744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gency FB"/>
              </a:rPr>
              <a:t>Ревень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4932360" y="1125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gency FB"/>
              </a:rPr>
              <a:t>свекла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стения-индикаторы лес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5" name="Picture 5" descr="i?id=26238046&amp;tov=0"/>
          <p:cNvPicPr/>
          <p:nvPr/>
        </p:nvPicPr>
        <p:blipFill>
          <a:blip r:embed="rId1"/>
          <a:stretch/>
        </p:blipFill>
        <p:spPr>
          <a:xfrm>
            <a:off x="6480000" y="2133720"/>
            <a:ext cx="2664000" cy="1805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i?id=141863563&amp;tov=7"/>
          <p:cNvPicPr/>
          <p:nvPr/>
        </p:nvPicPr>
        <p:blipFill>
          <a:blip r:embed="rId2"/>
          <a:stretch/>
        </p:blipFill>
        <p:spPr>
          <a:xfrm>
            <a:off x="250920" y="4869000"/>
            <a:ext cx="2374920" cy="1773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46659737_1248360407_jimolostisiedobnaya"/>
          <p:cNvPicPr/>
          <p:nvPr/>
        </p:nvPicPr>
        <p:blipFill>
          <a:blip r:embed="rId3"/>
          <a:stretch/>
        </p:blipFill>
        <p:spPr>
          <a:xfrm>
            <a:off x="6443640" y="4581360"/>
            <a:ext cx="2381400" cy="2276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i?id=38393856&amp;tov=2"/>
          <p:cNvPicPr/>
          <p:nvPr/>
        </p:nvPicPr>
        <p:blipFill>
          <a:blip r:embed="rId4"/>
          <a:stretch/>
        </p:blipFill>
        <p:spPr>
          <a:xfrm>
            <a:off x="539640" y="2565360"/>
            <a:ext cx="2087640" cy="1576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i?id=29630776&amp;tov=4"/>
          <p:cNvPicPr/>
          <p:nvPr/>
        </p:nvPicPr>
        <p:blipFill>
          <a:blip r:embed="rId5"/>
          <a:stretch/>
        </p:blipFill>
        <p:spPr>
          <a:xfrm>
            <a:off x="3276720" y="4869000"/>
            <a:ext cx="2663640" cy="1728720"/>
          </a:xfrm>
          <a:prstGeom prst="rect">
            <a:avLst/>
          </a:prstGeom>
          <a:ln w="0">
            <a:noFill/>
          </a:ln>
        </p:spPr>
      </p:pic>
      <p:sp>
        <p:nvSpPr>
          <p:cNvPr id="310" name="Line 16"/>
          <p:cNvSpPr/>
          <p:nvPr/>
        </p:nvSpPr>
        <p:spPr>
          <a:xfrm flipV="1">
            <a:off x="611280" y="1052640"/>
            <a:ext cx="741672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1" name="Line 17"/>
          <p:cNvSpPr/>
          <p:nvPr/>
        </p:nvSpPr>
        <p:spPr>
          <a:xfrm flipH="1">
            <a:off x="1618920" y="119700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826920" y="2060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Облепиха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3" name="Line 19"/>
          <p:cNvSpPr/>
          <p:nvPr/>
        </p:nvSpPr>
        <p:spPr>
          <a:xfrm flipH="1">
            <a:off x="2411280" y="1125360"/>
            <a:ext cx="136872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611280" y="443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Голубика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3903840" y="372744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3708360" y="436572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Шиповник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7" name="Line 23"/>
          <p:cNvSpPr/>
          <p:nvPr/>
        </p:nvSpPr>
        <p:spPr>
          <a:xfrm flipH="1">
            <a:off x="4427280" y="1125360"/>
            <a:ext cx="36036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8" name="Line 24"/>
          <p:cNvSpPr/>
          <p:nvPr/>
        </p:nvSpPr>
        <p:spPr>
          <a:xfrm>
            <a:off x="6588000" y="105264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5651640" y="1052640"/>
            <a:ext cx="93636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6659640" y="4159080"/>
            <a:ext cx="25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Жимолость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7093080" y="17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Брусника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Файл:Rumex acetosa cultivar 01.jpg"/>
          <p:cNvPicPr/>
          <p:nvPr/>
        </p:nvPicPr>
        <p:blipFill>
          <a:blip r:embed="rId1"/>
          <a:stretch/>
        </p:blipFill>
        <p:spPr>
          <a:xfrm>
            <a:off x="179280" y="1557360"/>
            <a:ext cx="2989440" cy="2576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Крапива"/>
          <p:cNvPicPr/>
          <p:nvPr/>
        </p:nvPicPr>
        <p:blipFill>
          <a:blip r:embed="rId2"/>
          <a:stretch/>
        </p:blipFill>
        <p:spPr>
          <a:xfrm>
            <a:off x="5940360" y="1557360"/>
            <a:ext cx="2979720" cy="2735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Rhododendron ponticum"/>
          <p:cNvPicPr/>
          <p:nvPr/>
        </p:nvPicPr>
        <p:blipFill>
          <a:blip r:embed="rId3"/>
          <a:stretch/>
        </p:blipFill>
        <p:spPr>
          <a:xfrm>
            <a:off x="1547640" y="4797360"/>
            <a:ext cx="2619720" cy="2060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Подорожник большой"/>
          <p:cNvPicPr/>
          <p:nvPr/>
        </p:nvPicPr>
        <p:blipFill>
          <a:blip r:embed="rId4"/>
          <a:stretch/>
        </p:blipFill>
        <p:spPr>
          <a:xfrm>
            <a:off x="4716360" y="4808520"/>
            <a:ext cx="2737080" cy="20494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6"/>
          <p:cNvSpPr/>
          <p:nvPr/>
        </p:nvSpPr>
        <p:spPr>
          <a:xfrm>
            <a:off x="111600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gency FB"/>
              </a:rPr>
              <a:t>              </a:t>
            </a:r>
            <a:r>
              <a:rPr b="1" lang="ru-RU" sz="3200" spc="-1" strike="noStrike">
                <a:solidFill>
                  <a:srgbClr val="00ff00"/>
                </a:solidFill>
                <a:latin typeface="Agency FB"/>
              </a:rPr>
              <a:t>Растения-индикаторы поля</a:t>
            </a:r>
            <a:endParaRPr b="1" lang="en-US" sz="32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042920" y="112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gency FB"/>
              </a:rPr>
              <a:t>Ревень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6335640" y="1125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gency FB"/>
              </a:rPr>
              <a:t>Крапива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1476360" y="4221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gency FB"/>
              </a:rPr>
              <a:t>Родендрон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5364000" y="4292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gency FB"/>
              </a:rPr>
              <a:t>Подорожник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1" name="Line 23"/>
          <p:cNvSpPr/>
          <p:nvPr/>
        </p:nvSpPr>
        <p:spPr>
          <a:xfrm flipH="1">
            <a:off x="2626920" y="69228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2" name="Line 24"/>
          <p:cNvSpPr/>
          <p:nvPr/>
        </p:nvSpPr>
        <p:spPr>
          <a:xfrm flipH="1">
            <a:off x="3347640" y="692280"/>
            <a:ext cx="57636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3" name="Line 25"/>
          <p:cNvSpPr/>
          <p:nvPr/>
        </p:nvSpPr>
        <p:spPr>
          <a:xfrm>
            <a:off x="5292720" y="692280"/>
            <a:ext cx="503280" cy="37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6659640" y="69228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5" name="Line 29"/>
          <p:cNvSpPr/>
          <p:nvPr/>
        </p:nvSpPr>
        <p:spPr>
          <a:xfrm>
            <a:off x="2124000" y="692280"/>
            <a:ext cx="55436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Методика изготовления индикаторов</a:t>
            </a:r>
            <a:endParaRPr b="1" lang="en-US" sz="32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0" y="1268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иготовления растительных индикаторов необходимо взять по 50 г сырья, измельчить, залить 200 мл воды и прокипятить в течении 1-2 минут. Полученные отвары  охладить и профильтровать. С целью предохранения от порчи, в полученный фильтрат необходимо добавить спирт в соотношении 2:1.  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338" name="Picture 7" descr="P1020791"/>
          <p:cNvPicPr/>
          <p:nvPr/>
        </p:nvPicPr>
        <p:blipFill>
          <a:blip r:embed="rId1"/>
          <a:stretch/>
        </p:blipFill>
        <p:spPr>
          <a:xfrm>
            <a:off x="0" y="3429000"/>
            <a:ext cx="291636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P1020795"/>
          <p:cNvPicPr/>
          <p:nvPr/>
        </p:nvPicPr>
        <p:blipFill>
          <a:blip r:embed="rId2"/>
          <a:stretch/>
        </p:blipFill>
        <p:spPr>
          <a:xfrm>
            <a:off x="2916360" y="3429000"/>
            <a:ext cx="3168360" cy="1944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P1020800"/>
          <p:cNvPicPr/>
          <p:nvPr/>
        </p:nvPicPr>
        <p:blipFill>
          <a:blip r:embed="rId3"/>
          <a:stretch/>
        </p:blipFill>
        <p:spPr>
          <a:xfrm>
            <a:off x="2843280" y="5300640"/>
            <a:ext cx="2987640" cy="1557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4" descr="P1020797"/>
          <p:cNvPicPr/>
          <p:nvPr/>
        </p:nvPicPr>
        <p:blipFill>
          <a:blip r:embed="rId4"/>
          <a:stretch/>
        </p:blipFill>
        <p:spPr>
          <a:xfrm>
            <a:off x="911160" y="1752480"/>
            <a:ext cx="3138480" cy="1944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P1020798"/>
          <p:cNvPicPr/>
          <p:nvPr/>
        </p:nvPicPr>
        <p:blipFill>
          <a:blip r:embed="rId5"/>
          <a:stretch/>
        </p:blipFill>
        <p:spPr>
          <a:xfrm>
            <a:off x="0" y="5240160"/>
            <a:ext cx="2876400" cy="16178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9"/>
          <p:cNvSpPr/>
          <p:nvPr/>
        </p:nvSpPr>
        <p:spPr>
          <a:xfrm>
            <a:off x="-92160" y="3511440"/>
            <a:ext cx="70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16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79280" y="1628640"/>
          <a:ext cx="8748720" cy="4983120"/>
        </p:xfrm>
        <a:graphic>
          <a:graphicData uri="http://schemas.openxmlformats.org/drawingml/2006/table">
            <a:tbl>
              <a:tblPr/>
              <a:tblGrid>
                <a:gridCol w="2187720"/>
                <a:gridCol w="2133720"/>
                <a:gridCol w="2239920"/>
                <a:gridCol w="21873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ырье для приготовления 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индикатора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Естественный цвет индикатора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Окраска в 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кислой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реде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Окраска в 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щелочной среде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Ягоды малины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96237"/>
                          </a:solidFill>
                          <a:latin typeface="Arial Unicode MS"/>
                          <a:ea typeface="Times New Roman"/>
                        </a:rPr>
                        <a:t>Коричн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96237"/>
                          </a:solidFill>
                          <a:latin typeface="Arial Unicode MS"/>
                          <a:ea typeface="Times New Roman"/>
                        </a:rPr>
                        <a:t>Коричн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 Unicode MS"/>
                          <a:ea typeface="Times New Roman"/>
                        </a:rPr>
                        <a:t>Темно-коричн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Ягоды черноплодной смородины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Unicode MS"/>
                        </a:rPr>
                        <a:t>Светло-розо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99"/>
                          </a:solidFill>
                          <a:latin typeface="Arial Unicode MS"/>
                          <a:ea typeface="Times New Roman"/>
                        </a:rPr>
                        <a:t>Бледно-розо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Arial Unicode MS"/>
                          <a:ea typeface="Times New Roman"/>
                        </a:rPr>
                        <a:t>Светло-зеле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Ягоды клубники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3603"/>
                          </a:solidFill>
                          <a:latin typeface="Arial Unicode MS"/>
                          <a:ea typeface="Times New Roman"/>
                        </a:rPr>
                        <a:t>Красно-оранж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 Unicode MS"/>
                          <a:ea typeface="Times New Roman"/>
                        </a:rPr>
                        <a:t>Оранж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 Unicode MS"/>
                          <a:ea typeface="Times New Roman"/>
                        </a:rPr>
                        <a:t>Темно-желт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Ягоды брусники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Ярко-крас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 Unicode MS"/>
                        </a:rPr>
                        <a:t>крас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Темно-зелё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Краснокочанная капуста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22d8"/>
                          </a:solidFill>
                          <a:latin typeface="Arial Unicode MS"/>
                          <a:ea typeface="Times New Roman"/>
                        </a:rPr>
                        <a:t>Сине-фиолето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Unicode MS"/>
                          <a:ea typeface="Times New Roman"/>
                        </a:rPr>
                        <a:t>Крас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f2936"/>
                          </a:solidFill>
                          <a:latin typeface="Arial Unicode MS"/>
                          <a:ea typeface="Times New Roman"/>
                        </a:rPr>
                        <a:t>Зеле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Ягоды голубики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Arial Unicode MS"/>
                          <a:ea typeface="Times New Roman"/>
                        </a:rPr>
                        <a:t>Тёмно-крас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 Unicode MS"/>
                        </a:rPr>
                        <a:t>Красная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f2936"/>
                          </a:solidFill>
                          <a:latin typeface="Arial Unicode MS"/>
                        </a:rPr>
                        <a:t>Сине-зелёная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4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Изменение окраски природных индикаторо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ий опы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: свекла — 1 шт., кастрюлька с водой, уксус или лимонная кислота, с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рем свеклу, моем ее и чистим, нарезаем на кружочки и опускаем в кастрюлю с водой. Доводим до кипения, ждем пока вода окрасится. Фильтруем раствор и получаем индикат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авляем в один сосуд соду, в другой – уксус. Фиксируем результа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Из истории индикаторов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0" y="4869000"/>
            <a:ext cx="30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663 год – приготовил настой лакмусового лишайника, который приобретал синий цвет в щелочном растворе и красный в кислотном.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64000" y="4797360"/>
            <a:ext cx="37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ехав в Страсбург (1872) и заняв место профессора химии в Страсбургском университете, Байер приступил к изучению других красителей и выделил фенолфталеин и эозин.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26" name="Picture 5" descr="i?id=36288601&amp;tov=4"/>
          <p:cNvPicPr/>
          <p:nvPr/>
        </p:nvPicPr>
        <p:blipFill>
          <a:blip r:embed="rId1"/>
          <a:stretch/>
        </p:blipFill>
        <p:spPr>
          <a:xfrm>
            <a:off x="0" y="981000"/>
            <a:ext cx="2924280" cy="3745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i?id=19215042&amp;tov=8"/>
          <p:cNvPicPr/>
          <p:nvPr/>
        </p:nvPicPr>
        <p:blipFill>
          <a:blip r:embed="rId2"/>
          <a:stretch/>
        </p:blipFill>
        <p:spPr>
          <a:xfrm>
            <a:off x="6012000" y="981000"/>
            <a:ext cx="2952720" cy="3754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0" y="620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оберт Бойл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627-1691)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516720" y="620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дольф фон Байер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3"/>
          <a:stretch/>
        </p:blipFill>
        <p:spPr>
          <a:xfrm>
            <a:off x="2987640" y="549360"/>
            <a:ext cx="3032280" cy="410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6588000" y="5078520"/>
            <a:ext cx="2449800" cy="177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6478560" y="0"/>
            <a:ext cx="2665440" cy="1830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1525680" cy="1728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4"/>
          <a:stretch/>
        </p:blipFill>
        <p:spPr>
          <a:xfrm>
            <a:off x="3924360" y="0"/>
            <a:ext cx="2232000" cy="15987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356000" cy="518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Прибор, устройство,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 элемент, отображающий ход процесса или состояния объекта наблюдений,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его качественные и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ли количественные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характеристики,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применяются в технике,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а также в научных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исследованиях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7" descr="J0183328"/>
          <p:cNvPicPr/>
          <p:nvPr/>
        </p:nvPicPr>
        <p:blipFill>
          <a:blip r:embed="rId5"/>
          <a:stretch/>
        </p:blipFill>
        <p:spPr>
          <a:xfrm>
            <a:off x="7337520" y="162864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J0234266"/>
          <p:cNvPicPr/>
          <p:nvPr/>
        </p:nvPicPr>
        <p:blipFill>
          <a:blip r:embed="rId6"/>
          <a:stretch/>
        </p:blipFill>
        <p:spPr>
          <a:xfrm>
            <a:off x="4140360" y="1700280"/>
            <a:ext cx="2319120" cy="22604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1"/>
          <p:cNvSpPr txBox="1"/>
          <p:nvPr/>
        </p:nvSpPr>
        <p:spPr>
          <a:xfrm>
            <a:off x="611280" y="404640"/>
            <a:ext cx="25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23232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дикатор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323232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9" name="Picture 13" descr="i?id=8812620&amp;tov=7"/>
          <p:cNvPicPr/>
          <p:nvPr/>
        </p:nvPicPr>
        <p:blipFill>
          <a:blip r:embed="rId7"/>
          <a:stretch/>
        </p:blipFill>
        <p:spPr>
          <a:xfrm>
            <a:off x="4140360" y="4437000"/>
            <a:ext cx="1944360" cy="173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2357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щества, позволяющие следить за составом среды или за протеканием реак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979640" y="549360"/>
            <a:ext cx="5180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имические индикаторы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6694560" y="907920"/>
            <a:ext cx="2449440" cy="2880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179280" y="1052640"/>
            <a:ext cx="6264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gency FB"/>
              </a:rPr>
              <a:t>По растениям-индикаторам можно определить характер почвенной среды, особенности химического состава почвы, состояния окружающей среды 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1403280" y="115920"/>
            <a:ext cx="61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стения - индикато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594480" y="4019400"/>
            <a:ext cx="2549520" cy="2838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рликовость растений, смена окраски цветков с розовой на синюю — на большое количество мед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0" y="4886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i?id=25577139&amp;tov=7"/>
          <p:cNvPicPr/>
          <p:nvPr/>
        </p:nvPicPr>
        <p:blipFill>
          <a:blip r:embed="rId2"/>
          <a:stretch/>
        </p:blipFill>
        <p:spPr>
          <a:xfrm>
            <a:off x="6443640" y="3112920"/>
            <a:ext cx="2700360" cy="374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i?id=52854825&amp;tov=5"/>
          <p:cNvPicPr/>
          <p:nvPr/>
        </p:nvPicPr>
        <p:blipFill>
          <a:blip r:embed="rId3"/>
          <a:stretch/>
        </p:blipFill>
        <p:spPr>
          <a:xfrm>
            <a:off x="2050920" y="3213000"/>
            <a:ext cx="2448000" cy="1844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i?id=117663378&amp;tov=8"/>
          <p:cNvPicPr/>
          <p:nvPr/>
        </p:nvPicPr>
        <p:blipFill>
          <a:blip r:embed="rId4"/>
          <a:stretch/>
        </p:blipFill>
        <p:spPr>
          <a:xfrm>
            <a:off x="3851280" y="5014800"/>
            <a:ext cx="2448000" cy="184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иал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алмейная фиалка, ярутка указывают на высокое содержание цинка в почв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ГАЛМЕЙНЫЕ РАСТЕНИЯ (от нем. Galmei - кремнекислый цинк), растения, приуроченные к почвам, богатым цинком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5867280" y="3573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i?id=2756791&amp;tov=5&amp;n=2"/>
          <p:cNvPicPr/>
          <p:nvPr/>
        </p:nvPicPr>
        <p:blipFill>
          <a:blip r:embed="rId2"/>
          <a:stretch/>
        </p:blipFill>
        <p:spPr>
          <a:xfrm>
            <a:off x="0" y="393372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i?id=10249585&amp;tov=7&amp;n=2"/>
          <p:cNvPicPr/>
          <p:nvPr/>
        </p:nvPicPr>
        <p:blipFill>
          <a:blip r:embed="rId3"/>
          <a:stretch/>
        </p:blipFill>
        <p:spPr>
          <a:xfrm>
            <a:off x="2627280" y="4149720"/>
            <a:ext cx="3024360" cy="2058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молёв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ди и кобальта - смолёвки (Silene vulgaris и др.), мн. злаки и мх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3313080" cy="2478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3708360" y="3860640"/>
            <a:ext cx="3384720" cy="2568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всяниц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, на содержание в почве свинца указывают виды овсяницы (Festuca ovina и др.), полевицы (Agrostis tenuis и др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i?id=158144280&amp;tov=3"/>
          <p:cNvPicPr/>
          <p:nvPr/>
        </p:nvPicPr>
        <p:blipFill>
          <a:blip r:embed="rId1"/>
          <a:stretch/>
        </p:blipFill>
        <p:spPr>
          <a:xfrm>
            <a:off x="3132000" y="3284640"/>
            <a:ext cx="2881440" cy="2560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i?id=10552730&amp;tov=7"/>
          <p:cNvPicPr/>
          <p:nvPr/>
        </p:nvPicPr>
        <p:blipFill>
          <a:blip r:embed="rId2"/>
          <a:stretch/>
        </p:blipFill>
        <p:spPr>
          <a:xfrm>
            <a:off x="0" y="386064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i?id=4618831&amp;tov=4"/>
          <p:cNvPicPr/>
          <p:nvPr/>
        </p:nvPicPr>
        <p:blipFill>
          <a:blip r:embed="rId3"/>
          <a:stretch/>
        </p:blipFill>
        <p:spPr>
          <a:xfrm>
            <a:off x="6659640" y="3789360"/>
            <a:ext cx="2484360" cy="295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28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8:43:29Z</dcterms:created>
  <dc:creator>User</dc:creator>
  <dc:description/>
  <dc:language>en-US</dc:language>
  <cp:lastModifiedBy>Я</cp:lastModifiedBy>
  <dcterms:modified xsi:type="dcterms:W3CDTF">2018-03-27T12:56:58Z</dcterms:modified>
  <cp:revision>18</cp:revision>
  <dc:subject/>
  <dc:title>Слайд 1</dc:title>
</cp:coreProperties>
</file>