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5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41.jpeg" ContentType="image/jpeg"/>
  <Override PartName="/ppt/media/image36.jpeg" ContentType="image/jpeg"/>
  <Override PartName="/ppt/media/image37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9.png" ContentType="image/pn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12.wmf" ContentType="image/x-wmf"/>
  <Override PartName="/ppt/media/image48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33.jpeg" ContentType="image/jpeg"/>
  <Override PartName="/ppt/media/image30.jpeg" ContentType="image/jpeg"/>
  <Override PartName="/ppt/media/image11.png" ContentType="image/png"/>
  <Override PartName="/ppt/media/image10.png" ContentType="image/png"/>
  <Override PartName="/ppt/media/image35.jpeg" ContentType="image/jpeg"/>
  <Override PartName="/ppt/media/image50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3F7-AF2C-490D-B2B8-06BBD052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0DE-797C-4318-9C7E-9C685539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2B2-32EA-4EAF-8505-6A4363C6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28A-904D-440E-BE55-E802A447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BCDF-3F05-4EC5-A08E-CB2FCBFE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F729-9840-4461-B843-A24F3D58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7ECA-ADB0-46DE-A0E8-1084C0E6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1C93-736D-4D19-875E-FD46F845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3046-3FAA-42DD-B83D-046BB74C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45C6-4887-409B-BBB4-5F1014DE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5EF5-2828-4EB3-B29F-C70A6453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B0C-228E-4FAC-9BFC-31A43F76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A0B6-F6DE-4295-87D4-F8B5875B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C442-CC19-40C6-B4E8-A8B2110F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193C-CBEC-4156-AEFB-60A8D0DB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0866-0BA4-4DD2-9A95-A2B6F3D0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DB79-C5AC-4F0B-BA26-B18EAD87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151D-A0A1-44A8-81D4-C20E0129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8F01-CD96-459E-9024-0D7E1526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151B-C0EF-4B97-8480-14C7412C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9703-5D13-44D4-83E1-1FBD2F27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0BAE-F26E-4C9E-A278-553C1E29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39A-912B-420F-8BCB-D66EAA70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476F7-CAFA-4695-A55A-3BB02CBD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C2EA-CCD5-4ADA-87A1-3CEB457B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575A-3C91-44E6-A49A-02FFF158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5FEA-E97C-40F4-892E-B7C124DD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4B09-AC5F-49AC-BD33-1867CE5B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3E16-E857-44FE-BB54-EDCB2F2B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8C9B0-F2BD-4B2D-9DC0-41E17018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B691-1D4D-4091-8BD5-5BE99161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1B7A-2692-4938-985E-82697B5A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6F25-FA5D-4E89-9F4F-843780F7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B2D-F9DA-43F1-884B-420726D1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BC78-4DA1-4766-AC60-14FA84C2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A6C3-6DFD-4804-9D12-2EBDA8A0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4D6D3-0B96-4FA4-8578-0A35B450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A14B6-49FC-4EEE-B0B4-D5D9A976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9F82D-531E-4FE2-A14B-D029055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63C7C-D6C2-4C4E-ABBD-04D0DA7E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EA103-718D-4CBB-B7B2-94683E91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24F90-CE6B-4523-8411-B3492C83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8B17E-0131-4931-A5B3-916D6A3E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ACB0C-C38E-4AF9-ACBF-EB68CF4E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EF8-8BE1-4AB2-84E5-DEDF7680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6ADDF-96B9-4327-9C01-240911DA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D03FF-C994-45E4-A3CA-9B31D79C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AA072-DB76-4AB0-B9EF-4268C40B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8D1D3-31F1-4BCC-9FC8-0041B404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1BA4E-DDA7-4691-8343-6883E005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652D7-6A64-40B4-A08B-CD7C8F43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80464-F273-4E58-A72F-CB418C47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9EAB-20D6-4D03-9B53-19B660A8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BA98-2FF1-4D43-B25D-4A632206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BCB5-3468-4926-8DA0-B8A71BF4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E55-7629-4EB0-801D-3ACA59B8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4CA91-5782-4BD2-9CAC-5EE25A22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4C3-1DFA-4C36-A3E4-D6E3AB4D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0EE-72D2-41B3-A6CC-6A42781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D77-5E68-4919-9A60-BE2E1495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00"/>
                </a:solidFill>
                <a:latin typeface="Agency FB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59E6-C345-4AEA-8326-0339D1F0EE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00"/>
                </a:solidFill>
                <a:latin typeface="Agency FB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018B-9237-4E99-9C3D-015C4A8AFA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00"/>
                </a:solidFill>
                <a:latin typeface="Agency FB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71AE-58E2-492F-B6E2-45F538FC76D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3042-1128-4DD2-97A6-5986BBF2DC4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FA27-F0BA-4D2A-B222-2F450CB8CF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21" name="Picture 6" descr="7d9295b621f4ce888ca6106f6c8603d9_full"/>
          <p:cNvPicPr/>
          <p:nvPr/>
        </p:nvPicPr>
        <p:blipFill>
          <a:blip r:embed="rId1"/>
          <a:stretch/>
        </p:blipFill>
        <p:spPr>
          <a:xfrm>
            <a:off x="0" y="14842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222" name="WordArt 8"/>
          <p:cNvSpPr txBox="1"/>
          <p:nvPr/>
        </p:nvSpPr>
        <p:spPr>
          <a:xfrm>
            <a:off x="1835280" y="0"/>
            <a:ext cx="59752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b9f25"/>
                </a:solidFill>
                <a:latin typeface="Impact"/>
              </a:rPr>
              <a:t>В мире индикатор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b9f25"/>
              </a:solidFill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рестовник весенни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катор по азоту – произрастает на почвах, богатых азот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5" descr="S7001027"/>
          <p:cNvPicPr/>
          <p:nvPr/>
        </p:nvPicPr>
        <p:blipFill>
          <a:blip r:embed="rId1"/>
          <a:stretch/>
        </p:blipFill>
        <p:spPr>
          <a:xfrm>
            <a:off x="5580000" y="1197000"/>
            <a:ext cx="3564000" cy="2689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0" y="4665600"/>
            <a:ext cx="2592360" cy="2192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i?id=3692220&amp;tov=2"/>
          <p:cNvPicPr/>
          <p:nvPr/>
        </p:nvPicPr>
        <p:blipFill>
          <a:blip r:embed="rId3"/>
          <a:stretch/>
        </p:blipFill>
        <p:spPr>
          <a:xfrm>
            <a:off x="2340000" y="2852640"/>
            <a:ext cx="2879640" cy="2149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Картинка 1 из 26"/>
          <p:cNvPicPr/>
          <p:nvPr/>
        </p:nvPicPr>
        <p:blipFill>
          <a:blip r:embed="rId4"/>
          <a:stretch/>
        </p:blipFill>
        <p:spPr>
          <a:xfrm>
            <a:off x="5219640" y="4253040"/>
            <a:ext cx="3924360" cy="260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4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Растения-индикаторы моего сада</a:t>
            </a:r>
            <a:endParaRPr b="1" lang="en-US" sz="32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74" name="Line 3"/>
          <p:cNvSpPr/>
          <p:nvPr/>
        </p:nvSpPr>
        <p:spPr>
          <a:xfrm flipH="1">
            <a:off x="1403280" y="83664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68360" y="177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годы малины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1871640" cy="11476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835280" y="38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ляника садовая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4140360" y="836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203640" y="134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годы клубники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80" name="Picture 10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1727280" cy="11620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3"/>
          <p:cNvSpPr/>
          <p:nvPr/>
        </p:nvSpPr>
        <p:spPr>
          <a:xfrm>
            <a:off x="6012000" y="364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мородина красная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6443640" y="83664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6877080" y="1268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мородина чёрная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291636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6012000" y="836640"/>
            <a:ext cx="57600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86" name="Picture 22" descr="i?id=67283851&amp;tov=8"/>
          <p:cNvPicPr/>
          <p:nvPr/>
        </p:nvPicPr>
        <p:blipFill>
          <a:blip r:embed="rId3"/>
          <a:stretch/>
        </p:blipFill>
        <p:spPr>
          <a:xfrm>
            <a:off x="7380360" y="1844640"/>
            <a:ext cx="1763640" cy="1292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4" descr="i?id=44127742&amp;tov=0"/>
          <p:cNvPicPr/>
          <p:nvPr/>
        </p:nvPicPr>
        <p:blipFill>
          <a:blip r:embed="rId4"/>
          <a:stretch/>
        </p:blipFill>
        <p:spPr>
          <a:xfrm>
            <a:off x="5724360" y="436572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i?id=16148479&amp;tov=7"/>
          <p:cNvPicPr/>
          <p:nvPr/>
        </p:nvPicPr>
        <p:blipFill>
          <a:blip r:embed="rId5"/>
          <a:stretch/>
        </p:blipFill>
        <p:spPr>
          <a:xfrm>
            <a:off x="1908000" y="4292640"/>
            <a:ext cx="2232360" cy="168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burak"/>
          <p:cNvPicPr/>
          <p:nvPr/>
        </p:nvPicPr>
        <p:blipFill>
          <a:blip r:embed="rId1"/>
          <a:stretch/>
        </p:blipFill>
        <p:spPr>
          <a:xfrm>
            <a:off x="4067280" y="1557360"/>
            <a:ext cx="2987640" cy="2444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Морковь. Полезные и целебные (лечебные) свойства моркови. Чем полезна морковь. Лечение морковью"/>
          <p:cNvPicPr/>
          <p:nvPr/>
        </p:nvPicPr>
        <p:blipFill>
          <a:blip r:embed="rId2"/>
          <a:stretch/>
        </p:blipFill>
        <p:spPr>
          <a:xfrm>
            <a:off x="2771640" y="4349880"/>
            <a:ext cx="3095640" cy="2508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i?id=70257160&amp;tov=3"/>
          <p:cNvPicPr/>
          <p:nvPr/>
        </p:nvPicPr>
        <p:blipFill>
          <a:blip r:embed="rId3"/>
          <a:stretch/>
        </p:blipFill>
        <p:spPr>
          <a:xfrm>
            <a:off x="6588000" y="430200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"/>
          <p:cNvPicPr/>
          <p:nvPr/>
        </p:nvPicPr>
        <p:blipFill>
          <a:blip r:embed="rId4"/>
          <a:stretch/>
        </p:blipFill>
        <p:spPr>
          <a:xfrm>
            <a:off x="0" y="2997360"/>
            <a:ext cx="2700360" cy="2104920"/>
          </a:xfrm>
          <a:prstGeom prst="rect">
            <a:avLst/>
          </a:prstGeom>
          <a:ln w="0">
            <a:noFill/>
          </a:ln>
        </p:spPr>
      </p:pic>
      <p:sp>
        <p:nvSpPr>
          <p:cNvPr id="293" name="WordArt 11"/>
          <p:cNvSpPr txBox="1"/>
          <p:nvPr/>
        </p:nvSpPr>
        <p:spPr>
          <a:xfrm>
            <a:off x="611280" y="189000"/>
            <a:ext cx="795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тения-индикаторы моего огоро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Line 13"/>
          <p:cNvSpPr/>
          <p:nvPr/>
        </p:nvSpPr>
        <p:spPr>
          <a:xfrm flipV="1">
            <a:off x="324000" y="620280"/>
            <a:ext cx="8280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95" name="Line 14"/>
          <p:cNvSpPr/>
          <p:nvPr/>
        </p:nvSpPr>
        <p:spPr>
          <a:xfrm flipH="1">
            <a:off x="1115640" y="692280"/>
            <a:ext cx="360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96" name="Line 25"/>
          <p:cNvSpPr/>
          <p:nvPr/>
        </p:nvSpPr>
        <p:spPr>
          <a:xfrm>
            <a:off x="5508720" y="62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2664000" cy="86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раснокочанная капуста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771640" y="4005360"/>
            <a:ext cx="2881440" cy="3585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66f"/>
                </a:solidFill>
                <a:latin typeface="Verdana"/>
              </a:rPr>
              <a:t>Морков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29"/>
          <p:cNvSpPr/>
          <p:nvPr/>
        </p:nvSpPr>
        <p:spPr>
          <a:xfrm>
            <a:off x="2916360" y="692280"/>
            <a:ext cx="93492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7308720" y="692280"/>
            <a:ext cx="71928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7667640" y="36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02" name="Text Box 35"/>
          <p:cNvSpPr/>
          <p:nvPr/>
        </p:nvSpPr>
        <p:spPr>
          <a:xfrm>
            <a:off x="7308720" y="372744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gency FB"/>
              </a:rPr>
              <a:t>Ревень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4932360" y="1125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gency FB"/>
              </a:rPr>
              <a:t>свекла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</p:spTree>
  </p:cSld>
  <p:transition>
    <p:wheel spokes="8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стения-индикаторы лес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5" name="Picture 5" descr="i?id=26238046&amp;tov=0"/>
          <p:cNvPicPr/>
          <p:nvPr/>
        </p:nvPicPr>
        <p:blipFill>
          <a:blip r:embed="rId1"/>
          <a:stretch/>
        </p:blipFill>
        <p:spPr>
          <a:xfrm>
            <a:off x="6480000" y="2133720"/>
            <a:ext cx="2664000" cy="1805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i?id=141863563&amp;tov=7"/>
          <p:cNvPicPr/>
          <p:nvPr/>
        </p:nvPicPr>
        <p:blipFill>
          <a:blip r:embed="rId2"/>
          <a:stretch/>
        </p:blipFill>
        <p:spPr>
          <a:xfrm>
            <a:off x="250920" y="4869000"/>
            <a:ext cx="2374920" cy="1773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46659737_1248360407_jimolostisiedobnaya"/>
          <p:cNvPicPr/>
          <p:nvPr/>
        </p:nvPicPr>
        <p:blipFill>
          <a:blip r:embed="rId3"/>
          <a:stretch/>
        </p:blipFill>
        <p:spPr>
          <a:xfrm>
            <a:off x="6443640" y="4581360"/>
            <a:ext cx="2381400" cy="2276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3" descr="i?id=38393856&amp;tov=2"/>
          <p:cNvPicPr/>
          <p:nvPr/>
        </p:nvPicPr>
        <p:blipFill>
          <a:blip r:embed="rId4"/>
          <a:stretch/>
        </p:blipFill>
        <p:spPr>
          <a:xfrm>
            <a:off x="539640" y="2565360"/>
            <a:ext cx="2087640" cy="1576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i?id=29630776&amp;tov=4"/>
          <p:cNvPicPr/>
          <p:nvPr/>
        </p:nvPicPr>
        <p:blipFill>
          <a:blip r:embed="rId5"/>
          <a:stretch/>
        </p:blipFill>
        <p:spPr>
          <a:xfrm>
            <a:off x="3276720" y="4869000"/>
            <a:ext cx="2663640" cy="1728720"/>
          </a:xfrm>
          <a:prstGeom prst="rect">
            <a:avLst/>
          </a:prstGeom>
          <a:ln w="0">
            <a:noFill/>
          </a:ln>
        </p:spPr>
      </p:pic>
      <p:sp>
        <p:nvSpPr>
          <p:cNvPr id="310" name="Line 16"/>
          <p:cNvSpPr/>
          <p:nvPr/>
        </p:nvSpPr>
        <p:spPr>
          <a:xfrm flipV="1">
            <a:off x="611280" y="1052640"/>
            <a:ext cx="741672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1" name="Line 17"/>
          <p:cNvSpPr/>
          <p:nvPr/>
        </p:nvSpPr>
        <p:spPr>
          <a:xfrm flipH="1">
            <a:off x="1618920" y="119700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826920" y="2060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gency FB"/>
              </a:rPr>
              <a:t>Облепиха</a:t>
            </a:r>
            <a:endParaRPr b="1" lang="en-US" sz="20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3" name="Line 19"/>
          <p:cNvSpPr/>
          <p:nvPr/>
        </p:nvSpPr>
        <p:spPr>
          <a:xfrm flipH="1">
            <a:off x="2411280" y="1125360"/>
            <a:ext cx="136872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611280" y="443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gency FB"/>
              </a:rPr>
              <a:t>Голубика</a:t>
            </a:r>
            <a:endParaRPr b="1" lang="en-US" sz="20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3903840" y="372744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3708360" y="436572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gency FB"/>
              </a:rPr>
              <a:t>Шиповник</a:t>
            </a:r>
            <a:endParaRPr b="1" lang="en-US" sz="20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7" name="Line 23"/>
          <p:cNvSpPr/>
          <p:nvPr/>
        </p:nvSpPr>
        <p:spPr>
          <a:xfrm flipH="1">
            <a:off x="4427280" y="1125360"/>
            <a:ext cx="36036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8" name="Line 24"/>
          <p:cNvSpPr/>
          <p:nvPr/>
        </p:nvSpPr>
        <p:spPr>
          <a:xfrm>
            <a:off x="6588000" y="105264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5651640" y="1052640"/>
            <a:ext cx="93636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6659640" y="4159080"/>
            <a:ext cx="25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gency FB"/>
              </a:rPr>
              <a:t>Жимолость</a:t>
            </a:r>
            <a:endParaRPr b="1" lang="en-US" sz="20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7093080" y="17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gency FB"/>
              </a:rPr>
              <a:t>Брусника</a:t>
            </a:r>
            <a:endParaRPr b="1" lang="en-US" sz="2000" spc="-1" strike="noStrike">
              <a:solidFill>
                <a:srgbClr val="00ff00"/>
              </a:solidFill>
              <a:latin typeface="Agency FB"/>
            </a:endParaRPr>
          </a:p>
        </p:txBody>
      </p:sp>
    </p:spTree>
  </p:cSld>
  <p:transition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Файл:Rumex acetosa cultivar 01.jpg"/>
          <p:cNvPicPr/>
          <p:nvPr/>
        </p:nvPicPr>
        <p:blipFill>
          <a:blip r:embed="rId1"/>
          <a:stretch/>
        </p:blipFill>
        <p:spPr>
          <a:xfrm>
            <a:off x="179280" y="1557360"/>
            <a:ext cx="2989440" cy="2576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Крапива"/>
          <p:cNvPicPr/>
          <p:nvPr/>
        </p:nvPicPr>
        <p:blipFill>
          <a:blip r:embed="rId2"/>
          <a:stretch/>
        </p:blipFill>
        <p:spPr>
          <a:xfrm>
            <a:off x="5940360" y="1557360"/>
            <a:ext cx="2979720" cy="2735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Rhododendron ponticum"/>
          <p:cNvPicPr/>
          <p:nvPr/>
        </p:nvPicPr>
        <p:blipFill>
          <a:blip r:embed="rId3"/>
          <a:stretch/>
        </p:blipFill>
        <p:spPr>
          <a:xfrm>
            <a:off x="1547640" y="4797360"/>
            <a:ext cx="2619720" cy="2060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Подорожник большой"/>
          <p:cNvPicPr/>
          <p:nvPr/>
        </p:nvPicPr>
        <p:blipFill>
          <a:blip r:embed="rId4"/>
          <a:stretch/>
        </p:blipFill>
        <p:spPr>
          <a:xfrm>
            <a:off x="4716360" y="4808520"/>
            <a:ext cx="2737080" cy="20494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6"/>
          <p:cNvSpPr/>
          <p:nvPr/>
        </p:nvSpPr>
        <p:spPr>
          <a:xfrm>
            <a:off x="1116000" y="189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gency FB"/>
              </a:rPr>
              <a:t>              </a:t>
            </a:r>
            <a:r>
              <a:rPr b="1" lang="ru-RU" sz="3200" spc="-1" strike="noStrike">
                <a:solidFill>
                  <a:srgbClr val="00ff00"/>
                </a:solidFill>
                <a:latin typeface="Agency FB"/>
              </a:rPr>
              <a:t>Растения-индикаторы поля</a:t>
            </a:r>
            <a:endParaRPr b="1" lang="en-US" sz="32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042920" y="112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gency FB"/>
              </a:rPr>
              <a:t>Ревень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6335640" y="1125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gency FB"/>
              </a:rPr>
              <a:t>Крапива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1476360" y="42210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gency FB"/>
              </a:rPr>
              <a:t>Родендрон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5364000" y="4292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gency FB"/>
              </a:rPr>
              <a:t>Подорожник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1" name="Line 23"/>
          <p:cNvSpPr/>
          <p:nvPr/>
        </p:nvSpPr>
        <p:spPr>
          <a:xfrm flipH="1">
            <a:off x="2626920" y="69228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2" name="Line 24"/>
          <p:cNvSpPr/>
          <p:nvPr/>
        </p:nvSpPr>
        <p:spPr>
          <a:xfrm flipH="1">
            <a:off x="3347640" y="692280"/>
            <a:ext cx="57636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3" name="Line 25"/>
          <p:cNvSpPr/>
          <p:nvPr/>
        </p:nvSpPr>
        <p:spPr>
          <a:xfrm>
            <a:off x="5292720" y="692280"/>
            <a:ext cx="503280" cy="37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4" name="Line 26"/>
          <p:cNvSpPr/>
          <p:nvPr/>
        </p:nvSpPr>
        <p:spPr>
          <a:xfrm>
            <a:off x="6659640" y="69228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5" name="Line 29"/>
          <p:cNvSpPr/>
          <p:nvPr/>
        </p:nvSpPr>
        <p:spPr>
          <a:xfrm>
            <a:off x="2124000" y="692280"/>
            <a:ext cx="55436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</p:spTree>
  </p:cSld>
  <p:transition>
    <p:wheel spokes="8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Методика изготовления индикаторов</a:t>
            </a:r>
            <a:endParaRPr b="1" lang="en-US" sz="32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0" y="1268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иготовления растительных индикаторов необходимо взять по 50 г сырья, измельчить, залить 200 мл воды и прокипятить в течении 1-2 минут. Полученные отвары  охладить и профильтровать. С целью предохранения от порчи, в полученный фильтрат необходимо добавить спирт в соотношении 2:1.  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338" name="Picture 7" descr="P1020791"/>
          <p:cNvPicPr/>
          <p:nvPr/>
        </p:nvPicPr>
        <p:blipFill>
          <a:blip r:embed="rId1"/>
          <a:stretch/>
        </p:blipFill>
        <p:spPr>
          <a:xfrm>
            <a:off x="0" y="3429000"/>
            <a:ext cx="291636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P1020795"/>
          <p:cNvPicPr/>
          <p:nvPr/>
        </p:nvPicPr>
        <p:blipFill>
          <a:blip r:embed="rId2"/>
          <a:stretch/>
        </p:blipFill>
        <p:spPr>
          <a:xfrm>
            <a:off x="2916360" y="3429000"/>
            <a:ext cx="3168360" cy="1944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P1020800"/>
          <p:cNvPicPr/>
          <p:nvPr/>
        </p:nvPicPr>
        <p:blipFill>
          <a:blip r:embed="rId3"/>
          <a:stretch/>
        </p:blipFill>
        <p:spPr>
          <a:xfrm>
            <a:off x="2843280" y="5300640"/>
            <a:ext cx="2987640" cy="1557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4" descr="P1020797"/>
          <p:cNvPicPr/>
          <p:nvPr/>
        </p:nvPicPr>
        <p:blipFill>
          <a:blip r:embed="rId4"/>
          <a:stretch/>
        </p:blipFill>
        <p:spPr>
          <a:xfrm>
            <a:off x="911160" y="1752480"/>
            <a:ext cx="3138480" cy="1944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6" descr="P1020798"/>
          <p:cNvPicPr/>
          <p:nvPr/>
        </p:nvPicPr>
        <p:blipFill>
          <a:blip r:embed="rId5"/>
          <a:stretch/>
        </p:blipFill>
        <p:spPr>
          <a:xfrm>
            <a:off x="0" y="5240160"/>
            <a:ext cx="2876400" cy="16178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9"/>
          <p:cNvSpPr/>
          <p:nvPr/>
        </p:nvSpPr>
        <p:spPr>
          <a:xfrm>
            <a:off x="-92160" y="3511440"/>
            <a:ext cx="70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</p:spTree>
  </p:cSld>
  <p:transition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162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79280" y="1628640"/>
          <a:ext cx="8748720" cy="4983120"/>
        </p:xfrm>
        <a:graphic>
          <a:graphicData uri="http://schemas.openxmlformats.org/drawingml/2006/table">
            <a:tbl>
              <a:tblPr/>
              <a:tblGrid>
                <a:gridCol w="2187720"/>
                <a:gridCol w="2133720"/>
                <a:gridCol w="2239920"/>
                <a:gridCol w="21873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Сырье для приготовления 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индикатора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Естественный цвет индикатора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Окраска в 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кислой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среде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Окраска в 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щелочной среде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Ягоды малины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96237"/>
                          </a:solidFill>
                          <a:latin typeface="Arial Unicode MS"/>
                          <a:ea typeface="Times New Roman"/>
                        </a:rPr>
                        <a:t>Коричне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96237"/>
                          </a:solidFill>
                          <a:latin typeface="Arial Unicode MS"/>
                          <a:ea typeface="Times New Roman"/>
                        </a:rPr>
                        <a:t>Коричне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Arial Unicode MS"/>
                          <a:ea typeface="Times New Roman"/>
                        </a:rPr>
                        <a:t>Темно-коричне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Ягоды черноплодной смородины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Unicode MS"/>
                        </a:rPr>
                        <a:t>Светло-розо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99"/>
                          </a:solidFill>
                          <a:latin typeface="Arial Unicode MS"/>
                          <a:ea typeface="Times New Roman"/>
                        </a:rPr>
                        <a:t>Бледно-розо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Arial Unicode MS"/>
                          <a:ea typeface="Times New Roman"/>
                        </a:rPr>
                        <a:t>Светло-зеле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Ягоды клубники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33603"/>
                          </a:solidFill>
                          <a:latin typeface="Arial Unicode MS"/>
                          <a:ea typeface="Times New Roman"/>
                        </a:rPr>
                        <a:t>Красно-оранже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Arial Unicode MS"/>
                          <a:ea typeface="Times New Roman"/>
                        </a:rPr>
                        <a:t>Оранже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 Unicode MS"/>
                          <a:ea typeface="Times New Roman"/>
                        </a:rPr>
                        <a:t>Темно-желт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Ягоды брусники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Ярко-крас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 Unicode MS"/>
                        </a:rPr>
                        <a:t>крас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Темно-зелё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Краснокочанная капуста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22d8"/>
                          </a:solidFill>
                          <a:latin typeface="Arial Unicode MS"/>
                          <a:ea typeface="Times New Roman"/>
                        </a:rPr>
                        <a:t>Сине-фиолетов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Unicode MS"/>
                          <a:ea typeface="Times New Roman"/>
                        </a:rPr>
                        <a:t>Крас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f2936"/>
                          </a:solidFill>
                          <a:latin typeface="Arial Unicode MS"/>
                          <a:ea typeface="Times New Roman"/>
                        </a:rPr>
                        <a:t>Зеле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Ягоды голубики</a:t>
                      </a:r>
                      <a:endParaRPr b="1" lang="en-US" sz="18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Arial Unicode MS"/>
                          <a:ea typeface="Times New Roman"/>
                        </a:rPr>
                        <a:t>Тёмно-красный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 Unicode MS"/>
                        </a:rPr>
                        <a:t>Красная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f2936"/>
                          </a:solidFill>
                          <a:latin typeface="Arial Unicode MS"/>
                        </a:rPr>
                        <a:t>Сине-зелёная</a:t>
                      </a:r>
                      <a:endParaRPr b="1" lang="en-US" sz="2000" spc="-1" strike="noStrike">
                        <a:solidFill>
                          <a:srgbClr val="00ff00"/>
                        </a:solidFill>
                        <a:latin typeface="Agency FB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4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Изменение окраски природных индикаторо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</p:spTree>
  </p:cSld>
  <p:transition>
    <p:wheel spokes="8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ий опы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: свекла — 1 шт., кастрюлька с водой, уксус или лимонная кислота, с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рем свеклу, моем ее и чистим, нарезаем на кружочки и опускаем в кастрюлю с водой. Доводим до кипения, ждем пока вода окрасится. Фильтруем раствор и получаем индикат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бавляем в один сосуд соду, в другой – уксус. Фиксируем результа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Из истории индикаторов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0" y="4869000"/>
            <a:ext cx="30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663 год – приготовил настой лакмусового лишайника, который приобретал синий цвет в щелочном растворе и красный в кислотном.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64000" y="4797360"/>
            <a:ext cx="37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ехав в Страсбург (1872) и заняв место профессора химии в Страсбургском университете, Байер приступил к изучению других красителей и выделил фенолфталеин и эозин.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26" name="Picture 5" descr="i?id=36288601&amp;tov=4"/>
          <p:cNvPicPr/>
          <p:nvPr/>
        </p:nvPicPr>
        <p:blipFill>
          <a:blip r:embed="rId1"/>
          <a:stretch/>
        </p:blipFill>
        <p:spPr>
          <a:xfrm>
            <a:off x="0" y="981000"/>
            <a:ext cx="2924280" cy="3745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i?id=19215042&amp;tov=8"/>
          <p:cNvPicPr/>
          <p:nvPr/>
        </p:nvPicPr>
        <p:blipFill>
          <a:blip r:embed="rId2"/>
          <a:stretch/>
        </p:blipFill>
        <p:spPr>
          <a:xfrm>
            <a:off x="6012000" y="981000"/>
            <a:ext cx="2952720" cy="37544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0" y="620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оберт Бойл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627-1691)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516720" y="620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дольф фон Байер</a:t>
            </a:r>
            <a:endParaRPr b="1" lang="en-US" sz="1800" spc="-1" strike="noStrike">
              <a:solidFill>
                <a:srgbClr val="00ff00"/>
              </a:solidFill>
              <a:latin typeface="Agency FB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3"/>
          <a:stretch/>
        </p:blipFill>
        <p:spPr>
          <a:xfrm>
            <a:off x="2987640" y="549360"/>
            <a:ext cx="3032280" cy="4103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6588000" y="5078520"/>
            <a:ext cx="2449800" cy="1779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6478560" y="0"/>
            <a:ext cx="2665440" cy="1830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1525680" cy="1728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4"/>
          <a:stretch/>
        </p:blipFill>
        <p:spPr>
          <a:xfrm>
            <a:off x="3924360" y="0"/>
            <a:ext cx="2232000" cy="15987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356000" cy="518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Прибор, устройство,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 элемент, отображающий ход процесса или состояния объекта наблюдений,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его качественные и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ли количественные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характеристики,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применяются в технике,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а также в научных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исследованиях.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Picture 7" descr="J0183328"/>
          <p:cNvPicPr/>
          <p:nvPr/>
        </p:nvPicPr>
        <p:blipFill>
          <a:blip r:embed="rId5"/>
          <a:stretch/>
        </p:blipFill>
        <p:spPr>
          <a:xfrm>
            <a:off x="7337520" y="1628640"/>
            <a:ext cx="1806480" cy="1814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J0234266"/>
          <p:cNvPicPr/>
          <p:nvPr/>
        </p:nvPicPr>
        <p:blipFill>
          <a:blip r:embed="rId6"/>
          <a:stretch/>
        </p:blipFill>
        <p:spPr>
          <a:xfrm>
            <a:off x="4140360" y="1700280"/>
            <a:ext cx="2319120" cy="22604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11"/>
          <p:cNvSpPr txBox="1"/>
          <p:nvPr/>
        </p:nvSpPr>
        <p:spPr>
          <a:xfrm>
            <a:off x="611280" y="404640"/>
            <a:ext cx="25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23232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дикатор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323232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9" name="Picture 13" descr="i?id=8812620&amp;tov=7"/>
          <p:cNvPicPr/>
          <p:nvPr/>
        </p:nvPicPr>
        <p:blipFill>
          <a:blip r:embed="rId7"/>
          <a:stretch/>
        </p:blipFill>
        <p:spPr>
          <a:xfrm>
            <a:off x="4140360" y="4437000"/>
            <a:ext cx="1944360" cy="173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23572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щества, позволяющие следить за составом среды или за протеканием реак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979640" y="549360"/>
            <a:ext cx="5180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имические индикаторы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6694560" y="907920"/>
            <a:ext cx="2449440" cy="2880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179280" y="1052640"/>
            <a:ext cx="6264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gency FB"/>
              </a:rPr>
              <a:t>По растениям-индикаторам можно определить характер почвенной среды, особенности химического состава почвы, состояния окружающей среды </a:t>
            </a:r>
            <a:endParaRPr b="1" lang="en-US" sz="2400" spc="-1" strike="noStrike">
              <a:solidFill>
                <a:srgbClr val="00ff00"/>
              </a:solidFill>
              <a:latin typeface="Agency FB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1403280" y="115920"/>
            <a:ext cx="61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астения - индикатор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594480" y="4019400"/>
            <a:ext cx="2549520" cy="2838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рликовость растений, смена окраски цветков с розовой на синюю — на большое количество мед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0" y="4886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i?id=25577139&amp;tov=7"/>
          <p:cNvPicPr/>
          <p:nvPr/>
        </p:nvPicPr>
        <p:blipFill>
          <a:blip r:embed="rId2"/>
          <a:stretch/>
        </p:blipFill>
        <p:spPr>
          <a:xfrm>
            <a:off x="6443640" y="3112920"/>
            <a:ext cx="2700360" cy="374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i?id=52854825&amp;tov=5"/>
          <p:cNvPicPr/>
          <p:nvPr/>
        </p:nvPicPr>
        <p:blipFill>
          <a:blip r:embed="rId3"/>
          <a:stretch/>
        </p:blipFill>
        <p:spPr>
          <a:xfrm>
            <a:off x="2050920" y="3213000"/>
            <a:ext cx="2448000" cy="1844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i?id=117663378&amp;tov=8"/>
          <p:cNvPicPr/>
          <p:nvPr/>
        </p:nvPicPr>
        <p:blipFill>
          <a:blip r:embed="rId4"/>
          <a:stretch/>
        </p:blipFill>
        <p:spPr>
          <a:xfrm>
            <a:off x="3851280" y="5014800"/>
            <a:ext cx="2448000" cy="184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иал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алмейная фиалка, ярутка указывают на высокое содержание цинка в почв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ГАЛМЕЙНЫЕ РАСТЕНИЯ (от нем. Galmei - кремнекислый цинк), растения, приуроченные к почвам, богатым цинком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5867280" y="3573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i?id=2756791&amp;tov=5&amp;n=2"/>
          <p:cNvPicPr/>
          <p:nvPr/>
        </p:nvPicPr>
        <p:blipFill>
          <a:blip r:embed="rId2"/>
          <a:stretch/>
        </p:blipFill>
        <p:spPr>
          <a:xfrm>
            <a:off x="0" y="393372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i?id=10249585&amp;tov=7&amp;n=2"/>
          <p:cNvPicPr/>
          <p:nvPr/>
        </p:nvPicPr>
        <p:blipFill>
          <a:blip r:embed="rId3"/>
          <a:stretch/>
        </p:blipFill>
        <p:spPr>
          <a:xfrm>
            <a:off x="2627280" y="4149720"/>
            <a:ext cx="3024360" cy="2058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молёв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ди и кобальта - смолёвки (Silene vulgaris и др.), мн. злаки и мх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3313080" cy="2478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3708360" y="3860640"/>
            <a:ext cx="3384720" cy="2568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всяниц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, на содержание в почве свинца указывают виды овсяницы (Festuca ovina и др.), полевицы (Agrostis tenuis и др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i?id=158144280&amp;tov=3"/>
          <p:cNvPicPr/>
          <p:nvPr/>
        </p:nvPicPr>
        <p:blipFill>
          <a:blip r:embed="rId1"/>
          <a:stretch/>
        </p:blipFill>
        <p:spPr>
          <a:xfrm>
            <a:off x="3132000" y="3284640"/>
            <a:ext cx="2881440" cy="2560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i?id=10552730&amp;tov=7"/>
          <p:cNvPicPr/>
          <p:nvPr/>
        </p:nvPicPr>
        <p:blipFill>
          <a:blip r:embed="rId2"/>
          <a:stretch/>
        </p:blipFill>
        <p:spPr>
          <a:xfrm>
            <a:off x="0" y="386064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i?id=4618831&amp;tov=4"/>
          <p:cNvPicPr/>
          <p:nvPr/>
        </p:nvPicPr>
        <p:blipFill>
          <a:blip r:embed="rId3"/>
          <a:stretch/>
        </p:blipFill>
        <p:spPr>
          <a:xfrm>
            <a:off x="6659640" y="3789360"/>
            <a:ext cx="2484360" cy="295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6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28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8:43:29Z</dcterms:created>
  <dc:creator>User</dc:creator>
  <dc:description/>
  <dc:language>en-US</dc:language>
  <cp:lastModifiedBy>Я</cp:lastModifiedBy>
  <dcterms:modified xsi:type="dcterms:W3CDTF">2018-03-27T12:56:58Z</dcterms:modified>
  <cp:revision>18</cp:revision>
  <dc:subject/>
  <dc:title>Слайд 1</dc:title>
</cp:coreProperties>
</file>