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453-1238-42B5-AD1B-8249AB5A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822-0275-4D8B-B7A3-1744740A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24D-9C38-4492-B682-D9D27B2E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008-9DF8-4C80-B6D7-571B8E9B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25E-D37F-4DB7-A508-1FD290C8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44A-2F64-429E-878E-430E97BB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82F-CAFE-4130-8A84-F705B3E2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E92-74B7-42DD-8815-023CC3E8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B44-9405-4F7B-988F-821B17FB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170-AB3A-4447-9525-2E653601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705-81E9-4AC7-B248-351E8814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1D5-D943-4B46-9A56-7426C1A9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EAC6-4321-4CAD-86B8-A4A50CABC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71480"/>
            <a:ext cx="7772400" cy="10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Запасливый ёжик</a:t>
            </a:r>
            <a:br>
              <a:rPr sz="72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составление рассказа по сюжетным картинкам</a:t>
            </a:r>
            <a:br>
              <a:rPr sz="4800"/>
            </a:br>
            <a:br>
              <a:rPr sz="4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атериал подготовлен учителем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чальных классов МБОУ «Гимназия № 1» г.Курчатов Винокуровой М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539640" y="40464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читай предложения в таком порядке, чтобы получился расск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Зверёк залез на дере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Ёжик побежал до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Все яблоки накололись на игол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Ёжик собрал урожай ябл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Он спрыгнул с ветки иголками вни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539640" y="404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верь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Ёжик собрал урожай ябло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Зверёк залез на дерев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Он спрыгнул с ветки иголками вниз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Все яблоки накололись на игол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Ёжик побежал до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395280" y="40464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Составь текст-повествование,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используя план, опорные слова и словосочет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468360" y="549360"/>
            <a:ext cx="7991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Опорны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Созреть, плоды, собрать, большой урожай яблок, замечательная идея залезть на ветку, спрыгнуть с дерева, наколоться, лаком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468360" y="404640"/>
            <a:ext cx="80643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ец сочи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Как ёж унёс урожай ябл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Наступила осень. На яблонях созрели сочные плоды. Ёжик целый день трудился и собрал большой урожай аппетитных яблок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Зверёк задумался, как одному унести столько яблок. И тут ему в голову пришла замечательная иде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Ёжик залез на ветку, которая была как раз над собранными яблоками. Он спрыгнул с дерева и упал иголками на яблоки. Все плоды накололись на иголки ежа. Ни одного яблока не осталось. Довольный ёжик побежал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Теперь до зимы запасливый зверёк будет лакомиться вкусными пл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0" r="0" b="49677"/>
          <a:stretch/>
        </p:blipFill>
        <p:spPr>
          <a:xfrm>
            <a:off x="2195640" y="3198960"/>
            <a:ext cx="2771640" cy="365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0" r="50997" b="49677"/>
          <a:stretch/>
        </p:blipFill>
        <p:spPr>
          <a:xfrm>
            <a:off x="0" y="0"/>
            <a:ext cx="2736720" cy="364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0" t="50331" r="49504" b="0"/>
          <a:stretch/>
        </p:blipFill>
        <p:spPr>
          <a:xfrm>
            <a:off x="4716360" y="0"/>
            <a:ext cx="2808360" cy="3587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50506" t="50331" r="0" b="0"/>
          <a:stretch/>
        </p:blipFill>
        <p:spPr>
          <a:xfrm>
            <a:off x="6346800" y="3213000"/>
            <a:ext cx="27972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0" r="0" b="49677"/>
          <a:stretch/>
        </p:blipFill>
        <p:spPr>
          <a:xfrm>
            <a:off x="6372360" y="3198960"/>
            <a:ext cx="2771640" cy="365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0" r="50997" b="49677"/>
          <a:stretch/>
        </p:blipFill>
        <p:spPr>
          <a:xfrm>
            <a:off x="4211640" y="0"/>
            <a:ext cx="2736720" cy="3648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0" t="50331" r="49504" b="0"/>
          <a:stretch/>
        </p:blipFill>
        <p:spPr>
          <a:xfrm>
            <a:off x="1763640" y="3284640"/>
            <a:ext cx="2808360" cy="358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50506" t="50331" r="0" b="0"/>
          <a:stretch/>
        </p:blipFill>
        <p:spPr>
          <a:xfrm>
            <a:off x="0" y="0"/>
            <a:ext cx="27972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50331" r="0" b="0"/>
          <a:stretch/>
        </p:blipFill>
        <p:spPr>
          <a:xfrm>
            <a:off x="5003640" y="1735200"/>
            <a:ext cx="3780000" cy="49258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468360" y="476280"/>
            <a:ext cx="81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Какое время года изображено на картинках? Как ты догадал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Что делает ёжи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179280" y="18900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 Black"/>
              </a:rPr>
              <a:t>Восстанови последовательность событ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8141040" y="2602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8212320" y="1197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7204320" y="2205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8141040" y="2205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50331" r="0" b="0"/>
          <a:stretch/>
        </p:blipFill>
        <p:spPr>
          <a:xfrm>
            <a:off x="250920" y="3573360"/>
            <a:ext cx="2300040" cy="299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50331" r="49504" b="0"/>
          <a:stretch/>
        </p:blipFill>
        <p:spPr>
          <a:xfrm>
            <a:off x="4500720" y="3645000"/>
            <a:ext cx="2303280" cy="29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50506" t="0" r="0" b="49677"/>
          <a:stretch/>
        </p:blipFill>
        <p:spPr>
          <a:xfrm>
            <a:off x="2411280" y="2421000"/>
            <a:ext cx="2232000" cy="2946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0" t="0" r="50997" b="49677"/>
          <a:stretch/>
        </p:blipFill>
        <p:spPr>
          <a:xfrm>
            <a:off x="6659640" y="3213000"/>
            <a:ext cx="21225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6296E-006 L -0.05382 0.31435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-0.51181 0.59861 E">
                                      <p:cBhvr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4 -0.01111 L -0.19549 0.0625 E">
                                      <p:cBhvr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74809 0.05255 E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5"/>
          <p:cNvSpPr/>
          <p:nvPr/>
        </p:nvSpPr>
        <p:spPr>
          <a:xfrm>
            <a:off x="395280" y="333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Что придумал зверёк, чтобы сразу унести все ябло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Как ты думаешь, зачем ёжику столько ябло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0" t="0" r="50997" b="49677"/>
          <a:stretch/>
        </p:blipFill>
        <p:spPr>
          <a:xfrm>
            <a:off x="1187280" y="2565360"/>
            <a:ext cx="3043440" cy="405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50331" r="49504" b="0"/>
          <a:stretch/>
        </p:blipFill>
        <p:spPr>
          <a:xfrm>
            <a:off x="4788000" y="2565360"/>
            <a:ext cx="316872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324000" y="260280"/>
            <a:ext cx="849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Выбери наиболее удачный заголов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«Запасливый ёж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«Как ёж унёс урожай яб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«Ёжик и ябло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0" t="0" r="50997" b="49677"/>
          <a:stretch/>
        </p:blipFill>
        <p:spPr>
          <a:xfrm>
            <a:off x="324000" y="4005360"/>
            <a:ext cx="18349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50331" r="49504" b="0"/>
          <a:stretch/>
        </p:blipFill>
        <p:spPr>
          <a:xfrm>
            <a:off x="4500720" y="4292640"/>
            <a:ext cx="1852560" cy="2368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50506" t="50331" r="0" b="0"/>
          <a:stretch/>
        </p:blipFill>
        <p:spPr>
          <a:xfrm>
            <a:off x="6588000" y="3645000"/>
            <a:ext cx="2300400" cy="2997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50506" t="0" r="0" b="49677"/>
          <a:stretch/>
        </p:blipFill>
        <p:spPr>
          <a:xfrm>
            <a:off x="2484360" y="4292640"/>
            <a:ext cx="1798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324000" y="404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Составь пл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сочинения-повеств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684360" y="1916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1.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ступ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Большой урожай ябл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Основная ч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Необычный способ сбора урож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3.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Вкусное лаком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611280" y="620640"/>
            <a:ext cx="792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 Black"/>
              </a:rPr>
              <a:t>Замени слова </a:t>
            </a: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ёжик</a:t>
            </a:r>
            <a:r>
              <a:rPr b="1" i="1" lang="ru-RU" sz="4800" spc="-1" strike="noStrike">
                <a:solidFill>
                  <a:srgbClr val="002060"/>
                </a:solidFill>
                <a:latin typeface="Arial Black"/>
              </a:rPr>
              <a:t>, </a:t>
            </a: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яблоки</a:t>
            </a:r>
            <a:r>
              <a:rPr b="0" lang="ru-RU" sz="4800" spc="-1" strike="noStrike">
                <a:solidFill>
                  <a:srgbClr val="002060"/>
                </a:solidFill>
                <a:latin typeface="Arial Black"/>
              </a:rPr>
              <a:t> близкими по смыслу словам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img-fotki.yandex.ru/get/4610/89635038.61a/0_6fb29_a326e28f_XL"/>
          <p:cNvPicPr/>
          <p:nvPr/>
        </p:nvPicPr>
        <p:blipFill>
          <a:blip r:embed="rId1"/>
          <a:stretch/>
        </p:blipFill>
        <p:spPr>
          <a:xfrm>
            <a:off x="1595520" y="3357720"/>
            <a:ext cx="2604960" cy="330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http://www.abc-color.com/image/coloring/fruit/001/apple/apple-picture-color.png"/>
          <p:cNvPicPr/>
          <p:nvPr/>
        </p:nvPicPr>
        <p:blipFill>
          <a:blip r:embed="rId2"/>
          <a:stretch/>
        </p:blipFill>
        <p:spPr>
          <a:xfrm>
            <a:off x="4775040" y="2997360"/>
            <a:ext cx="4368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539640" y="33336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Подбери как можно больше слов-признаков к словам 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ёжик</a:t>
            </a:r>
            <a:r>
              <a:rPr b="1" i="1" lang="ru-RU" sz="4000" spc="-1" strike="noStrike">
                <a:solidFill>
                  <a:srgbClr val="002060"/>
                </a:solidFill>
                <a:latin typeface="Arial Black"/>
              </a:rPr>
              <a:t>, 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яблоки</a:t>
            </a:r>
            <a:r>
              <a:rPr b="1" i="1" lang="ru-RU" sz="40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 Black"/>
              </a:rPr>
              <a:t>Ёжик  (какой?)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 Black"/>
              </a:rPr>
              <a:t>Яблоки  (какие?)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www.free-lancers.net/posted_files/N4088F9427C2D.jpg"/>
          <p:cNvPicPr/>
          <p:nvPr/>
        </p:nvPicPr>
        <p:blipFill>
          <a:blip r:embed="rId1"/>
          <a:stretch/>
        </p:blipFill>
        <p:spPr>
          <a:xfrm>
            <a:off x="611280" y="3933720"/>
            <a:ext cx="34621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www.kokolad.ru/files/03apple%281%29.jpg"/>
          <p:cNvPicPr/>
          <p:nvPr/>
        </p:nvPicPr>
        <p:blipFill>
          <a:blip r:embed="rId2"/>
          <a:stretch/>
        </p:blipFill>
        <p:spPr>
          <a:xfrm>
            <a:off x="5435640" y="3357720"/>
            <a:ext cx="3097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7:45:11Z</dcterms:created>
  <dc:creator>user</dc:creator>
  <dc:description/>
  <dc:language>en-US</dc:language>
  <cp:lastModifiedBy>user</cp:lastModifiedBy>
  <dcterms:modified xsi:type="dcterms:W3CDTF">2018-03-26T18:05:54Z</dcterms:modified>
  <cp:revision>17</cp:revision>
  <dc:subject/>
  <dc:title>Составление рассказов по сюжетным картинкам</dc:title>
</cp:coreProperties>
</file>