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8C4-9AA8-42CA-B4FF-FDAE3770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F0A-F7D3-486F-84EC-323FAE5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BCB-DAE4-4A9B-9DCB-98A34A89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3E0-D5DA-4D2C-A8CC-86586B7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F7B-F909-4E1F-95B2-FD5E8A6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96E-887E-48C2-939D-324820A9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A8A-7677-4231-AAC7-D7843BB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474-4107-477B-A038-693F622D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703-DF9B-4C3C-9338-A2E9AD18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8A7-0BD4-417B-A118-52598D4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0A5-E37E-4204-A081-A595EED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F40-CCFD-4AAB-9DCF-2AFC0F8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307-7ADE-4CCE-A3DB-E6C10435F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Запасливый ёжик</a:t>
            </a:r>
            <a:br>
              <a:rPr sz="72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оставление рассказа по сюжетным картинкам</a:t>
            </a:r>
            <a:br>
              <a:rPr sz="4800"/>
            </a:br>
            <a:br>
              <a:rPr sz="4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атериал подготовлен учителем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чальных классов МБОУ «Гимназия № 1» г.Курчатов Винокуровой М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539640" y="404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читай предложения в таком порядке, чтобы получился расск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Зверёк залез на дере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побежал до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се яблоки накололись на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собрал урожай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Он спрыгнул с ветки иголками вни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39640" y="404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собрал урожай ябл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Зверёк залез на дере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Он спрыгнул с ветки иголками вни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се яблоки накололись на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Ёжик побежал до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395280" y="40464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Составь текст-повествование,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используя план, опорные слова и словосочет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68360" y="549360"/>
            <a:ext cx="79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орн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Созреть, плоды, собрать, большой урожай яблок, замечательная идея залезть на ветку, спрыгнуть с дерева, наколоться, лаком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68360" y="404640"/>
            <a:ext cx="8064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ец сочи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Как ёж унёс урожай яб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Наступила осень. На яблонях созрели сочные плоды. Ёжик целый день трудился и собрал большой урожай аппетитных яблок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Зверёк задумался, как одному унести столько яблок. И тут ему в голову пришла замечательная иде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Ёжик залез на ветку, которая была как раз над собранными яблоками. Он спрыгнул с дерева и упал иголками на яблоки. Все плоды накололись на иголки ежа. Ни одного яблока не осталось. Довольный ёжик побежал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Теперь до зимы запасливый зверёк будет лакомиться вкусными пл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219564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4716360" y="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6346800" y="321300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637236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421164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1763640" y="328464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0" y="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5003640" y="1735200"/>
            <a:ext cx="3780000" cy="4925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468360" y="476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Какое время года изображено на картинках? Как ты догадал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Что делает ёж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9280" y="18900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Восстанови последовательность событ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8141040" y="260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8212320" y="119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20432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814104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250920" y="3573360"/>
            <a:ext cx="2300040" cy="299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3645000"/>
            <a:ext cx="2303280" cy="29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0" r="0" b="49677"/>
          <a:stretch/>
        </p:blipFill>
        <p:spPr>
          <a:xfrm>
            <a:off x="2411280" y="2421000"/>
            <a:ext cx="2232000" cy="294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0" t="0" r="50997" b="49677"/>
          <a:stretch/>
        </p:blipFill>
        <p:spPr>
          <a:xfrm>
            <a:off x="6659640" y="3213000"/>
            <a:ext cx="2122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5382 0.31435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51181 0.59861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4 -0.01111 L -0.19549 0.0625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74809 0.05255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95280" y="33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Что придумал зверёк, чтобы сразу унести все ябло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Как ты думаешь, зачем ёжику столько ябло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1187280" y="2565360"/>
            <a:ext cx="3043440" cy="405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788000" y="2565360"/>
            <a:ext cx="31687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324000" y="260280"/>
            <a:ext cx="849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ыбери наиболее удачный заголов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Запасливый ёж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Как ёж унёс урожай яб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«Ёжик и ябло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324000" y="4005360"/>
            <a:ext cx="18349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4292640"/>
            <a:ext cx="1852560" cy="236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50331" r="0" b="0"/>
          <a:stretch/>
        </p:blipFill>
        <p:spPr>
          <a:xfrm>
            <a:off x="6588000" y="3645000"/>
            <a:ext cx="230040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0" r="0" b="49677"/>
          <a:stretch/>
        </p:blipFill>
        <p:spPr>
          <a:xfrm>
            <a:off x="2484360" y="4292640"/>
            <a:ext cx="1798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324000" y="404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Составь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сочинения-пов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84360" y="1916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ступ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Большой урожай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Основная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Необычный способ сбора урож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3.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Вкусное лаком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611280" y="620640"/>
            <a:ext cx="792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Замени слова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ёжик</a:t>
            </a:r>
            <a:r>
              <a:rPr b="1" i="1" lang="ru-RU" sz="4800" spc="-1" strike="noStrike">
                <a:solidFill>
                  <a:srgbClr val="002060"/>
                </a:solidFill>
                <a:latin typeface="Arial Black"/>
              </a:rPr>
              <a:t>,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яблоки</a:t>
            </a: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 близкими по смыслу словам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img-fotki.yandex.ru/get/4610/89635038.61a/0_6fb29_a326e28f_XL"/>
          <p:cNvPicPr/>
          <p:nvPr/>
        </p:nvPicPr>
        <p:blipFill>
          <a:blip r:embed="rId1"/>
          <a:stretch/>
        </p:blipFill>
        <p:spPr>
          <a:xfrm>
            <a:off x="1595520" y="3357720"/>
            <a:ext cx="2604960" cy="33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abc-color.com/image/coloring/fruit/001/apple/apple-picture-color.png"/>
          <p:cNvPicPr/>
          <p:nvPr/>
        </p:nvPicPr>
        <p:blipFill>
          <a:blip r:embed="rId2"/>
          <a:stretch/>
        </p:blipFill>
        <p:spPr>
          <a:xfrm>
            <a:off x="4775040" y="2997360"/>
            <a:ext cx="4368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39640" y="333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Подбери как можно больше слов-признаков к словам 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ёжик</a:t>
            </a: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, 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яблоки</a:t>
            </a: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Ёжик  (какой?)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 Black"/>
              </a:rPr>
              <a:t>Яблоки  (какие?)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ww.free-lancers.net/posted_files/N4088F9427C2D.jpg"/>
          <p:cNvPicPr/>
          <p:nvPr/>
        </p:nvPicPr>
        <p:blipFill>
          <a:blip r:embed="rId1"/>
          <a:stretch/>
        </p:blipFill>
        <p:spPr>
          <a:xfrm>
            <a:off x="611280" y="3933720"/>
            <a:ext cx="34621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www.kokolad.ru/files/03apple%281%29.jpg"/>
          <p:cNvPicPr/>
          <p:nvPr/>
        </p:nvPicPr>
        <p:blipFill>
          <a:blip r:embed="rId2"/>
          <a:stretch/>
        </p:blipFill>
        <p:spPr>
          <a:xfrm>
            <a:off x="5435640" y="3357720"/>
            <a:ext cx="309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7:45:11Z</dcterms:created>
  <dc:creator>user</dc:creator>
  <dc:description/>
  <dc:language>en-US</dc:language>
  <cp:lastModifiedBy>user</cp:lastModifiedBy>
  <dcterms:modified xsi:type="dcterms:W3CDTF">2018-03-26T18:05:54Z</dcterms:modified>
  <cp:revision>17</cp:revision>
  <dc:subject/>
  <dc:title>Составление рассказов по сюжетным картинкам</dc:title>
</cp:coreProperties>
</file>