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65FD7-EAEE-4A87-BFF9-B32FC879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2DCD0D-C377-49A8-8104-5704986E2BC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8E4-88A9-4C91-B237-5F554F32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EA8-701E-4E3F-821D-8D9352EE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607-CE68-44B2-A0B2-D828652C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9DE-3F7C-4C82-AEDA-CB8D0F67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716-7CAD-4933-AECA-91165E7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E421-1303-4C41-9593-9AB1E10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58FD-14FB-4D72-B079-1F129629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3DE-7D9B-4D91-910A-FBA07708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C890-67C8-4D63-8122-E96110D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10E-BE5E-4940-BE4F-63D0DDA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D626-D0EA-4552-803D-424ACEC5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400-1562-42E4-B32C-D4DB436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5EE2-428E-48F2-846E-89A1543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634-0E2B-40BF-9FFC-9CCD249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3F3-41C2-4C41-9C97-8193ED6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165D-2349-42F8-8FDB-279140AA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019E-C993-4ADB-819F-74ED1480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1EA5-9A59-446F-9EC0-C06C4E9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CCDA-BF46-400A-8A0E-2723892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FCA6-F6BC-436F-9CC7-C69862E4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C446-834D-476E-B299-0FDC757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67FA-5E2E-4713-B9E7-07FD912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83B-CD96-4DF3-A4FA-FF1C296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0C06-93CD-4346-9311-3C025C1D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12BE-04AF-49DE-BA3A-9A7CBE8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F30E-26B8-442E-A3E6-E419A51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A5B6-A8C2-48AC-B900-0ED6DBD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04DF-0A2D-4511-AE1C-5C423FC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592F-410F-4CD8-B65C-00353F4B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04DB-28D5-4B7E-80F3-BAB1EF32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BF4-5C74-4D17-9220-8C57E6A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B01-CFA5-4FF8-A911-00876434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7E1-0AB5-4C9C-8BDE-D40D711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C0F-7DCD-49D7-B0FD-5AD519B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638-AE37-473D-9046-6C655A8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643-C0A9-4841-9D91-9012DB81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2F775-E626-496A-BE74-EC12C3AB248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709818-6EF5-4FFC-AC29-7338970D4C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93DEAB-24FB-4D83-855C-C6B480D1D4D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graza.ru/" TargetMode="External"/><Relationship Id="rId2" Type="http://schemas.openxmlformats.org/officeDocument/2006/relationships/hyperlink" Target="http://mon.gov.ru/" TargetMode="External"/><Relationship Id="rId3" Type="http://schemas.openxmlformats.org/officeDocument/2006/relationships/hyperlink" Target="http://www.edu.ru/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Копия j0435773.wmf"/>
          <p:cNvPicPr/>
          <p:nvPr/>
        </p:nvPicPr>
        <p:blipFill>
          <a:blip r:embed="rId1"/>
          <a:stretch/>
        </p:blipFill>
        <p:spPr>
          <a:xfrm>
            <a:off x="900000" y="2924280"/>
            <a:ext cx="1872720" cy="3600000"/>
          </a:xfrm>
          <a:prstGeom prst="rect">
            <a:avLst/>
          </a:prstGeom>
          <a:ln w="9525">
            <a:noFill/>
          </a:ln>
        </p:spPr>
      </p:pic>
      <p:sp>
        <p:nvSpPr>
          <p:cNvPr id="130" name="TextBox 3"/>
          <p:cNvSpPr/>
          <p:nvPr/>
        </p:nvSpPr>
        <p:spPr>
          <a:xfrm>
            <a:off x="1143000" y="571680"/>
            <a:ext cx="657180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ирование универсальных учебных действий через игровые технологии на уроках ОБ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643280" y="5715000"/>
            <a:ext cx="3571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знецов Игорь Фирс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857840" y="6286680"/>
            <a:ext cx="338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Школа №7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3429000" y="3857760"/>
            <a:ext cx="4571640" cy="112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ало знать, надо и при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ало очень хотеть, надо и дел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Артур Кла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1. Игра «Да. Нет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Содержимое 3"/>
          <p:cNvGraphicFramePr/>
          <p:nvPr/>
        </p:nvGraphicFramePr>
        <p:xfrm>
          <a:off x="642960" y="1428840"/>
          <a:ext cx="7286400" cy="3486600"/>
        </p:xfrm>
        <a:graphic>
          <a:graphicData uri="http://schemas.openxmlformats.org/drawingml/2006/table">
            <a:tbl>
              <a:tblPr/>
              <a:tblGrid>
                <a:gridCol w="3929040"/>
                <a:gridCol w="1643040"/>
                <a:gridCol w="1714320"/>
              </a:tblGrid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Верно ли, что в любой ЧС нужно сохранять спокойств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05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Верно ли, что при попадании в район снежных заносов лучше всего закопаться в сне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Верно ли, что. Находясь вблизи действующего вулкана, нужно смотреть на него через тёмные очк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. Игра «Крестики-нолики»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Содержимое 3"/>
          <p:cNvGraphicFramePr/>
          <p:nvPr/>
        </p:nvGraphicFramePr>
        <p:xfrm>
          <a:off x="571680" y="1857240"/>
          <a:ext cx="7615080" cy="3126600"/>
        </p:xfrm>
        <a:graphic>
          <a:graphicData uri="http://schemas.openxmlformats.org/drawingml/2006/table">
            <a:tbl>
              <a:tblPr/>
              <a:tblGrid>
                <a:gridCol w="1903680"/>
                <a:gridCol w="1903680"/>
                <a:gridCol w="1903680"/>
                <a:gridCol w="1903680"/>
              </a:tblGrid>
              <a:tr h="31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бъ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руг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тю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леви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Ёлочная гирля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1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устой д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Group 1169"/>
          <p:cNvGraphicFramePr/>
          <p:nvPr/>
        </p:nvGraphicFramePr>
        <p:xfrm>
          <a:off x="571680" y="2071800"/>
          <a:ext cx="7345080" cy="934560"/>
        </p:xfrm>
        <a:graphic>
          <a:graphicData uri="http://schemas.openxmlformats.org/drawingml/2006/table">
            <a:tbl>
              <a:tblPr/>
              <a:tblGrid>
                <a:gridCol w="612720"/>
                <a:gridCol w="610920"/>
                <a:gridCol w="612720"/>
                <a:gridCol w="610920"/>
                <a:gridCol w="612720"/>
                <a:gridCol w="612720"/>
                <a:gridCol w="610920"/>
                <a:gridCol w="612720"/>
                <a:gridCol w="610920"/>
                <a:gridCol w="612720"/>
                <a:gridCol w="610920"/>
                <a:gridCol w="61272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170"/>
          <p:cNvSpPr/>
          <p:nvPr/>
        </p:nvSpPr>
        <p:spPr>
          <a:xfrm>
            <a:off x="1000800" y="3001680"/>
            <a:ext cx="640512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2   3   4   6   7   1   9   1   5   8   7   10   5   6   11   1   12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вет: Нужна помощь, пища, 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71"/>
          <p:cNvSpPr/>
          <p:nvPr/>
        </p:nvSpPr>
        <p:spPr>
          <a:xfrm>
            <a:off x="642960" y="1077120"/>
            <a:ext cx="7329240" cy="9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фровк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а задача расшифровать срочное донесение. Каждой цифре в шифровке соответствует определенная буква. Желаю у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72"/>
          <p:cNvSpPr/>
          <p:nvPr/>
        </p:nvSpPr>
        <p:spPr>
          <a:xfrm>
            <a:off x="571680" y="3859560"/>
            <a:ext cx="74163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токол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еще один вид шифровки. Расшифровав эту фразу, вы узнаете основное правило здорового образа жизни. Ваша задача «собрать» по порядку буквы: от самой большой до самой малень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73"/>
          <p:cNvSpPr/>
          <p:nvPr/>
        </p:nvSpPr>
        <p:spPr>
          <a:xfrm>
            <a:off x="714240" y="5716440"/>
            <a:ext cx="727200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ВЕТ: подружись со спорт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головолом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903680" y="4890240"/>
            <a:ext cx="5907960" cy="82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Основы медицинских знани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буквенного хаоса отыщите ответы на указанные вопросы. Одно слово уже угадано. Найдите остальные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Содержимое 3"/>
          <p:cNvGraphicFramePr/>
          <p:nvPr/>
        </p:nvGraphicFramePr>
        <p:xfrm>
          <a:off x="571680" y="1643040"/>
          <a:ext cx="7543440" cy="433548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  <a:gridCol w="628560"/>
              </a:tblGrid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cxnSp>
        <p:nvCxnSpPr>
          <p:cNvPr id="167" name="Прямая со стрелкой 5"/>
          <p:cNvCxnSpPr/>
          <p:nvPr/>
        </p:nvCxnSpPr>
        <p:spPr>
          <a:xfrm flipV="1">
            <a:off x="3213000" y="2786040"/>
            <a:ext cx="1800" cy="9306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68" name="Прямая со стрелкой 7"/>
          <p:cNvCxnSpPr/>
          <p:nvPr/>
        </p:nvCxnSpPr>
        <p:spPr>
          <a:xfrm>
            <a:off x="3286080" y="2786040"/>
            <a:ext cx="857520" cy="1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69" name="Прямая со стрелкой 9"/>
          <p:cNvCxnSpPr/>
          <p:nvPr/>
        </p:nvCxnSpPr>
        <p:spPr>
          <a:xfrm flipH="1">
            <a:off x="4213080" y="2857320"/>
            <a:ext cx="1800" cy="859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0" name="Прямая со стрелкой 11"/>
          <p:cNvCxnSpPr/>
          <p:nvPr/>
        </p:nvCxnSpPr>
        <p:spPr>
          <a:xfrm>
            <a:off x="4429080" y="3786120"/>
            <a:ext cx="500400" cy="1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1" name="Прямая со стрелкой 13"/>
          <p:cNvCxnSpPr/>
          <p:nvPr/>
        </p:nvCxnSpPr>
        <p:spPr>
          <a:xfrm flipV="1">
            <a:off x="4929120" y="3214440"/>
            <a:ext cx="1800" cy="5022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2" name="Прямая со стрелкой 15"/>
          <p:cNvCxnSpPr/>
          <p:nvPr/>
        </p:nvCxnSpPr>
        <p:spPr>
          <a:xfrm>
            <a:off x="5000400" y="3214440"/>
            <a:ext cx="500400" cy="21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Скругленный прямоугольник 1"/>
          <p:cNvSpPr/>
          <p:nvPr/>
        </p:nvSpPr>
        <p:spPr>
          <a:xfrm>
            <a:off x="242892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Скругленный прямоугольник 2"/>
          <p:cNvSpPr/>
          <p:nvPr/>
        </p:nvSpPr>
        <p:spPr>
          <a:xfrm>
            <a:off x="242892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Скругленный прямоугольник 3"/>
          <p:cNvSpPr/>
          <p:nvPr/>
        </p:nvSpPr>
        <p:spPr>
          <a:xfrm>
            <a:off x="242892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Скругленный прямоугольник 4"/>
          <p:cNvSpPr/>
          <p:nvPr/>
        </p:nvSpPr>
        <p:spPr>
          <a:xfrm>
            <a:off x="242892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Скругленный прямоугольник 5"/>
          <p:cNvSpPr/>
          <p:nvPr/>
        </p:nvSpPr>
        <p:spPr>
          <a:xfrm>
            <a:off x="242892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8e3b38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Скругленный прямоугольник 7"/>
          <p:cNvSpPr/>
          <p:nvPr/>
        </p:nvSpPr>
        <p:spPr>
          <a:xfrm>
            <a:off x="178596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9" name="Скругленный прямоугольник 8"/>
          <p:cNvSpPr/>
          <p:nvPr/>
        </p:nvSpPr>
        <p:spPr>
          <a:xfrm>
            <a:off x="178596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0" name="Скругленный прямоугольник 9"/>
          <p:cNvSpPr/>
          <p:nvPr/>
        </p:nvSpPr>
        <p:spPr>
          <a:xfrm>
            <a:off x="30718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307188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2" name="Скругленный прямоугольник 11"/>
          <p:cNvSpPr/>
          <p:nvPr/>
        </p:nvSpPr>
        <p:spPr>
          <a:xfrm>
            <a:off x="371484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3" name="Скругленный прямоугольник 12"/>
          <p:cNvSpPr/>
          <p:nvPr/>
        </p:nvSpPr>
        <p:spPr>
          <a:xfrm>
            <a:off x="371484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4" name="Скругленный прямоугольник 13"/>
          <p:cNvSpPr/>
          <p:nvPr/>
        </p:nvSpPr>
        <p:spPr>
          <a:xfrm>
            <a:off x="30718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5" name="Скругленный прямоугольник 14"/>
          <p:cNvSpPr/>
          <p:nvPr/>
        </p:nvSpPr>
        <p:spPr>
          <a:xfrm>
            <a:off x="178596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6" name="Скругленный прямоугольник 15"/>
          <p:cNvSpPr/>
          <p:nvPr/>
        </p:nvSpPr>
        <p:spPr>
          <a:xfrm>
            <a:off x="114300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7" name="Скругленный прямоугольник 17"/>
          <p:cNvSpPr/>
          <p:nvPr/>
        </p:nvSpPr>
        <p:spPr>
          <a:xfrm>
            <a:off x="307188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8" name="Скругленный прямоугольник 18"/>
          <p:cNvSpPr/>
          <p:nvPr/>
        </p:nvSpPr>
        <p:spPr>
          <a:xfrm>
            <a:off x="371484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9" name="Скругленный прямоугольник 19"/>
          <p:cNvSpPr/>
          <p:nvPr/>
        </p:nvSpPr>
        <p:spPr>
          <a:xfrm>
            <a:off x="371484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0" name="Скругленный прямоугольник 20"/>
          <p:cNvSpPr/>
          <p:nvPr/>
        </p:nvSpPr>
        <p:spPr>
          <a:xfrm>
            <a:off x="435780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1" name="Скругленный прямоугольник 21"/>
          <p:cNvSpPr/>
          <p:nvPr/>
        </p:nvSpPr>
        <p:spPr>
          <a:xfrm>
            <a:off x="500076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2" name="Скругленный прямоугольник 22"/>
          <p:cNvSpPr/>
          <p:nvPr/>
        </p:nvSpPr>
        <p:spPr>
          <a:xfrm>
            <a:off x="564372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3" name="Скругленный прямоугольник 23"/>
          <p:cNvSpPr/>
          <p:nvPr/>
        </p:nvSpPr>
        <p:spPr>
          <a:xfrm>
            <a:off x="307188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4" name="Скругленный прямоугольник 24"/>
          <p:cNvSpPr/>
          <p:nvPr/>
        </p:nvSpPr>
        <p:spPr>
          <a:xfrm>
            <a:off x="500076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5" name="Скругленный прямоугольник 25"/>
          <p:cNvSpPr/>
          <p:nvPr/>
        </p:nvSpPr>
        <p:spPr>
          <a:xfrm>
            <a:off x="50004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6" name="Скругленный прямоугольник 26"/>
          <p:cNvSpPr/>
          <p:nvPr/>
        </p:nvSpPr>
        <p:spPr>
          <a:xfrm>
            <a:off x="114300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785960" y="3786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8" name="Скругленный прямоугольник 28"/>
          <p:cNvSpPr/>
          <p:nvPr/>
        </p:nvSpPr>
        <p:spPr>
          <a:xfrm>
            <a:off x="4357800" y="1500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9" name="Скругленный прямоугольник 29"/>
          <p:cNvSpPr/>
          <p:nvPr/>
        </p:nvSpPr>
        <p:spPr>
          <a:xfrm>
            <a:off x="178596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0" name="Скругленный прямоугольник 30"/>
          <p:cNvSpPr/>
          <p:nvPr/>
        </p:nvSpPr>
        <p:spPr>
          <a:xfrm>
            <a:off x="1143000" y="3214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1" name="Скругленный прямоугольник 31"/>
          <p:cNvSpPr/>
          <p:nvPr/>
        </p:nvSpPr>
        <p:spPr>
          <a:xfrm>
            <a:off x="435780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2" name="Прямоугольник 32"/>
          <p:cNvSpPr/>
          <p:nvPr/>
        </p:nvSpPr>
        <p:spPr>
          <a:xfrm>
            <a:off x="1285920" y="207180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3"/>
          <p:cNvSpPr/>
          <p:nvPr/>
        </p:nvSpPr>
        <p:spPr>
          <a:xfrm>
            <a:off x="1285920" y="1500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4"/>
          <p:cNvSpPr/>
          <p:nvPr/>
        </p:nvSpPr>
        <p:spPr>
          <a:xfrm>
            <a:off x="714240" y="2643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5"/>
          <p:cNvSpPr/>
          <p:nvPr/>
        </p:nvSpPr>
        <p:spPr>
          <a:xfrm>
            <a:off x="142920" y="321480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6"/>
          <p:cNvSpPr/>
          <p:nvPr/>
        </p:nvSpPr>
        <p:spPr>
          <a:xfrm>
            <a:off x="714240" y="3786120"/>
            <a:ext cx="37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44"/>
          <p:cNvSpPr/>
          <p:nvPr/>
        </p:nvSpPr>
        <p:spPr>
          <a:xfrm>
            <a:off x="564372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8" name="Скругленный прямоугольник 45"/>
          <p:cNvSpPr/>
          <p:nvPr/>
        </p:nvSpPr>
        <p:spPr>
          <a:xfrm>
            <a:off x="62866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9" name="Скругленный прямоугольник 46"/>
          <p:cNvSpPr/>
          <p:nvPr/>
        </p:nvSpPr>
        <p:spPr>
          <a:xfrm>
            <a:off x="692928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0" name="Скругленный прямоугольник 47"/>
          <p:cNvSpPr/>
          <p:nvPr/>
        </p:nvSpPr>
        <p:spPr>
          <a:xfrm>
            <a:off x="757224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1" name="Скругленный прямоугольник 48"/>
          <p:cNvSpPr/>
          <p:nvPr/>
        </p:nvSpPr>
        <p:spPr>
          <a:xfrm>
            <a:off x="8215200" y="207180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2" name="Скругленный прямоугольник 49"/>
          <p:cNvSpPr/>
          <p:nvPr/>
        </p:nvSpPr>
        <p:spPr>
          <a:xfrm>
            <a:off x="62866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3" name="Скругленный прямоугольник 50"/>
          <p:cNvSpPr/>
          <p:nvPr/>
        </p:nvSpPr>
        <p:spPr>
          <a:xfrm>
            <a:off x="6929280" y="2643120"/>
            <a:ext cx="571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14" name="Скругленный прямоугольник 42"/>
          <p:cNvSpPr/>
          <p:nvPr/>
        </p:nvSpPr>
        <p:spPr>
          <a:xfrm>
            <a:off x="6072120" y="4357800"/>
            <a:ext cx="1928520" cy="6426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lt1"/>
                </a:solidFill>
                <a:latin typeface="Mistra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571680" y="5072040"/>
            <a:ext cx="771480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емительный, внезапно возникающий поток воды, грязи и камней. Возникает в водосборах горных рек в результате интенсивных дождей или бурного таяния снега, а также прорыва завал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1"/>
          <p:cNvSpPr/>
          <p:nvPr/>
        </p:nvSpPr>
        <p:spPr>
          <a:xfrm>
            <a:off x="1643040" y="1428840"/>
            <a:ext cx="3285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П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О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Ж   А  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2"/>
          <p:cNvSpPr/>
          <p:nvPr/>
        </p:nvSpPr>
        <p:spPr>
          <a:xfrm>
            <a:off x="1643040" y="2000160"/>
            <a:ext cx="7143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О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Б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Л  Е   Д   Е   Н   Е   Н  И 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3"/>
          <p:cNvSpPr/>
          <p:nvPr/>
        </p:nvSpPr>
        <p:spPr>
          <a:xfrm>
            <a:off x="928800" y="2571840"/>
            <a:ext cx="664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И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З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В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Е   Р  Ж   Е   Н  И 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4"/>
          <p:cNvSpPr/>
          <p:nvPr/>
        </p:nvSpPr>
        <p:spPr>
          <a:xfrm>
            <a:off x="357120" y="3143160"/>
            <a:ext cx="3928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Ц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У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Н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А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М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5"/>
          <p:cNvSpPr/>
          <p:nvPr/>
        </p:nvSpPr>
        <p:spPr>
          <a:xfrm>
            <a:off x="1071360" y="3714840"/>
            <a:ext cx="2642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С 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Е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 </a:t>
            </a:r>
            <a:r>
              <a:rPr b="1" lang="ru-RU" sz="4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Л</a:t>
            </a:r>
            <a:r>
              <a:rPr b="1" lang="ru-RU" sz="4400" spc="-1" strike="noStrike">
                <a:solidFill>
                  <a:srgbClr val="bcbcbc"/>
                </a:solidFill>
                <a:latin typeface="Mistr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Mistr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россвор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182920" cy="466056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2554"/>
          <p:cNvSpPr/>
          <p:nvPr/>
        </p:nvSpPr>
        <p:spPr>
          <a:xfrm>
            <a:off x="611280" y="189000"/>
            <a:ext cx="7105320" cy="999720"/>
          </a:xfrm>
          <a:prstGeom prst="rect">
            <a:avLst/>
          </a:prstGeom>
          <a:solidFill>
            <a:srgbClr val="404040"/>
          </a:solidFill>
          <a:ln w="38100">
            <a:solidFill>
              <a:srgbClr val="f2f2f2"/>
            </a:solidFill>
            <a:miter/>
          </a:ln>
          <a:effectLst>
            <a:outerShdw algn="ctr" dir="3806096" dist="28174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лова и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819240" cy="390492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468360" y="1496160"/>
            <a:ext cx="5219280" cy="471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Избавление от больного участка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Ядовитый и галлюциногенный гри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Нестерпимый з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Наступательный бросок в б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Ликвидация пож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Поддержание чистоты и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Построение людей или техники для пере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Головной убор, удобный для летнего п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Непроизвольные мышечные сок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Обращение за помощью в дежурную служ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етер разрушительно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Награда за мужество, добл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Шкафчик или коробка с лекарственными сред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Официальное распор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Мера изоляции в зоне заразного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4360" y="115920"/>
            <a:ext cx="7105320" cy="999720"/>
          </a:xfrm>
          <a:prstGeom prst="rect">
            <a:avLst/>
          </a:prstGeom>
          <a:solidFill>
            <a:srgbClr val="404040"/>
          </a:solidFill>
          <a:ln w="38100">
            <a:solidFill>
              <a:srgbClr val="f2f2f2"/>
            </a:solidFill>
            <a:miter/>
          </a:ln>
          <a:effectLst>
            <a:outerShdw algn="ctr" dir="3806096" dist="28174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ебольш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ля изучающих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11280" y="921600"/>
            <a:ext cx="7536960" cy="255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нворд (англ.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цепь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слово)- это игра-задача (головоломка) по разгадыванию слов (названий, определений, терминов и т.п.), специально составленных в виде цепи, в которой последняя буква предыдущего слова является первой следую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42960" y="4361400"/>
            <a:ext cx="73576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пример: СветофоРисКурениЕ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айнворд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571680" y="4695840"/>
            <a:ext cx="3785760" cy="161892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2158560" cy="2157120"/>
          </a:xfrm>
          <a:prstGeom prst="rect">
            <a:avLst/>
          </a:prstGeom>
          <a:ln w="9525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6728400" y="2143080"/>
            <a:ext cx="860760" cy="313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442560" y="2143080"/>
            <a:ext cx="860760" cy="313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1214280" y="4071960"/>
            <a:ext cx="3736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ОМ=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бус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4" descr="халатность"/>
          <p:cNvPicPr/>
          <p:nvPr/>
        </p:nvPicPr>
        <p:blipFill>
          <a:blip r:embed="rId3"/>
          <a:stretch/>
        </p:blipFill>
        <p:spPr>
          <a:xfrm>
            <a:off x="785880" y="1000080"/>
            <a:ext cx="5365440" cy="2145960"/>
          </a:xfrm>
          <a:prstGeom prst="rect">
            <a:avLst/>
          </a:prstGeom>
          <a:ln w="9525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146320" y="3220200"/>
            <a:ext cx="570852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бросовестное отношение к выполнению своих обяза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1"/>
          <p:cNvSpPr/>
          <p:nvPr/>
        </p:nvSpPr>
        <p:spPr>
          <a:xfrm>
            <a:off x="1714320" y="5072040"/>
            <a:ext cx="1571400" cy="5162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Mistr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4408560" y="-490680"/>
            <a:ext cx="365652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0" spc="-1" strike="noStrike">
                <a:solidFill>
                  <a:srgbClr val="10243e"/>
                </a:solidFill>
                <a:latin typeface="Impact"/>
              </a:rPr>
              <a:t>Е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Дуга 6"/>
          <p:cNvSpPr/>
          <p:nvPr/>
        </p:nvSpPr>
        <p:spPr>
          <a:xfrm rot="21051600">
            <a:off x="6265440" y="357120"/>
            <a:ext cx="1714320" cy="199980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3">
            <a:schemeClr val="accent1"/>
          </a:lnRef>
          <a:fillRef idx="0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Прямая соединительная линия 7"/>
          <p:cNvCxnSpPr>
            <a:endCxn id="240" idx="2"/>
          </p:cNvCxnSpPr>
          <p:nvPr/>
        </p:nvCxnSpPr>
        <p:spPr>
          <a:xfrm>
            <a:off x="7786440" y="1428480"/>
            <a:ext cx="346680" cy="22104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242" name="Прямая соединительная линия 8"/>
          <p:cNvCxnSpPr/>
          <p:nvPr/>
        </p:nvCxnSpPr>
        <p:spPr>
          <a:xfrm flipH="1">
            <a:off x="8143560" y="1214280"/>
            <a:ext cx="214920" cy="42912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243" name="Прямоугольник 9"/>
          <p:cNvSpPr/>
          <p:nvPr/>
        </p:nvSpPr>
        <p:spPr>
          <a:xfrm rot="3270600">
            <a:off x="7637760" y="1573920"/>
            <a:ext cx="10497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>
                    <a:lumMod val="75000"/>
                  </a:schemeClr>
                </a:solidFill>
                <a:latin typeface="Mistral"/>
              </a:rPr>
              <a:t>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5651640" y="4797360"/>
            <a:ext cx="1785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160407"/>
                </a:solidFill>
                <a:latin typeface="Mistral"/>
              </a:rPr>
              <a:t>СЕ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642960" y="928800"/>
            <a:ext cx="3928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металл, который можно применить для уничтожения остатков разлитой рт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26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928880" y="214200"/>
            <a:ext cx="4928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28760" y="1571760"/>
            <a:ext cx="700056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84360" y="497880"/>
            <a:ext cx="7500600" cy="594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 (расширение кругозора, познавательная деятельность; формирование определенных умений и навыков, необходимых в практической деятельност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щие(развитие внимания, памяти, речи, мышления, воображения, фантазии, творческих идей, умений устанавливать закономерности, находить оптимальные решения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ющие (воспитание самостоятельности, воли, формирование нравственных, эстетических и мировоззренческих позиций, воспитание сотрудничества, коллективизма, общительност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90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изирующие (приобщение к нормам и ценностям общества; адаптация к условиям сред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гад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642960" y="157176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й округе пол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714240" y="414324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й округе пол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5" descr=""/>
          <p:cNvPicPr/>
          <p:nvPr/>
        </p:nvPicPr>
        <p:blipFill>
          <a:blip r:embed="rId1"/>
          <a:stretch/>
        </p:blipFill>
        <p:spPr>
          <a:xfrm>
            <a:off x="5857920" y="1571760"/>
            <a:ext cx="1915920" cy="1437840"/>
          </a:xfrm>
          <a:prstGeom prst="rect">
            <a:avLst/>
          </a:prstGeom>
          <a:ln w="9525">
            <a:noFill/>
          </a:ln>
        </p:spPr>
      </p:pic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5572080" y="4143240"/>
            <a:ext cx="2207880" cy="1296720"/>
          </a:xfrm>
          <a:prstGeom prst="rect">
            <a:avLst/>
          </a:prstGeom>
          <a:ln w="9525">
            <a:noFill/>
          </a:ln>
        </p:spPr>
      </p:pic>
      <p:sp>
        <p:nvSpPr>
          <p:cNvPr id="252" name="Прямоугольник 7"/>
          <p:cNvSpPr/>
          <p:nvPr/>
        </p:nvSpPr>
        <p:spPr>
          <a:xfrm>
            <a:off x="4291560" y="2428920"/>
            <a:ext cx="9522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8"/>
          <p:cNvSpPr/>
          <p:nvPr/>
        </p:nvSpPr>
        <p:spPr>
          <a:xfrm>
            <a:off x="4219920" y="4857840"/>
            <a:ext cx="926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611280" y="632880"/>
            <a:ext cx="7500600" cy="557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овые методы являются одними из самых эффективных методов обучения, так как их психолого-педагогической основой является игровая деятельность, которая вносит большой вклад в психическое развитие личности. Использование игровых технологий на уроках ОБЖ соответствует познавательным потребностям учащихся разных возрастных групп. В игре активизируются мыслительные процессы, и возрастает мотивация школьников  к изучению предмета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642960" y="3437640"/>
            <a:ext cx="7429320" cy="16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ых условиях педагог должен организовать такой урок, в результате которого  УУД сформируются наиболее эффективно, не «вопреки, а благодаря»... методике преподавания предмета. Это даст возможность ученику саморазвиваться и самосовершенствов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635280" y="4724280"/>
            <a:ext cx="3024000" cy="1988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29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левко, Г.К. Энциклопедия образовательных технологий: в 2 т. Т. 1. /Г.К. Селевко. – М.: НИИ шк. технологий, 2006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Ж. Школьный курс в тестах, играх, кроссвордах и задачах  с  картинками, Попова Г.П. // Учитель 2005 г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ркова И. Формирование познавательных интересов у учащихся. М., 1989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тов С.В., Шабаева Г.И. Тематические игры по ОБЖ. М., «Творческий центр «Сфера» 2003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орчество творит чудеса/ Сост. В.В. Гаранина и др. Казань, 2001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graza.ru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mon.gov.ru/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du.ru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school045"/>
          <p:cNvPicPr/>
          <p:nvPr/>
        </p:nvPicPr>
        <p:blipFill>
          <a:blip r:embed="rId4"/>
          <a:stretch/>
        </p:blipFill>
        <p:spPr>
          <a:xfrm>
            <a:off x="4859280" y="4513320"/>
            <a:ext cx="2736360" cy="204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329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Творческих успехов в работе!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539640" y="260280"/>
            <a:ext cx="77148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ование игровых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826920" y="3014640"/>
            <a:ext cx="7143480" cy="338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в качестве самостоятельных технологий для освоения понятия, темы и даже раздела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как элементы (иногда весьма существенные) более обширн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в качестве урока  или его части (введения, объяснения, закрепления, упражнения, контро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   как технологии внеклассной работы (игры типа «Зарница», «Орленок», КТД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k8913-003"/>
          <p:cNvPicPr/>
          <p:nvPr/>
        </p:nvPicPr>
        <p:blipFill>
          <a:blip r:embed="rId1"/>
          <a:stretch/>
        </p:blipFill>
        <p:spPr>
          <a:xfrm>
            <a:off x="826920" y="1125360"/>
            <a:ext cx="1247400" cy="18442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714240" y="2143080"/>
            <a:ext cx="7286400" cy="264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личностно-деятельностного характера усвоения знаний и умений, познавательной активности, направленной на поиск, обработку и усвоение информации, вовлечение учащихся в творческ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857160" y="571680"/>
            <a:ext cx="6643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Цель игров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HILD7"/>
          <p:cNvPicPr/>
          <p:nvPr/>
        </p:nvPicPr>
        <p:blipFill>
          <a:blip r:embed="rId1"/>
          <a:stretch/>
        </p:blipFill>
        <p:spPr>
          <a:xfrm flipH="1">
            <a:off x="3708720" y="4797360"/>
            <a:ext cx="3708000" cy="163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42960" y="714240"/>
            <a:ext cx="5328720" cy="37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… урок должен оставаться уроком, то есть содержать всегда точную и определенную цель работы, быть только пронизанным творчеством и к нему устремленным, но не переходить в него преждевременно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714680" y="45007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И.Гессен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ec2239-001"/>
          <p:cNvPicPr/>
          <p:nvPr/>
        </p:nvPicPr>
        <p:blipFill>
          <a:blip r:embed="rId1"/>
          <a:stretch/>
        </p:blipFill>
        <p:spPr>
          <a:xfrm>
            <a:off x="6227640" y="836640"/>
            <a:ext cx="1668240" cy="24476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лассификация педагогических игр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822924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виду деятельности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ие (двигательные)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уальные (умственные)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вые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характеру педагогического процесса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е, воспитательные, развивающ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одуктивные, продуктивные, творчески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ые, диагностические, профориентацион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характеру игровой методики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ны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ев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ов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итационны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урс  «основы безопасности жизнедеятельности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 для формирования у учащихся сознательного и ответственного отношения к вопросам личной безопасности, безопасности окружающих, знаний и умений распознавать и оценивать опасные ситуации, определять способы защиты от них, оказывать само- и взаимопомощ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словия применения игровых форм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ветствие игры учебно-воспитательным целям уро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для учащихся данного возраст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ренность в использовании иг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рок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ование игровой деятель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самостоятельных технолог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ля закрепления, систематизации и обобщения знаний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элементы более обширной технолог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блемный урок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технологии урока или его фрагмента (введения, объяснения, закрепления, упражнения, контроля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технология внеклассной работ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  <Words>1208</Words>
  <Paragraphs>332</Paragraphs>
  <Company>кладбИще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6:41:49Z</dcterms:created>
  <dc:creator>Вурдалак</dc:creator>
  <dc:description/>
  <dc:language>en-US</dc:language>
  <cp:lastModifiedBy>DDD</cp:lastModifiedBy>
  <dcterms:modified xsi:type="dcterms:W3CDTF">2018-03-28T09:27:02Z</dcterms:modified>
  <cp:revision>95</cp:revision>
  <dc:subject/>
  <dc:title>ДЕЙСТВИЕ ТАБАКА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