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8A27DA-9D20-4A38-9E71-E90CC2C97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8B11D2-C5FF-48B2-9606-19FC2C0861F7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12E-AFC2-418A-BD74-B534B314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DDC-46FA-401A-8EA2-7A3AA65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336-F007-4B63-9498-75ED8FDE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B57-ED38-44A3-8343-26E61B5B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5133-218A-45B7-A4AF-7462EB57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39BB-DC1A-4E4F-B5EE-D6BC9DF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239C-F52C-4036-BF48-FE27F77E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0EAD-511B-4212-8296-95CD6BDB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2631-3E71-441B-BC51-B973F82B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33C6-9DAB-489C-9458-73AEC2B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51A1-78EE-4B86-82EF-BA44666F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86D-F068-4CEE-B4DB-CFF61871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1573-D3DF-4156-9E69-C5DA7CDC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E7B8-13E0-4AC3-ABD6-E0A1101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B137-2A99-4401-94FA-1B4A44FD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1E16-7F15-4290-B27F-7F17BD0F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6710-9CBD-492D-807E-B80DD533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6222-9361-444F-9CF0-4D2EDDED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3558-5AA0-4AE7-B5E9-65EC3717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CF08-2A33-48AE-BAD9-047598C3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E1BE9-A678-4B7E-AEBF-52D1E12E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8C4F-9587-4D65-8D0F-FBB19FE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922-424E-45EA-BF90-E680D2C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5863-5BC9-4AAF-88F7-E2CFEA4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42E8-B6BE-468E-A7BC-25E0FC2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12E7-3AF1-4374-981C-0918D48B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7C08-F13C-4EE3-8260-15953AB9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D4B9-D2F2-4197-BEBC-C65B072F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164D-8AD6-4253-9AF5-1B3F064B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6754-BD16-41D1-ABB6-FD0FD230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AF3-549E-4D4B-82B7-8CB0E301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0CE-1936-442D-9E39-2FCE6150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238-F17E-4A3F-8118-CB76A69E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D4D-ABFF-4088-9416-2F6390E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8A6-DCFE-4DD5-B00D-823EF1D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5E9-EFE8-4F03-A3DD-A7A7C33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2A430C-5AB0-44E5-A599-DDF6EC9D587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ACC0C0-6DF1-422E-AC8D-7F141F4F9E7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C52006-DF6B-4614-9B82-52CC8603DDB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graza.ru/" TargetMode="External"/><Relationship Id="rId2" Type="http://schemas.openxmlformats.org/officeDocument/2006/relationships/hyperlink" Target="http://mon.gov.ru/" TargetMode="External"/><Relationship Id="rId3" Type="http://schemas.openxmlformats.org/officeDocument/2006/relationships/hyperlink" Target="http://www.edu.ru/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Копия j0435773.wmf"/>
          <p:cNvPicPr/>
          <p:nvPr/>
        </p:nvPicPr>
        <p:blipFill>
          <a:blip r:embed="rId1"/>
          <a:stretch/>
        </p:blipFill>
        <p:spPr>
          <a:xfrm>
            <a:off x="900000" y="2924280"/>
            <a:ext cx="1872720" cy="3600000"/>
          </a:xfrm>
          <a:prstGeom prst="rect">
            <a:avLst/>
          </a:prstGeom>
          <a:ln w="9525">
            <a:noFill/>
          </a:ln>
        </p:spPr>
      </p:pic>
      <p:sp>
        <p:nvSpPr>
          <p:cNvPr id="130" name="TextBox 3"/>
          <p:cNvSpPr/>
          <p:nvPr/>
        </p:nvSpPr>
        <p:spPr>
          <a:xfrm>
            <a:off x="1143000" y="571680"/>
            <a:ext cx="657180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ормирование универсальных учебных действий через игровые технологии на уроках ОБ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4643280" y="5715000"/>
            <a:ext cx="3571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знецов Игорь Фирс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857840" y="6286680"/>
            <a:ext cx="3386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Школа №7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3429000" y="3857760"/>
            <a:ext cx="4571640" cy="112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ало знать, надо и прим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ало очень хотеть, надо и дел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Артур Кла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1. Игра «Да. Нет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Содержимое 3"/>
          <p:cNvGraphicFramePr/>
          <p:nvPr/>
        </p:nvGraphicFramePr>
        <p:xfrm>
          <a:off x="642960" y="1428840"/>
          <a:ext cx="7286400" cy="3486600"/>
        </p:xfrm>
        <a:graphic>
          <a:graphicData uri="http://schemas.openxmlformats.org/drawingml/2006/table">
            <a:tbl>
              <a:tblPr/>
              <a:tblGrid>
                <a:gridCol w="3929040"/>
                <a:gridCol w="1643040"/>
                <a:gridCol w="1714320"/>
              </a:tblGrid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5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 Верно ли, что в любой ЧС нужно сохранять спокойстви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05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 Верно ли, что при попадании в район снежных заносов лучше всего закопаться в снег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25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 Верно ли, что. Находясь вблизи действующего вулкана, нужно смотреть на него через тёмные очк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2. Игра «Крестики-нолики»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Содержимое 3"/>
          <p:cNvGraphicFramePr/>
          <p:nvPr/>
        </p:nvGraphicFramePr>
        <p:xfrm>
          <a:off x="571680" y="1857240"/>
          <a:ext cx="7615080" cy="3126600"/>
        </p:xfrm>
        <a:graphic>
          <a:graphicData uri="http://schemas.openxmlformats.org/drawingml/2006/table">
            <a:tbl>
              <a:tblPr/>
              <a:tblGrid>
                <a:gridCol w="1903680"/>
                <a:gridCol w="1903680"/>
                <a:gridCol w="1903680"/>
                <a:gridCol w="1903680"/>
              </a:tblGrid>
              <a:tr h="31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бъ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ю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руг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тю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левиз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Ёлочная гирля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устой д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Group 1169"/>
          <p:cNvGraphicFramePr/>
          <p:nvPr/>
        </p:nvGraphicFramePr>
        <p:xfrm>
          <a:off x="571680" y="2071800"/>
          <a:ext cx="7345080" cy="934560"/>
        </p:xfrm>
        <a:graphic>
          <a:graphicData uri="http://schemas.openxmlformats.org/drawingml/2006/table">
            <a:tbl>
              <a:tblPr/>
              <a:tblGrid>
                <a:gridCol w="612720"/>
                <a:gridCol w="610920"/>
                <a:gridCol w="612720"/>
                <a:gridCol w="610920"/>
                <a:gridCol w="612720"/>
                <a:gridCol w="612720"/>
                <a:gridCol w="610920"/>
                <a:gridCol w="612720"/>
                <a:gridCol w="610920"/>
                <a:gridCol w="612720"/>
                <a:gridCol w="610920"/>
                <a:gridCol w="612720"/>
              </a:tblGrid>
              <a:tr h="4680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170"/>
          <p:cNvSpPr/>
          <p:nvPr/>
        </p:nvSpPr>
        <p:spPr>
          <a:xfrm>
            <a:off x="1000800" y="3001680"/>
            <a:ext cx="6405120" cy="63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  2   3   4   6   7   1   9   1   5   8   7   10   5   6   11   1   12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вет: Нужна помощь, пища, в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71"/>
          <p:cNvSpPr/>
          <p:nvPr/>
        </p:nvSpPr>
        <p:spPr>
          <a:xfrm>
            <a:off x="642960" y="1077120"/>
            <a:ext cx="7329240" cy="91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фровк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ша задача расшифровать срочное донесение. Каждой цифре в шифровке соответствует определенная буква. Желаю у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72"/>
          <p:cNvSpPr/>
          <p:nvPr/>
        </p:nvSpPr>
        <p:spPr>
          <a:xfrm>
            <a:off x="571680" y="3859560"/>
            <a:ext cx="741636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астокол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еще один вид шифровки. Расшифровав эту фразу, вы узнаете основное правило здорового образа жизни. Ваша задача «собрать» по порядку буквы: от самой большой до самой малень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73"/>
          <p:cNvSpPr/>
          <p:nvPr/>
        </p:nvSpPr>
        <p:spPr>
          <a:xfrm>
            <a:off x="714240" y="5716440"/>
            <a:ext cx="7272000" cy="63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ВЕТ: подружись со спорт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головоломк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1903680" y="4890240"/>
            <a:ext cx="5907960" cy="82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Основы медицинских знани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и буквенного хаоса отыщите ответы на указанные вопросы. Одно слово уже угадано. Найдите остальные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Содержимое 3"/>
          <p:cNvGraphicFramePr/>
          <p:nvPr/>
        </p:nvGraphicFramePr>
        <p:xfrm>
          <a:off x="571680" y="1643040"/>
          <a:ext cx="7543440" cy="433548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</a:tblGrid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cxnSp>
        <p:nvCxnSpPr>
          <p:cNvPr id="167" name="Прямая со стрелкой 5"/>
          <p:cNvCxnSpPr/>
          <p:nvPr/>
        </p:nvCxnSpPr>
        <p:spPr>
          <a:xfrm flipV="1">
            <a:off x="3213000" y="2786040"/>
            <a:ext cx="1800" cy="9306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68" name="Прямая со стрелкой 7"/>
          <p:cNvCxnSpPr/>
          <p:nvPr/>
        </p:nvCxnSpPr>
        <p:spPr>
          <a:xfrm>
            <a:off x="3286080" y="2786040"/>
            <a:ext cx="857520" cy="1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69" name="Прямая со стрелкой 9"/>
          <p:cNvCxnSpPr/>
          <p:nvPr/>
        </p:nvCxnSpPr>
        <p:spPr>
          <a:xfrm flipH="1">
            <a:off x="4213080" y="2857320"/>
            <a:ext cx="1800" cy="8593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70" name="Прямая со стрелкой 11"/>
          <p:cNvCxnSpPr/>
          <p:nvPr/>
        </p:nvCxnSpPr>
        <p:spPr>
          <a:xfrm>
            <a:off x="4429080" y="3786120"/>
            <a:ext cx="500400" cy="1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71" name="Прямая со стрелкой 13"/>
          <p:cNvCxnSpPr/>
          <p:nvPr/>
        </p:nvCxnSpPr>
        <p:spPr>
          <a:xfrm flipV="1">
            <a:off x="4929120" y="3214440"/>
            <a:ext cx="1800" cy="5022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72" name="Прямая со стрелкой 15"/>
          <p:cNvCxnSpPr/>
          <p:nvPr/>
        </p:nvCxnSpPr>
        <p:spPr>
          <a:xfrm>
            <a:off x="5000400" y="3214440"/>
            <a:ext cx="500400" cy="21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Скругленный прямоугольник 1"/>
          <p:cNvSpPr/>
          <p:nvPr/>
        </p:nvSpPr>
        <p:spPr>
          <a:xfrm>
            <a:off x="242892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Скругленный прямоугольник 2"/>
          <p:cNvSpPr/>
          <p:nvPr/>
        </p:nvSpPr>
        <p:spPr>
          <a:xfrm>
            <a:off x="242892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Скругленный прямоугольник 3"/>
          <p:cNvSpPr/>
          <p:nvPr/>
        </p:nvSpPr>
        <p:spPr>
          <a:xfrm>
            <a:off x="242892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Скругленный прямоугольник 4"/>
          <p:cNvSpPr/>
          <p:nvPr/>
        </p:nvSpPr>
        <p:spPr>
          <a:xfrm>
            <a:off x="242892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Скругленный прямоугольник 5"/>
          <p:cNvSpPr/>
          <p:nvPr/>
        </p:nvSpPr>
        <p:spPr>
          <a:xfrm>
            <a:off x="2428920" y="378612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Скругленный прямоугольник 7"/>
          <p:cNvSpPr/>
          <p:nvPr/>
        </p:nvSpPr>
        <p:spPr>
          <a:xfrm>
            <a:off x="178596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9" name="Скругленный прямоугольник 8"/>
          <p:cNvSpPr/>
          <p:nvPr/>
        </p:nvSpPr>
        <p:spPr>
          <a:xfrm>
            <a:off x="178596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0" name="Скругленный прямоугольник 9"/>
          <p:cNvSpPr/>
          <p:nvPr/>
        </p:nvSpPr>
        <p:spPr>
          <a:xfrm>
            <a:off x="307188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307188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2" name="Скругленный прямоугольник 11"/>
          <p:cNvSpPr/>
          <p:nvPr/>
        </p:nvSpPr>
        <p:spPr>
          <a:xfrm>
            <a:off x="371484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3" name="Скругленный прямоугольник 12"/>
          <p:cNvSpPr/>
          <p:nvPr/>
        </p:nvSpPr>
        <p:spPr>
          <a:xfrm>
            <a:off x="371484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4" name="Скругленный прямоугольник 13"/>
          <p:cNvSpPr/>
          <p:nvPr/>
        </p:nvSpPr>
        <p:spPr>
          <a:xfrm>
            <a:off x="307188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5" name="Скругленный прямоугольник 14"/>
          <p:cNvSpPr/>
          <p:nvPr/>
        </p:nvSpPr>
        <p:spPr>
          <a:xfrm>
            <a:off x="178596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6" name="Скругленный прямоугольник 15"/>
          <p:cNvSpPr/>
          <p:nvPr/>
        </p:nvSpPr>
        <p:spPr>
          <a:xfrm>
            <a:off x="114300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7" name="Скругленный прямоугольник 17"/>
          <p:cNvSpPr/>
          <p:nvPr/>
        </p:nvSpPr>
        <p:spPr>
          <a:xfrm>
            <a:off x="307188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8" name="Скругленный прямоугольник 18"/>
          <p:cNvSpPr/>
          <p:nvPr/>
        </p:nvSpPr>
        <p:spPr>
          <a:xfrm>
            <a:off x="371484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9" name="Скругленный прямоугольник 19"/>
          <p:cNvSpPr/>
          <p:nvPr/>
        </p:nvSpPr>
        <p:spPr>
          <a:xfrm>
            <a:off x="371484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0" name="Скругленный прямоугольник 20"/>
          <p:cNvSpPr/>
          <p:nvPr/>
        </p:nvSpPr>
        <p:spPr>
          <a:xfrm>
            <a:off x="435780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1" name="Скругленный прямоугольник 21"/>
          <p:cNvSpPr/>
          <p:nvPr/>
        </p:nvSpPr>
        <p:spPr>
          <a:xfrm>
            <a:off x="500076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2" name="Скругленный прямоугольник 22"/>
          <p:cNvSpPr/>
          <p:nvPr/>
        </p:nvSpPr>
        <p:spPr>
          <a:xfrm>
            <a:off x="564372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3" name="Скругленный прямоугольник 23"/>
          <p:cNvSpPr/>
          <p:nvPr/>
        </p:nvSpPr>
        <p:spPr>
          <a:xfrm>
            <a:off x="3071880" y="3786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4" name="Скругленный прямоугольник 24"/>
          <p:cNvSpPr/>
          <p:nvPr/>
        </p:nvSpPr>
        <p:spPr>
          <a:xfrm>
            <a:off x="500076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5" name="Скругленный прямоугольник 25"/>
          <p:cNvSpPr/>
          <p:nvPr/>
        </p:nvSpPr>
        <p:spPr>
          <a:xfrm>
            <a:off x="50004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6" name="Скругленный прямоугольник 26"/>
          <p:cNvSpPr/>
          <p:nvPr/>
        </p:nvSpPr>
        <p:spPr>
          <a:xfrm>
            <a:off x="1143000" y="3786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785960" y="3786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8" name="Скругленный прямоугольник 28"/>
          <p:cNvSpPr/>
          <p:nvPr/>
        </p:nvSpPr>
        <p:spPr>
          <a:xfrm>
            <a:off x="435780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9" name="Скругленный прямоугольник 29"/>
          <p:cNvSpPr/>
          <p:nvPr/>
        </p:nvSpPr>
        <p:spPr>
          <a:xfrm>
            <a:off x="178596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0" name="Скругленный прямоугольник 30"/>
          <p:cNvSpPr/>
          <p:nvPr/>
        </p:nvSpPr>
        <p:spPr>
          <a:xfrm>
            <a:off x="114300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1" name="Скругленный прямоугольник 31"/>
          <p:cNvSpPr/>
          <p:nvPr/>
        </p:nvSpPr>
        <p:spPr>
          <a:xfrm>
            <a:off x="435780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2" name="Прямоугольник 32"/>
          <p:cNvSpPr/>
          <p:nvPr/>
        </p:nvSpPr>
        <p:spPr>
          <a:xfrm>
            <a:off x="1285920" y="207180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3"/>
          <p:cNvSpPr/>
          <p:nvPr/>
        </p:nvSpPr>
        <p:spPr>
          <a:xfrm>
            <a:off x="1285920" y="150012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4"/>
          <p:cNvSpPr/>
          <p:nvPr/>
        </p:nvSpPr>
        <p:spPr>
          <a:xfrm>
            <a:off x="714240" y="264312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5"/>
          <p:cNvSpPr/>
          <p:nvPr/>
        </p:nvSpPr>
        <p:spPr>
          <a:xfrm>
            <a:off x="142920" y="321480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6"/>
          <p:cNvSpPr/>
          <p:nvPr/>
        </p:nvSpPr>
        <p:spPr>
          <a:xfrm>
            <a:off x="714240" y="378612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44"/>
          <p:cNvSpPr/>
          <p:nvPr/>
        </p:nvSpPr>
        <p:spPr>
          <a:xfrm>
            <a:off x="564372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8" name="Скругленный прямоугольник 45"/>
          <p:cNvSpPr/>
          <p:nvPr/>
        </p:nvSpPr>
        <p:spPr>
          <a:xfrm>
            <a:off x="628668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9" name="Скругленный прямоугольник 46"/>
          <p:cNvSpPr/>
          <p:nvPr/>
        </p:nvSpPr>
        <p:spPr>
          <a:xfrm>
            <a:off x="692928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0" name="Скругленный прямоугольник 47"/>
          <p:cNvSpPr/>
          <p:nvPr/>
        </p:nvSpPr>
        <p:spPr>
          <a:xfrm>
            <a:off x="757224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1" name="Скругленный прямоугольник 48"/>
          <p:cNvSpPr/>
          <p:nvPr/>
        </p:nvSpPr>
        <p:spPr>
          <a:xfrm>
            <a:off x="821520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2" name="Скругленный прямоугольник 49"/>
          <p:cNvSpPr/>
          <p:nvPr/>
        </p:nvSpPr>
        <p:spPr>
          <a:xfrm>
            <a:off x="628668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3" name="Скругленный прямоугольник 50"/>
          <p:cNvSpPr/>
          <p:nvPr/>
        </p:nvSpPr>
        <p:spPr>
          <a:xfrm>
            <a:off x="692928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4" name="Скругленный прямоугольник 42"/>
          <p:cNvSpPr/>
          <p:nvPr/>
        </p:nvSpPr>
        <p:spPr>
          <a:xfrm>
            <a:off x="6072120" y="4357800"/>
            <a:ext cx="1928520" cy="6426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chemeClr val="lt1"/>
                </a:solidFill>
                <a:latin typeface="Mistral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3"/>
          <p:cNvSpPr/>
          <p:nvPr/>
        </p:nvSpPr>
        <p:spPr>
          <a:xfrm>
            <a:off x="571680" y="5072040"/>
            <a:ext cx="771480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ремительный, внезапно возникающий поток воды, грязи и камней. Возникает в водосборах горных рек в результате интенсивных дождей или бурного таяния снега, а также прорыва завалов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1"/>
          <p:cNvSpPr/>
          <p:nvPr/>
        </p:nvSpPr>
        <p:spPr>
          <a:xfrm>
            <a:off x="1643040" y="1428840"/>
            <a:ext cx="3285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П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О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Ж   А  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2"/>
          <p:cNvSpPr/>
          <p:nvPr/>
        </p:nvSpPr>
        <p:spPr>
          <a:xfrm>
            <a:off x="1643040" y="2000160"/>
            <a:ext cx="7143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О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Б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Л  Е   Д   Е   Н   Е   Н  И 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3"/>
          <p:cNvSpPr/>
          <p:nvPr/>
        </p:nvSpPr>
        <p:spPr>
          <a:xfrm>
            <a:off x="928800" y="2571840"/>
            <a:ext cx="6643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И   </a:t>
            </a:r>
            <a:r>
              <a:rPr b="1" lang="ru-RU" sz="4400" spc="-1" strike="noStrike">
                <a:solidFill>
                  <a:srgbClr val="ffffff"/>
                </a:solidFill>
                <a:latin typeface="Mistral"/>
              </a:rPr>
              <a:t>З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В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Е   Р  Ж   Е   Н  И 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4"/>
          <p:cNvSpPr/>
          <p:nvPr/>
        </p:nvSpPr>
        <p:spPr>
          <a:xfrm>
            <a:off x="357120" y="3143160"/>
            <a:ext cx="3928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Ц   </a:t>
            </a:r>
            <a:r>
              <a:rPr b="1" lang="ru-RU" sz="4400" spc="-1" strike="noStrike">
                <a:solidFill>
                  <a:srgbClr val="ffffff"/>
                </a:solidFill>
                <a:latin typeface="Mistral"/>
              </a:rPr>
              <a:t>У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Н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А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М 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5"/>
          <p:cNvSpPr/>
          <p:nvPr/>
        </p:nvSpPr>
        <p:spPr>
          <a:xfrm>
            <a:off x="1071360" y="3714840"/>
            <a:ext cx="2642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С   </a:t>
            </a:r>
            <a:r>
              <a:rPr b="1" lang="ru-RU" sz="4400" spc="-1" strike="noStrike">
                <a:solidFill>
                  <a:srgbClr val="ffffff"/>
                </a:solidFill>
                <a:latin typeface="Mistral"/>
              </a:rPr>
              <a:t>Е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Л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Mistr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россвор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delay="0" evt="onClick">
                    <p:tgtEl>
                      <p:spTgt spid="214"/>
                    </p:tgtEl>
                  </p:cond>
                </p:stCondLst>
                <p:childTnLst>
                  <p:par>
                    <p:cTn id="13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delay="0" evt="onClick">
                    <p:tgtEl>
                      <p:spTgt spid="206"/>
                    </p:tgtEl>
                  </p:cond>
                </p:stCondLst>
                <p:childTnLst>
                  <p:par>
                    <p:cTn id="19" fill="hold">
                      <p:stCondLst>
                        <p:cond delay="0"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182920" cy="4660560"/>
          </a:xfrm>
          <a:prstGeom prst="rect">
            <a:avLst/>
          </a:prstGeom>
          <a:ln w="9525">
            <a:noFill/>
          </a:ln>
        </p:spPr>
      </p:pic>
      <p:sp>
        <p:nvSpPr>
          <p:cNvPr id="223" name="Rectangle 2554"/>
          <p:cNvSpPr/>
          <p:nvPr/>
        </p:nvSpPr>
        <p:spPr>
          <a:xfrm>
            <a:off x="611280" y="189000"/>
            <a:ext cx="7105320" cy="999720"/>
          </a:xfrm>
          <a:prstGeom prst="rect">
            <a:avLst/>
          </a:prstGeom>
          <a:solidFill>
            <a:srgbClr val="404040"/>
          </a:solidFill>
          <a:ln w="38100">
            <a:solidFill>
              <a:srgbClr val="f2f2f2"/>
            </a:solidFill>
            <a:miter/>
          </a:ln>
          <a:effectLst>
            <a:outerShdw algn="ctr" dir="3806096" dist="28174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Кроссво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лова и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819240" cy="3904920"/>
          </a:xfrm>
          <a:prstGeom prst="rect">
            <a:avLst/>
          </a:prstGeom>
          <a:ln w="9525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468360" y="1496160"/>
            <a:ext cx="5219280" cy="471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Избавление от больного участка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Ядовитый и галлюциногенный гри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Нестерпимый з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Наступательный бросок в б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Ликвидация пож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Поддержание чистоты и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Построение людей или техники для пере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Головной убор, удобный для летнего п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.Непроизвольные мышечные сок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Обращение за помощью в дежурную служб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Ветер разрушительно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Награда за мужество, добл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Шкафчик или коробка с лекарственными сред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Официальное распоря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Мера изоляции в зоне заразного заболе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84360" y="115920"/>
            <a:ext cx="7105320" cy="999720"/>
          </a:xfrm>
          <a:prstGeom prst="rect">
            <a:avLst/>
          </a:prstGeom>
          <a:solidFill>
            <a:srgbClr val="404040"/>
          </a:solidFill>
          <a:ln w="38100">
            <a:solidFill>
              <a:srgbClr val="f2f2f2"/>
            </a:solidFill>
            <a:miter/>
          </a:ln>
          <a:effectLst>
            <a:outerShdw algn="ctr" dir="3806096" dist="28174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Небольшая разм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для изучающих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611280" y="921600"/>
            <a:ext cx="7536960" cy="255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йнворд (англ.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- цепь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- слово)- это игра-задача (головоломка) по разгадыванию слов (названий, определений, терминов и т.п.), специально составленных в виде цепи, в которой последняя буква предыдущего слова является первой следующ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42960" y="4361400"/>
            <a:ext cx="73576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пример: СветофоРисКурениЕ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чайнворд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571680" y="4695840"/>
            <a:ext cx="3785760" cy="1618920"/>
          </a:xfrm>
          <a:prstGeom prst="rect">
            <a:avLst/>
          </a:prstGeom>
          <a:ln w="9525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14920" y="4286160"/>
            <a:ext cx="2158560" cy="2157120"/>
          </a:xfrm>
          <a:prstGeom prst="rect">
            <a:avLst/>
          </a:prstGeom>
          <a:ln w="9525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6728400" y="2143080"/>
            <a:ext cx="860760" cy="313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442560" y="2143080"/>
            <a:ext cx="860760" cy="313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1214280" y="4071960"/>
            <a:ext cx="3736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ОМ=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ребус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4" descr="халатность"/>
          <p:cNvPicPr/>
          <p:nvPr/>
        </p:nvPicPr>
        <p:blipFill>
          <a:blip r:embed="rId3"/>
          <a:stretch/>
        </p:blipFill>
        <p:spPr>
          <a:xfrm>
            <a:off x="785880" y="1000080"/>
            <a:ext cx="5365440" cy="2145960"/>
          </a:xfrm>
          <a:prstGeom prst="rect">
            <a:avLst/>
          </a:prstGeom>
          <a:ln w="9525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2146320" y="3220200"/>
            <a:ext cx="5708520" cy="30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бросовестное отношение к выполнению своих обязан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1"/>
          <p:cNvSpPr/>
          <p:nvPr/>
        </p:nvSpPr>
        <p:spPr>
          <a:xfrm>
            <a:off x="1714320" y="5072040"/>
            <a:ext cx="1571400" cy="5162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Mistr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4408560" y="-490680"/>
            <a:ext cx="365652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0" spc="-1" strike="noStrike">
                <a:solidFill>
                  <a:srgbClr val="10243e"/>
                </a:solidFill>
                <a:latin typeface="Impact"/>
              </a:rPr>
              <a:t>Е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Дуга 6"/>
          <p:cNvSpPr/>
          <p:nvPr/>
        </p:nvSpPr>
        <p:spPr>
          <a:xfrm rot="21051600">
            <a:off x="6265440" y="357120"/>
            <a:ext cx="1714320" cy="1999800"/>
          </a:xfrm>
          <a:prstGeom prst="arc">
            <a:avLst>
              <a:gd name="adj1" fmla="val 16200000"/>
              <a:gd name="adj2" fmla="val 0"/>
            </a:avLst>
          </a:prstGeom>
          <a:noFill/>
          <a:ln>
            <a:solidFill>
              <a:srgbClr val="4f81bd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3">
            <a:schemeClr val="accent1"/>
          </a:lnRef>
          <a:fillRef idx="0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Прямая соединительная линия 7"/>
          <p:cNvCxnSpPr>
            <a:endCxn id="240" idx="2"/>
          </p:cNvCxnSpPr>
          <p:nvPr/>
        </p:nvCxnSpPr>
        <p:spPr>
          <a:xfrm>
            <a:off x="7786440" y="1428480"/>
            <a:ext cx="346680" cy="22104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242" name="Прямая соединительная линия 8"/>
          <p:cNvCxnSpPr/>
          <p:nvPr/>
        </p:nvCxnSpPr>
        <p:spPr>
          <a:xfrm flipH="1">
            <a:off x="8143560" y="1214280"/>
            <a:ext cx="214920" cy="42912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243" name="Прямоугольник 9"/>
          <p:cNvSpPr/>
          <p:nvPr/>
        </p:nvSpPr>
        <p:spPr>
          <a:xfrm rot="3270600">
            <a:off x="7637760" y="1573920"/>
            <a:ext cx="10497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5651640" y="4797360"/>
            <a:ext cx="1785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160407"/>
                </a:solidFill>
                <a:latin typeface="Mistral"/>
              </a:rPr>
              <a:t>СЕ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642960" y="928800"/>
            <a:ext cx="3928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еметалл, который можно применить для уничтожения остатков разлитой рт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delay="0" evt="onClick">
                    <p:tgtEl>
                      <p:spTgt spid="238"/>
                    </p:tgtEl>
                  </p:cond>
                </p:stCondLst>
                <p:childTnLst>
                  <p:par>
                    <p:cTn id="26" fill="hold">
                      <p:stCondLst>
                        <p:cond delay="0"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928880" y="214200"/>
            <a:ext cx="4928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428760" y="1571760"/>
            <a:ext cx="700056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684360" y="497880"/>
            <a:ext cx="7500600" cy="594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90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дактические (расширение кругозора, познавательная деятельность; формирование определенных умений и навыков, необходимых в практической деятельности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90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ющие(развитие внимания, памяти, речи, мышления, воображения, фантазии, творческих идей, умений устанавливать закономерности, находить оптимальные решения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90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ющие (воспитание самостоятельности, воли, формирование нравственных, эстетических и мировоззренческих позиций, воспитание сотрудничества, коллективизма, общительности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90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изирующие (приобщение к нормам и ценностям общества; адаптация к условиям сред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загадк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642960" y="1571760"/>
            <a:ext cx="45716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умела, нагрем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ё промыла и у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ады, и ого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й округе пол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714240" y="4143240"/>
            <a:ext cx="45716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умела, нагрем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ё промыла и у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ады, и ого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й округе пол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5" descr=""/>
          <p:cNvPicPr/>
          <p:nvPr/>
        </p:nvPicPr>
        <p:blipFill>
          <a:blip r:embed="rId1"/>
          <a:stretch/>
        </p:blipFill>
        <p:spPr>
          <a:xfrm>
            <a:off x="5857920" y="1571760"/>
            <a:ext cx="1915920" cy="1437840"/>
          </a:xfrm>
          <a:prstGeom prst="rect">
            <a:avLst/>
          </a:prstGeom>
          <a:ln w="9525">
            <a:noFill/>
          </a:ln>
        </p:spPr>
      </p:pic>
      <p:pic>
        <p:nvPicPr>
          <p:cNvPr id="251" name="Рисунок 6" descr=""/>
          <p:cNvPicPr/>
          <p:nvPr/>
        </p:nvPicPr>
        <p:blipFill>
          <a:blip r:embed="rId2"/>
          <a:stretch/>
        </p:blipFill>
        <p:spPr>
          <a:xfrm>
            <a:off x="5572080" y="4143240"/>
            <a:ext cx="2207880" cy="1296720"/>
          </a:xfrm>
          <a:prstGeom prst="rect">
            <a:avLst/>
          </a:prstGeom>
          <a:ln w="9525">
            <a:noFill/>
          </a:ln>
        </p:spPr>
      </p:pic>
      <p:sp>
        <p:nvSpPr>
          <p:cNvPr id="252" name="Прямоугольник 7"/>
          <p:cNvSpPr/>
          <p:nvPr/>
        </p:nvSpPr>
        <p:spPr>
          <a:xfrm>
            <a:off x="4291560" y="2428920"/>
            <a:ext cx="9522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8"/>
          <p:cNvSpPr/>
          <p:nvPr/>
        </p:nvSpPr>
        <p:spPr>
          <a:xfrm>
            <a:off x="4219920" y="4857840"/>
            <a:ext cx="926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611280" y="632880"/>
            <a:ext cx="7500600" cy="5577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овые методы являются одними из самых эффективных методов обучения, так как их психолого-педагогической основой является игровая деятельность, которая вносит большой вклад в психическое развитие личности. Использование игровых технологий на уроках ОБЖ соответствует познавательным потребностям учащихся разных возрастных групп. В игре активизируются мыслительные процессы, и возрастает мотивация школьников  к изучению предмета ОБ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642960" y="3437640"/>
            <a:ext cx="7429320" cy="16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ых условиях педагог должен организовать такой урок, в результате которого  УУД сформируются наиболее эффективно, не «вопреки, а благодаря»... методике преподавания предмета. Это даст возможность ученику саморазвиваться и самосовершенствов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635280" y="4724280"/>
            <a:ext cx="3024000" cy="1988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писок используемой литерату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292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левко, Г.К. Энциклопедия образовательных технологий: в 2 т. Т. 1. /Г.К. Селевко. – М.: НИИ шк. технологий, 2006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Ж. Школьный курс в тестах, играх, кроссвордах и задачах  с  картинками, Попова Г.П. // Учитель 2005 г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Щуркова И. Формирование познавательных интересов у учащихся. М., 1989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тов С.В., Шабаева Г.И. Тематические игры по ОБЖ. М., «Творческий центр «Сфера» 2003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орчество творит чудеса/ Сост. В.В. Гаранина и др. Казань, 2001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igraza.ru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mon.gov.ru/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du.ru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5" descr="school045"/>
          <p:cNvPicPr/>
          <p:nvPr/>
        </p:nvPicPr>
        <p:blipFill>
          <a:blip r:embed="rId4"/>
          <a:stretch/>
        </p:blipFill>
        <p:spPr>
          <a:xfrm>
            <a:off x="4859280" y="4513320"/>
            <a:ext cx="2736360" cy="204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240" cy="329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Творческих успехов в работе!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539640" y="260280"/>
            <a:ext cx="77148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спользование игровых техноло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826920" y="3014640"/>
            <a:ext cx="7143480" cy="338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   в качестве самостоятельных технологий для освоения понятия, темы и даже раздела учебного предм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   как элементы (иногда весьма существенные) более обширной техноло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   в качестве урока  или его части (введения, объяснения, закрепления, упражнения, контро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   как технологии внеклассной работы (игры типа «Зарница», «Орленок», КТД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k8913-003"/>
          <p:cNvPicPr/>
          <p:nvPr/>
        </p:nvPicPr>
        <p:blipFill>
          <a:blip r:embed="rId1"/>
          <a:stretch/>
        </p:blipFill>
        <p:spPr>
          <a:xfrm>
            <a:off x="826920" y="1125360"/>
            <a:ext cx="1247400" cy="184428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714240" y="2143080"/>
            <a:ext cx="7286400" cy="264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ение личностно-деятельностного характера усвоения знаний и умений, познавательной активности, направленной на поиск, обработку и усвоение информации, вовлечение учащихся в творческую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857160" y="571680"/>
            <a:ext cx="6643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Цель игров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HILD7"/>
          <p:cNvPicPr/>
          <p:nvPr/>
        </p:nvPicPr>
        <p:blipFill>
          <a:blip r:embed="rId1"/>
          <a:stretch/>
        </p:blipFill>
        <p:spPr>
          <a:xfrm flipH="1">
            <a:off x="3708720" y="4797360"/>
            <a:ext cx="3708000" cy="1631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42960" y="714240"/>
            <a:ext cx="5328720" cy="375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… урок должен оставаться уроком, то есть содержать всегда точную и определенную цель работы, быть только пронизанным творчеством и к нему устремленным, но не переходить в него преждевременно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714680" y="45007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И.Гессен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ec2239-001"/>
          <p:cNvPicPr/>
          <p:nvPr/>
        </p:nvPicPr>
        <p:blipFill>
          <a:blip r:embed="rId1"/>
          <a:stretch/>
        </p:blipFill>
        <p:spPr>
          <a:xfrm>
            <a:off x="6227640" y="836640"/>
            <a:ext cx="1668240" cy="244764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65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лассификация педагогических игр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8760" y="714240"/>
            <a:ext cx="8229240" cy="614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виду деятельности: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ие (двигательные)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ллектуальные (умственные);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овые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логически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характеру педагогического процесса: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учающие, тренировочные, контролирующие, обобщающи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вательные, воспитательные, развивающи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продуктивные, продуктивные, творчески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ые, диагностические, профориентационн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характеру игровой методики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ны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южетн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ев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ов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итационн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урс  «основы безопасности жизнедеятельности»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назначен для формирования у учащихся сознательного и ответственного отношения к вопросам личной безопасности, безопасности окружающих, знаний и умений распознавать и оценивать опасные ситуации, определять способы защиты от них, оказывать само- и взаимопомощ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Условия применения игровых форм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ответствие игры учебно-воспитательным целям урок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для учащихся данного возраст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ренность в использовании иг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урок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спользование игровой деятельност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самостоятельных технолог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ля закрепления, систематизации и обобщения знаний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элементы более обширной технолог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блемный урок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технологии урока или его фрагмента (введения, объяснения, закрепления, упражнения, контроля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технология внеклассной работ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  <Words>1208</Words>
  <Paragraphs>332</Paragraphs>
  <Company>кладбИще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6:41:49Z</dcterms:created>
  <dc:creator>Вурдалак</dc:creator>
  <dc:description/>
  <dc:language>en-US</dc:language>
  <cp:lastModifiedBy>DDD</cp:lastModifiedBy>
  <dcterms:modified xsi:type="dcterms:W3CDTF">2018-03-28T09:27:02Z</dcterms:modified>
  <cp:revision>95</cp:revision>
  <dc:subject/>
  <dc:title>ДЕЙСТВИЕ ТАБАКА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