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5FBB-720C-487D-A15F-31659FD1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CE5C-0E7A-4EFB-B0EB-96409FC3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DE12-1F49-48A9-857E-FA4106CC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A2A6-C44F-44DD-924D-0DA2DB8B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1C91-22C3-4E22-9EF8-4B3BFC44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6191-FD3F-40AD-AEEB-61D02AFA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09CC-715F-4842-AD0B-445B500D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6DBD-C27C-4308-B111-B6A95A4A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6F9C-DF07-4772-A697-05555D4F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BC3A-FD7D-4D31-817F-DBD9DCFC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E787-1B88-4E2B-A601-F0321361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98CF-0D7D-4E76-A652-A602B3FE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BFD1-1AD3-4835-9CB7-AF55A685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D293-60DF-40D3-8936-98C8CA09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04B9-797C-40D7-A4FD-24A082CA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E0E6-27C0-4C60-89D7-E80C9739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C7D5-4905-458C-A3B5-18DA2532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B52-4AFF-4EC5-A140-FD32E5F6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B171-E132-4CD3-BC03-F4A38180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3909-7979-41A7-9FC3-D4DEE28C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2881-8097-4A38-85ED-4F8F193F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54D6-4062-4A3B-A721-9F49ECEA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5FBE-2260-46DA-8C37-217747D8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73B5-834E-490E-A3BC-FA0B604E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7c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D6BA-2439-4DCE-B616-1FC71C909B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7c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19FC-D057-4C09-B8FB-343DCD8824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Бурятская матрёш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Выполнила:</a:t>
            </a:r>
            <a:r>
              <a:rPr b="1" lang="ru-RU" sz="1800" spc="-1" strike="noStrike">
                <a:solidFill>
                  <a:srgbClr val="7030a0"/>
                </a:solidFill>
                <a:latin typeface="Comic Sans MS"/>
              </a:rPr>
              <a:t> ученица 2 класса МОУ Тапхарская средняя общеобразовательная школ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omic Sans MS"/>
              </a:rPr>
              <a:t>Иволгинского района республики Бурят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Руководитель:</a:t>
            </a:r>
            <a:r>
              <a:rPr b="1" lang="ru-RU" sz="1800" spc="-1" strike="noStrike">
                <a:solidFill>
                  <a:srgbClr val="7030a0"/>
                </a:solidFill>
                <a:latin typeface="Comic Sans MS"/>
              </a:rPr>
              <a:t> Айсуева Надежда Алексеевна, 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Бурятские дэгэл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 бурят каждый цвет имеет свой символ. Черный-это земля, дом и родина, красный - огонь и жизненная энергия, синий неб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скольку зимы в Бурятии суровые, то и в костюме есть зимний и летний варианты. Для пошива зимнего халата, который назывался «дэгэл», использовали овчину, обшитую бархатом. Летний повседневный халат «тэрлинг» шили из хлопчатобумажных тканей, а праздничный делали из шел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олучилась вот такая семья матрёшек. Как моя!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1066680" y="1806480"/>
            <a:ext cx="7053480" cy="39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Даже братику понравились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990720" y="1817640"/>
            <a:ext cx="708660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mic Sans MS"/>
              </a:rPr>
              <a:t>Материалы, которые я использовала для изготовления матрёше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7030a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Бума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99"/>
              </a:spcBef>
              <a:buClr>
                <a:srgbClr val="7030a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ДВ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99"/>
              </a:spcBef>
              <a:buClr>
                <a:srgbClr val="7030a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Большие и маленькие ножниц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99"/>
              </a:spcBef>
              <a:buClr>
                <a:srgbClr val="7030a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Гуашь, кисточки разных размер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99"/>
              </a:spcBef>
              <a:buClr>
                <a:srgbClr val="7030a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Ла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Немного о матрёшке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трёшка – одна из известных и любимых сувениров. Это символ материнства, мать многочисленного семейства, обладающая хорошим здоровьем и дородной фигурой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 бурят считается, чем больше детей в семье, тем счастливее родители и род продолжаетс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mic Sans MS"/>
              </a:rPr>
              <a:t>Начинаю работу с изготовления шаблона. По шаблону вырезаем форму матрёшки на ДВП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Вот теперь можно рисовать матрёшек. Нарисую в национальной бурятской одежде! 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Костюм изготавливался из меха, шерсти, кожи, шелка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762120" y="1857240"/>
            <a:ext cx="761976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Гораздо красивее стали, когда я их раскрасила! Это младший сын, он продолжит  род отца</a:t>
            </a: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1520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Матрёшка отца семь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ужской халат украшал особый четырехугольный борт «энгэр», который имел сколько символическое значение. Энгэ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стоял из цветных полос, верхняя из которых должна быть белая. Позже, когда среди бурят начал распространяться буддизм, ее стали делать золотисто-желтого цве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о девочк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533520" y="1576440"/>
            <a:ext cx="8076960" cy="45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оловной убор у буря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мый старый вид головных уборов у бурят назывался юдэн и был похож на капюшон. У него были наушники и выступ, закрывающий шею. Зимние шапки шили с мех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о сам отец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454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cp:lastPrinted>2018-03-08T23:51:37Z</cp:lastPrinted>
  <dcterms:modified xsi:type="dcterms:W3CDTF">2018-03-28T02:05:2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