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103-7D95-42AA-AB2E-1C127690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A8C-19FD-485A-BBC0-829C6534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61E-84D3-4AB6-86E7-C97F8712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8A9F-5193-41A8-9F4E-2EE30195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8392-7137-4AA0-8508-3D20F737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A91D-9B56-48CB-B046-D1DC6A4D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53DF-4D77-4481-BD68-6B58D3A5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23CD-ABC3-4430-82B6-AF954282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B9BC-6668-4480-89BF-50C93937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D996-127D-4602-B8D1-E34F9B5F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462D-A65B-49CB-AD95-378D35D2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1F2-9F04-47DD-8B37-EC2A5908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FF9D-109E-475A-8A93-930E7D8F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0141-58A2-498F-9CC0-0E5DC031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1EC6-5DFE-4694-A69E-08EB7BCA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E3C0-7E2F-4326-BA6B-5C7B1191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0295-C8A7-4EFD-8A68-82558FFD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204-EF99-4E49-8EB1-4D5A7841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7B7-A6C0-4FE9-878C-632B79EF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0E1-C3C9-4399-AE21-CCA61622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39DE-85EF-438E-904B-3C599119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EC1-EF92-4D97-A5FE-015CD50B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F13-3EDB-449A-A639-6CEE422F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7D6-F24C-4E9A-9517-62F3AE3A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7c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9A4D-1A2D-408C-9BD7-AA49906A42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7c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7166-DEF0-4299-AD74-61F22721E6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Бурятская матрёш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Выполнила:</a:t>
            </a:r>
            <a:r>
              <a:rPr b="1" lang="ru-RU" sz="1800" spc="-1" strike="noStrike">
                <a:solidFill>
                  <a:srgbClr val="7030a0"/>
                </a:solidFill>
                <a:latin typeface="Comic Sans MS"/>
              </a:rPr>
              <a:t> ученица 2 класса МОУ Тапхарская средняя общеобразовательная шко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omic Sans MS"/>
              </a:rPr>
              <a:t>Иволгинского района республики Бурят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Руководитель:</a:t>
            </a:r>
            <a:r>
              <a:rPr b="1" lang="ru-RU" sz="1800" spc="-1" strike="noStrike">
                <a:solidFill>
                  <a:srgbClr val="7030a0"/>
                </a:solidFill>
                <a:latin typeface="Comic Sans MS"/>
              </a:rPr>
              <a:t> Айсуева Надежда Алексеевна,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Бурятские дэгэ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 бурят каждый цвет имеет свой символ. Черный-это земля, дом и родина, красный - огонь и жизненная энергия, синий неб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кольку зимы в Бурятии суровые, то и в костюме есть зимний и летний варианты. Для пошива зимнего халата, который назывался «дэгэл», использовали овчину, обшитую бархатом. Летний повседневный халат «тэрлинг» шили из хлопчатобумажных тканей, а праздничный делали из шел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лучилась вот такая семья матрёшек. Как моя!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066680" y="1806480"/>
            <a:ext cx="7053480" cy="39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Даже братику понравились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990720" y="1817640"/>
            <a:ext cx="70866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Материалы, которые я использовала для изготовления матрёш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Бума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ДВ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Большие и маленькие ножн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Гуашь, кисточки разных размер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Ла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Немного о матрёшке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трёшка – одна из известных и любимых сувениров. Это символ материнства, мать многочисленного семейства, обладающая хорошим здоровьем и дородной фигуро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бурят считается, чем больше детей в семье, тем счастливее родители и род продолжаетс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Начинаю работу с изготовления шаблона. По шаблону вырезаем форму матрёшки на ДВП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Вот теперь можно рисовать матрёшек. Нарисую в национальной бурятской одежде!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Костюм изготавливался из меха, шерсти, кожи, шелка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762120" y="1857240"/>
            <a:ext cx="761976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Гораздо красивее стали, когда я их раскрасила! Это младший сын, он продолжит  род отца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Матрёшка отца семь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ужской халат украшал особый четырехугольный борт «энгэр», который имел сколько символическое значение. Энгэ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стоял из цветных полос, верхняя из которых должна быть белая. Позже, когда среди бурят начал распространяться буддизм, ее стали делать золотисто-желтого цве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о девочк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533520" y="1576440"/>
            <a:ext cx="8076960" cy="45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ловной убор у буря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ый старый вид головных уборов у бурят назывался юдэн и был похож на капюшон. У него были наушники и выступ, закрывающий шею. Зимние шапки шили с мех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о сам отец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454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cp:lastPrinted>2018-03-08T23:51:37Z</cp:lastPrinted>
  <dcterms:modified xsi:type="dcterms:W3CDTF">2018-03-28T02:05:2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